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640" y="3239640"/>
            <a:ext cx="604836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britishmuseum.ac.uk/" TargetMode="External"/><Relationship Id="rId3" Type="http://schemas.openxmlformats.org/officeDocument/2006/relationships/hyperlink" Target="http://www.thebritishmuseum.ac.uk/" TargetMode="External"/><Relationship Id="rId4" Type="http://schemas.openxmlformats.org/officeDocument/2006/relationships/hyperlink" Target="http://www.thebritishmuseum.ac.uk/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pojdem-v-muzej.ru/foto/britanskiimuzei/oda1.htm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jdem-v-muzej.ru/foto/britanskiimuzei/oda5.htm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pojdem-v-muzej.ru/foto/britanskiimuzei/oda4.htm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http://pojdem-v-muzej.ru/foto/britanskiimuzei/oda3.htm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3573000"/>
            <a:ext cx="5256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«Загадка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Британского музея 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92280"/>
            <a:ext cx="5724360" cy="865080"/>
          </a:xfrm>
          <a:prstGeom prst="rect">
            <a:avLst/>
          </a:prstGeom>
          <a:solidFill>
            <a:srgbClr val="0066cc"/>
          </a:solidFill>
          <a:ln w="9360">
            <a:solidFill>
              <a:srgbClr val="4d4d4d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Исследовательская работа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по те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5084640"/>
            <a:ext cx="3456000" cy="1008360"/>
          </a:xfrm>
          <a:prstGeom prst="rect">
            <a:avLst/>
          </a:prstGeom>
          <a:solidFill>
            <a:srgbClr val="0066cc"/>
          </a:solidFill>
          <a:ln w="9360">
            <a:solidFill>
              <a:srgbClr val="4d4d4d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Georgia"/>
              </a:rPr>
              <a:t>Антропова Мар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Georgia"/>
              </a:rPr>
              <a:t>Матвеева Лил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Georgia"/>
              </a:rPr>
              <a:t>Ученицы 7 б класс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260280"/>
            <a:ext cx="29890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Georgia"/>
              </a:rPr>
              <a:t>входной билет на все постоянные экспозиции бесплате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Georgia"/>
              </a:rPr>
              <a:t>в штате музея значатся шесть кошек, работающих крысоловам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8" name="Рисунок 5" descr="http://www.stm.ru/archive/08-04/photo/b12.jpg"/>
          <p:cNvPicPr/>
          <p:nvPr/>
        </p:nvPicPr>
        <p:blipFill>
          <a:blip r:embed="rId2"/>
          <a:stretch/>
        </p:blipFill>
        <p:spPr>
          <a:xfrm>
            <a:off x="7085160" y="333360"/>
            <a:ext cx="1733400" cy="237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1655640" cy="165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851280" y="4797360"/>
            <a:ext cx="2376360" cy="1623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7416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cc"/>
                </a:solidFill>
                <a:latin typeface="Georgia"/>
              </a:rPr>
              <a:t>Адрес </a:t>
            </a:r>
            <a:br>
              <a:rPr sz="3200"/>
            </a:br>
            <a:r>
              <a:rPr b="1" i="1" lang="en-US" sz="3200" spc="-1" strike="noStrike">
                <a:solidFill>
                  <a:srgbClr val="0066cc"/>
                </a:solidFill>
                <a:latin typeface="Georgia"/>
              </a:rPr>
              <a:t>Британского музе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565000"/>
            <a:ext cx="7643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Georgia"/>
              </a:rPr>
              <a:t>Местонахождение</a:t>
            </a:r>
            <a:r>
              <a:rPr b="1" i="1" lang="en-US" sz="2000" spc="-1" strike="noStrike">
                <a:solidFill>
                  <a:srgbClr val="4d4d4d"/>
                </a:solidFill>
                <a:latin typeface="Georgia"/>
              </a:rPr>
              <a:t>:</a:t>
            </a: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 The British Museum, Great Russell Street, London WC1B 3DG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Georgia"/>
              </a:rPr>
              <a:t>Проезд</a:t>
            </a:r>
            <a:r>
              <a:rPr b="1" i="1" lang="en-US" sz="2000" spc="-1" strike="noStrike">
                <a:solidFill>
                  <a:srgbClr val="4d4d4d"/>
                </a:solidFill>
                <a:latin typeface="Georgia"/>
              </a:rPr>
              <a:t>:</a:t>
            </a: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метро</a:t>
            </a: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 Holborn, Tottenham Court Road, Russell Square, Goodge St, 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автобус</a:t>
            </a: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 7, 8, 19, 22b, 25, 38, 55, 98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Georgia"/>
              </a:rPr>
              <a:t>Часы работы: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 пн-ср,вс 09:00–18:00, чт-сб 09:00–23:00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Georgia"/>
              </a:rPr>
              <a:t>Телефон: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 +44 (0)20 7323 8299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Georgia"/>
              </a:rPr>
              <a:t>Официальный сайт: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Georg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Georg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33ccff"/>
                </a:solidFill>
                <a:uFillTx/>
                <a:latin typeface="Georgia"/>
                <a:hlinkClick r:id="rId4"/>
              </a:rPr>
              <a:t>www.thebritishmuseum.ac.uk</a:t>
            </a: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" name="Рисунок 8" descr="http://www.stm.ru/archive/08-04/photo/b33.jpg"/>
          <p:cNvPicPr/>
          <p:nvPr/>
        </p:nvPicPr>
        <p:blipFill>
          <a:blip r:embed="rId5"/>
          <a:stretch/>
        </p:blipFill>
        <p:spPr>
          <a:xfrm>
            <a:off x="250920" y="260280"/>
            <a:ext cx="1832040" cy="2281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084720" y="4437000"/>
            <a:ext cx="2808360" cy="2116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51640" y="1484280"/>
            <a:ext cx="2952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cc"/>
                </a:solidFill>
                <a:latin typeface="Arial"/>
              </a:rPr>
              <a:t>Введение</a:t>
            </a:r>
            <a:r>
              <a:rPr b="0" lang="ru-RU" sz="36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Обоснованность выбора темы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Актуальность темы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Цели и задачи исследования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Объект исследования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2973600" cy="23702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7345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cc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Arial"/>
              </a:rPr>
              <a:t>История основания британского музея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Британский музей — главный музей Великобритании и один из крупнейших музеев в мир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Создан в 1753 на основе трёх коллекций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содержит 10 разделов  и Британскую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Библиотек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16720" y="4757760"/>
            <a:ext cx="2036880" cy="1471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32720" y="260280"/>
            <a:ext cx="1728720" cy="129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Рисунок 2" descr="http://pojdem-v-muzej.ru/sss/britanskiimuzei/foto/small/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00360" y="189000"/>
            <a:ext cx="2160720" cy="1536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7489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cc"/>
                </a:solidFill>
                <a:latin typeface="Arial"/>
              </a:rPr>
              <a:t>Экспонаты музе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087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предметы искусств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Древнего Египта,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Античной Греции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и Рим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4174920" cy="4017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большая коллекция картин и рисунко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уникальные экспонаты: древние статуи, мумии, египетские папирусы и религиозные сочинения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4" name="Рисунок 4" descr="http://pojdem-v-muzej.ru/sss/britanskiimuzei/foto/small/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0" y="1125360"/>
            <a:ext cx="2447640" cy="925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Рисунок 3" descr="http://pojdem-v-muzej.ru/sss/britanskiimuzei/foto/small/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260280"/>
            <a:ext cx="2074680" cy="1820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Рисунок 3" descr="http://www.stm.ru/archive/08-04/photo/b17.jpg"/>
          <p:cNvPicPr/>
          <p:nvPr/>
        </p:nvPicPr>
        <p:blipFill>
          <a:blip r:embed="rId6"/>
          <a:stretch/>
        </p:blipFill>
        <p:spPr>
          <a:xfrm>
            <a:off x="1476360" y="4379760"/>
            <a:ext cx="3382920" cy="2221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Рисунок 4" descr="http://www.stm.ru/archive/08-04/photo/b8.jpg"/>
          <p:cNvPicPr/>
          <p:nvPr/>
        </p:nvPicPr>
        <p:blipFill>
          <a:blip r:embed="rId7"/>
          <a:stretch/>
        </p:blipFill>
        <p:spPr>
          <a:xfrm>
            <a:off x="5508720" y="4365720"/>
            <a:ext cx="3384360" cy="22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87280" y="2565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56536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7 млн. печатных книг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около 105 тыс. рукописей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около 100 тыс. хартий и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грамот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свыше 3 тыс. папирус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Раздел Нумизматика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включает в себя монет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и медали различных стран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Georgia"/>
              </a:rPr>
              <a:t>и эпох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533760" cy="5621400"/>
          </a:xfrm>
          <a:prstGeom prst="rect">
            <a:avLst/>
          </a:prstGeom>
          <a:ln w="9360">
            <a:solidFill>
              <a:srgbClr val="0066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7489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Georgia"/>
              </a:rPr>
              <a:t>Загадка одного из экспонатов </a:t>
            </a:r>
            <a:br>
              <a:rPr sz="2800"/>
            </a:br>
            <a:r>
              <a:rPr b="1" i="1" lang="en-US" sz="2800" spc="-1" strike="noStrike">
                <a:solidFill>
                  <a:srgbClr val="0066cc"/>
                </a:solidFill>
                <a:latin typeface="Georgia"/>
              </a:rPr>
              <a:t>музея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45259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Georgia"/>
              </a:rPr>
              <a:t>Саркофаг Неспереннуба, купленный в 1899 г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03640" cy="3276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Рисунок 9" descr="http://www.stm.ru/archive/08-04/photo/b46.jpg"/>
          <p:cNvPicPr/>
          <p:nvPr/>
        </p:nvPicPr>
        <p:blipFill>
          <a:blip r:embed="rId3"/>
          <a:stretch/>
        </p:blipFill>
        <p:spPr>
          <a:xfrm>
            <a:off x="395280" y="4365720"/>
            <a:ext cx="1523880" cy="2136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Рисунок 10" descr="http://www.stm.ru/archive/08-04/photo/b48.jpg"/>
          <p:cNvPicPr/>
          <p:nvPr/>
        </p:nvPicPr>
        <p:blipFill>
          <a:blip r:embed="rId4"/>
          <a:stretch/>
        </p:blipFill>
        <p:spPr>
          <a:xfrm>
            <a:off x="2556000" y="4365720"/>
            <a:ext cx="1541160" cy="21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Georgia"/>
              </a:rPr>
              <a:t>Интересные факты о музее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6 миллионов экспонатов в 100 выставочных залах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d4d4d"/>
                </a:solidFill>
                <a:latin typeface="Georgia"/>
              </a:rPr>
              <a:t>350 000 предметов, принадлежащих великим туземным культурам мира, находятся в отделе Африки, Океании и Америк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87280" y="4365720"/>
            <a:ext cx="1562400" cy="2082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067280" y="4292640"/>
            <a:ext cx="1747800" cy="2192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Рисунок 5" descr="http://www.stm.ru/archive/08-04/photo/b12.jpg"/>
          <p:cNvPicPr/>
          <p:nvPr/>
        </p:nvPicPr>
        <p:blipFill>
          <a:blip r:embed="rId4"/>
          <a:stretch/>
        </p:blipFill>
        <p:spPr>
          <a:xfrm>
            <a:off x="7153200" y="4221000"/>
            <a:ext cx="1665360" cy="2281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76480" y="2060640"/>
            <a:ext cx="76435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7 тонн: такова масса самого крупного экспоната музея – колоссальный бюст Рамзеса II (Фивы, 1250 г. до н. э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Georgia"/>
              </a:rPr>
              <a:t>312 стеклянных панно составляют крышу Большого Двора. Центральный двор, самый крупный в Европе, больше футбольного пол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47640" y="4365720"/>
            <a:ext cx="2776680" cy="2082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Рисунок 2" descr="http://www.stm.ru/archive/08-04/photo/b2.jpg"/>
          <p:cNvPicPr/>
          <p:nvPr/>
        </p:nvPicPr>
        <p:blipFill>
          <a:blip r:embed="rId3"/>
          <a:stretch/>
        </p:blipFill>
        <p:spPr>
          <a:xfrm>
            <a:off x="5219640" y="4327560"/>
            <a:ext cx="3240000" cy="2117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Рисунок 2" descr="http://pojdem-v-muzej.ru/sss/britanskiimuzei/foto/small/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80360" y="189000"/>
            <a:ext cx="1439640" cy="21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47:34Z</dcterms:created>
  <dc:creator>Customer</dc:creator>
  <dc:description/>
  <dc:language>en-US</dc:language>
  <cp:lastModifiedBy>Customer</cp:lastModifiedBy>
  <dcterms:modified xsi:type="dcterms:W3CDTF">2009-02-15T17:41:08Z</dcterms:modified>
  <cp:revision>3</cp:revision>
  <dc:subject/>
  <dc:title>Слайд 1</dc:title>
</cp:coreProperties>
</file>