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94FA-9743-4020-85BC-1B11EA3B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A1A-619C-437A-9920-ECF064D4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930E-5FC7-4846-B154-AF85D782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29E-F1F7-4E57-B184-DD7DE5AF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090-989D-42DA-93E4-606C59EA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E06-31A4-4784-BBAD-07520296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E59F-83A3-429D-B900-DD740790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A81-5697-4EAB-BA25-2CE9505F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878-17BA-4C2C-9DDF-40BFDFD3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1EE3-0FAB-4E57-AC05-BA12B303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31CB-BAD0-42C5-B7F8-E5683C13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87A7-966A-4A13-9D46-CF6F38AB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216F-F972-4CE0-B9B2-0886F06B0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71640" y="2133720"/>
            <a:ext cx="756108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Интеллектуаль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мараф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4861080" cy="2685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68360" y="5877000"/>
            <a:ext cx="554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Командная игр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516720" y="1052640"/>
            <a:ext cx="20858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1 класс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7488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9440" y="766440"/>
            <a:ext cx="8521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Задача на внимание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На столе стояло 4 стакана с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иселем. Маша выпила 1 стак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иселя и поставила обратно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такан на место. Сколько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таканов стоит на столе?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16034" t="0" r="26368" b="0"/>
          <a:stretch/>
        </p:blipFill>
        <p:spPr>
          <a:xfrm>
            <a:off x="6948360" y="4076640"/>
            <a:ext cx="170352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08000" y="1557360"/>
            <a:ext cx="1481400" cy="2220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132000" y="2060640"/>
            <a:ext cx="1481400" cy="2220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427640" y="1773360"/>
            <a:ext cx="1481040" cy="2220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940360" y="2060640"/>
            <a:ext cx="148104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908000" y="1557360"/>
            <a:ext cx="1481400" cy="222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132000" y="2060640"/>
            <a:ext cx="1481400" cy="2220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427640" y="1773360"/>
            <a:ext cx="1481040" cy="2220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796000" y="213372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7953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29440" y="1269360"/>
            <a:ext cx="7808400" cy="29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708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Задача на логик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человек ждали пароход 2 час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колько времени ждал кажды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292720" y="3860640"/>
            <a:ext cx="273672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6896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292720" y="3860640"/>
            <a:ext cx="2736720" cy="2148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58920" y="3213000"/>
            <a:ext cx="1452600" cy="2303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116000" y="765000"/>
            <a:ext cx="1452600" cy="230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484360" y="1125360"/>
            <a:ext cx="1452600" cy="2303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851280" y="476280"/>
            <a:ext cx="1452600" cy="2303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5435640" y="836640"/>
            <a:ext cx="1452600" cy="2303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79539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2050920" y="2276640"/>
            <a:ext cx="554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Метаграм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19280" y="350028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imes New Roman"/>
              </a:rPr>
              <a:t>Метаграмма</a:t>
            </a:r>
            <a:r>
              <a:rPr b="0" i="1" lang="ru-RU" sz="1800" spc="-1" strike="noStrike">
                <a:solidFill>
                  <a:srgbClr val="008000"/>
                </a:solidFill>
                <a:latin typeface="Times New Roman"/>
              </a:rPr>
              <a:t> - </a:t>
            </a:r>
            <a:r>
              <a:rPr b="0" i="1" lang="ru-RU" sz="1800" spc="-1" strike="noStrike">
                <a:solidFill>
                  <a:srgbClr val="008000"/>
                </a:solidFill>
                <a:latin typeface="Arial"/>
              </a:rPr>
              <a:t>разновидность шарад, загадок, в которых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8000"/>
                </a:solidFill>
                <a:latin typeface="Arial"/>
              </a:rPr>
              <a:t>зашифрованы различные слова, состоящие из одного и того же числа бук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79539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694160" y="1628640"/>
            <a:ext cx="586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П на них мы нажим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М за подвиг получае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81000" y="3500280"/>
            <a:ext cx="21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ЕДА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М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ЕДА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550520" y="1629360"/>
            <a:ext cx="6599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буквой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я всех бода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я меру отмеря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в долине прораста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я чувства выража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красой всех восхищаю!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10080" y="1735920"/>
            <a:ext cx="552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уча сена с буквой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пуск воды я, если с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 больного с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быва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стоять повелева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меня накро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 пир на мне устроя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878880" y="1546560"/>
            <a:ext cx="13341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л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р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870120"/>
            <a:ext cx="57610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уквой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я всех бода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я меру отмеряю,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в долине прорастаю,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я чувства выражаю,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красой всех восхищаю!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79539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6896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971640" y="2133720"/>
            <a:ext cx="756108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Интеллектуаль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мараф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4861080" cy="2685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268360" y="5877000"/>
            <a:ext cx="554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Командная игр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516720" y="1052640"/>
            <a:ext cx="20858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1 класс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6896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589080" y="1528200"/>
            <a:ext cx="12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сто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сто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сто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сто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сто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372600"/>
            <a:ext cx="518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ча сена с буквой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уск воды я, если с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больного с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бываю.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стоять повелеваю.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меня накро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пир на мне устроят.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89917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79539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2050920" y="2276640"/>
            <a:ext cx="554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Шифров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74920" y="3573360"/>
            <a:ext cx="68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Шифровка 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– это зашифрованная запись, понятная толь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отдельному кругу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79539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38480" y="1700640"/>
            <a:ext cx="726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-втр-    н-чь-    зв-зд-     -к-ж-т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-б-    д-р-г-    к     кл-д-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м-тр-   н-  с-в-р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-ть    ш-г-в    -т    ст-р-й   -л-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2050920" y="2276640"/>
            <a:ext cx="554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Анаграм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621800" y="3573360"/>
            <a:ext cx="62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Анаграмма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 – это перестановка букв или звуков сло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что в результате даёт друго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7953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701800" y="1878120"/>
            <a:ext cx="4368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ЛОТ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ИАВД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СТЛ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701800" y="1878120"/>
            <a:ext cx="4368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ЛОТ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ИАВД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СТЛ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36360" y="1843200"/>
            <a:ext cx="219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СТ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ДИВ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СТУ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2627280" y="2276640"/>
            <a:ext cx="4249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Ребу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337040" y="3645000"/>
            <a:ext cx="69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Ребусы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 - вид загадок, в которых разгадываемые слова д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в виде рисунков в сочетании с буквами или циф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79539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840040" y="2132640"/>
            <a:ext cx="37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Ш 3 Х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53480" y="3356640"/>
            <a:ext cx="455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7200" spc="-1" strike="noStrike">
                <a:solidFill>
                  <a:srgbClr val="99cc00"/>
                </a:solidFill>
                <a:latin typeface="Arial"/>
              </a:rPr>
              <a:t>ТРИ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Х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635640" y="1458720"/>
            <a:ext cx="2451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те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ви3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по2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 1о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 р1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116000" y="2276640"/>
            <a:ext cx="705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Волшебные зву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179539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050920" y="2276640"/>
            <a:ext cx="554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Размин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7953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989080" y="909720"/>
            <a:ext cx="1701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ё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м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мь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ёж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я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ю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088400">
            <a:off x="5232600" y="2275560"/>
            <a:ext cx="390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4 звука ?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844720" y="911520"/>
            <a:ext cx="3716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ль – йэ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я - май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нь – т,э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ёлка - йо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мь – с,э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мья – с,эм,й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ёжик - йожы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ята – м,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юла - йу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844720" y="909720"/>
            <a:ext cx="3716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ль – йэ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я -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май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нь – т,э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ёлка - йо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мь – с,э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мья – с,эм,й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ёжик - йожы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ята –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м,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юла -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йу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116000" y="2276640"/>
            <a:ext cx="705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Волшебные букв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79539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60320" y="1706400"/>
            <a:ext cx="2226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- с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- ст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- ст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- с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635640" y="692280"/>
            <a:ext cx="1692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у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6000" y="2276640"/>
            <a:ext cx="705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В гостях у сказ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79539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556000" y="2276640"/>
            <a:ext cx="4176720" cy="3423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397880" y="980280"/>
            <a:ext cx="668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стульев было заня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было госте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1908000" y="2276640"/>
            <a:ext cx="5616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Молодцы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8675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79539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25600" y="1012680"/>
            <a:ext cx="8210520" cy="40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708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Задача на сообразительность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На столе лежало 7 апельсин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Один из них разрезали попола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и положили на сто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колько апельсинов на стол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08720" y="4437000"/>
            <a:ext cx="2879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940360" y="3933720"/>
            <a:ext cx="1112760" cy="1040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940360" y="1916280"/>
            <a:ext cx="1112760" cy="1039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140360" y="2924280"/>
            <a:ext cx="1112760" cy="1039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140360" y="1341360"/>
            <a:ext cx="1112760" cy="104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140360" y="4724280"/>
            <a:ext cx="1112760" cy="104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268360" y="3933720"/>
            <a:ext cx="1113120" cy="1040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2124000" y="1989000"/>
            <a:ext cx="11127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940360" y="3933720"/>
            <a:ext cx="1112760" cy="1040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rcRect l="0" t="0" r="48218" b="0"/>
          <a:stretch/>
        </p:blipFill>
        <p:spPr>
          <a:xfrm>
            <a:off x="5940360" y="1916280"/>
            <a:ext cx="576360" cy="1039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140360" y="2924280"/>
            <a:ext cx="1112760" cy="1039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140360" y="1341360"/>
            <a:ext cx="1112760" cy="1040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140360" y="4724280"/>
            <a:ext cx="1112760" cy="1040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2268360" y="3933720"/>
            <a:ext cx="1113120" cy="1040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2124000" y="1989000"/>
            <a:ext cx="1112760" cy="1040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rcRect l="45223" t="0" r="0" b="0"/>
          <a:stretch/>
        </p:blipFill>
        <p:spPr>
          <a:xfrm>
            <a:off x="6588000" y="1916280"/>
            <a:ext cx="60984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940360" y="3933720"/>
            <a:ext cx="1112760" cy="1040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0" t="54780" r="0" b="0"/>
          <a:stretch/>
        </p:blipFill>
        <p:spPr>
          <a:xfrm rot="1983000">
            <a:off x="5743440" y="2257560"/>
            <a:ext cx="1040040" cy="503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140360" y="2924280"/>
            <a:ext cx="1112760" cy="103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4140360" y="1341360"/>
            <a:ext cx="1112760" cy="1040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4140360" y="4724280"/>
            <a:ext cx="1112760" cy="1040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2268360" y="3933720"/>
            <a:ext cx="1113120" cy="1040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2124000" y="1989000"/>
            <a:ext cx="1112760" cy="1040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rcRect l="45223" t="0" r="0" b="0"/>
          <a:stretch/>
        </p:blipFill>
        <p:spPr>
          <a:xfrm rot="5273400">
            <a:off x="7092000" y="2277000"/>
            <a:ext cx="609840" cy="1039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79539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01800" y="1126080"/>
            <a:ext cx="8113320" cy="23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708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Задача н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У двоих сестёр по одному брат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колько всего детей в семь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284720" y="3860640"/>
            <a:ext cx="3822480" cy="21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3528720" cy="2431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rcRect l="4529" t="4492" r="2862" b="4492"/>
          <a:stretch/>
        </p:blipFill>
        <p:spPr>
          <a:xfrm>
            <a:off x="4859280" y="1413000"/>
            <a:ext cx="2881440" cy="2408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780000" y="4005360"/>
            <a:ext cx="2303280" cy="2303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79539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0:45:29Z</dcterms:created>
  <dc:creator>Наташа</dc:creator>
  <dc:description/>
  <dc:language>en-US</dc:language>
  <cp:lastModifiedBy>Федор</cp:lastModifiedBy>
  <dcterms:modified xsi:type="dcterms:W3CDTF">2012-02-25T18:37:55Z</dcterms:modified>
  <cp:revision>4</cp:revision>
  <dc:subject/>
  <dc:title>Слайд 1</dc:title>
</cp:coreProperties>
</file>