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448-ABDC-4FF3-8161-12AB1A33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E04-23B0-4BB7-9D1B-ED7C72A2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2B0-820B-499A-93FF-2E3AB3B1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3BF-EC42-4564-B23C-5739C50D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45F-DD2B-47E0-B878-15E67B94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9A7-CD2C-4D74-8C25-1B432756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5F5-3076-4737-BC55-8E215A7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D35-769A-474F-BB26-A477E11C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CA5-2F61-4B3D-B393-41FBA10B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82B-BF68-4697-B13C-BF6B9FFC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30E-506C-4806-97E9-532AB94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78F-6A41-49ED-8D28-CF76D96D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D92E-CCF8-42FB-814B-93FD59A51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2133720"/>
            <a:ext cx="75610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Интеллектуаль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мара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486108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68360" y="5877000"/>
            <a:ext cx="55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Командная иг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516720" y="1052640"/>
            <a:ext cx="2085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1 клас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7488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9440" y="766440"/>
            <a:ext cx="8521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Задача на внимание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 столе стояло 4 стакана с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иселем. Маша выпила 1 стак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иселя и поставила обрат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такан на место. Сколько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таканов стоит на столе?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6034" t="0" r="26368" b="0"/>
          <a:stretch/>
        </p:blipFill>
        <p:spPr>
          <a:xfrm>
            <a:off x="6948360" y="4076640"/>
            <a:ext cx="170352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1481400" cy="2220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1481400" cy="2220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427640" y="1773360"/>
            <a:ext cx="1481040" cy="222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940360" y="2060640"/>
            <a:ext cx="14810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1481400" cy="222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132000" y="2060640"/>
            <a:ext cx="14814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427640" y="1773360"/>
            <a:ext cx="1481040" cy="2220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96000" y="21337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7953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9440" y="1269360"/>
            <a:ext cx="780840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708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адача на логик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человек ждали пароход 2 час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времени ждал кажды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292720" y="3860640"/>
            <a:ext cx="273672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96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2736720" cy="2148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452600" cy="230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116000" y="765000"/>
            <a:ext cx="1452600" cy="230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484360" y="1125360"/>
            <a:ext cx="1452600" cy="230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851280" y="476280"/>
            <a:ext cx="1452600" cy="230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435640" y="836640"/>
            <a:ext cx="1452600" cy="2303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7953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050920" y="2276640"/>
            <a:ext cx="554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Метаграм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19280" y="350028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Метаграмма</a:t>
            </a:r>
            <a:r>
              <a:rPr b="0" i="1" lang="ru-RU" sz="1800" spc="-1" strike="noStrike">
                <a:solidFill>
                  <a:srgbClr val="008000"/>
                </a:solidFill>
                <a:latin typeface="Times New Roman"/>
              </a:rPr>
              <a:t> - </a:t>
            </a:r>
            <a:r>
              <a:rPr b="0" i="1" lang="ru-RU" sz="1800" spc="-1" strike="noStrike">
                <a:solidFill>
                  <a:srgbClr val="008000"/>
                </a:solidFill>
                <a:latin typeface="Arial"/>
              </a:rPr>
              <a:t>разновидность шарад, загадок, в которы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8000"/>
                </a:solidFill>
                <a:latin typeface="Arial"/>
              </a:rPr>
              <a:t>зашифрованы различные слова, состоящие из одного и того же числа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7953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94160" y="1628640"/>
            <a:ext cx="586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П на них мы нажим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М за подвиг получа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81000" y="3500280"/>
            <a:ext cx="21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ЕД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М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ЕД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50520" y="1629360"/>
            <a:ext cx="659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буквой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я всех бод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я меру отмеря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в долине прораст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я чувства выраж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красой всех восхищаю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10080" y="1735920"/>
            <a:ext cx="552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уча сена с буквой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пуск воды я, если 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 больного 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быв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стоять повелев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меня накро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пир на мне устро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78880" y="1546560"/>
            <a:ext cx="13341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870120"/>
            <a:ext cx="5761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квой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я всех бод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я меру отмеряю,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 долине прорастаю,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я чувства выражаю,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красой всех восхищаю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79539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971640" y="2133720"/>
            <a:ext cx="75610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Интеллектуаль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мараф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486108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68360" y="5877000"/>
            <a:ext cx="55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Командная иг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16720" y="1052640"/>
            <a:ext cx="20858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1 клас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89080" y="1528200"/>
            <a:ext cx="12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сто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372600"/>
            <a:ext cx="518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ча сена с буквой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уск воды я, если 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ольного 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бываю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стоять повелеваю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меня накро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пир на мне устроят.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991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79539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050920" y="2276640"/>
            <a:ext cx="554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Шифр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74920" y="357336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Шифровка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– это зашифрованная запись, понятная 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отдельному кругу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79539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38480" y="1700640"/>
            <a:ext cx="726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-втр-    н-чь-    зв-зд-     -к-ж-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-б-    д-р-г-    к     кл-д-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м-тр-   н-  с-в-р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-ть    ш-г-в    -т    ст-р-й   -л-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050920" y="2276640"/>
            <a:ext cx="554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Анаграм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21800" y="3573360"/>
            <a:ext cx="62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Анаграмма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 – это перестановка букв или звуков сл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что в результате даёт друго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7953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01800" y="1878120"/>
            <a:ext cx="436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Т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АВД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ТЛ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701800" y="1878120"/>
            <a:ext cx="436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Т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АВД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ТЛ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6360" y="1843200"/>
            <a:ext cx="219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СТ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ДИВ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СТ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627280" y="2276640"/>
            <a:ext cx="4249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Ребу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37040" y="3645000"/>
            <a:ext cx="69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Ребусы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 - вид загадок, в которых разгадываемые слова 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в виде рисунков в сочетании с буквами или циф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79539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840040" y="2132640"/>
            <a:ext cx="37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Ш 3 Х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53480" y="3356640"/>
            <a:ext cx="45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7200" spc="-1" strike="noStrike">
                <a:solidFill>
                  <a:srgbClr val="99cc00"/>
                </a:solidFill>
                <a:latin typeface="Arial"/>
              </a:rPr>
              <a:t>ТРИ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Х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35640" y="1458720"/>
            <a:ext cx="2451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те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ви3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по2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1о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р1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116000" y="2276640"/>
            <a:ext cx="705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Волшебные зву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179539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050920" y="2276640"/>
            <a:ext cx="554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Разми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7953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89080" y="909720"/>
            <a:ext cx="170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ё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м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ёж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я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ю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8400">
            <a:off x="5232600" y="227556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4 звука ?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44720" y="911520"/>
            <a:ext cx="371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ль – йэ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я - ма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нь – т,э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лка - й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ь – с,э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ья – с,эм,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жик - йож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та – м,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юла - й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844720" y="909720"/>
            <a:ext cx="371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ль – йэ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я -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ма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нь – т,э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лка - йо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ь – с,э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ья – с,эм,й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ёжик - йож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та –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м,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юла -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й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116000" y="2276640"/>
            <a:ext cx="705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Волшебные букв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79539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60320" y="1706400"/>
            <a:ext cx="2226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- 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- с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- с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- 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35640" y="692280"/>
            <a:ext cx="169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6000" y="2276640"/>
            <a:ext cx="705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В гостях у сказ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7953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4176720" cy="3423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97880" y="980280"/>
            <a:ext cx="66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стульев было заня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олько было гост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908000" y="2276640"/>
            <a:ext cx="561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Молодц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67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7953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5600" y="1012680"/>
            <a:ext cx="821052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708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Задача на сообразительность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 столе лежало 7 апельсин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дин из них разрезали попол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 положили на сто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колько апельсинов на сто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08720" y="4437000"/>
            <a:ext cx="2879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940360" y="1916280"/>
            <a:ext cx="1112760" cy="1039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1112760" cy="1039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140360" y="134136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140360" y="472428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268360" y="3933720"/>
            <a:ext cx="1113120" cy="104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124000" y="1989000"/>
            <a:ext cx="11127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0" t="0" r="48218" b="0"/>
          <a:stretch/>
        </p:blipFill>
        <p:spPr>
          <a:xfrm>
            <a:off x="5940360" y="1916280"/>
            <a:ext cx="576360" cy="103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1112760" cy="103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140360" y="134136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140360" y="472428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268360" y="3933720"/>
            <a:ext cx="1113120" cy="1040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124000" y="198900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rcRect l="45223" t="0" r="0" b="0"/>
          <a:stretch/>
        </p:blipFill>
        <p:spPr>
          <a:xfrm>
            <a:off x="6588000" y="1916280"/>
            <a:ext cx="6098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54780" r="0" b="0"/>
          <a:stretch/>
        </p:blipFill>
        <p:spPr>
          <a:xfrm rot="1983000">
            <a:off x="5743440" y="2257560"/>
            <a:ext cx="1040040" cy="503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1112760" cy="103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134136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140360" y="472428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268360" y="3933720"/>
            <a:ext cx="1113120" cy="104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124000" y="1989000"/>
            <a:ext cx="1112760" cy="104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rcRect l="45223" t="0" r="0" b="0"/>
          <a:stretch/>
        </p:blipFill>
        <p:spPr>
          <a:xfrm rot="5273400">
            <a:off x="7092000" y="2277000"/>
            <a:ext cx="609840" cy="1039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7953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1800" y="1126080"/>
            <a:ext cx="8113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708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Задача н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У двоих сестёр по одному бра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колько всего детей в семь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84720" y="3860640"/>
            <a:ext cx="382248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3528720" cy="243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4529" t="4492" r="2862" b="4492"/>
          <a:stretch/>
        </p:blipFill>
        <p:spPr>
          <a:xfrm>
            <a:off x="4859280" y="1413000"/>
            <a:ext cx="2881440" cy="240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780000" y="400536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7953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0:45:29Z</dcterms:created>
  <dc:creator>Наташа</dc:creator>
  <dc:description/>
  <dc:language>en-US</dc:language>
  <cp:lastModifiedBy>Федор</cp:lastModifiedBy>
  <dcterms:modified xsi:type="dcterms:W3CDTF">2012-02-25T18:37:55Z</dcterms:modified>
  <cp:revision>4</cp:revision>
  <dc:subject/>
  <dc:title>Слайд 1</dc:title>
</cp:coreProperties>
</file>