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6.png" ContentType="image/png"/>
  <Override PartName="/ppt/media/image6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voltage.wav" ContentType="audio/x-wav"/>
  <Override PartName="/ppt/media/image2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62E-3441-4854-BD2D-87B173A0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FC9-5D7D-450F-9BBC-0B0F2A2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89B-FDA6-4142-B646-992B4B28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120-D125-4E67-8D93-32D4D97B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A08-BD5F-4DE5-847E-758E24C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753-C6EE-42AF-A877-F5818A47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8AD-0423-4AFA-A790-89AD21B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23A-6A9C-40B2-8F4F-26E6A6D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1F7-50C9-466D-B74F-54208A5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8E7-45FA-4C5F-8286-92EDF7D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B2F-E6BA-412B-83CB-9DE0664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5E2-05A6-472B-9486-0C063E5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AA26-C7F5-4051-BB8D-1E68BFAB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photoframes/24/87512-foto71265_4614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11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5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7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9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3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1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3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5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27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29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11.png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ongratulatorycard.ru/photoframes/24/87512-foto71265_46145.jpg" TargetMode="External"/><Relationship Id="rId3" Type="http://schemas.openxmlformats.org/officeDocument/2006/relationships/hyperlink" Target="http://www.congratulatorycard.ru/photoframes/24/87512-foto71265_46145.jpg" TargetMode="External"/><Relationship Id="rId4" Type="http://schemas.openxmlformats.org/officeDocument/2006/relationships/hyperlink" Target="http://www.congratulatorycard.ru/photoframes/24/87512-foto71265_46145.jpg" TargetMode="External"/><Relationship Id="rId5" Type="http://schemas.openxmlformats.org/officeDocument/2006/relationships/hyperlink" Target="http://www.congratulatorycard.ru/photoframes/24/87512-foto71265_46145.jpg" TargetMode="External"/><Relationship Id="rId6" Type="http://schemas.openxmlformats.org/officeDocument/2006/relationships/hyperlink" Target="http://www.congratulatorycard.ru/photoframes/24/87512-foto71265_46145.jpg" TargetMode="External"/><Relationship Id="rId7" Type="http://schemas.openxmlformats.org/officeDocument/2006/relationships/hyperlink" Target="http://www.congratulatorycard.ru/photoframes/24/87512-foto71265_46145.jpg" TargetMode="External"/><Relationship Id="rId8" Type="http://schemas.openxmlformats.org/officeDocument/2006/relationships/hyperlink" Target="http://www.fotobam.net/_ld/1/24064443.jpg" TargetMode="External"/><Relationship Id="rId9" Type="http://schemas.openxmlformats.org/officeDocument/2006/relationships/hyperlink" Target="http://www.fotobam.net/_ld/1/24064443.jpg" TargetMode="External"/><Relationship Id="rId10" Type="http://schemas.openxmlformats.org/officeDocument/2006/relationships/hyperlink" Target="http://www.fotobam.net/_ld/1/24064443.jpg" TargetMode="External"/><Relationship Id="rId11" Type="http://schemas.openxmlformats.org/officeDocument/2006/relationships/hyperlink" Target="http://www.fotobam.net/_ld/1/24064443.jpg" TargetMode="External"/><Relationship Id="rId12" Type="http://schemas.openxmlformats.org/officeDocument/2006/relationships/hyperlink" Target="http://www.fotobam.net/_ld/1/24064443.jpg" TargetMode="External"/><Relationship Id="rId13" Type="http://schemas.openxmlformats.org/officeDocument/2006/relationships/hyperlink" Target="http://www.fotobam.net/_ld/1/24064443.jpg" TargetMode="External"/><Relationship Id="rId14" Type="http://schemas.openxmlformats.org/officeDocument/2006/relationships/hyperlink" Target="http://zdravonews.ru/media/2011/12/c4f77154d569be48e47b0c6f1f21-e1324476103735.jpg" TargetMode="External"/><Relationship Id="rId15" Type="http://schemas.openxmlformats.org/officeDocument/2006/relationships/hyperlink" Target="http://zdravonews.ru/media/2011/12/c4f77154d569be48e47b0c6f1f21-e1324476103735.jpg" TargetMode="External"/><Relationship Id="rId16" Type="http://schemas.openxmlformats.org/officeDocument/2006/relationships/hyperlink" Target="http://i02.fsimg.ru/4/tlog_box/1998/1998598.jpg" TargetMode="External"/><Relationship Id="rId17" Type="http://schemas.openxmlformats.org/officeDocument/2006/relationships/hyperlink" Target="http://i02.fsimg.ru/4/tlog_box/1998/1998598.jpg" TargetMode="External"/><Relationship Id="rId18" Type="http://schemas.openxmlformats.org/officeDocument/2006/relationships/hyperlink" Target="http://i02.fsimg.ru/4/tlog_box/1998/1998598.jpg" TargetMode="External"/><Relationship Id="rId19" Type="http://schemas.openxmlformats.org/officeDocument/2006/relationships/hyperlink" Target="http://i02.fsimg.ru/4/tlog_box/1998/1998598.jpg" TargetMode="External"/><Relationship Id="rId20" Type="http://schemas.openxmlformats.org/officeDocument/2006/relationships/hyperlink" Target="http://stat17.privet.ru/lr/0a032c3ed080737240ec4eb94132ff86" TargetMode="External"/><Relationship Id="rId21" Type="http://schemas.openxmlformats.org/officeDocument/2006/relationships/hyperlink" Target="http://stat17.privet.ru/lr/0a032c3ed080737240ec4eb94132ff86" TargetMode="External"/><Relationship Id="rId22" Type="http://schemas.openxmlformats.org/officeDocument/2006/relationships/hyperlink" Target="http://stat17.privet.ru/lr/0a032c3ed080737240ec4eb94132ff86" TargetMode="External"/><Relationship Id="rId23" Type="http://schemas.openxmlformats.org/officeDocument/2006/relationships/hyperlink" Target="http://stat17.privet.ru/lr/0a032c3ed080737240ec4eb94132ff86" TargetMode="External"/><Relationship Id="rId24" Type="http://schemas.openxmlformats.org/officeDocument/2006/relationships/hyperlink" Target="http://www.yaplakal.com/uploads/previews/post-3-12558858523993.jpg" TargetMode="External"/><Relationship Id="rId25" Type="http://schemas.openxmlformats.org/officeDocument/2006/relationships/hyperlink" Target="http://liewar.ru/images/stories/izmena/image002.jpg" TargetMode="External"/><Relationship Id="rId26" Type="http://schemas.openxmlformats.org/officeDocument/2006/relationships/hyperlink" Target="http://poiskm.ru/artist/639571-Svyashchennaya-voyna" TargetMode="External"/><Relationship Id="rId27" Type="http://schemas.openxmlformats.org/officeDocument/2006/relationships/hyperlink" Target="http://upload.wikimedia.org/wikipedia/ru/f/f7/Ussr0437.jpg" TargetMode="External"/><Relationship Id="rId28" Type="http://schemas.openxmlformats.org/officeDocument/2006/relationships/hyperlink" Target="http://demonics021.narod.ru/obrazec/9may/image/cena/nastup.jpg" TargetMode="External"/><Relationship Id="rId29" Type="http://schemas.openxmlformats.org/officeDocument/2006/relationships/hyperlink" Target="http://www.sovsekretno.ru/app/image/2001/03/9/021128113216b.jpg" TargetMode="External"/><Relationship Id="rId30" Type="http://schemas.openxmlformats.org/officeDocument/2006/relationships/hyperlink" Target="http://i1.i.ua/prikol/pic/3/6/637863_637478.jpg" TargetMode="External"/><Relationship Id="rId31" Type="http://schemas.openxmlformats.org/officeDocument/2006/relationships/hyperlink" Target="http://ershov-gennady.ru/wp-content/uploads/2011/05/stalingrad.jpg" TargetMode="External"/><Relationship Id="rId32" Type="http://schemas.openxmlformats.org/officeDocument/2006/relationships/hyperlink" Target="http://demiart.ru/forum/uploads7/post-1800122-1298457329.jpg" TargetMode="External"/><Relationship Id="rId33" Type="http://schemas.openxmlformats.org/officeDocument/2006/relationships/hyperlink" Target="http://demiart.ru/forum/uploads7/post-1800122-1298457329.jpg" TargetMode="External"/><Relationship Id="rId34" Type="http://schemas.openxmlformats.org/officeDocument/2006/relationships/hyperlink" Target="http://demiart.ru/forum/uploads7/post-1800122-1298457329.jpg" TargetMode="External"/><Relationship Id="rId35" Type="http://schemas.openxmlformats.org/officeDocument/2006/relationships/hyperlink" Target="http://demiart.ru/forum/uploads7/post-1800122-1298457329.jpg" TargetMode="External"/><Relationship Id="rId36" Type="http://schemas.openxmlformats.org/officeDocument/2006/relationships/hyperlink" Target="http://demiart.ru/forum/uploads7/post-1800122-1298457329.jpg" TargetMode="External"/><Relationship Id="rId37" Type="http://schemas.openxmlformats.org/officeDocument/2006/relationships/hyperlink" Target="http://demiart.ru/forum/uploads7/post-1800122-1298457329.jpg" TargetMode="External"/><Relationship Id="rId3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4703/zimarika.49/0_61c8d_a631740f_XL" TargetMode="External"/><Relationship Id="rId3" Type="http://schemas.openxmlformats.org/officeDocument/2006/relationships/hyperlink" Target="http://cs5663.vkontakte.ru/u2840255/-5/x_6bd70d89.jpg" TargetMode="External"/><Relationship Id="rId4" Type="http://schemas.openxmlformats.org/officeDocument/2006/relationships/hyperlink" Target="http://poiskm.ru/artist/9354-Pesni-voennih-let" TargetMode="External"/><Relationship Id="rId5" Type="http://schemas.openxmlformats.org/officeDocument/2006/relationships/hyperlink" Target="http://poiskm.ru/artist/9354-Pesni-voennih-let" TargetMode="External"/><Relationship Id="rId6" Type="http://schemas.openxmlformats.org/officeDocument/2006/relationships/hyperlink" Target="http://poiskm.ru/artist/9354-Pesni-voennih-let" TargetMode="External"/><Relationship Id="rId7" Type="http://schemas.openxmlformats.org/officeDocument/2006/relationships/hyperlink" Target="http://poiskm.ru/artist/9354-Pesni-voennih-let" TargetMode="External"/><Relationship Id="rId8" Type="http://schemas.openxmlformats.org/officeDocument/2006/relationships/hyperlink" Target="http://poiskm.ru/artist/9354-Pesni-voennih-let" TargetMode="External"/><Relationship Id="rId9" Type="http://schemas.openxmlformats.org/officeDocument/2006/relationships/hyperlink" Target="http://poiskm.ru/artist/9354-Pesni-voennih-let" TargetMode="External"/><Relationship Id="rId10" Type="http://schemas.openxmlformats.org/officeDocument/2006/relationships/hyperlink" Target="http://poiskm.ru/artist/9354-Pesni-voennih-let" TargetMode="External"/><Relationship Id="rId11" Type="http://schemas.openxmlformats.org/officeDocument/2006/relationships/hyperlink" Target="http://poiskm.ru/artist/9354-Pesni-voennih-let" TargetMode="External"/><Relationship Id="rId12" Type="http://schemas.openxmlformats.org/officeDocument/2006/relationships/hyperlink" Target="http://poiskm.ru/artist/9354-Pesni-voennih-let" TargetMode="External"/><Relationship Id="rId13" Type="http://schemas.openxmlformats.org/officeDocument/2006/relationships/hyperlink" Target="http://poiskm.ru/artist/9354-Pesni-voennih-let" TargetMode="External"/><Relationship Id="rId14" Type="http://schemas.openxmlformats.org/officeDocument/2006/relationships/hyperlink" Target="http://poiskm.ru/artist/9354-Pesni-voennih-let" TargetMode="External"/><Relationship Id="rId15" Type="http://schemas.openxmlformats.org/officeDocument/2006/relationships/hyperlink" Target="http://poiskm.ru/artist/9354-Pesni-voennih-let" TargetMode="External"/><Relationship Id="rId16" Type="http://schemas.openxmlformats.org/officeDocument/2006/relationships/hyperlink" Target="http://poiskm.ru/artist/9354-Pesni-voennih-let" TargetMode="External"/><Relationship Id="rId17" Type="http://schemas.openxmlformats.org/officeDocument/2006/relationships/hyperlink" Target="http://img-fotki.yandex.ru/get/5507/joe-steward.2/0_6e2c6_8832ac47_XL" TargetMode="External"/><Relationship Id="rId18" Type="http://schemas.openxmlformats.org/officeDocument/2006/relationships/hyperlink" Target="http://ont2007.narod.ru/War/Fotowar/Big/0060.JPG" TargetMode="External"/><Relationship Id="rId19" Type="http://schemas.openxmlformats.org/officeDocument/2006/relationships/hyperlink" Target="http://www.photocity.ru/Album133/00002.jpg" TargetMode="External"/><Relationship Id="rId20" Type="http://schemas.openxmlformats.org/officeDocument/2006/relationships/hyperlink" Target="http://img15.nnm.ru/2/0/f/0/5/657bdf2ff74ad10cf8b0e35802c_prev.jpg" TargetMode="External"/><Relationship Id="rId21" Type="http://schemas.openxmlformats.org/officeDocument/2006/relationships/hyperlink" Target="http://www.edut-deti.ru/pics/war_ekscursions/war_03.jpg" TargetMode="External"/><Relationship Id="rId22" Type="http://schemas.openxmlformats.org/officeDocument/2006/relationships/hyperlink" Target="http://s017.radikal.ru/i425/1111/01/9e22b8652150.gif" TargetMode="External"/><Relationship Id="rId23" Type="http://schemas.openxmlformats.org/officeDocument/2006/relationships/hyperlink" Target="http://img.stapravda.ru/i/b/p27298.jpg" TargetMode="External"/><Relationship Id="rId24" Type="http://schemas.openxmlformats.org/officeDocument/2006/relationships/hyperlink" Target="http://www.hlebooks.com/nagant/NALIV02.JPG" TargetMode="External"/><Relationship Id="rId25" Type="http://schemas.openxmlformats.org/officeDocument/2006/relationships/hyperlink" Target="http://img1.liveinternet.ru/images/attach/c/1/54/526/54526883_87289.jpg" TargetMode="External"/><Relationship Id="rId26" Type="http://schemas.openxmlformats.org/officeDocument/2006/relationships/hyperlink" Target="http://sensusnovus.ru/uploads/2011/12/RIAN_archive_907_Leningradians_queueing_up_for_water-545x396.jpg" TargetMode="External"/><Relationship Id="rId27" Type="http://schemas.openxmlformats.org/officeDocument/2006/relationships/hyperlink" Target="http://sensusnovus.ru/uploads/2011/12/RIAN_archive_907_Leningradians_queueing_up_for_water-545x396.jpg" TargetMode="External"/><Relationship Id="rId28" Type="http://schemas.openxmlformats.org/officeDocument/2006/relationships/hyperlink" Target="http://sensusnovus.ru/uploads/2011/12/RIAN_archive_907_Leningradians_queueing_up_for_water-545x396.jpg" TargetMode="External"/><Relationship Id="rId29" Type="http://schemas.openxmlformats.org/officeDocument/2006/relationships/hyperlink" Target="http://sensusnovus.ru/uploads/2011/12/RIAN_archive_907_Leningradians_queueing_up_for_water-545x396.jpg" TargetMode="External"/><Relationship Id="rId30" Type="http://schemas.openxmlformats.org/officeDocument/2006/relationships/hyperlink" Target="http://sensusnovus.ru/uploads/2011/12/RIAN_archive_907_Leningradians_queueing_up_for_water-545x396.jpg" TargetMode="External"/><Relationship Id="rId31" Type="http://schemas.openxmlformats.org/officeDocument/2006/relationships/hyperlink" Target="http://sensusnovus.ru/uploads/2011/12/RIAN_archive_907_Leningradians_queueing_up_for_water-545x396.jpg" TargetMode="External"/><Relationship Id="rId32" Type="http://schemas.openxmlformats.org/officeDocument/2006/relationships/hyperlink" Target="http://sensusnovus.ru/uploads/2011/12/RIAN_archive_907_Leningradians_queueing_up_for_water-545x396.jpg" TargetMode="External"/><Relationship Id="rId33" Type="http://schemas.openxmlformats.org/officeDocument/2006/relationships/hyperlink" Target="http://sensusnovus.ru/uploads/2011/12/RIAN_archive_907_Leningradians_queueing_up_for_water-545x396.jpg" TargetMode="External"/><Relationship Id="rId34" Type="http://schemas.openxmlformats.org/officeDocument/2006/relationships/hyperlink" Target="http://sensusnovus.ru/uploads/2011/12/RIAN_archive_907_Leningradians_queueing_up_for_water-545x396.jpg" TargetMode="External"/><Relationship Id="rId35" Type="http://schemas.openxmlformats.org/officeDocument/2006/relationships/hyperlink" Target="http://sensusnovus.ru/uploads/2011/12/RIAN_archive_907_Leningradians_queueing_up_for_water-545x396.jpg" TargetMode="External"/><Relationship Id="rId36" Type="http://schemas.openxmlformats.org/officeDocument/2006/relationships/hyperlink" Target="http://sensusnovus.ru/uploads/2011/12/RIAN_archive_907_Leningradians_queueing_up_for_water-545x396.jpg" TargetMode="External"/><Relationship Id="rId37" Type="http://schemas.openxmlformats.org/officeDocument/2006/relationships/hyperlink" Target="http://sensusnovus.ru/uploads/2011/12/RIAN_archive_907_Leningradians_queueing_up_for_water-545x396.jpg" TargetMode="External"/><Relationship Id="rId38" Type="http://schemas.openxmlformats.org/officeDocument/2006/relationships/hyperlink" Target="http://sensusnovus.ru/uploads/2011/12/RIAN_archive_907_Leningradians_queueing_up_for_water-545x396.jpg" TargetMode="External"/><Relationship Id="rId39" Type="http://schemas.openxmlformats.org/officeDocument/2006/relationships/hyperlink" Target="http://sensusnovus.ru/uploads/2011/12/RIAN_archive_907_Leningradians_queueing_up_for_water-545x396.jpg" TargetMode="External"/><Relationship Id="rId40" Type="http://schemas.openxmlformats.org/officeDocument/2006/relationships/hyperlink" Target="http://sensusnovus.ru/uploads/2011/12/RIAN_archive_907_Leningradians_queueing_up_for_water-545x396.jpg" TargetMode="External"/><Relationship Id="rId41" Type="http://schemas.openxmlformats.org/officeDocument/2006/relationships/hyperlink" Target="http://sensusnovus.ru/uploads/2011/12/RIAN_archive_907_Leningradians_queueing_up_for_water-545x396.jpg" TargetMode="External"/><Relationship Id="rId42" Type="http://schemas.openxmlformats.org/officeDocument/2006/relationships/hyperlink" Target="http://sensusnovus.ru/uploads/2011/12/RIAN_archive_907_Leningradians_queueing_up_for_water-545x396.jpg" TargetMode="External"/><Relationship Id="rId43" Type="http://schemas.openxmlformats.org/officeDocument/2006/relationships/hyperlink" Target="http://sensusnovus.ru/uploads/2011/12/RIAN_archive_907_Leningradians_queueing_up_for_water-545x396.jpg" TargetMode="External"/><Relationship Id="rId44" Type="http://schemas.openxmlformats.org/officeDocument/2006/relationships/hyperlink" Target="http://sensusnovus.ru/uploads/2011/12/RIAN_archive_907_Leningradians_queueing_up_for_water-545x396.jpg" TargetMode="External"/><Relationship Id="rId45" Type="http://schemas.openxmlformats.org/officeDocument/2006/relationships/hyperlink" Target="http://sensusnovus.ru/uploads/2011/12/RIAN_archive_907_Leningradians_queueing_up_for_water-545x396.jpg" TargetMode="External"/><Relationship Id="rId46" Type="http://schemas.openxmlformats.org/officeDocument/2006/relationships/hyperlink" Target="http://sensusnovus.ru/uploads/2011/12/RIAN_archive_907_Leningradians_queueing_up_for_water-545x396.jpg" TargetMode="External"/><Relationship Id="rId47" Type="http://schemas.openxmlformats.org/officeDocument/2006/relationships/hyperlink" Target="http://sensusnovus.ru/uploads/2011/12/RIAN_archive_907_Leningradians_queueing_up_for_water-545x396.jpg" TargetMode="External"/><Relationship Id="rId48" Type="http://schemas.openxmlformats.org/officeDocument/2006/relationships/hyperlink" Target="http://sensusnovus.ru/uploads/2011/12/RIAN_archive_907_Leningradians_queueing_up_for_water-545x396.jpg" TargetMode="External"/><Relationship Id="rId49" Type="http://schemas.openxmlformats.org/officeDocument/2006/relationships/hyperlink" Target="http://sensusnovus.ru/uploads/2011/12/RIAN_archive_907_Leningradians_queueing_up_for_water-545x396.jpg" TargetMode="External"/><Relationship Id="rId50" Type="http://schemas.openxmlformats.org/officeDocument/2006/relationships/hyperlink" Target="http://sensusnovus.ru/uploads/2011/12/RIAN_archive_907_Leningradians_queueing_up_for_water-545x396.jpg" TargetMode="External"/><Relationship Id="rId51" Type="http://schemas.openxmlformats.org/officeDocument/2006/relationships/hyperlink" Target="http://upload.wikimedia.org/wikipedia/commons/thumb/3/3b/CWRArticleImage.jpg/471px-CWRArticleImage.jpg" TargetMode="External"/><Relationship Id="rId52" Type="http://schemas.openxmlformats.org/officeDocument/2006/relationships/hyperlink" Target="http://www.myjulia.ru/data/cache/2011/03/05/695799_9697nothumb500.jpg" TargetMode="External"/><Relationship Id="rId53" Type="http://schemas.openxmlformats.org/officeDocument/2006/relationships/hyperlink" Target="http://www.l-amour.ru/foto/1239734696.jpg" TargetMode="External"/><Relationship Id="rId54" Type="http://schemas.openxmlformats.org/officeDocument/2006/relationships/hyperlink" Target="http://dic.academic.ru/pictures/wiki/files/51/320px-WW2ArticleImage.jpg" TargetMode="External"/><Relationship Id="rId5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7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6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6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Картинка 3 из 1440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80880" y="1219320"/>
              <a:ext cx="8458200" cy="487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1828800" y="1600200"/>
              <a:ext cx="579132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нтерактивная игра-викторина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"Поклонимся великим тем годам"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3429000"/>
              <a:ext cx="792468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Автор-составител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Авдеева Елена Анатольевн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учитель-логопед высшей квалификационной категории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БС(К)ОУ №131 Красносельского рай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 Санкт-Петербур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648480" y="6243480"/>
              <a:ext cx="2495520" cy="61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Кто объявил советскому народу о начале войны с Герман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98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. В. Ста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01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 К. Ж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204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. Е. Ворошил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20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1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. М. Моло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Картинка 5 из 83735"/>
          <p:cNvPicPr/>
          <p:nvPr/>
        </p:nvPicPr>
        <p:blipFill>
          <a:blip r:embed="rId2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15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Картинка 5 из 624"/>
          <p:cNvPicPr/>
          <p:nvPr/>
        </p:nvPicPr>
        <p:blipFill>
          <a:blip r:embed="rId5"/>
          <a:stretch/>
        </p:blipFill>
        <p:spPr>
          <a:xfrm>
            <a:off x="2286000" y="533520"/>
            <a:ext cx="3611520" cy="472428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1371600" y="5256720"/>
            <a:ext cx="5240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Вячеслав Михайлович Моло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(настоящая фамилия Скряб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Назовите орден, который не был учреждён в период Великой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2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Нахим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23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Сувор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3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Ушак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23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Крас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на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23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0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76720" y="1981080"/>
            <a:ext cx="55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) — первый из советски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ыл учреждё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густа 1924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награждения за особую храбрость, самоотверженность и мужество, проявленные при защите Отечест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44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Картинка 19 из 15842"/>
          <p:cNvPicPr/>
          <p:nvPr/>
        </p:nvPicPr>
        <p:blipFill>
          <a:blip r:embed="rId4"/>
          <a:stretch/>
        </p:blipFill>
        <p:spPr>
          <a:xfrm>
            <a:off x="762120" y="762120"/>
            <a:ext cx="2401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09680" y="533520"/>
            <a:ext cx="6324840" cy="1218960"/>
          </a:xfrm>
          <a:prstGeom prst="wedgeRoundRectCallout">
            <a:avLst>
              <a:gd name="adj1" fmla="val -60615"/>
              <a:gd name="adj2" fmla="val -11717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К началу войны личным оружием большинства командиров Красной Армии был этот револьвер, названный именем его констру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252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льт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57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раунин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59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261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рет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264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6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г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71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Картинка 9 из 1247"/>
          <p:cNvPicPr/>
          <p:nvPr/>
        </p:nvPicPr>
        <p:blipFill>
          <a:blip r:embed="rId4"/>
          <a:stretch/>
        </p:blipFill>
        <p:spPr>
          <a:xfrm>
            <a:off x="1066680" y="990720"/>
            <a:ext cx="4038840" cy="2516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Картинка 2 из 114"/>
          <p:cNvPicPr/>
          <p:nvPr/>
        </p:nvPicPr>
        <p:blipFill>
          <a:blip r:embed="rId5"/>
          <a:stretch/>
        </p:blipFill>
        <p:spPr>
          <a:xfrm>
            <a:off x="5867280" y="762120"/>
            <a:ext cx="2181240" cy="3076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114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Нага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револьвер системы бельгийского оружейник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Л.Наган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Назовите самого знаменитого во время Великой Отечественной войны советского подводника – капитана третьего ра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281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лександ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крышк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8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ри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афо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290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лександ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ринес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29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96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в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жеду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39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00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Картинка 5 из 860"/>
          <p:cNvPicPr/>
          <p:nvPr/>
        </p:nvPicPr>
        <p:blipFill>
          <a:blip r:embed="rId4"/>
          <a:stretch/>
        </p:blipFill>
        <p:spPr>
          <a:xfrm>
            <a:off x="914400" y="457200"/>
            <a:ext cx="2560680" cy="358128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pic>
        <p:nvPicPr>
          <p:cNvPr id="303" name="" descr="Картинка 14 из 860"/>
          <p:cNvPicPr/>
          <p:nvPr/>
        </p:nvPicPr>
        <p:blipFill>
          <a:blip r:embed="rId5"/>
          <a:stretch/>
        </p:blipFill>
        <p:spPr>
          <a:xfrm>
            <a:off x="3809880" y="1066680"/>
            <a:ext cx="4314960" cy="2667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09480" y="4190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лександр Иванович Марине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андир Краснознамённой подводной лодки С-13 Краснознамённой бригады подводных лодок Краснознамённ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лтийского ф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питан 3-го ранга, известный по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аке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Сколько дней продолжалась героическая оборона Ленингр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310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7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15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10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319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8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322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25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9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6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0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77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29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500480" y="376920"/>
            <a:ext cx="60206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говорю...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ahoma"/>
              </a:rPr>
              <a:t> 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ahoma"/>
              </a:rPr>
              <a:t> 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Я говорю: нас, граждан Ленинграда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Не поколеблет грохот канонад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если завтра будут баррикады-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Мы не покинем наших баррикад…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женщины с бойцами встанут рядом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дети нам патроны поднесут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надо всеми нами зацветут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Старинные знамена Петрограда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                                        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(О. Берггольц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Картинка 8 из 46182"/>
          <p:cNvPicPr/>
          <p:nvPr/>
        </p:nvPicPr>
        <p:blipFill>
          <a:blip r:embed="rId4"/>
          <a:stretch/>
        </p:blipFill>
        <p:spPr>
          <a:xfrm>
            <a:off x="1295280" y="4038480"/>
            <a:ext cx="29955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Какой из перечисленных городов не       является городом-геро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52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евастоп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57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лго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61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ер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64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6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роне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Сколько лет прошло от окончания Гражданской войны до начала Великой Отечественной вой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4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344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4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350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35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6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2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3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4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evt="end">
                                        <p:tn val="554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57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800600" y="1220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ражда́нская война́ в Росси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цепь вооружённых конфликтов между различными политическими, этническими и социальными группами на территории бывшей Российской империи, последовавших за Февральской и Октябрьской революциями 1917 г. 19  лет прошло от окончания Гражданской войны до начала Великой Оте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Картинка 2 из 70611"/>
          <p:cNvPicPr/>
          <p:nvPr/>
        </p:nvPicPr>
        <p:blipFill>
          <a:blip r:embed="rId4"/>
          <a:stretch/>
        </p:blipFill>
        <p:spPr>
          <a:xfrm>
            <a:off x="533520" y="762120"/>
            <a:ext cx="400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 Кому принадлежат знаменитые пламенные слова: «Велика Россия, а отступать некуда. Позади Москв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369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слае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72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лексее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375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ёркин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378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81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лочко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7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8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9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66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5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2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85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" descr="Картинка 15 из 395"/>
          <p:cNvPicPr/>
          <p:nvPr/>
        </p:nvPicPr>
        <p:blipFill>
          <a:blip r:embed="rId4"/>
          <a:srcRect l="0" t="0" r="0" b="6000"/>
          <a:stretch/>
        </p:blipFill>
        <p:spPr>
          <a:xfrm>
            <a:off x="380880" y="914400"/>
            <a:ext cx="3403800" cy="3962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962520" y="1447920"/>
            <a:ext cx="487656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асилий Георгиевич Клоч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(1908 – 194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ладший политрук, Герой Советского Союза. Погиб под Волоколамском у разъезда Дубосеково, звание Героя присвоено посмертно 21 июля 1942 года. О словах, произнесенных Клочковы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елика Россия, а отступать некуда — позади Моск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о подвиге воинов панфиловской дивизии страна узнала 28 ноября 1941 года из статьи в «Красной звезд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209680" y="533520"/>
            <a:ext cx="6324840" cy="1295280"/>
          </a:xfrm>
          <a:prstGeom prst="wedgeRoundRectCallout">
            <a:avLst>
              <a:gd name="adj1" fmla="val -60615"/>
              <a:gd name="adj2" fmla="val -13972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О ком писал М. Лисянский «Мы запомним суровую осень, и в сердцах будут жить двадцать восемь  самых смелых твоих сынов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9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Маршал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40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ионерах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ероя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0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артизан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40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анфиловц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40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1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2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3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4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5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6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13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" descr="Картинка 42 из 649"/>
          <p:cNvPicPr/>
          <p:nvPr/>
        </p:nvPicPr>
        <p:blipFill>
          <a:blip r:embed="rId4"/>
          <a:stretch/>
        </p:blipFill>
        <p:spPr>
          <a:xfrm>
            <a:off x="2057400" y="457200"/>
            <a:ext cx="5076720" cy="285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828800" y="32767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умент панфиловцам в Дубосек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7339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фи́лов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бойцы 316-й стрелковой дивизии (впоследствии 8-я гвардейская), под командованием генерал-майора Ивана Васильевича Панфилова участвовавшей в 1941 году в обороне Москвы. Среди воинов дивизии наибольшую известность получили 28 человек («герои-панфиловцы» или «28 героев-панфиловцев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 Назовите единсвенного четырежды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423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.К. Рокоссов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25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28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.М. Шапош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432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К.Ж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435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38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.С. Кон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9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70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71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68"/>
                                      </p:cond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4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90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96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7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4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42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Картинка 2 из 62662"/>
          <p:cNvPicPr/>
          <p:nvPr/>
        </p:nvPicPr>
        <p:blipFill>
          <a:blip r:embed="rId4"/>
          <a:stretch/>
        </p:blipFill>
        <p:spPr>
          <a:xfrm>
            <a:off x="457200" y="990720"/>
            <a:ext cx="3571920" cy="3809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114800" y="185760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ео́ргий Константи́нович Жу́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 — 1974) 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т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ачальник, Маршал Советского Союз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министр обороны СССР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тыреж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рой Советского Союза, кавалер двух орденов «Победа», множества других советских и иностранных орденов и меда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   Когда началась Вторая мировая вой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451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 июн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41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5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сентябр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40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8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460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м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39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46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66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сентябр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39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2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22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3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2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6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7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8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evt="end">
                                        <p:tn val="745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800600" y="18288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1 сентября 1939 го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Германия начала войну против Польши. Этот день считается началом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71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" descr="Картинка 13 из 58057"/>
          <p:cNvPicPr/>
          <p:nvPr/>
        </p:nvPicPr>
        <p:blipFill>
          <a:blip r:embed="rId4"/>
          <a:stretch/>
        </p:blipFill>
        <p:spPr>
          <a:xfrm>
            <a:off x="533520" y="609480"/>
            <a:ext cx="418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12193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72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Картинка 4 из 24365"/>
          <p:cNvPicPr/>
          <p:nvPr/>
        </p:nvPicPr>
        <p:blipFill>
          <a:blip r:embed="rId4"/>
          <a:stretch/>
        </p:blipFill>
        <p:spPr>
          <a:xfrm>
            <a:off x="533520" y="990720"/>
            <a:ext cx="3200400" cy="23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34 из 19450"/>
          <p:cNvPicPr/>
          <p:nvPr/>
        </p:nvPicPr>
        <p:blipFill>
          <a:blip r:embed="rId5"/>
          <a:stretch/>
        </p:blipFill>
        <p:spPr>
          <a:xfrm>
            <a:off x="5105520" y="990720"/>
            <a:ext cx="3200400" cy="2436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а 5 из 5622"/>
          <p:cNvPicPr/>
          <p:nvPr/>
        </p:nvPicPr>
        <p:blipFill>
          <a:blip r:embed="rId6"/>
          <a:stretch/>
        </p:blipFill>
        <p:spPr>
          <a:xfrm>
            <a:off x="2819520" y="39625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38080" y="3808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астополь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05520" y="3808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гоград (Сталинград)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76720" y="34290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ерчь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 Кто водрузил Знамя Победы над Рейхстагом в Берлине в 1945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81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ванов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жугашв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83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485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т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пиа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88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до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жанаш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491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го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нта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494" name="" descr=""/>
            <p:cNvPicPr/>
            <p:nvPr/>
          </p:nvPicPr>
          <p:blipFill>
            <a:blip r:embed="rId5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83"/>
                                      </p:cond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9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evt="end">
                                        <p:tn val="796"/>
                                      </p:cond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1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98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" descr="Картинка 8 из 371"/>
          <p:cNvPicPr/>
          <p:nvPr/>
        </p:nvPicPr>
        <p:blipFill>
          <a:blip r:embed="rId4"/>
          <a:stretch/>
        </p:blipFill>
        <p:spPr>
          <a:xfrm>
            <a:off x="685800" y="838080"/>
            <a:ext cx="3581280" cy="2779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Картинка 9 из 371"/>
          <p:cNvPicPr/>
          <p:nvPr/>
        </p:nvPicPr>
        <p:blipFill>
          <a:blip r:embed="rId5"/>
          <a:stretch/>
        </p:blipFill>
        <p:spPr>
          <a:xfrm>
            <a:off x="4876920" y="838080"/>
            <a:ext cx="3581280" cy="27910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066680" y="3885120"/>
            <a:ext cx="77677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000" bIns="27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я было водружено разведчиками 150-й стрелковой дивизии Михаилом Егоровым и Мелитоном Канта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1722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685800" y="4572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новых 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реч,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ители истории!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85800" y="76212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ерггольц О. Дневные звёзды; Говорит Ленинград; Статьи/ Сост. М. Берггольц. –Л.: Худож. Лит.,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анилов А.А. История Росси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нача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: учеб. Для 9 кл. общеобразоват. учреждений/ А.А. Данилов, Л. Г. Косулина, М. Ю. Брандт. – 2-е изд. –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ветский энциклопедический словарь/ Гл.ред. А.М. Прохоров.- 3-е изд.- М.: Сов. энциклопедия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Картинка 17 из 55910"/>
          <p:cNvPicPr/>
          <p:nvPr/>
        </p:nvPicPr>
        <p:blipFill>
          <a:blip r:embed="rId2"/>
          <a:stretch/>
        </p:blipFill>
        <p:spPr>
          <a:xfrm>
            <a:off x="6477120" y="3809880"/>
            <a:ext cx="229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62120" y="533520"/>
            <a:ext cx="784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нтернет-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ongratulatorycar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hotofram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24/87512-foto71265_4614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otobam.n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l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1/2406444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ldtrunks.com/CommunicationsGraphics/Semapho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zdravonews.ru/media/2011/12/c4f77154d569be48e47b0c6f1f21-e132447610373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i02.fsimg.ru/4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log_bo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1998/199859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ewzz.in.ua/uploads/posts/2010-05/1273669795_74bc41eb03ba6d4b3cb8a968aa9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://stat17.privet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l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0a032c3ed080737240ec4eb94132ff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yaplakal.com/uploads/previews/post-3-1255885852399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liewar.ru/images/stories/izmena/image0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poiskm.ru/artist/639571-Svyashchennaya-voy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upload.wikimedia.org/wikipedia/ru/f/f7/Ussr043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demonics021.narod.ru/obrazec/9may/image/cena/nastu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www.sovsekretno.ru/app/image/2001/03/9/021128113216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i1.i.ua/prikol/pic/3/6/637863_63747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ershov-gennady.ru/wp-content/uploads/2011/05/stalingra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demiar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foru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uploads7/post-1800122-129845732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80880" y="3049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4703/zimarika.49/0_61c8d_a631740f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s5663.vkontakte.ru/u2840255/-5/x_6bd70d8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oisk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rti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9354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voenni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img-fotki.yandex.ru/get/5507/joe-steward.2/0_6e2c6_8832ac47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ont2007.narod.ru/War/Fotowar/Big/006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photocity.ru/Album133/000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img15.nnm.ru/2/0/f/0/5/657bdf2ff74ad10cf8b0e35802c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edut-deti.ru/pics/war_ekscursions/war_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s017.radikal.ru/i425/1111/01/9e22b865215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img.stapravda.ru/i/b/p2729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hlebooks.com/nagant/NALIV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mg1.liveinternet.ru/images/attach/c/1/54/526/54526883_8728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sensusnovu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upload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2011/12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RIA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archiv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_907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Leningradian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queuein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u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o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at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-54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396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http://upload.wikimedia.org/wikipedia/commons/thumb/3/3b/CWRArticleImage.jpg/471px-CWRArticleIm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://www.myjulia.ru/data/cache/2011/03/05/695799_9697nothumb50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http://www.l-amour.ru/foto/123973469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://dic.academic.ru/pictures/wiki/files/51/320px-WW2ArticleIm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yaplakal.com/uploads/previews/post-3-1326179785856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ctualcomment.ru/userdata/535f0116d25cd805b825f3d525065da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toshop-1.3dn.ru/_nw/1/3105415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Назовите город-герой, который ни разу за историю своего существования не был захвачен вражескими вой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85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у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9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д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94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енин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9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00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вороссий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55288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80880"/>
          <a:ext cx="7772400" cy="5673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оч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И летели листовки с неб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роги замерзших квартир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 Будет хлеб. Вы хотите хлеба?...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Будет мир. Вам не снится мир?"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плача, хлеба просили.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страшнее пытки тако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градцы ворот не открыл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е вышли к стене городско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оды, без тепла, без света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хож на черную ночь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, в мире и силы нету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все это превозмочь?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ли - и говорили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ши дети увидят свет!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ворота они не открыли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лени не встали, нет!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дрено ли, что в ратной рабо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наш по-солдатски хорош?.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 построил его на боло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прочнее земли не найдешь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 Рыв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2 из 3560"/>
          <p:cNvPicPr/>
          <p:nvPr/>
        </p:nvPicPr>
        <p:blipFill>
          <a:blip r:embed="rId2"/>
          <a:stretch/>
        </p:blipFill>
        <p:spPr>
          <a:xfrm>
            <a:off x="5410080" y="3276720"/>
            <a:ext cx="2590920" cy="19098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553080" y="5257800"/>
            <a:ext cx="2286000" cy="1371600"/>
            <a:chOff x="6553080" y="5257800"/>
            <a:chExt cx="2286000" cy="1371600"/>
          </a:xfrm>
        </p:grpSpPr>
        <p:pic>
          <p:nvPicPr>
            <p:cNvPr id="107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53080" y="525780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09960" y="5631840"/>
              <a:ext cx="11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Какую военную операцию немецко-фашистское командование называло операцией «Тайфун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1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Кавк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2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Сталин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2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Кры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12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Моск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12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33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85800" y="1066680"/>
            <a:ext cx="3962520" cy="307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30492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План гитлеровского наступления на Моск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029200" y="106668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95680" y="3049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 ставке Гитлера перед наступлением на Москву. 19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1911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ольф Гитлер  рассматривал взятие Москвы, столицы СССР и самого большого советского города, как одну из главных военных и политических целей операции «Барбаросса». В германской и западной военной истории она известна к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Операция Тайфун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тог битвы за Москву (30 сентября 1941 – 20 апреля 1942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ратегическая победа СССР, крах плана «Барбаросса» и операции «Тайфу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Как называется песня, начинающаяся словами «Вставай, страна огромная ,вставай на смертный бой!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48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Катюш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51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В землянке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154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В лес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ифронтово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Молодец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6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Свяще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йн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63" name="" descr="">
              <a:hlinkClick r:id="" action="ppaction://hlinkshowjump?jump=nextslide"/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Сколько дней длилась Великая Отечественная вой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170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34  д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75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179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18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Молодец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85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88" name="" descr="">
              <a:hlinkClick r:id="" action="ppaction://hlinkshowjump?jump=nextslide"/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8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8-06T11:01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