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CCA-973A-42F0-9523-7C11D25E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60F-9C7D-4C0F-BC40-1A874CCF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69B-A4DB-40D2-A8D1-FF67340D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BA6-45A1-4AD1-A6D3-157ACB44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B24-B098-4DC2-8C05-493AE5B1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EAE-ADC6-43DD-8F0C-49CE94CD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C93-AAE6-4AC5-B601-8F51FCF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FE3-1209-4AF2-9B31-ECD79147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F1A-AB66-4358-83D2-6B6F9AE0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5FB-6758-4469-9320-63D89F5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6ED-342A-4543-9B60-39A373F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D71-C43C-4EB2-A34C-77912D2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47640" y="6578640"/>
            <a:ext cx="61912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4F4D-F68B-4390-B4B7-48B6B6E12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7.pn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it-n.ru/profil.aspx?cat_no=692&amp;d_no=9658" TargetMode="External"/><Relationship Id="rId2" Type="http://schemas.openxmlformats.org/officeDocument/2006/relationships/hyperlink" Target="http://www.livegif.ru/" TargetMode="External"/><Relationship Id="rId3" Type="http://schemas.openxmlformats.org/officeDocument/2006/relationships/hyperlink" Target="http://www.livegif.ru/" TargetMode="External"/><Relationship Id="rId4" Type="http://schemas.openxmlformats.org/officeDocument/2006/relationships/hyperlink" Target="http://www.livegif.ru/" TargetMode="External"/><Relationship Id="rId5" Type="http://schemas.openxmlformats.org/officeDocument/2006/relationships/hyperlink" Target="http://www.livegif.ru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71280" y="3715920"/>
            <a:ext cx="32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eorgia"/>
              </a:rPr>
              <a:t>5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360" y="47628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Задачи  к  уроку  обобщ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по  теме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"Натуральные  числа  и  шкалы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1844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67040" y="5661000"/>
            <a:ext cx="559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Каратанова Марина Никола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МКОУ СОШ №256, г.Фо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0"/>
            <a:ext cx="5435640" cy="1700280"/>
          </a:xfrm>
          <a:prstGeom prst="cloudCallout">
            <a:avLst>
              <a:gd name="adj1" fmla="val -82097"/>
              <a:gd name="adj2" fmla="val 44773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268360" y="2997360"/>
            <a:ext cx="29530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км 15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3933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79736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 0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6624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 150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2276640"/>
            <a:ext cx="2736720" cy="792000"/>
          </a:xfrm>
          <a:prstGeom prst="wedgeRoundRectCallout">
            <a:avLst>
              <a:gd name="adj1" fmla="val 47388"/>
              <a:gd name="adj2" fmla="val 14859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2276640"/>
            <a:ext cx="2737080" cy="792000"/>
          </a:xfrm>
          <a:prstGeom prst="wedgeRoundRectCallout">
            <a:avLst>
              <a:gd name="adj1" fmla="val 45185"/>
              <a:gd name="adj2" fmla="val 132162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08360" y="0"/>
            <a:ext cx="5435640" cy="1700280"/>
          </a:xfrm>
          <a:prstGeom prst="cloudCallout">
            <a:avLst>
              <a:gd name="adj1" fmla="val -82097"/>
              <a:gd name="adj2" fmla="val 44773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908000" y="2997360"/>
            <a:ext cx="36007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м 2дм 4см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3933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240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479736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024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6624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204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2276640"/>
            <a:ext cx="2736720" cy="792000"/>
          </a:xfrm>
          <a:prstGeom prst="wedgeRoundRectCallout">
            <a:avLst>
              <a:gd name="adj1" fmla="val 47388"/>
              <a:gd name="adj2" fmla="val 14859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2205000"/>
            <a:ext cx="2736720" cy="792360"/>
          </a:xfrm>
          <a:prstGeom prst="wedgeRoundRectCallout">
            <a:avLst>
              <a:gd name="adj1" fmla="val 42518"/>
              <a:gd name="adj2" fmla="val 141180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76720" y="0"/>
            <a:ext cx="5616360" cy="1655640"/>
          </a:xfrm>
          <a:prstGeom prst="cloudCallout">
            <a:avLst>
              <a:gd name="adj1" fmla="val -73513"/>
              <a:gd name="adj2" fmla="val 47217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колько на рисунке отрез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апиши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6237360"/>
            <a:ext cx="2519280" cy="393480"/>
          </a:xfrm>
          <a:custGeom>
            <a:avLst/>
            <a:gdLst>
              <a:gd name="textAreaLeft" fmla="*/ 25200 w 2519280"/>
              <a:gd name="textAreaRight" fmla="*/ 2494080 w 251928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138189" h="21600">
                <a:moveTo>
                  <a:pt x="0" y="0"/>
                </a:moveTo>
                <a:lnTo>
                  <a:pt x="138189" y="0"/>
                </a:lnTo>
                <a:lnTo>
                  <a:pt x="138189" y="21600"/>
                </a:lnTo>
                <a:lnTo>
                  <a:pt x="0" y="21600"/>
                </a:lnTo>
                <a:close/>
              </a:path>
              <a:path fill="lightenLess" w="138189" h="21600">
                <a:moveTo>
                  <a:pt x="0" y="0"/>
                </a:moveTo>
                <a:lnTo>
                  <a:pt x="138189" y="0"/>
                </a:lnTo>
                <a:lnTo>
                  <a:pt x="136789" y="1400"/>
                </a:lnTo>
                <a:lnTo>
                  <a:pt x="1400" y="1400"/>
                </a:lnTo>
                <a:close/>
              </a:path>
              <a:path fill="darken" w="138189" h="21600">
                <a:moveTo>
                  <a:pt x="138189" y="0"/>
                </a:moveTo>
                <a:lnTo>
                  <a:pt x="138189" y="21600"/>
                </a:lnTo>
                <a:lnTo>
                  <a:pt x="136789" y="20200"/>
                </a:lnTo>
                <a:lnTo>
                  <a:pt x="136789" y="1400"/>
                </a:lnTo>
                <a:close/>
              </a:path>
              <a:path fill="darkenLess" w="138189" h="21600">
                <a:moveTo>
                  <a:pt x="138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789" y="20200"/>
                </a:lnTo>
                <a:close/>
              </a:path>
              <a:path fill="lighten" w="138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084640"/>
            <a:ext cx="8713800" cy="6987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; CD; KP; AM; AN; MN; NB; MB; CM; MD; KN; N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3230640"/>
            <a:ext cx="7012080" cy="1135080"/>
          </a:xfrm>
          <a:custGeom>
            <a:avLst/>
            <a:gdLst/>
            <a:ahLst/>
            <a:rect l="l" t="t" r="r" b="b"/>
            <a:pathLst>
              <a:path w="4417" h="715">
                <a:moveTo>
                  <a:pt x="0" y="715"/>
                </a:moveTo>
                <a:lnTo>
                  <a:pt x="441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2062080"/>
            <a:ext cx="1247760" cy="2768760"/>
          </a:xfrm>
          <a:custGeom>
            <a:avLst/>
            <a:gdLst/>
            <a:ahLst/>
            <a:rect l="l" t="t" r="r" b="b"/>
            <a:pathLst>
              <a:path w="786" h="1744">
                <a:moveTo>
                  <a:pt x="0" y="1744"/>
                </a:moveTo>
                <a:lnTo>
                  <a:pt x="78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421000"/>
            <a:ext cx="3382920" cy="2376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378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13440" y="2637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440" y="17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9800" y="429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8880" y="41497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9800" y="184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18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508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438880"/>
            <a:ext cx="2664000" cy="141912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000"/>
                            </p:stCondLst>
                            <p:childTnLst>
                              <p:par>
                                <p:cTn id="8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0"/>
                            </p:stCondLst>
                            <p:childTnLst>
                              <p:par>
                                <p:cTn id="8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395280" y="2205000"/>
            <a:ext cx="5543640" cy="4105440"/>
            <a:chOff x="395280" y="2205000"/>
            <a:chExt cx="5543640" cy="4105440"/>
          </a:xfrm>
        </p:grpSpPr>
        <p:sp>
          <p:nvSpPr>
            <p:cNvPr id="188" name=""/>
            <p:cNvSpPr/>
            <p:nvPr/>
          </p:nvSpPr>
          <p:spPr>
            <a:xfrm>
              <a:off x="395280" y="2205000"/>
              <a:ext cx="5543640" cy="41054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3203640" y="4941360"/>
              <a:ext cx="1800000" cy="133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2268000" y="3573000"/>
              <a:ext cx="1800360" cy="133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1332000" y="4941360"/>
              <a:ext cx="1800000" cy="133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колько треугольников на черте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211640" y="2060640"/>
            <a:ext cx="2374920" cy="1274760"/>
          </a:xfrm>
          <a:prstGeom prst="irregularSeal1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429000"/>
            <a:ext cx="2374920" cy="1274760"/>
          </a:xfrm>
          <a:prstGeom prst="irregularSeal1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69080" y="1773360"/>
            <a:ext cx="2374920" cy="1274760"/>
          </a:xfrm>
          <a:prstGeom prst="irregularSeal1">
            <a:avLst/>
          </a:prstGeom>
          <a:solidFill>
            <a:srgbClr val="00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869000"/>
            <a:ext cx="2374920" cy="1274760"/>
          </a:xfrm>
          <a:prstGeom prst="irregularSeal1">
            <a:avLst/>
          </a:prstGeom>
          <a:solidFill>
            <a:srgbClr val="ccc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2205000"/>
            <a:ext cx="1800360" cy="1366920"/>
          </a:xfrm>
          <a:prstGeom prst="triangle">
            <a:avLst>
              <a:gd name="adj" fmla="val 51324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3573360"/>
            <a:ext cx="1800000" cy="1366920"/>
          </a:xfrm>
          <a:prstGeom prst="triangle">
            <a:avLst>
              <a:gd name="adj" fmla="val 51324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2268000" y="3573000"/>
            <a:ext cx="1800360" cy="1366920"/>
          </a:xfrm>
          <a:prstGeom prst="triangle">
            <a:avLst>
              <a:gd name="adj" fmla="val 50704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3573360"/>
            <a:ext cx="1800000" cy="1366920"/>
          </a:xfrm>
          <a:prstGeom prst="triangle">
            <a:avLst>
              <a:gd name="adj" fmla="val 47972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941720"/>
            <a:ext cx="1800360" cy="1366920"/>
          </a:xfrm>
          <a:prstGeom prst="triangle">
            <a:avLst>
              <a:gd name="adj" fmla="val 51324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1332000" y="4941360"/>
            <a:ext cx="1800000" cy="1366920"/>
          </a:xfrm>
          <a:prstGeom prst="triangle">
            <a:avLst>
              <a:gd name="adj" fmla="val 50704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8360" y="4941720"/>
            <a:ext cx="1800360" cy="1366920"/>
          </a:xfrm>
          <a:prstGeom prst="triangle">
            <a:avLst>
              <a:gd name="adj" fmla="val 51324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203640" y="4941360"/>
            <a:ext cx="1800000" cy="1366920"/>
          </a:xfrm>
          <a:prstGeom prst="triangle">
            <a:avLst>
              <a:gd name="adj" fmla="val 50704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4941720"/>
            <a:ext cx="1800000" cy="1366920"/>
          </a:xfrm>
          <a:prstGeom prst="triangle">
            <a:avLst>
              <a:gd name="adj" fmla="val 49296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645000"/>
            <a:ext cx="3673440" cy="2663640"/>
          </a:xfrm>
          <a:prstGeom prst="triangle">
            <a:avLst>
              <a:gd name="adj" fmla="val 50389"/>
            </a:avLst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2205000"/>
            <a:ext cx="3529080" cy="2664000"/>
          </a:xfrm>
          <a:prstGeom prst="triangle">
            <a:avLst>
              <a:gd name="adj" fmla="val 50389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3645000"/>
            <a:ext cx="3673800" cy="2663640"/>
          </a:xfrm>
          <a:prstGeom prst="triangle">
            <a:avLst>
              <a:gd name="adj" fmla="val 50389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2276640"/>
            <a:ext cx="5398920" cy="4032000"/>
          </a:xfrm>
          <a:prstGeom prst="triangle">
            <a:avLst>
              <a:gd name="adj" fmla="val 50389"/>
            </a:avLst>
          </a:prstGeom>
          <a:blipFill rotWithShape="0">
            <a:blip r:embed="rId15">
              <a:alphaModFix amt="6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9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132000" y="0"/>
            <a:ext cx="6624720" cy="2781360"/>
          </a:xfrm>
          <a:prstGeom prst="cloudCallout">
            <a:avLst>
              <a:gd name="adj1" fmla="val -72694"/>
              <a:gd name="adj2" fmla="val 17236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колько сторон  в  многоугольнике  АВ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F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числите  и запишите вс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268360" y="2781360"/>
            <a:ext cx="100836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2781360"/>
            <a:ext cx="100836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781360"/>
            <a:ext cx="100800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6093000"/>
            <a:ext cx="1908360" cy="502920"/>
          </a:xfrm>
          <a:custGeom>
            <a:avLst/>
            <a:gdLst>
              <a:gd name="textAreaLeft" fmla="*/ 32400 w 1908360"/>
              <a:gd name="textAreaRight" fmla="*/ 1875960 w 1908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81919" h="21600">
                <a:moveTo>
                  <a:pt x="0" y="0"/>
                </a:moveTo>
                <a:lnTo>
                  <a:pt x="81919" y="0"/>
                </a:lnTo>
                <a:lnTo>
                  <a:pt x="81919" y="21600"/>
                </a:lnTo>
                <a:lnTo>
                  <a:pt x="0" y="21600"/>
                </a:lnTo>
                <a:close/>
              </a:path>
              <a:path fill="lightenLess" w="81919" h="21600">
                <a:moveTo>
                  <a:pt x="0" y="0"/>
                </a:moveTo>
                <a:lnTo>
                  <a:pt x="81919" y="0"/>
                </a:lnTo>
                <a:lnTo>
                  <a:pt x="80519" y="1400"/>
                </a:lnTo>
                <a:lnTo>
                  <a:pt x="1400" y="1400"/>
                </a:lnTo>
                <a:close/>
              </a:path>
              <a:path fill="darken" w="81919" h="21600">
                <a:moveTo>
                  <a:pt x="81919" y="0"/>
                </a:moveTo>
                <a:lnTo>
                  <a:pt x="81919" y="21600"/>
                </a:lnTo>
                <a:lnTo>
                  <a:pt x="80519" y="20200"/>
                </a:lnTo>
                <a:lnTo>
                  <a:pt x="80519" y="1400"/>
                </a:lnTo>
                <a:close/>
              </a:path>
              <a:path fill="darkenLess" w="81919" h="21600">
                <a:moveTo>
                  <a:pt x="81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19" y="20200"/>
                </a:lnTo>
                <a:close/>
              </a:path>
              <a:path fill="lighten" w="81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5445000"/>
            <a:ext cx="2737080" cy="792360"/>
          </a:xfrm>
          <a:prstGeom prst="wedgeRoundRectCallout">
            <a:avLst>
              <a:gd name="adj1" fmla="val 69837"/>
              <a:gd name="adj2" fmla="val -210921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3280" y="5661000"/>
            <a:ext cx="2737080" cy="792360"/>
          </a:xfrm>
          <a:prstGeom prst="wedgeRoundRectCallout">
            <a:avLst>
              <a:gd name="adj1" fmla="val 72333"/>
              <a:gd name="adj2" fmla="val -233569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4149720"/>
            <a:ext cx="5041800" cy="69840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;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; DE; EF; FK; F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3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76720" y="0"/>
            <a:ext cx="5616360" cy="1655640"/>
          </a:xfrm>
          <a:prstGeom prst="cloudCallout">
            <a:avLst>
              <a:gd name="adj1" fmla="val -73513"/>
              <a:gd name="adj2" fmla="val 47217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те правильные вариант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0"/>
            <a:ext cx="6084720" cy="2060640"/>
          </a:xfrm>
          <a:prstGeom prst="cloudCallout">
            <a:avLst>
              <a:gd name="adj1" fmla="val -68106"/>
              <a:gd name="adj2" fmla="val 3636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 АВС пересечен двумя прямыми А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EF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учило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242100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 четырёх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3640" y="328464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6 отрез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414972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 отрез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03640" y="4941720"/>
            <a:ext cx="4248000" cy="57492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 лу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580716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 треуг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4000" y="3357720"/>
            <a:ext cx="3024000" cy="3501360"/>
            <a:chOff x="324000" y="3357720"/>
            <a:chExt cx="3024000" cy="3501360"/>
          </a:xfrm>
        </p:grpSpPr>
        <p:sp>
          <p:nvSpPr>
            <p:cNvPr id="232" name=""/>
            <p:cNvSpPr/>
            <p:nvPr/>
          </p:nvSpPr>
          <p:spPr>
            <a:xfrm>
              <a:off x="971640" y="3716280"/>
              <a:ext cx="1800000" cy="2519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4000" y="4869000"/>
              <a:ext cx="302400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6520" y="3429000"/>
              <a:ext cx="374400" cy="3398760"/>
            </a:xfrm>
            <a:custGeom>
              <a:avLst/>
              <a:gdLst/>
              <a:ahLst/>
              <a:rect l="l" t="t" r="r" b="b"/>
              <a:pathLst>
                <a:path w="236" h="2141">
                  <a:moveTo>
                    <a:pt x="0" y="2141"/>
                  </a:moveTo>
                  <a:lnTo>
                    <a:pt x="2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9800" y="57340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9800" y="3357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1800" y="6021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33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36720" y="4508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1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3800" y="62164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2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232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7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38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7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59280" y="0"/>
            <a:ext cx="6084720" cy="2060640"/>
          </a:xfrm>
          <a:prstGeom prst="cloudCallout">
            <a:avLst>
              <a:gd name="adj1" fmla="val -68106"/>
              <a:gd name="adj2" fmla="val 3636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 АВС пересечен двумя прямыми А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EF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лучило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242100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328464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 четырёх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414972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 л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03640" y="4941720"/>
            <a:ext cx="4248000" cy="57492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 четырёх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5807160"/>
            <a:ext cx="424800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 треуг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4000" y="3357720"/>
            <a:ext cx="3024000" cy="3501360"/>
            <a:chOff x="324000" y="3357720"/>
            <a:chExt cx="3024000" cy="3501360"/>
          </a:xfrm>
        </p:grpSpPr>
        <p:sp>
          <p:nvSpPr>
            <p:cNvPr id="252" name=""/>
            <p:cNvSpPr/>
            <p:nvPr/>
          </p:nvSpPr>
          <p:spPr>
            <a:xfrm>
              <a:off x="971640" y="3716280"/>
              <a:ext cx="1800000" cy="2519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24000" y="4869000"/>
              <a:ext cx="302400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76520" y="3429000"/>
              <a:ext cx="374400" cy="3398760"/>
            </a:xfrm>
            <a:custGeom>
              <a:avLst/>
              <a:gdLst/>
              <a:ahLst/>
              <a:rect l="l" t="t" r="r" b="b"/>
              <a:pathLst>
                <a:path w="236" h="2141">
                  <a:moveTo>
                    <a:pt x="0" y="2141"/>
                  </a:moveTo>
                  <a:lnTo>
                    <a:pt x="23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9800" y="57340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9800" y="3357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1800" y="6021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33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36720" y="4508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41440" y="5229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3800" y="62164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30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7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1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33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340000" y="1989000"/>
            <a:ext cx="4896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ые АВ и СD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266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3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38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1" dur="25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24000" y="1989000"/>
            <a:ext cx="6804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ая АВ и отрезок СD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284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42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0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8" dur="25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340000" y="1989000"/>
            <a:ext cx="4896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и АВ и СD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302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48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3573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00360" y="0"/>
            <a:ext cx="6443640" cy="1916280"/>
          </a:xfrm>
          <a:prstGeom prst="cloudCallout">
            <a:avLst>
              <a:gd name="adj1" fmla="val -62513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е  неизвест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ак ты его получи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0" y="2416320"/>
            <a:ext cx="3743280" cy="3763800"/>
            <a:chOff x="4572000" y="2416320"/>
            <a:chExt cx="3743280" cy="3763800"/>
          </a:xfrm>
        </p:grpSpPr>
        <p:sp>
          <p:nvSpPr>
            <p:cNvPr id="49" name=""/>
            <p:cNvSpPr/>
            <p:nvPr/>
          </p:nvSpPr>
          <p:spPr>
            <a:xfrm>
              <a:off x="4572000" y="2421000"/>
              <a:ext cx="3743280" cy="374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81600" y="3284640"/>
              <a:ext cx="3124080" cy="2057400"/>
            </a:xfrm>
            <a:custGeom>
              <a:avLst/>
              <a:gdLst/>
              <a:ahLst/>
              <a:rect l="l" t="t" r="r" b="b"/>
              <a:pathLst>
                <a:path w="1968" h="1296">
                  <a:moveTo>
                    <a:pt x="1968" y="1296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96000" y="3284640"/>
              <a:ext cx="3170160" cy="2041560"/>
            </a:xfrm>
            <a:custGeom>
              <a:avLst/>
              <a:gdLst/>
              <a:ahLst/>
              <a:rect l="l" t="t" r="r" b="b"/>
              <a:pathLst>
                <a:path w="1997" h="1286">
                  <a:moveTo>
                    <a:pt x="1997" y="0"/>
                  </a:moveTo>
                  <a:lnTo>
                    <a:pt x="0" y="12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65960" y="2416320"/>
              <a:ext cx="1440" cy="3763800"/>
            </a:xfrm>
            <a:custGeom>
              <a:avLst/>
              <a:gdLst/>
              <a:ahLst/>
              <a:rect l="l" t="t" r="r" b="b"/>
              <a:pathLst>
                <a:path w="1" h="2371">
                  <a:moveTo>
                    <a:pt x="0" y="2371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78160" y="2997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54160" y="2997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06520" y="407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09080" y="5085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06160" y="5085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381800" y="3860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4437000"/>
            <a:ext cx="1727280" cy="13464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3068640"/>
            <a:ext cx="1727280" cy="13460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5013360"/>
            <a:ext cx="1727280" cy="134604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09467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340000" y="1989000"/>
            <a:ext cx="4896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и АВ и DC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320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1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1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2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528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2" dur="250" autoRev="1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276720" y="0"/>
            <a:ext cx="6335640" cy="1916280"/>
          </a:xfrm>
          <a:prstGeom prst="cloudCallout">
            <a:avLst>
              <a:gd name="adj1" fmla="val -71824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и укажи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340000" y="1989000"/>
            <a:ext cx="6624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резок АВ и луч DC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9800" y="2565360"/>
            <a:ext cx="4318200" cy="4293720"/>
            <a:chOff x="469800" y="2565360"/>
            <a:chExt cx="4318200" cy="4293720"/>
          </a:xfrm>
        </p:grpSpPr>
        <p:sp>
          <p:nvSpPr>
            <p:cNvPr id="338" name=""/>
            <p:cNvSpPr/>
            <p:nvPr/>
          </p:nvSpPr>
          <p:spPr>
            <a:xfrm flipV="1">
              <a:off x="611280" y="2852640"/>
              <a:ext cx="331308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0920" y="4797360"/>
              <a:ext cx="273708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920" y="494172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19640" y="3068640"/>
              <a:ext cx="1569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84360" y="5084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11640" y="6237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9800" y="44370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60720" y="2565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2720" y="5084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1080" y="62164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35280" y="328464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4148280"/>
            <a:ext cx="36007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ресек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1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9" dur="25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916360" y="-171360"/>
            <a:ext cx="7345080" cy="2565360"/>
          </a:xfrm>
          <a:prstGeom prst="cloudCallout">
            <a:avLst>
              <a:gd name="adj1" fmla="val -67527"/>
              <a:gd name="adj2" fmla="val 2957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осстанови текст.  После каждого задания сделай чертёж и раскрась каждую часть плоскости разн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124000" y="227664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ая делит плоскость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......... части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580000" y="3645000"/>
            <a:ext cx="2232000" cy="393480"/>
          </a:xfrm>
          <a:custGeom>
            <a:avLst/>
            <a:gdLst>
              <a:gd name="textAreaLeft" fmla="*/ 25200 w 2232000"/>
              <a:gd name="textAreaRight" fmla="*/ 2206800 w 223200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122433" h="21600">
                <a:moveTo>
                  <a:pt x="0" y="0"/>
                </a:moveTo>
                <a:lnTo>
                  <a:pt x="122433" y="0"/>
                </a:lnTo>
                <a:lnTo>
                  <a:pt x="122433" y="21600"/>
                </a:lnTo>
                <a:lnTo>
                  <a:pt x="0" y="21600"/>
                </a:lnTo>
                <a:close/>
              </a:path>
              <a:path fill="lightenLess" w="122433" h="21600">
                <a:moveTo>
                  <a:pt x="0" y="0"/>
                </a:moveTo>
                <a:lnTo>
                  <a:pt x="122433" y="0"/>
                </a:lnTo>
                <a:lnTo>
                  <a:pt x="121033" y="1400"/>
                </a:lnTo>
                <a:lnTo>
                  <a:pt x="1400" y="1400"/>
                </a:lnTo>
                <a:close/>
              </a:path>
              <a:path fill="darken" w="122433" h="21600">
                <a:moveTo>
                  <a:pt x="122433" y="0"/>
                </a:moveTo>
                <a:lnTo>
                  <a:pt x="122433" y="21600"/>
                </a:lnTo>
                <a:lnTo>
                  <a:pt x="121033" y="20200"/>
                </a:lnTo>
                <a:lnTo>
                  <a:pt x="121033" y="1400"/>
                </a:lnTo>
                <a:close/>
              </a:path>
              <a:path fill="darkenLess" w="122433" h="21600">
                <a:moveTo>
                  <a:pt x="1224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33" y="20200"/>
                </a:lnTo>
                <a:close/>
              </a:path>
              <a:path fill="lighten" w="1224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 (2)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4076640"/>
            <a:ext cx="648180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26920" y="3429000"/>
            <a:ext cx="6735960" cy="2514600"/>
          </a:xfrm>
          <a:custGeom>
            <a:avLst/>
            <a:gdLst/>
            <a:ahLst/>
            <a:rect l="l" t="t" r="r" b="b"/>
            <a:pathLst>
              <a:path w="4243" h="1584">
                <a:moveTo>
                  <a:pt x="941" y="0"/>
                </a:moveTo>
                <a:lnTo>
                  <a:pt x="0" y="451"/>
                </a:lnTo>
                <a:lnTo>
                  <a:pt x="3283" y="1584"/>
                </a:lnTo>
                <a:lnTo>
                  <a:pt x="4243" y="1075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762120" y="4206960"/>
            <a:ext cx="6766200" cy="2743200"/>
          </a:xfrm>
          <a:custGeom>
            <a:avLst/>
            <a:gdLst/>
            <a:ahLst/>
            <a:rect l="l" t="t" r="r" b="b"/>
            <a:pathLst>
              <a:path w="4262" h="1728">
                <a:moveTo>
                  <a:pt x="0" y="470"/>
                </a:moveTo>
                <a:lnTo>
                  <a:pt x="979" y="0"/>
                </a:lnTo>
                <a:lnTo>
                  <a:pt x="4262" y="1132"/>
                </a:lnTo>
                <a:lnTo>
                  <a:pt x="3245" y="1728"/>
                </a:lnTo>
              </a:path>
            </a:pathLst>
          </a:custGeom>
          <a:gradFill rotWithShape="0">
            <a:gsLst>
              <a:gs pos="0">
                <a:srgbClr val="fddbe6">
                  <a:alpha val="99215"/>
                </a:srgbClr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9800" y="35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45080" y="5589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356000" y="2708280"/>
            <a:ext cx="11509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ве</a:t>
            </a:r>
            <a:endParaRPr b="1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566100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916360" y="-171360"/>
            <a:ext cx="7345080" cy="2565360"/>
          </a:xfrm>
          <a:prstGeom prst="cloudCallout">
            <a:avLst>
              <a:gd name="adj1" fmla="val -67527"/>
              <a:gd name="adj2" fmla="val 2957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осстанови текст.  После каждого задания сделай чертёж и раскрась каждую часть плоскости разн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124000" y="227664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е пересекающиеся прямые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лят плоскость на ......... части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580000" y="3860640"/>
            <a:ext cx="2232000" cy="393840"/>
          </a:xfrm>
          <a:custGeom>
            <a:avLst/>
            <a:gdLst>
              <a:gd name="textAreaLeft" fmla="*/ 25200 w 2232000"/>
              <a:gd name="textAreaRight" fmla="*/ 2206800 w 2232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22321" h="21600">
                <a:moveTo>
                  <a:pt x="0" y="0"/>
                </a:moveTo>
                <a:lnTo>
                  <a:pt x="122321" y="0"/>
                </a:lnTo>
                <a:lnTo>
                  <a:pt x="122321" y="21600"/>
                </a:lnTo>
                <a:lnTo>
                  <a:pt x="0" y="21600"/>
                </a:lnTo>
                <a:close/>
              </a:path>
              <a:path fill="lightenLess" w="122321" h="21600">
                <a:moveTo>
                  <a:pt x="0" y="0"/>
                </a:moveTo>
                <a:lnTo>
                  <a:pt x="122321" y="0"/>
                </a:lnTo>
                <a:lnTo>
                  <a:pt x="120921" y="1400"/>
                </a:lnTo>
                <a:lnTo>
                  <a:pt x="1400" y="1400"/>
                </a:lnTo>
                <a:close/>
              </a:path>
              <a:path fill="darken" w="122321" h="21600">
                <a:moveTo>
                  <a:pt x="122321" y="0"/>
                </a:moveTo>
                <a:lnTo>
                  <a:pt x="122321" y="21600"/>
                </a:lnTo>
                <a:lnTo>
                  <a:pt x="120921" y="20200"/>
                </a:lnTo>
                <a:lnTo>
                  <a:pt x="120921" y="1400"/>
                </a:lnTo>
                <a:close/>
              </a:path>
              <a:path fill="darkenLess" w="122321" h="21600">
                <a:moveTo>
                  <a:pt x="1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1" y="20200"/>
                </a:lnTo>
                <a:close/>
              </a:path>
              <a:path fill="lighten" w="1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 (2)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4076640"/>
            <a:ext cx="648180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45080" y="5589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659640" y="2708280"/>
            <a:ext cx="360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66100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93840" y="3581280"/>
            <a:ext cx="1798560" cy="3140280"/>
          </a:xfrm>
          <a:custGeom>
            <a:avLst/>
            <a:gdLst/>
            <a:ahLst/>
            <a:rect l="l" t="t" r="r" b="b"/>
            <a:pathLst>
              <a:path w="1133" h="1978">
                <a:moveTo>
                  <a:pt x="0" y="0"/>
                </a:moveTo>
                <a:lnTo>
                  <a:pt x="1133" y="19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4149720"/>
            <a:ext cx="3524040" cy="2724120"/>
          </a:xfrm>
          <a:custGeom>
            <a:avLst/>
            <a:gdLst/>
            <a:ahLst/>
            <a:rect l="l" t="t" r="r" b="b"/>
            <a:pathLst>
              <a:path w="2220" h="1716">
                <a:moveTo>
                  <a:pt x="0" y="0"/>
                </a:moveTo>
                <a:lnTo>
                  <a:pt x="1548" y="516"/>
                </a:lnTo>
                <a:lnTo>
                  <a:pt x="2220" y="1716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382920"/>
            <a:ext cx="2315880" cy="1478160"/>
          </a:xfrm>
          <a:custGeom>
            <a:avLst/>
            <a:gdLst/>
            <a:ahLst/>
            <a:rect l="l" t="t" r="r" b="b"/>
            <a:pathLst>
              <a:path w="1459" h="931">
                <a:moveTo>
                  <a:pt x="0" y="413"/>
                </a:moveTo>
                <a:lnTo>
                  <a:pt x="1459" y="931"/>
                </a:lnTo>
                <a:lnTo>
                  <a:pt x="931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17880" y="3444840"/>
            <a:ext cx="4759200" cy="2792520"/>
          </a:xfrm>
          <a:custGeom>
            <a:avLst/>
            <a:gdLst/>
            <a:ahLst/>
            <a:rect l="l" t="t" r="r" b="b"/>
            <a:pathLst>
              <a:path w="2998" h="1759">
                <a:moveTo>
                  <a:pt x="0" y="0"/>
                </a:moveTo>
                <a:lnTo>
                  <a:pt x="68" y="57"/>
                </a:lnTo>
                <a:lnTo>
                  <a:pt x="557" y="912"/>
                </a:lnTo>
                <a:lnTo>
                  <a:pt x="2998" y="1759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59280" y="5029200"/>
            <a:ext cx="3809880" cy="1828800"/>
          </a:xfrm>
          <a:custGeom>
            <a:avLst/>
            <a:gdLst/>
            <a:ahLst/>
            <a:rect l="l" t="t" r="r" b="b"/>
            <a:pathLst>
              <a:path w="2400" h="1152">
                <a:moveTo>
                  <a:pt x="682" y="1152"/>
                </a:moveTo>
                <a:lnTo>
                  <a:pt x="0" y="0"/>
                </a:lnTo>
                <a:lnTo>
                  <a:pt x="2400" y="836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97080" y="3213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2720" y="6216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2720" y="3500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7440" y="4365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916360" y="-171360"/>
            <a:ext cx="7345080" cy="2565360"/>
          </a:xfrm>
          <a:prstGeom prst="cloudCallout">
            <a:avLst>
              <a:gd name="adj1" fmla="val -67527"/>
              <a:gd name="adj2" fmla="val 29578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осстанови текст.  После каждого задания сделай чертёж и раскрась каждую часть плоскости разн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619280" y="2276640"/>
            <a:ext cx="75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 пересекающиеся в одной точке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ые делят плоскость 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......... частей.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580000" y="3860640"/>
            <a:ext cx="2232000" cy="393840"/>
          </a:xfrm>
          <a:custGeom>
            <a:avLst/>
            <a:gdLst>
              <a:gd name="textAreaLeft" fmla="*/ 25200 w 2232000"/>
              <a:gd name="textAreaRight" fmla="*/ 2206800 w 2232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22321" h="21600">
                <a:moveTo>
                  <a:pt x="0" y="0"/>
                </a:moveTo>
                <a:lnTo>
                  <a:pt x="122321" y="0"/>
                </a:lnTo>
                <a:lnTo>
                  <a:pt x="122321" y="21600"/>
                </a:lnTo>
                <a:lnTo>
                  <a:pt x="0" y="21600"/>
                </a:lnTo>
                <a:close/>
              </a:path>
              <a:path fill="lightenLess" w="122321" h="21600">
                <a:moveTo>
                  <a:pt x="0" y="0"/>
                </a:moveTo>
                <a:lnTo>
                  <a:pt x="122321" y="0"/>
                </a:lnTo>
                <a:lnTo>
                  <a:pt x="120921" y="1400"/>
                </a:lnTo>
                <a:lnTo>
                  <a:pt x="1400" y="1400"/>
                </a:lnTo>
                <a:close/>
              </a:path>
              <a:path fill="darken" w="122321" h="21600">
                <a:moveTo>
                  <a:pt x="122321" y="0"/>
                </a:moveTo>
                <a:lnTo>
                  <a:pt x="122321" y="21600"/>
                </a:lnTo>
                <a:lnTo>
                  <a:pt x="120921" y="20200"/>
                </a:lnTo>
                <a:lnTo>
                  <a:pt x="120921" y="1400"/>
                </a:lnTo>
                <a:close/>
              </a:path>
              <a:path fill="darkenLess" w="122321" h="21600">
                <a:moveTo>
                  <a:pt x="1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21" y="20200"/>
                </a:lnTo>
                <a:close/>
              </a:path>
              <a:path fill="lighten" w="1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оверка (2)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4076640"/>
            <a:ext cx="648180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05440" y="566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3280" y="3284640"/>
            <a:ext cx="3603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566100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93840" y="3581280"/>
            <a:ext cx="1798560" cy="3140280"/>
          </a:xfrm>
          <a:custGeom>
            <a:avLst/>
            <a:gdLst/>
            <a:ahLst/>
            <a:rect l="l" t="t" r="r" b="b"/>
            <a:pathLst>
              <a:path w="1133" h="1978">
                <a:moveTo>
                  <a:pt x="0" y="0"/>
                </a:moveTo>
                <a:lnTo>
                  <a:pt x="1133" y="19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680" y="4435560"/>
            <a:ext cx="5608440" cy="944640"/>
          </a:xfrm>
          <a:custGeom>
            <a:avLst/>
            <a:gdLst/>
            <a:ahLst/>
            <a:rect l="l" t="t" r="r" b="b"/>
            <a:pathLst>
              <a:path w="3533" h="595">
                <a:moveTo>
                  <a:pt x="3533" y="0"/>
                </a:moveTo>
                <a:lnTo>
                  <a:pt x="0" y="59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7440" y="3444840"/>
            <a:ext cx="2378160" cy="1416240"/>
          </a:xfrm>
          <a:custGeom>
            <a:avLst/>
            <a:gdLst/>
            <a:ahLst/>
            <a:rect l="l" t="t" r="r" b="b"/>
            <a:pathLst>
              <a:path w="1498" h="892">
                <a:moveTo>
                  <a:pt x="0" y="374"/>
                </a:moveTo>
                <a:lnTo>
                  <a:pt x="1498" y="892"/>
                </a:lnTo>
                <a:lnTo>
                  <a:pt x="979" y="0"/>
                </a:lnTo>
                <a:lnTo>
                  <a:pt x="985" y="35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9800" y="35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3535200"/>
            <a:ext cx="3276720" cy="1325880"/>
          </a:xfrm>
          <a:custGeom>
            <a:avLst/>
            <a:gdLst/>
            <a:ahLst/>
            <a:rect l="l" t="t" r="r" b="b"/>
            <a:pathLst>
              <a:path w="2064" h="835">
                <a:moveTo>
                  <a:pt x="0" y="0"/>
                </a:moveTo>
                <a:lnTo>
                  <a:pt x="490" y="835"/>
                </a:lnTo>
                <a:lnTo>
                  <a:pt x="2064" y="576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70160" y="32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7816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39920" y="4479840"/>
            <a:ext cx="3737160" cy="1757520"/>
          </a:xfrm>
          <a:custGeom>
            <a:avLst/>
            <a:gdLst/>
            <a:ahLst/>
            <a:rect l="l" t="t" r="r" b="b"/>
            <a:pathLst>
              <a:path w="2354" h="1107">
                <a:moveTo>
                  <a:pt x="1756" y="0"/>
                </a:moveTo>
                <a:lnTo>
                  <a:pt x="0" y="288"/>
                </a:lnTo>
                <a:lnTo>
                  <a:pt x="2354" y="1107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5013360"/>
            <a:ext cx="3828960" cy="1814400"/>
          </a:xfrm>
          <a:custGeom>
            <a:avLst/>
            <a:gdLst/>
            <a:ahLst/>
            <a:rect l="l" t="t" r="r" b="b"/>
            <a:pathLst>
              <a:path w="2412" h="1143">
                <a:moveTo>
                  <a:pt x="662" y="1143"/>
                </a:moveTo>
                <a:lnTo>
                  <a:pt x="0" y="0"/>
                </a:lnTo>
                <a:lnTo>
                  <a:pt x="2412" y="816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5800" y="6216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4000" y="4968720"/>
            <a:ext cx="3600360" cy="1700280"/>
          </a:xfrm>
          <a:custGeom>
            <a:avLst/>
            <a:gdLst/>
            <a:ahLst/>
            <a:rect l="l" t="t" r="r" b="b"/>
            <a:pathLst>
              <a:path w="2268" h="1071">
                <a:moveTo>
                  <a:pt x="0" y="300"/>
                </a:moveTo>
                <a:lnTo>
                  <a:pt x="1639" y="0"/>
                </a:lnTo>
                <a:lnTo>
                  <a:pt x="2268" y="1071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4114800"/>
            <a:ext cx="2606760" cy="1219320"/>
          </a:xfrm>
          <a:custGeom>
            <a:avLst/>
            <a:gdLst/>
            <a:ahLst/>
            <a:rect l="l" t="t" r="r" b="b"/>
            <a:pathLst>
              <a:path w="1642" h="768">
                <a:moveTo>
                  <a:pt x="163" y="0"/>
                </a:moveTo>
                <a:lnTo>
                  <a:pt x="1642" y="499"/>
                </a:lnTo>
                <a:lnTo>
                  <a:pt x="0" y="768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1080" y="479736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17440" y="4365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0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733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059280" y="0"/>
            <a:ext cx="6084720" cy="2060640"/>
          </a:xfrm>
          <a:prstGeom prst="cloudCallout">
            <a:avLst>
              <a:gd name="adj1" fmla="val -68106"/>
              <a:gd name="adj2" fmla="val 3636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, на каком из чертежей верно отмечена точка А(6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50920" y="3500280"/>
            <a:ext cx="6553080" cy="914400"/>
            <a:chOff x="250920" y="3500280"/>
            <a:chExt cx="6553080" cy="914400"/>
          </a:xfrm>
        </p:grpSpPr>
        <p:sp>
          <p:nvSpPr>
            <p:cNvPr id="408" name=""/>
            <p:cNvSpPr/>
            <p:nvPr/>
          </p:nvSpPr>
          <p:spPr>
            <a:xfrm>
              <a:off x="250920" y="3500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1                                       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9920" y="3931920"/>
              <a:ext cx="5897520" cy="1800"/>
            </a:xfrm>
            <a:custGeom>
              <a:avLst/>
              <a:gdLst/>
              <a:ahLst/>
              <a:rect l="l" t="t" r="r" b="b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692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8764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0656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728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4656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6728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8800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07280" y="3859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50920" y="4724280"/>
            <a:ext cx="6553080" cy="914400"/>
            <a:chOff x="250920" y="4724280"/>
            <a:chExt cx="6553080" cy="914400"/>
          </a:xfrm>
        </p:grpSpPr>
        <p:sp>
          <p:nvSpPr>
            <p:cNvPr id="419" name=""/>
            <p:cNvSpPr/>
            <p:nvPr/>
          </p:nvSpPr>
          <p:spPr>
            <a:xfrm>
              <a:off x="250920" y="472428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1                                       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9920" y="5155920"/>
              <a:ext cx="5897520" cy="1800"/>
            </a:xfrm>
            <a:custGeom>
              <a:avLst/>
              <a:gdLst/>
              <a:ahLst/>
              <a:rect l="l" t="t" r="r" b="b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692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8764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0656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2728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4656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6728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8800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7280" y="508320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24000" y="5943600"/>
            <a:ext cx="6553080" cy="914400"/>
            <a:chOff x="324000" y="5943600"/>
            <a:chExt cx="6553080" cy="914400"/>
          </a:xfrm>
        </p:grpSpPr>
        <p:sp>
          <p:nvSpPr>
            <p:cNvPr id="430" name=""/>
            <p:cNvSpPr/>
            <p:nvPr/>
          </p:nvSpPr>
          <p:spPr>
            <a:xfrm>
              <a:off x="324000" y="5943600"/>
              <a:ext cx="6553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1                                       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3000" y="6375240"/>
              <a:ext cx="5897520" cy="1800"/>
            </a:xfrm>
            <a:custGeom>
              <a:avLst/>
              <a:gdLst/>
              <a:ahLst/>
              <a:rect l="l" t="t" r="r" b="b"/>
              <a:pathLst>
                <a:path w="3715" h="1">
                  <a:moveTo>
                    <a:pt x="0" y="0"/>
                  </a:moveTo>
                  <a:lnTo>
                    <a:pt x="371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000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6072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7964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0036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1964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4036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6108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80360" y="6302520"/>
              <a:ext cx="0" cy="142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435640" y="3860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16360" y="5084640"/>
            <a:ext cx="14472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48000" y="630864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94160" y="32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73440" y="4508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5080" y="5734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2276640"/>
            <a:ext cx="2736720" cy="792000"/>
          </a:xfrm>
          <a:prstGeom prst="wedgeRoundRectCallout">
            <a:avLst>
              <a:gd name="adj1" fmla="val 47388"/>
              <a:gd name="adj2" fmla="val 14859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2737080" cy="792000"/>
          </a:xfrm>
          <a:prstGeom prst="wedgeRoundRectCallout">
            <a:avLst>
              <a:gd name="adj1" fmla="val 46865"/>
              <a:gd name="adj2" fmla="val 159018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0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90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6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927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989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6544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13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0520" y="5013360"/>
            <a:ext cx="536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руппа из трёх цифр в запис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ногознач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4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5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0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56544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13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8160" y="5013360"/>
            <a:ext cx="51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Часть прямой, кото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меет два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0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5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7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1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421308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-159480" y="5445000"/>
            <a:ext cx="65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Наименьшее натуральное чи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0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2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789440" y="260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-159120" y="5445000"/>
            <a:ext cx="549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 Общая точка двух стор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реуголь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0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2360" y="0"/>
            <a:ext cx="5651640" cy="1413000"/>
          </a:xfrm>
          <a:prstGeom prst="cloudCallout">
            <a:avLst>
              <a:gd name="adj1" fmla="val -77050"/>
              <a:gd name="adj2" fmla="val 64046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зови порядок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68360" y="1700280"/>
            <a:ext cx="658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2 + 204 * ( 739-147 ) : 8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19640" y="3141720"/>
            <a:ext cx="4644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ложе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492360" y="4005360"/>
            <a:ext cx="46450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множе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4000" y="4941720"/>
            <a:ext cx="4645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чита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708360" y="5805360"/>
            <a:ext cx="33847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ление .....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51640" y="378936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558972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85264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24720" y="4797360"/>
            <a:ext cx="914400" cy="914400"/>
          </a:xfrm>
          <a:prstGeom prst="ellipse">
            <a:avLst/>
          </a:prstGeom>
          <a:solidFill>
            <a:srgbClr val="fddbe6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65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7280" y="5300640"/>
            <a:ext cx="545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. Название второго разря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классе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6580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5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7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13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6160" y="5300640"/>
            <a:ext cx="66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. Основное понятие в матема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4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5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0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589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4000" y="5300640"/>
            <a:ext cx="65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. Название чисел,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торых мы считаем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fill="hold">
                      <p:stCondLst>
                        <p:cond delay="0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5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6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1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4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6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723744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4000" y="5300640"/>
            <a:ext cx="55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. Единица измерения д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237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7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23744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16544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165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65440" y="3141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237440" y="364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16544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6544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6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8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2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2916360" y="333360"/>
          <a:ext cx="5976720" cy="624996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7813800" y="12682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-338400" y="5373720"/>
            <a:ext cx="70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9. Наименьшее четырехзначн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237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237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23744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16544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165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165440" y="3141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37440" y="364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16544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16544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741800" y="119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742520" y="170028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81344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813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13440" y="314172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813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7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8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9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2916360" y="333360"/>
          <a:ext cx="5976720" cy="6242040"/>
        </p:xfrm>
        <a:graphic>
          <a:graphicData uri="http://schemas.openxmlformats.org/drawingml/2006/table">
            <a:tbl>
              <a:tblPr/>
              <a:tblGrid>
                <a:gridCol w="598320"/>
                <a:gridCol w="596880"/>
                <a:gridCol w="598680"/>
                <a:gridCol w="596880"/>
                <a:gridCol w="598320"/>
                <a:gridCol w="598680"/>
                <a:gridCol w="596880"/>
                <a:gridCol w="596880"/>
                <a:gridCol w="596880"/>
                <a:gridCol w="5983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8317080" y="26028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15800" y="5300640"/>
            <a:ext cx="43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0. Четырёх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989440" y="1197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988720" y="17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98872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9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89080" y="3141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565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637080" y="3141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44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63636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56508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637080" y="4076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565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1272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21344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21308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21308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789440" y="26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789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789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717800" y="1700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78944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789440" y="2205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7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3708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365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43708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437440" y="119700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6508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437440" y="3645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437080" y="40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013080" y="76500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2000" y="213372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013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013440" y="17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01308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90160" y="551664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89080" y="31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58908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9440" y="119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61080" y="263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1780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589800" y="45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589440" y="407664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8908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589440" y="501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589440" y="602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744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23708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23744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165440" y="2133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165800" y="26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165440" y="314172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7440" y="364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16544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16544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741800" y="119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742520" y="1700280"/>
            <a:ext cx="4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813440" y="213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813440" y="26370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13440" y="3141720"/>
            <a:ext cx="3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813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390160" y="26028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389800" y="76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9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390160" y="1700280"/>
            <a:ext cx="3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389440" y="21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38944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31816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68360" y="5084640"/>
            <a:ext cx="52560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0" dur="indefinite" restart="never" nodeType="tmRoot">
          <p:childTnLst>
            <p:seq>
              <p:cTn id="2451" dur="indefinite" nodeType="mainSeq">
                <p:childTnLst>
                  <p:par>
                    <p:cTn id="2452" fill="hold">
                      <p:stCondLst>
                        <p:cond delay="0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6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7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8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03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0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2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4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6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8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0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2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6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8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1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3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7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9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3" dur="2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5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9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3276720" y="0"/>
            <a:ext cx="5616360" cy="1916280"/>
          </a:xfrm>
          <a:prstGeom prst="cloudCallout">
            <a:avLst>
              <a:gd name="adj1" fmla="val -74620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правильный ответ, сравнив числа и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2556000" y="2205000"/>
            <a:ext cx="5327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5 771  и  816 331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8360" y="371628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15 77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816 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8360" y="457992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15 77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lt; 816 3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68360" y="5445000"/>
            <a:ext cx="4824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15 771 = 816 33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5148360" y="2852640"/>
            <a:ext cx="2736720" cy="792360"/>
          </a:xfrm>
          <a:prstGeom prst="wedgeRoundRectCallout">
            <a:avLst>
              <a:gd name="adj1" fmla="val 49592"/>
              <a:gd name="adj2" fmla="val 133569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076720" y="2852640"/>
            <a:ext cx="2737080" cy="792360"/>
          </a:xfrm>
          <a:prstGeom prst="wedgeRoundRectCallout">
            <a:avLst>
              <a:gd name="adj1" fmla="val 52087"/>
              <a:gd name="adj2" fmla="val 13256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2" dur="indefinite" restart="never" nodeType="tmRoot">
          <p:childTnLst>
            <p:seq>
              <p:cTn id="2563" dur="indefinite" nodeType="mainSeq">
                <p:childTnLst>
                  <p:par>
                    <p:cTn id="2564" fill="hold">
                      <p:stCondLst>
                        <p:cond delay="0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0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5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0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1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602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8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2" dur="5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5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616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5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626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276720" y="0"/>
            <a:ext cx="5616360" cy="1916280"/>
          </a:xfrm>
          <a:prstGeom prst="cloudCallout">
            <a:avLst>
              <a:gd name="adj1" fmla="val -74620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правильный ответ, сравнив числа и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2556000" y="2205000"/>
            <a:ext cx="5327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км 10м  и  5000м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68360" y="371628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км 10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5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68360" y="457992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км 10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00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68360" y="5445000"/>
            <a:ext cx="4824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км 10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00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5148360" y="2852640"/>
            <a:ext cx="2736720" cy="792360"/>
          </a:xfrm>
          <a:prstGeom prst="wedgeRoundRectCallout">
            <a:avLst>
              <a:gd name="adj1" fmla="val 49592"/>
              <a:gd name="adj2" fmla="val 133569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76720" y="2852640"/>
            <a:ext cx="2737080" cy="792360"/>
          </a:xfrm>
          <a:prstGeom prst="wedgeRoundRectCallout">
            <a:avLst>
              <a:gd name="adj1" fmla="val 52087"/>
              <a:gd name="adj2" fmla="val 13256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5" dur="indefinite" restart="never" nodeType="tmRoot">
          <p:childTnLst>
            <p:seq>
              <p:cTn id="2636" dur="indefinite" nodeType="mainSeq">
                <p:childTnLst>
                  <p:par>
                    <p:cTn id="2637" fill="hold">
                      <p:stCondLst>
                        <p:cond delay="0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9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5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0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0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8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2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5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686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5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696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276720" y="0"/>
            <a:ext cx="5616360" cy="1916280"/>
          </a:xfrm>
          <a:prstGeom prst="cloudCallout">
            <a:avLst>
              <a:gd name="adj1" fmla="val -74620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ыбери правильный ответ, сравнив числа и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2556000" y="2205000"/>
            <a:ext cx="53276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ч  и  240мин: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8360" y="371628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час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240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8360" y="4579920"/>
            <a:ext cx="482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час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0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68360" y="5445000"/>
            <a:ext cx="4824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час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0м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5148360" y="2852640"/>
            <a:ext cx="2736720" cy="792360"/>
          </a:xfrm>
          <a:prstGeom prst="wedgeRoundRectCallout">
            <a:avLst>
              <a:gd name="adj1" fmla="val 49592"/>
              <a:gd name="adj2" fmla="val 133569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148360" y="2852640"/>
            <a:ext cx="2879640" cy="792360"/>
          </a:xfrm>
          <a:prstGeom prst="wedgeRoundRectCallout">
            <a:avLst>
              <a:gd name="adj1" fmla="val 44541"/>
              <a:gd name="adj2" fmla="val 13256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Правиль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5" dur="indefinite" restart="never" nodeType="tmRoot">
          <p:childTnLst>
            <p:seq>
              <p:cTn id="2706" dur="indefinite" nodeType="mainSeq">
                <p:childTnLst>
                  <p:par>
                    <p:cTn id="2707" fill="hold">
                      <p:stCondLst>
                        <p:cond delay="0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1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3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742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8" dur="5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2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5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56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3708360" y="0"/>
            <a:ext cx="5435640" cy="1413000"/>
          </a:xfrm>
          <a:prstGeom prst="cloudCallout">
            <a:avLst>
              <a:gd name="adj1" fmla="val -82097"/>
              <a:gd name="adj2" fmla="val 64046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 и исправь ошибки в зап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835280" y="3933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247  &lt;  8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835280" y="479736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777  =  77 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5280" y="56624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 015  &gt; 12 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35280" y="306864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3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gt;  2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4284720" y="1773360"/>
            <a:ext cx="2736720" cy="792000"/>
          </a:xfrm>
          <a:prstGeom prst="wedgeRoundRectCallout">
            <a:avLst>
              <a:gd name="adj1" fmla="val 81032"/>
              <a:gd name="adj2" fmla="val 268837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356000" y="1844640"/>
            <a:ext cx="2737080" cy="792360"/>
          </a:xfrm>
          <a:prstGeom prst="wedgeRoundRectCallout">
            <a:avLst>
              <a:gd name="adj1" fmla="val 86310"/>
              <a:gd name="adj2" fmla="val 287074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Ошиб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03640" y="3933720"/>
            <a:ext cx="64764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987640" y="4797360"/>
            <a:ext cx="64764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203640" y="5661000"/>
            <a:ext cx="64764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ddbe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5" dur="indefinite" restart="never" nodeType="tmRoot">
          <p:childTnLst>
            <p:seq>
              <p:cTn id="2776" dur="indefinite" nodeType="mainSeq">
                <p:childTnLst>
                  <p:par>
                    <p:cTn id="2777" fill="hold">
                      <p:stCondLst>
                        <p:cond delay="0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5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7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8" restart="whenNotActive" nodeType="interactiveSeq" fill="hold">
                <p:stCondLst>
                  <p:cond evt="onClick">
                    <p:tgtEl>
                      <p:spTgt spid="922"/>
                    </p:tgtEl>
                  </p:cond>
                </p:stCondLst>
                <p:childTnLst>
                  <p:par>
                    <p:cTn id="2809" fill="hold">
                      <p:stCondLst>
                        <p:cond evt="onClick">
                          <p:tgtEl>
                            <p:spTgt spid="922"/>
                          </p:tgtEl>
                        </p:cond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4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5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2836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2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2853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аполни 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797360"/>
            <a:ext cx="1152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386064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860640"/>
            <a:ext cx="1152720" cy="5763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2205000"/>
            <a:ext cx="115272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9574400">
            <a:off x="1476360" y="472392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479736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581200">
            <a:off x="201672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1800" y="306864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5800" y="18446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23493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6520" y="1773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7948200">
            <a:off x="6336000" y="3175560"/>
            <a:ext cx="1224000" cy="28908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7440" y="285264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3059280" y="0"/>
            <a:ext cx="6084720" cy="907920"/>
          </a:xfrm>
          <a:prstGeom prst="cloudCallout">
            <a:avLst>
              <a:gd name="adj1" fmla="val -67375"/>
              <a:gd name="adj2" fmla="val 115736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95640" y="981000"/>
            <a:ext cx="482616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01 &lt; 1010 &lt; 1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508720" y="184464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 &lt; 8 &lt;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08720" y="270972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 &lt; 45 &lt; 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0920" y="3789360"/>
            <a:ext cx="468144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8 &gt; 2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8 &lt;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50920" y="4653000"/>
            <a:ext cx="468144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о  45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lt; 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0920" y="5518080"/>
            <a:ext cx="6049800" cy="57492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gt;1001,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о 1010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&lt;  1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 rot="19390800">
            <a:off x="3276720" y="2997000"/>
            <a:ext cx="2832120" cy="129960"/>
          </a:xfrm>
          <a:custGeom>
            <a:avLst/>
            <a:gdLst>
              <a:gd name="textAreaLeft" fmla="*/ 353880 w 2832120"/>
              <a:gd name="textAreaRight" fmla="*/ 2478240 w 2832120"/>
              <a:gd name="textAreaTop" fmla="*/ 32400 h 129960"/>
              <a:gd name="textAreaBottom" fmla="*/ 97560 h 12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rot="19390800">
            <a:off x="4356000" y="4005000"/>
            <a:ext cx="2832120" cy="129960"/>
          </a:xfrm>
          <a:custGeom>
            <a:avLst/>
            <a:gdLst>
              <a:gd name="textAreaLeft" fmla="*/ 353880 w 2832120"/>
              <a:gd name="textAreaRight" fmla="*/ 2478240 w 2832120"/>
              <a:gd name="textAreaTop" fmla="*/ 32400 h 129960"/>
              <a:gd name="textAreaBottom" fmla="*/ 97560 h 129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rot="19390800">
            <a:off x="-382680" y="3433320"/>
            <a:ext cx="6659640" cy="130320"/>
          </a:xfrm>
          <a:custGeom>
            <a:avLst/>
            <a:gdLst>
              <a:gd name="textAreaLeft" fmla="*/ 832320 w 6659640"/>
              <a:gd name="textAreaRight" fmla="*/ 5827320 w 6659640"/>
              <a:gd name="textAreaTop" fmla="*/ 32400 h 130320"/>
              <a:gd name="textAreaBottom" fmla="*/ 97920 h 130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9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2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2913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8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919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4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2925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3276720" y="0"/>
            <a:ext cx="5616360" cy="1268280"/>
          </a:xfrm>
          <a:prstGeom prst="cloudCallout">
            <a:avLst>
              <a:gd name="adj1" fmla="val -74620"/>
              <a:gd name="adj2" fmla="val 86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ите значен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124000" y="2349360"/>
            <a:ext cx="6480000" cy="658440"/>
            <a:chOff x="2124000" y="2349360"/>
            <a:chExt cx="6480000" cy="658440"/>
          </a:xfrm>
        </p:grpSpPr>
        <p:sp>
          <p:nvSpPr>
            <p:cNvPr id="944" name=""/>
            <p:cNvSpPr txBox="1"/>
            <p:nvPr/>
          </p:nvSpPr>
          <p:spPr>
            <a:xfrm>
              <a:off x="2124000" y="2349360"/>
              <a:ext cx="6480000" cy="65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(9810 : 9 - 7560 : 7 + 290)  4</a:t>
              </a:r>
              <a:endPara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8078760" y="2625840"/>
              <a:ext cx="88560" cy="89280"/>
            </a:xfrm>
            <a:prstGeom prst="rect">
              <a:avLst/>
            </a:prstGeom>
          </p:spPr>
          <p:txBody>
            <a:bodyPr wrap="none" lIns="90000" rIns="90000" tIns="42840" bIns="42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rot="10800000">
            <a:off x="3274560" y="1268280"/>
            <a:ext cx="57636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5651640" y="1268280"/>
            <a:ext cx="57600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4067280" y="1268280"/>
            <a:ext cx="57600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6443280" y="1268280"/>
            <a:ext cx="57636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7811640" y="1268280"/>
            <a:ext cx="576360" cy="115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403280" y="314172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)  10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403280" y="378936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)  10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403280" y="4437000"/>
            <a:ext cx="331308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3)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403280" y="5084640"/>
            <a:ext cx="3313080" cy="574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)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5734080"/>
            <a:ext cx="3313080" cy="57456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)  1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0" dur="indefinite" restart="never" nodeType="tmRoot">
          <p:childTnLst>
            <p:seq>
              <p:cTn id="2931" dur="indefinite" nodeType="mainSeq">
                <p:childTnLst>
                  <p:par>
                    <p:cTn id="2932" fill="hold">
                      <p:stCondLst>
                        <p:cond delay="0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0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-157320" y="5379840"/>
            <a:ext cx="9304920" cy="704520"/>
            <a:chOff x="-157320" y="5379840"/>
            <a:chExt cx="9304920" cy="704520"/>
          </a:xfrm>
        </p:grpSpPr>
        <p:sp>
          <p:nvSpPr>
            <p:cNvPr id="960" name=""/>
            <p:cNvSpPr/>
            <p:nvPr/>
          </p:nvSpPr>
          <p:spPr>
            <a:xfrm flipV="1" rot="10848000">
              <a:off x="-153720" y="5443920"/>
              <a:ext cx="9298080" cy="5749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89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114480" y="5675400"/>
              <a:ext cx="9258480" cy="75960"/>
            </a:xfrm>
            <a:custGeom>
              <a:avLst/>
              <a:gdLst/>
              <a:ahLst/>
              <a:rect l="l" t="t" r="r" b="b"/>
              <a:pathLst>
                <a:path w="5952" h="48">
                  <a:moveTo>
                    <a:pt x="5952" y="4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1798200" y="4419360"/>
            <a:ext cx="1438560" cy="1244520"/>
            <a:chOff x="-1798200" y="4419360"/>
            <a:chExt cx="1438560" cy="1244520"/>
          </a:xfrm>
        </p:grpSpPr>
        <p:grpSp>
          <p:nvGrpSpPr>
            <p:cNvPr id="963" name=""/>
            <p:cNvGrpSpPr/>
            <p:nvPr/>
          </p:nvGrpSpPr>
          <p:grpSpPr>
            <a:xfrm>
              <a:off x="-741600" y="5289480"/>
              <a:ext cx="381960" cy="371160"/>
              <a:chOff x="-741600" y="5289480"/>
              <a:chExt cx="381960" cy="371160"/>
            </a:xfrm>
          </p:grpSpPr>
          <p:sp>
            <p:nvSpPr>
              <p:cNvPr id="964" name=""/>
              <p:cNvSpPr/>
              <p:nvPr/>
            </p:nvSpPr>
            <p:spPr>
              <a:xfrm rot="21591600">
                <a:off x="-740880" y="5289840"/>
                <a:ext cx="38088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21591600">
                <a:off x="-668160" y="5364000"/>
                <a:ext cx="235800" cy="222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1591600">
                <a:off x="-649800" y="5382720"/>
                <a:ext cx="199440" cy="185040"/>
              </a:xfrm>
              <a:custGeom>
                <a:avLst/>
                <a:gdLst>
                  <a:gd name="textAreaLeft" fmla="*/ 80640 w 199440"/>
                  <a:gd name="textAreaRight" fmla="*/ 118800 w 199440"/>
                  <a:gd name="textAreaTop" fmla="*/ 74880 h 185040"/>
                  <a:gd name="textAreaBottom" fmla="*/ 110160 h 18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-1751040" y="5292720"/>
              <a:ext cx="381960" cy="371160"/>
              <a:chOff x="-1751040" y="5292720"/>
              <a:chExt cx="381960" cy="371160"/>
            </a:xfrm>
          </p:grpSpPr>
          <p:sp>
            <p:nvSpPr>
              <p:cNvPr id="968" name=""/>
              <p:cNvSpPr/>
              <p:nvPr/>
            </p:nvSpPr>
            <p:spPr>
              <a:xfrm rot="21591600">
                <a:off x="-1750320" y="5293080"/>
                <a:ext cx="38088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21591600">
                <a:off x="-1677600" y="5367240"/>
                <a:ext cx="235800" cy="222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21591600">
                <a:off x="-1659240" y="5385600"/>
                <a:ext cx="199440" cy="185040"/>
              </a:xfrm>
              <a:custGeom>
                <a:avLst/>
                <a:gdLst>
                  <a:gd name="textAreaLeft" fmla="*/ 80640 w 199440"/>
                  <a:gd name="textAreaRight" fmla="*/ 118800 w 199440"/>
                  <a:gd name="textAreaTop" fmla="*/ 74880 h 185040"/>
                  <a:gd name="textAreaBottom" fmla="*/ 110160 h 18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088" y="11896"/>
                    </a:lnTo>
                    <a:lnTo>
                      <a:pt x="3163" y="18437"/>
                    </a:lnTo>
                    <a:lnTo>
                      <a:pt x="9657" y="13492"/>
                    </a:lnTo>
                    <a:lnTo>
                      <a:pt x="10800" y="21600"/>
                    </a:lnTo>
                    <a:lnTo>
                      <a:pt x="11896" y="13512"/>
                    </a:lnTo>
                    <a:lnTo>
                      <a:pt x="18437" y="18437"/>
                    </a:lnTo>
                    <a:lnTo>
                      <a:pt x="13492" y="11943"/>
                    </a:lnTo>
                    <a:lnTo>
                      <a:pt x="21600" y="10800"/>
                    </a:lnTo>
                    <a:lnTo>
                      <a:pt x="13512" y="9704"/>
                    </a:lnTo>
                    <a:lnTo>
                      <a:pt x="18437" y="3163"/>
                    </a:lnTo>
                    <a:lnTo>
                      <a:pt x="11943" y="8108"/>
                    </a:lnTo>
                    <a:lnTo>
                      <a:pt x="10800" y="0"/>
                    </a:lnTo>
                    <a:lnTo>
                      <a:pt x="9704" y="8088"/>
                    </a:lnTo>
                    <a:lnTo>
                      <a:pt x="3163" y="3163"/>
                    </a:lnTo>
                    <a:lnTo>
                      <a:pt x="8108" y="96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-1798200" y="4419360"/>
              <a:ext cx="1327680" cy="1159920"/>
              <a:chOff x="-1798200" y="4419360"/>
              <a:chExt cx="1327680" cy="1159920"/>
            </a:xfrm>
          </p:grpSpPr>
          <p:sp>
            <p:nvSpPr>
              <p:cNvPr id="972" name=""/>
              <p:cNvSpPr/>
              <p:nvPr/>
            </p:nvSpPr>
            <p:spPr>
              <a:xfrm flipH="1" rot="21591600">
                <a:off x="-1035000" y="5130720"/>
                <a:ext cx="311760" cy="255240"/>
              </a:xfrm>
              <a:custGeom>
                <a:avLst/>
                <a:gdLst/>
                <a:ahLst/>
                <a:rect l="l" t="t" r="r" b="b"/>
                <a:pathLst>
                  <a:path w="197" h="168">
                    <a:moveTo>
                      <a:pt x="0" y="112"/>
                    </a:moveTo>
                    <a:cubicBezTo>
                      <a:pt x="0" y="120"/>
                      <a:pt x="32" y="152"/>
                      <a:pt x="48" y="160"/>
                    </a:cubicBezTo>
                    <a:cubicBezTo>
                      <a:pt x="64" y="168"/>
                      <a:pt x="80" y="160"/>
                      <a:pt x="96" y="160"/>
                    </a:cubicBezTo>
                    <a:cubicBezTo>
                      <a:pt x="112" y="160"/>
                      <a:pt x="128" y="166"/>
                      <a:pt x="144" y="160"/>
                    </a:cubicBezTo>
                    <a:cubicBezTo>
                      <a:pt x="160" y="154"/>
                      <a:pt x="187" y="140"/>
                      <a:pt x="192" y="122"/>
                    </a:cubicBezTo>
                    <a:cubicBezTo>
                      <a:pt x="197" y="104"/>
                      <a:pt x="186" y="70"/>
                      <a:pt x="176" y="54"/>
                    </a:cubicBezTo>
                    <a:cubicBezTo>
                      <a:pt x="166" y="38"/>
                      <a:pt x="143" y="34"/>
                      <a:pt x="132" y="26"/>
                    </a:cubicBezTo>
                    <a:cubicBezTo>
                      <a:pt x="121" y="18"/>
                      <a:pt x="117" y="10"/>
                      <a:pt x="108" y="6"/>
                    </a:cubicBezTo>
                    <a:cubicBezTo>
                      <a:pt x="99" y="2"/>
                      <a:pt x="85" y="0"/>
                      <a:pt x="80" y="2"/>
                    </a:cubicBezTo>
                    <a:cubicBezTo>
                      <a:pt x="75" y="4"/>
                      <a:pt x="82" y="13"/>
                      <a:pt x="80" y="18"/>
                    </a:cubicBezTo>
                    <a:cubicBezTo>
                      <a:pt x="78" y="23"/>
                      <a:pt x="73" y="28"/>
                      <a:pt x="68" y="30"/>
                    </a:cubicBezTo>
                    <a:cubicBezTo>
                      <a:pt x="63" y="32"/>
                      <a:pt x="53" y="27"/>
                      <a:pt x="48" y="30"/>
                    </a:cubicBezTo>
                    <a:cubicBezTo>
                      <a:pt x="43" y="33"/>
                      <a:pt x="37" y="41"/>
                      <a:pt x="36" y="50"/>
                    </a:cubicBezTo>
                    <a:cubicBezTo>
                      <a:pt x="35" y="59"/>
                      <a:pt x="49" y="76"/>
                      <a:pt x="44" y="82"/>
                    </a:cubicBezTo>
                    <a:cubicBezTo>
                      <a:pt x="39" y="88"/>
                      <a:pt x="15" y="81"/>
                      <a:pt x="8" y="86"/>
                    </a:cubicBezTo>
                    <a:cubicBezTo>
                      <a:pt x="1" y="91"/>
                      <a:pt x="2" y="107"/>
                      <a:pt x="0" y="1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ccff"/>
                  </a:gs>
                  <a:gs pos="100000">
                    <a:srgbClr val="33669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rot="21591600">
                <a:off x="-1798200" y="5217120"/>
                <a:ext cx="618480" cy="159840"/>
              </a:xfrm>
              <a:custGeom>
                <a:avLst/>
                <a:gdLst/>
                <a:ahLst/>
                <a:rect l="l" t="t" r="r" b="b"/>
                <a:pathLst>
                  <a:path w="391" h="105">
                    <a:moveTo>
                      <a:pt x="0" y="22"/>
                    </a:moveTo>
                    <a:cubicBezTo>
                      <a:pt x="9" y="18"/>
                      <a:pt x="47" y="40"/>
                      <a:pt x="64" y="42"/>
                    </a:cubicBezTo>
                    <a:cubicBezTo>
                      <a:pt x="81" y="44"/>
                      <a:pt x="83" y="40"/>
                      <a:pt x="104" y="34"/>
                    </a:cubicBezTo>
                    <a:cubicBezTo>
                      <a:pt x="125" y="28"/>
                      <a:pt x="153" y="12"/>
                      <a:pt x="192" y="8"/>
                    </a:cubicBezTo>
                    <a:cubicBezTo>
                      <a:pt x="231" y="4"/>
                      <a:pt x="304" y="0"/>
                      <a:pt x="336" y="8"/>
                    </a:cubicBezTo>
                    <a:cubicBezTo>
                      <a:pt x="368" y="16"/>
                      <a:pt x="391" y="46"/>
                      <a:pt x="384" y="56"/>
                    </a:cubicBezTo>
                    <a:cubicBezTo>
                      <a:pt x="377" y="66"/>
                      <a:pt x="325" y="64"/>
                      <a:pt x="292" y="66"/>
                    </a:cubicBezTo>
                    <a:cubicBezTo>
                      <a:pt x="259" y="68"/>
                      <a:pt x="229" y="60"/>
                      <a:pt x="188" y="66"/>
                    </a:cubicBezTo>
                    <a:cubicBezTo>
                      <a:pt x="147" y="72"/>
                      <a:pt x="75" y="105"/>
                      <a:pt x="48" y="104"/>
                    </a:cubicBezTo>
                    <a:cubicBezTo>
                      <a:pt x="21" y="103"/>
                      <a:pt x="36" y="76"/>
                      <a:pt x="28" y="62"/>
                    </a:cubicBezTo>
                    <a:cubicBezTo>
                      <a:pt x="20" y="48"/>
                      <a:pt x="6" y="30"/>
                      <a:pt x="0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 rot="21591600">
                <a:off x="-1492200" y="5020920"/>
                <a:ext cx="484920" cy="41436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3" y="59"/>
                    </a:moveTo>
                    <a:cubicBezTo>
                      <a:pt x="22" y="45"/>
                      <a:pt x="48" y="52"/>
                      <a:pt x="65" y="55"/>
                    </a:cubicBezTo>
                    <a:cubicBezTo>
                      <a:pt x="82" y="58"/>
                      <a:pt x="94" y="76"/>
                      <a:pt x="113" y="79"/>
                    </a:cubicBezTo>
                    <a:cubicBezTo>
                      <a:pt x="132" y="82"/>
                      <a:pt x="165" y="78"/>
                      <a:pt x="177" y="71"/>
                    </a:cubicBezTo>
                    <a:cubicBezTo>
                      <a:pt x="189" y="64"/>
                      <a:pt x="167" y="49"/>
                      <a:pt x="185" y="39"/>
                    </a:cubicBezTo>
                    <a:cubicBezTo>
                      <a:pt x="203" y="29"/>
                      <a:pt x="265" y="0"/>
                      <a:pt x="285" y="11"/>
                    </a:cubicBezTo>
                    <a:cubicBezTo>
                      <a:pt x="305" y="22"/>
                      <a:pt x="303" y="86"/>
                      <a:pt x="305" y="107"/>
                    </a:cubicBezTo>
                    <a:cubicBezTo>
                      <a:pt x="307" y="128"/>
                      <a:pt x="307" y="127"/>
                      <a:pt x="297" y="135"/>
                    </a:cubicBezTo>
                    <a:cubicBezTo>
                      <a:pt x="287" y="143"/>
                      <a:pt x="267" y="150"/>
                      <a:pt x="245" y="155"/>
                    </a:cubicBezTo>
                    <a:cubicBezTo>
                      <a:pt x="223" y="160"/>
                      <a:pt x="188" y="164"/>
                      <a:pt x="165" y="163"/>
                    </a:cubicBezTo>
                    <a:cubicBezTo>
                      <a:pt x="142" y="162"/>
                      <a:pt x="123" y="160"/>
                      <a:pt x="109" y="151"/>
                    </a:cubicBezTo>
                    <a:cubicBezTo>
                      <a:pt x="95" y="142"/>
                      <a:pt x="73" y="95"/>
                      <a:pt x="81" y="107"/>
                    </a:cubicBezTo>
                    <a:cubicBezTo>
                      <a:pt x="89" y="119"/>
                      <a:pt x="156" y="198"/>
                      <a:pt x="157" y="223"/>
                    </a:cubicBezTo>
                    <a:cubicBezTo>
                      <a:pt x="158" y="248"/>
                      <a:pt x="113" y="273"/>
                      <a:pt x="89" y="259"/>
                    </a:cubicBezTo>
                    <a:cubicBezTo>
                      <a:pt x="65" y="245"/>
                      <a:pt x="26" y="170"/>
                      <a:pt x="13" y="137"/>
                    </a:cubicBezTo>
                    <a:cubicBezTo>
                      <a:pt x="0" y="104"/>
                      <a:pt x="6" y="71"/>
                      <a:pt x="13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rot="21591600">
                <a:off x="-1447560" y="4694400"/>
                <a:ext cx="267480" cy="393840"/>
              </a:xfrm>
              <a:custGeom>
                <a:avLst/>
                <a:gdLst/>
                <a:ahLst/>
                <a:rect l="l" t="t" r="r" b="b"/>
                <a:pathLst>
                  <a:path w="471" h="715">
                    <a:moveTo>
                      <a:pt x="0" y="159"/>
                    </a:moveTo>
                    <a:cubicBezTo>
                      <a:pt x="8" y="131"/>
                      <a:pt x="47" y="0"/>
                      <a:pt x="100" y="48"/>
                    </a:cubicBezTo>
                    <a:cubicBezTo>
                      <a:pt x="153" y="96"/>
                      <a:pt x="256" y="355"/>
                      <a:pt x="317" y="445"/>
                    </a:cubicBezTo>
                    <a:cubicBezTo>
                      <a:pt x="378" y="535"/>
                      <a:pt x="465" y="560"/>
                      <a:pt x="468" y="589"/>
                    </a:cubicBezTo>
                    <a:cubicBezTo>
                      <a:pt x="471" y="618"/>
                      <a:pt x="383" y="603"/>
                      <a:pt x="333" y="621"/>
                    </a:cubicBezTo>
                    <a:cubicBezTo>
                      <a:pt x="283" y="639"/>
                      <a:pt x="204" y="715"/>
                      <a:pt x="167" y="699"/>
                    </a:cubicBezTo>
                    <a:cubicBezTo>
                      <a:pt x="130" y="683"/>
                      <a:pt x="117" y="567"/>
                      <a:pt x="111" y="523"/>
                    </a:cubicBezTo>
                    <a:cubicBezTo>
                      <a:pt x="106" y="479"/>
                      <a:pt x="125" y="476"/>
                      <a:pt x="134" y="440"/>
                    </a:cubicBezTo>
                    <a:cubicBezTo>
                      <a:pt x="142" y="404"/>
                      <a:pt x="170" y="360"/>
                      <a:pt x="156" y="313"/>
                    </a:cubicBezTo>
                    <a:cubicBezTo>
                      <a:pt x="142" y="266"/>
                      <a:pt x="81" y="184"/>
                      <a:pt x="56" y="159"/>
                    </a:cubicBezTo>
                    <a:cubicBezTo>
                      <a:pt x="31" y="134"/>
                      <a:pt x="11" y="159"/>
                      <a:pt x="0" y="15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rot="21591600">
                <a:off x="-1234800" y="4521240"/>
                <a:ext cx="276480" cy="278640"/>
              </a:xfrm>
              <a:custGeom>
                <a:avLst/>
                <a:gdLst/>
                <a:ahLst/>
                <a:rect l="l" t="t" r="r" b="b"/>
                <a:pathLst>
                  <a:path w="487" h="506">
                    <a:moveTo>
                      <a:pt x="200" y="207"/>
                    </a:moveTo>
                    <a:cubicBezTo>
                      <a:pt x="187" y="231"/>
                      <a:pt x="132" y="306"/>
                      <a:pt x="120" y="351"/>
                    </a:cubicBezTo>
                    <a:cubicBezTo>
                      <a:pt x="108" y="396"/>
                      <a:pt x="107" y="454"/>
                      <a:pt x="128" y="479"/>
                    </a:cubicBezTo>
                    <a:cubicBezTo>
                      <a:pt x="149" y="504"/>
                      <a:pt x="213" y="506"/>
                      <a:pt x="248" y="503"/>
                    </a:cubicBezTo>
                    <a:cubicBezTo>
                      <a:pt x="283" y="500"/>
                      <a:pt x="303" y="487"/>
                      <a:pt x="336" y="463"/>
                    </a:cubicBezTo>
                    <a:cubicBezTo>
                      <a:pt x="369" y="439"/>
                      <a:pt x="431" y="387"/>
                      <a:pt x="448" y="359"/>
                    </a:cubicBezTo>
                    <a:cubicBezTo>
                      <a:pt x="465" y="331"/>
                      <a:pt x="436" y="316"/>
                      <a:pt x="440" y="295"/>
                    </a:cubicBezTo>
                    <a:cubicBezTo>
                      <a:pt x="444" y="274"/>
                      <a:pt x="465" y="255"/>
                      <a:pt x="472" y="231"/>
                    </a:cubicBezTo>
                    <a:cubicBezTo>
                      <a:pt x="479" y="207"/>
                      <a:pt x="487" y="179"/>
                      <a:pt x="480" y="151"/>
                    </a:cubicBezTo>
                    <a:cubicBezTo>
                      <a:pt x="473" y="123"/>
                      <a:pt x="455" y="87"/>
                      <a:pt x="432" y="63"/>
                    </a:cubicBezTo>
                    <a:cubicBezTo>
                      <a:pt x="409" y="39"/>
                      <a:pt x="384" y="14"/>
                      <a:pt x="344" y="7"/>
                    </a:cubicBezTo>
                    <a:cubicBezTo>
                      <a:pt x="304" y="0"/>
                      <a:pt x="217" y="15"/>
                      <a:pt x="192" y="23"/>
                    </a:cubicBezTo>
                    <a:cubicBezTo>
                      <a:pt x="167" y="31"/>
                      <a:pt x="199" y="42"/>
                      <a:pt x="192" y="55"/>
                    </a:cubicBezTo>
                    <a:cubicBezTo>
                      <a:pt x="185" y="68"/>
                      <a:pt x="168" y="88"/>
                      <a:pt x="152" y="103"/>
                    </a:cubicBezTo>
                    <a:cubicBezTo>
                      <a:pt x="136" y="118"/>
                      <a:pt x="116" y="131"/>
                      <a:pt x="96" y="143"/>
                    </a:cubicBezTo>
                    <a:cubicBezTo>
                      <a:pt x="76" y="155"/>
                      <a:pt x="48" y="159"/>
                      <a:pt x="32" y="175"/>
                    </a:cubicBezTo>
                    <a:cubicBezTo>
                      <a:pt x="16" y="191"/>
                      <a:pt x="0" y="220"/>
                      <a:pt x="0" y="239"/>
                    </a:cubicBezTo>
                    <a:cubicBezTo>
                      <a:pt x="0" y="258"/>
                      <a:pt x="13" y="279"/>
                      <a:pt x="32" y="287"/>
                    </a:cubicBezTo>
                    <a:cubicBezTo>
                      <a:pt x="51" y="295"/>
                      <a:pt x="92" y="294"/>
                      <a:pt x="112" y="287"/>
                    </a:cubicBezTo>
                    <a:cubicBezTo>
                      <a:pt x="132" y="280"/>
                      <a:pt x="137" y="262"/>
                      <a:pt x="152" y="247"/>
                    </a:cubicBezTo>
                    <a:cubicBezTo>
                      <a:pt x="167" y="232"/>
                      <a:pt x="192" y="207"/>
                      <a:pt x="200" y="199"/>
                    </a:cubicBezTo>
                  </a:path>
                </a:pathLst>
              </a:custGeom>
              <a:gradFill rotWithShape="0">
                <a:gsLst>
                  <a:gs pos="0">
                    <a:srgbClr val="ffa953"/>
                  </a:gs>
                  <a:gs pos="100000">
                    <a:srgbClr val="ffcf9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rot="21591600">
                <a:off x="-1113120" y="4696920"/>
                <a:ext cx="77760" cy="3132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6" y="24"/>
                    </a:moveTo>
                    <a:cubicBezTo>
                      <a:pt x="7" y="12"/>
                      <a:pt x="0" y="0"/>
                      <a:pt x="8" y="0"/>
                    </a:cubicBezTo>
                    <a:cubicBezTo>
                      <a:pt x="16" y="0"/>
                      <a:pt x="47" y="23"/>
                      <a:pt x="64" y="24"/>
                    </a:cubicBezTo>
                    <a:cubicBezTo>
                      <a:pt x="81" y="25"/>
                      <a:pt x="101" y="9"/>
                      <a:pt x="112" y="8"/>
                    </a:cubicBezTo>
                    <a:cubicBezTo>
                      <a:pt x="123" y="7"/>
                      <a:pt x="137" y="8"/>
                      <a:pt x="128" y="16"/>
                    </a:cubicBezTo>
                    <a:cubicBezTo>
                      <a:pt x="119" y="24"/>
                      <a:pt x="75" y="55"/>
                      <a:pt x="56" y="56"/>
                    </a:cubicBezTo>
                    <a:cubicBezTo>
                      <a:pt x="37" y="57"/>
                      <a:pt x="24" y="31"/>
                      <a:pt x="16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rot="21591600">
                <a:off x="-1244880" y="4541040"/>
                <a:ext cx="245160" cy="146880"/>
              </a:xfrm>
              <a:custGeom>
                <a:avLst/>
                <a:gdLst/>
                <a:ahLst/>
                <a:rect l="l" t="t" r="r" b="b"/>
                <a:pathLst>
                  <a:path w="432" h="267">
                    <a:moveTo>
                      <a:pt x="336" y="243"/>
                    </a:moveTo>
                    <a:cubicBezTo>
                      <a:pt x="343" y="239"/>
                      <a:pt x="364" y="234"/>
                      <a:pt x="376" y="219"/>
                    </a:cubicBezTo>
                    <a:cubicBezTo>
                      <a:pt x="388" y="204"/>
                      <a:pt x="407" y="171"/>
                      <a:pt x="408" y="155"/>
                    </a:cubicBezTo>
                    <a:cubicBezTo>
                      <a:pt x="409" y="139"/>
                      <a:pt x="401" y="135"/>
                      <a:pt x="384" y="123"/>
                    </a:cubicBezTo>
                    <a:cubicBezTo>
                      <a:pt x="367" y="111"/>
                      <a:pt x="325" y="82"/>
                      <a:pt x="304" y="83"/>
                    </a:cubicBezTo>
                    <a:cubicBezTo>
                      <a:pt x="283" y="84"/>
                      <a:pt x="273" y="122"/>
                      <a:pt x="256" y="131"/>
                    </a:cubicBezTo>
                    <a:cubicBezTo>
                      <a:pt x="239" y="140"/>
                      <a:pt x="221" y="148"/>
                      <a:pt x="200" y="139"/>
                    </a:cubicBezTo>
                    <a:cubicBezTo>
                      <a:pt x="179" y="130"/>
                      <a:pt x="159" y="82"/>
                      <a:pt x="128" y="75"/>
                    </a:cubicBezTo>
                    <a:cubicBezTo>
                      <a:pt x="97" y="68"/>
                      <a:pt x="32" y="110"/>
                      <a:pt x="16" y="99"/>
                    </a:cubicBezTo>
                    <a:cubicBezTo>
                      <a:pt x="0" y="88"/>
                      <a:pt x="13" y="22"/>
                      <a:pt x="32" y="11"/>
                    </a:cubicBezTo>
                    <a:cubicBezTo>
                      <a:pt x="51" y="0"/>
                      <a:pt x="88" y="34"/>
                      <a:pt x="128" y="35"/>
                    </a:cubicBezTo>
                    <a:cubicBezTo>
                      <a:pt x="168" y="36"/>
                      <a:pt x="240" y="15"/>
                      <a:pt x="272" y="19"/>
                    </a:cubicBezTo>
                    <a:cubicBezTo>
                      <a:pt x="304" y="23"/>
                      <a:pt x="296" y="43"/>
                      <a:pt x="320" y="59"/>
                    </a:cubicBezTo>
                    <a:cubicBezTo>
                      <a:pt x="344" y="75"/>
                      <a:pt x="400" y="90"/>
                      <a:pt x="416" y="115"/>
                    </a:cubicBezTo>
                    <a:cubicBezTo>
                      <a:pt x="432" y="140"/>
                      <a:pt x="424" y="187"/>
                      <a:pt x="416" y="211"/>
                    </a:cubicBezTo>
                    <a:cubicBezTo>
                      <a:pt x="408" y="235"/>
                      <a:pt x="384" y="251"/>
                      <a:pt x="368" y="259"/>
                    </a:cubicBezTo>
                    <a:cubicBezTo>
                      <a:pt x="352" y="267"/>
                      <a:pt x="336" y="263"/>
                      <a:pt x="320" y="259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cc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rot="21591600">
                <a:off x="-1095840" y="4797720"/>
                <a:ext cx="404640" cy="227880"/>
              </a:xfrm>
              <a:custGeom>
                <a:avLst/>
                <a:gdLst/>
                <a:ahLst/>
                <a:rect l="l" t="t" r="r" b="b"/>
                <a:pathLst>
                  <a:path w="713" h="413">
                    <a:moveTo>
                      <a:pt x="693" y="0"/>
                    </a:moveTo>
                    <a:cubicBezTo>
                      <a:pt x="678" y="23"/>
                      <a:pt x="633" y="99"/>
                      <a:pt x="605" y="136"/>
                    </a:cubicBezTo>
                    <a:cubicBezTo>
                      <a:pt x="577" y="173"/>
                      <a:pt x="554" y="199"/>
                      <a:pt x="525" y="224"/>
                    </a:cubicBezTo>
                    <a:cubicBezTo>
                      <a:pt x="496" y="249"/>
                      <a:pt x="452" y="275"/>
                      <a:pt x="429" y="288"/>
                    </a:cubicBezTo>
                    <a:cubicBezTo>
                      <a:pt x="406" y="301"/>
                      <a:pt x="429" y="307"/>
                      <a:pt x="389" y="304"/>
                    </a:cubicBezTo>
                    <a:cubicBezTo>
                      <a:pt x="349" y="301"/>
                      <a:pt x="235" y="287"/>
                      <a:pt x="189" y="272"/>
                    </a:cubicBezTo>
                    <a:cubicBezTo>
                      <a:pt x="143" y="257"/>
                      <a:pt x="135" y="220"/>
                      <a:pt x="113" y="216"/>
                    </a:cubicBezTo>
                    <a:cubicBezTo>
                      <a:pt x="91" y="212"/>
                      <a:pt x="72" y="235"/>
                      <a:pt x="57" y="248"/>
                    </a:cubicBezTo>
                    <a:cubicBezTo>
                      <a:pt x="42" y="261"/>
                      <a:pt x="30" y="280"/>
                      <a:pt x="21" y="296"/>
                    </a:cubicBezTo>
                    <a:cubicBezTo>
                      <a:pt x="12" y="312"/>
                      <a:pt x="6" y="332"/>
                      <a:pt x="5" y="344"/>
                    </a:cubicBezTo>
                    <a:cubicBezTo>
                      <a:pt x="4" y="356"/>
                      <a:pt x="0" y="363"/>
                      <a:pt x="13" y="368"/>
                    </a:cubicBezTo>
                    <a:cubicBezTo>
                      <a:pt x="26" y="373"/>
                      <a:pt x="70" y="371"/>
                      <a:pt x="85" y="376"/>
                    </a:cubicBezTo>
                    <a:cubicBezTo>
                      <a:pt x="100" y="381"/>
                      <a:pt x="93" y="404"/>
                      <a:pt x="101" y="400"/>
                    </a:cubicBezTo>
                    <a:cubicBezTo>
                      <a:pt x="109" y="396"/>
                      <a:pt x="118" y="357"/>
                      <a:pt x="133" y="352"/>
                    </a:cubicBezTo>
                    <a:cubicBezTo>
                      <a:pt x="148" y="347"/>
                      <a:pt x="172" y="365"/>
                      <a:pt x="189" y="368"/>
                    </a:cubicBezTo>
                    <a:cubicBezTo>
                      <a:pt x="206" y="371"/>
                      <a:pt x="205" y="364"/>
                      <a:pt x="237" y="368"/>
                    </a:cubicBezTo>
                    <a:cubicBezTo>
                      <a:pt x="269" y="372"/>
                      <a:pt x="349" y="385"/>
                      <a:pt x="381" y="392"/>
                    </a:cubicBezTo>
                    <a:cubicBezTo>
                      <a:pt x="413" y="399"/>
                      <a:pt x="414" y="405"/>
                      <a:pt x="429" y="408"/>
                    </a:cubicBezTo>
                    <a:cubicBezTo>
                      <a:pt x="444" y="411"/>
                      <a:pt x="448" y="413"/>
                      <a:pt x="469" y="408"/>
                    </a:cubicBezTo>
                    <a:cubicBezTo>
                      <a:pt x="490" y="403"/>
                      <a:pt x="527" y="392"/>
                      <a:pt x="557" y="376"/>
                    </a:cubicBezTo>
                    <a:cubicBezTo>
                      <a:pt x="587" y="360"/>
                      <a:pt x="624" y="332"/>
                      <a:pt x="649" y="312"/>
                    </a:cubicBezTo>
                    <a:cubicBezTo>
                      <a:pt x="674" y="292"/>
                      <a:pt x="697" y="281"/>
                      <a:pt x="705" y="256"/>
                    </a:cubicBezTo>
                    <a:cubicBezTo>
                      <a:pt x="713" y="231"/>
                      <a:pt x="699" y="180"/>
                      <a:pt x="697" y="160"/>
                    </a:cubicBezTo>
                  </a:path>
                </a:pathLst>
              </a:custGeom>
              <a:gradFill rotWithShape="0">
                <a:gsLst>
                  <a:gs pos="0">
                    <a:srgbClr val="cdc800"/>
                  </a:gs>
                  <a:gs pos="100000">
                    <a:srgbClr val="ffa95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rot="21591600">
                <a:off x="-1059840" y="4881240"/>
                <a:ext cx="320040" cy="258120"/>
              </a:xfrm>
              <a:custGeom>
                <a:avLst/>
                <a:gdLst/>
                <a:ahLst/>
                <a:rect l="l" t="t" r="r" b="b"/>
                <a:pathLst>
                  <a:path w="564" h="469">
                    <a:moveTo>
                      <a:pt x="64" y="417"/>
                    </a:moveTo>
                    <a:cubicBezTo>
                      <a:pt x="63" y="421"/>
                      <a:pt x="49" y="430"/>
                      <a:pt x="56" y="433"/>
                    </a:cubicBezTo>
                    <a:cubicBezTo>
                      <a:pt x="63" y="436"/>
                      <a:pt x="75" y="469"/>
                      <a:pt x="104" y="433"/>
                    </a:cubicBezTo>
                    <a:cubicBezTo>
                      <a:pt x="133" y="397"/>
                      <a:pt x="200" y="269"/>
                      <a:pt x="232" y="217"/>
                    </a:cubicBezTo>
                    <a:cubicBezTo>
                      <a:pt x="264" y="165"/>
                      <a:pt x="270" y="137"/>
                      <a:pt x="296" y="121"/>
                    </a:cubicBezTo>
                    <a:cubicBezTo>
                      <a:pt x="322" y="105"/>
                      <a:pt x="356" y="93"/>
                      <a:pt x="392" y="121"/>
                    </a:cubicBezTo>
                    <a:cubicBezTo>
                      <a:pt x="428" y="149"/>
                      <a:pt x="485" y="272"/>
                      <a:pt x="512" y="289"/>
                    </a:cubicBezTo>
                    <a:cubicBezTo>
                      <a:pt x="539" y="306"/>
                      <a:pt x="564" y="261"/>
                      <a:pt x="552" y="225"/>
                    </a:cubicBezTo>
                    <a:cubicBezTo>
                      <a:pt x="540" y="189"/>
                      <a:pt x="475" y="106"/>
                      <a:pt x="440" y="73"/>
                    </a:cubicBezTo>
                    <a:cubicBezTo>
                      <a:pt x="405" y="40"/>
                      <a:pt x="376" y="25"/>
                      <a:pt x="344" y="25"/>
                    </a:cubicBezTo>
                    <a:cubicBezTo>
                      <a:pt x="312" y="25"/>
                      <a:pt x="272" y="57"/>
                      <a:pt x="248" y="73"/>
                    </a:cubicBezTo>
                    <a:cubicBezTo>
                      <a:pt x="224" y="89"/>
                      <a:pt x="213" y="98"/>
                      <a:pt x="200" y="121"/>
                    </a:cubicBezTo>
                    <a:cubicBezTo>
                      <a:pt x="187" y="144"/>
                      <a:pt x="176" y="185"/>
                      <a:pt x="168" y="209"/>
                    </a:cubicBezTo>
                    <a:cubicBezTo>
                      <a:pt x="160" y="233"/>
                      <a:pt x="171" y="232"/>
                      <a:pt x="152" y="265"/>
                    </a:cubicBezTo>
                    <a:cubicBezTo>
                      <a:pt x="133" y="298"/>
                      <a:pt x="80" y="393"/>
                      <a:pt x="56" y="409"/>
                    </a:cubicBezTo>
                    <a:cubicBezTo>
                      <a:pt x="32" y="425"/>
                      <a:pt x="0" y="390"/>
                      <a:pt x="8" y="361"/>
                    </a:cubicBezTo>
                    <a:cubicBezTo>
                      <a:pt x="16" y="332"/>
                      <a:pt x="80" y="281"/>
                      <a:pt x="104" y="233"/>
                    </a:cubicBezTo>
                    <a:cubicBezTo>
                      <a:pt x="128" y="185"/>
                      <a:pt x="151" y="100"/>
                      <a:pt x="152" y="73"/>
                    </a:cubicBezTo>
                    <a:cubicBezTo>
                      <a:pt x="153" y="46"/>
                      <a:pt x="123" y="66"/>
                      <a:pt x="112" y="73"/>
                    </a:cubicBezTo>
                    <a:cubicBezTo>
                      <a:pt x="101" y="80"/>
                      <a:pt x="105" y="112"/>
                      <a:pt x="88" y="113"/>
                    </a:cubicBezTo>
                    <a:cubicBezTo>
                      <a:pt x="71" y="114"/>
                      <a:pt x="12" y="94"/>
                      <a:pt x="8" y="81"/>
                    </a:cubicBezTo>
                    <a:cubicBezTo>
                      <a:pt x="4" y="68"/>
                      <a:pt x="44" y="46"/>
                      <a:pt x="64" y="33"/>
                    </a:cubicBezTo>
                    <a:cubicBezTo>
                      <a:pt x="84" y="20"/>
                      <a:pt x="105" y="2"/>
                      <a:pt x="128" y="1"/>
                    </a:cubicBezTo>
                    <a:cubicBezTo>
                      <a:pt x="151" y="0"/>
                      <a:pt x="180" y="13"/>
                      <a:pt x="200" y="25"/>
                    </a:cubicBezTo>
                    <a:cubicBezTo>
                      <a:pt x="220" y="37"/>
                      <a:pt x="236" y="53"/>
                      <a:pt x="248" y="73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rot="21591600">
                <a:off x="-852840" y="504000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352" h="239">
                    <a:moveTo>
                      <a:pt x="304" y="168"/>
                    </a:moveTo>
                    <a:cubicBezTo>
                      <a:pt x="264" y="136"/>
                      <a:pt x="112" y="48"/>
                      <a:pt x="64" y="24"/>
                    </a:cubicBezTo>
                    <a:cubicBezTo>
                      <a:pt x="16" y="0"/>
                      <a:pt x="25" y="17"/>
                      <a:pt x="16" y="24"/>
                    </a:cubicBezTo>
                    <a:cubicBezTo>
                      <a:pt x="7" y="31"/>
                      <a:pt x="0" y="52"/>
                      <a:pt x="8" y="64"/>
                    </a:cubicBezTo>
                    <a:cubicBezTo>
                      <a:pt x="16" y="76"/>
                      <a:pt x="44" y="91"/>
                      <a:pt x="64" y="96"/>
                    </a:cubicBezTo>
                    <a:cubicBezTo>
                      <a:pt x="84" y="101"/>
                      <a:pt x="112" y="87"/>
                      <a:pt x="128" y="96"/>
                    </a:cubicBezTo>
                    <a:cubicBezTo>
                      <a:pt x="144" y="105"/>
                      <a:pt x="131" y="129"/>
                      <a:pt x="160" y="152"/>
                    </a:cubicBezTo>
                    <a:cubicBezTo>
                      <a:pt x="189" y="175"/>
                      <a:pt x="272" y="225"/>
                      <a:pt x="304" y="232"/>
                    </a:cubicBezTo>
                    <a:cubicBezTo>
                      <a:pt x="336" y="239"/>
                      <a:pt x="352" y="203"/>
                      <a:pt x="352" y="192"/>
                    </a:cubicBezTo>
                    <a:cubicBezTo>
                      <a:pt x="352" y="181"/>
                      <a:pt x="314" y="173"/>
                      <a:pt x="304" y="16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rot="21591600">
                <a:off x="-825840" y="5132880"/>
                <a:ext cx="172440" cy="213840"/>
              </a:xfrm>
              <a:custGeom>
                <a:avLst/>
                <a:gdLst/>
                <a:ahLst/>
                <a:rect l="l" t="t" r="r" b="b"/>
                <a:pathLst>
                  <a:path w="304" h="388">
                    <a:moveTo>
                      <a:pt x="207" y="48"/>
                    </a:moveTo>
                    <a:cubicBezTo>
                      <a:pt x="160" y="96"/>
                      <a:pt x="46" y="284"/>
                      <a:pt x="23" y="336"/>
                    </a:cubicBezTo>
                    <a:cubicBezTo>
                      <a:pt x="0" y="388"/>
                      <a:pt x="50" y="379"/>
                      <a:pt x="71" y="360"/>
                    </a:cubicBezTo>
                    <a:cubicBezTo>
                      <a:pt x="92" y="341"/>
                      <a:pt x="131" y="247"/>
                      <a:pt x="151" y="224"/>
                    </a:cubicBezTo>
                    <a:cubicBezTo>
                      <a:pt x="171" y="201"/>
                      <a:pt x="176" y="225"/>
                      <a:pt x="191" y="224"/>
                    </a:cubicBezTo>
                    <a:cubicBezTo>
                      <a:pt x="206" y="223"/>
                      <a:pt x="234" y="225"/>
                      <a:pt x="239" y="216"/>
                    </a:cubicBezTo>
                    <a:cubicBezTo>
                      <a:pt x="244" y="207"/>
                      <a:pt x="227" y="183"/>
                      <a:pt x="223" y="168"/>
                    </a:cubicBezTo>
                    <a:cubicBezTo>
                      <a:pt x="219" y="153"/>
                      <a:pt x="202" y="148"/>
                      <a:pt x="215" y="128"/>
                    </a:cubicBezTo>
                    <a:cubicBezTo>
                      <a:pt x="228" y="108"/>
                      <a:pt x="304" y="61"/>
                      <a:pt x="303" y="48"/>
                    </a:cubicBezTo>
                    <a:cubicBezTo>
                      <a:pt x="302" y="35"/>
                      <a:pt x="247" y="0"/>
                      <a:pt x="207" y="48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 rot="21591600">
                <a:off x="-804240" y="5226840"/>
                <a:ext cx="333360" cy="300240"/>
              </a:xfrm>
              <a:custGeom>
                <a:avLst/>
                <a:gdLst/>
                <a:ahLst/>
                <a:rect l="l" t="t" r="r" b="b"/>
                <a:pathLst>
                  <a:path w="587" h="545">
                    <a:moveTo>
                      <a:pt x="64" y="37"/>
                    </a:moveTo>
                    <a:cubicBezTo>
                      <a:pt x="101" y="34"/>
                      <a:pt x="219" y="0"/>
                      <a:pt x="288" y="13"/>
                    </a:cubicBezTo>
                    <a:cubicBezTo>
                      <a:pt x="357" y="26"/>
                      <a:pt x="433" y="65"/>
                      <a:pt x="480" y="117"/>
                    </a:cubicBezTo>
                    <a:cubicBezTo>
                      <a:pt x="527" y="169"/>
                      <a:pt x="552" y="261"/>
                      <a:pt x="568" y="325"/>
                    </a:cubicBezTo>
                    <a:cubicBezTo>
                      <a:pt x="584" y="389"/>
                      <a:pt x="587" y="466"/>
                      <a:pt x="576" y="501"/>
                    </a:cubicBezTo>
                    <a:cubicBezTo>
                      <a:pt x="565" y="536"/>
                      <a:pt x="516" y="545"/>
                      <a:pt x="504" y="533"/>
                    </a:cubicBezTo>
                    <a:cubicBezTo>
                      <a:pt x="492" y="521"/>
                      <a:pt x="512" y="474"/>
                      <a:pt x="504" y="429"/>
                    </a:cubicBezTo>
                    <a:cubicBezTo>
                      <a:pt x="496" y="384"/>
                      <a:pt x="476" y="305"/>
                      <a:pt x="456" y="261"/>
                    </a:cubicBezTo>
                    <a:cubicBezTo>
                      <a:pt x="436" y="217"/>
                      <a:pt x="405" y="186"/>
                      <a:pt x="384" y="165"/>
                    </a:cubicBezTo>
                    <a:cubicBezTo>
                      <a:pt x="363" y="144"/>
                      <a:pt x="356" y="141"/>
                      <a:pt x="328" y="133"/>
                    </a:cubicBezTo>
                    <a:cubicBezTo>
                      <a:pt x="300" y="125"/>
                      <a:pt x="260" y="116"/>
                      <a:pt x="216" y="117"/>
                    </a:cubicBezTo>
                    <a:cubicBezTo>
                      <a:pt x="172" y="118"/>
                      <a:pt x="100" y="149"/>
                      <a:pt x="64" y="141"/>
                    </a:cubicBezTo>
                    <a:cubicBezTo>
                      <a:pt x="28" y="133"/>
                      <a:pt x="0" y="85"/>
                      <a:pt x="0" y="69"/>
                    </a:cubicBezTo>
                    <a:cubicBezTo>
                      <a:pt x="0" y="53"/>
                      <a:pt x="51" y="50"/>
                      <a:pt x="64" y="45"/>
                    </a:cubicBezTo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 rot="21591600">
                <a:off x="-787680" y="5073840"/>
                <a:ext cx="189000" cy="140400"/>
              </a:xfrm>
              <a:custGeom>
                <a:avLst/>
                <a:gdLst/>
                <a:ahLst/>
                <a:rect l="l" t="t" r="r" b="b"/>
                <a:pathLst>
                  <a:path w="333" h="255">
                    <a:moveTo>
                      <a:pt x="112" y="11"/>
                    </a:moveTo>
                    <a:cubicBezTo>
                      <a:pt x="74" y="0"/>
                      <a:pt x="88" y="43"/>
                      <a:pt x="72" y="59"/>
                    </a:cubicBezTo>
                    <a:cubicBezTo>
                      <a:pt x="56" y="75"/>
                      <a:pt x="25" y="83"/>
                      <a:pt x="16" y="107"/>
                    </a:cubicBezTo>
                    <a:cubicBezTo>
                      <a:pt x="7" y="131"/>
                      <a:pt x="0" y="179"/>
                      <a:pt x="16" y="203"/>
                    </a:cubicBezTo>
                    <a:cubicBezTo>
                      <a:pt x="32" y="227"/>
                      <a:pt x="84" y="247"/>
                      <a:pt x="112" y="251"/>
                    </a:cubicBezTo>
                    <a:cubicBezTo>
                      <a:pt x="140" y="255"/>
                      <a:pt x="168" y="230"/>
                      <a:pt x="184" y="227"/>
                    </a:cubicBezTo>
                    <a:cubicBezTo>
                      <a:pt x="200" y="224"/>
                      <a:pt x="191" y="242"/>
                      <a:pt x="208" y="235"/>
                    </a:cubicBezTo>
                    <a:cubicBezTo>
                      <a:pt x="225" y="228"/>
                      <a:pt x="272" y="206"/>
                      <a:pt x="288" y="187"/>
                    </a:cubicBezTo>
                    <a:cubicBezTo>
                      <a:pt x="304" y="168"/>
                      <a:pt x="333" y="152"/>
                      <a:pt x="304" y="123"/>
                    </a:cubicBezTo>
                    <a:cubicBezTo>
                      <a:pt x="275" y="94"/>
                      <a:pt x="153" y="26"/>
                      <a:pt x="112" y="11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 rot="19462200">
                <a:off x="-722520" y="5079600"/>
                <a:ext cx="78840" cy="146160"/>
              </a:xfrm>
              <a:prstGeom prst="ellipse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 rot="21591600">
                <a:off x="-1417320" y="5372280"/>
                <a:ext cx="401040" cy="206280"/>
              </a:xfrm>
              <a:custGeom>
                <a:avLst/>
                <a:gdLst/>
                <a:ahLst/>
                <a:rect l="l" t="t" r="r" b="b"/>
                <a:pathLst>
                  <a:path w="706" h="375">
                    <a:moveTo>
                      <a:pt x="247" y="96"/>
                    </a:moveTo>
                    <a:cubicBezTo>
                      <a:pt x="216" y="99"/>
                      <a:pt x="100" y="89"/>
                      <a:pt x="63" y="112"/>
                    </a:cubicBezTo>
                    <a:cubicBezTo>
                      <a:pt x="26" y="135"/>
                      <a:pt x="0" y="191"/>
                      <a:pt x="23" y="232"/>
                    </a:cubicBezTo>
                    <a:cubicBezTo>
                      <a:pt x="46" y="273"/>
                      <a:pt x="130" y="345"/>
                      <a:pt x="199" y="360"/>
                    </a:cubicBezTo>
                    <a:cubicBezTo>
                      <a:pt x="268" y="375"/>
                      <a:pt x="366" y="332"/>
                      <a:pt x="439" y="320"/>
                    </a:cubicBezTo>
                    <a:cubicBezTo>
                      <a:pt x="512" y="308"/>
                      <a:pt x="595" y="309"/>
                      <a:pt x="639" y="288"/>
                    </a:cubicBezTo>
                    <a:cubicBezTo>
                      <a:pt x="683" y="267"/>
                      <a:pt x="700" y="233"/>
                      <a:pt x="703" y="192"/>
                    </a:cubicBezTo>
                    <a:cubicBezTo>
                      <a:pt x="706" y="151"/>
                      <a:pt x="682" y="71"/>
                      <a:pt x="655" y="40"/>
                    </a:cubicBezTo>
                    <a:cubicBezTo>
                      <a:pt x="628" y="9"/>
                      <a:pt x="579" y="15"/>
                      <a:pt x="543" y="8"/>
                    </a:cubicBezTo>
                    <a:cubicBezTo>
                      <a:pt x="507" y="1"/>
                      <a:pt x="461" y="2"/>
                      <a:pt x="439" y="0"/>
                    </a:cubicBezTo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3366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 rot="21591600">
                <a:off x="-1344960" y="5371920"/>
                <a:ext cx="261000" cy="191880"/>
              </a:xfrm>
              <a:custGeom>
                <a:avLst/>
                <a:gdLst/>
                <a:ahLst/>
                <a:rect l="l" t="t" r="r" b="b"/>
                <a:pathLst>
                  <a:path w="460" h="349">
                    <a:moveTo>
                      <a:pt x="264" y="0"/>
                    </a:moveTo>
                    <a:cubicBezTo>
                      <a:pt x="296" y="52"/>
                      <a:pt x="328" y="104"/>
                      <a:pt x="360" y="144"/>
                    </a:cubicBezTo>
                    <a:cubicBezTo>
                      <a:pt x="392" y="184"/>
                      <a:pt x="460" y="212"/>
                      <a:pt x="456" y="240"/>
                    </a:cubicBezTo>
                    <a:cubicBezTo>
                      <a:pt x="452" y="268"/>
                      <a:pt x="360" y="309"/>
                      <a:pt x="336" y="312"/>
                    </a:cubicBezTo>
                    <a:cubicBezTo>
                      <a:pt x="312" y="315"/>
                      <a:pt x="324" y="252"/>
                      <a:pt x="312" y="256"/>
                    </a:cubicBezTo>
                    <a:cubicBezTo>
                      <a:pt x="300" y="260"/>
                      <a:pt x="296" y="323"/>
                      <a:pt x="264" y="336"/>
                    </a:cubicBezTo>
                    <a:cubicBezTo>
                      <a:pt x="232" y="349"/>
                      <a:pt x="160" y="336"/>
                      <a:pt x="120" y="336"/>
                    </a:cubicBezTo>
                    <a:cubicBezTo>
                      <a:pt x="80" y="336"/>
                      <a:pt x="40" y="344"/>
                      <a:pt x="24" y="336"/>
                    </a:cubicBezTo>
                    <a:cubicBezTo>
                      <a:pt x="8" y="328"/>
                      <a:pt x="0" y="304"/>
                      <a:pt x="24" y="288"/>
                    </a:cubicBezTo>
                    <a:cubicBezTo>
                      <a:pt x="48" y="272"/>
                      <a:pt x="136" y="256"/>
                      <a:pt x="168" y="240"/>
                    </a:cubicBezTo>
                    <a:cubicBezTo>
                      <a:pt x="200" y="224"/>
                      <a:pt x="215" y="216"/>
                      <a:pt x="216" y="192"/>
                    </a:cubicBezTo>
                    <a:cubicBezTo>
                      <a:pt x="217" y="168"/>
                      <a:pt x="168" y="120"/>
                      <a:pt x="176" y="96"/>
                    </a:cubicBezTo>
                    <a:cubicBezTo>
                      <a:pt x="184" y="72"/>
                      <a:pt x="246" y="58"/>
                      <a:pt x="264" y="48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rot="21591600">
                <a:off x="-1756800" y="5310720"/>
                <a:ext cx="440640" cy="117000"/>
              </a:xfrm>
              <a:custGeom>
                <a:avLst/>
                <a:gdLst/>
                <a:ahLst/>
                <a:rect l="l" t="t" r="r" b="b"/>
                <a:pathLst>
                  <a:path w="776" h="212">
                    <a:moveTo>
                      <a:pt x="0" y="112"/>
                    </a:moveTo>
                    <a:cubicBezTo>
                      <a:pt x="43" y="89"/>
                      <a:pt x="176" y="32"/>
                      <a:pt x="288" y="16"/>
                    </a:cubicBezTo>
                    <a:cubicBezTo>
                      <a:pt x="400" y="0"/>
                      <a:pt x="592" y="16"/>
                      <a:pt x="672" y="16"/>
                    </a:cubicBezTo>
                    <a:cubicBezTo>
                      <a:pt x="752" y="16"/>
                      <a:pt x="760" y="8"/>
                      <a:pt x="768" y="16"/>
                    </a:cubicBezTo>
                    <a:cubicBezTo>
                      <a:pt x="776" y="24"/>
                      <a:pt x="725" y="51"/>
                      <a:pt x="720" y="64"/>
                    </a:cubicBezTo>
                    <a:cubicBezTo>
                      <a:pt x="715" y="77"/>
                      <a:pt x="765" y="87"/>
                      <a:pt x="736" y="96"/>
                    </a:cubicBezTo>
                    <a:cubicBezTo>
                      <a:pt x="707" y="105"/>
                      <a:pt x="600" y="119"/>
                      <a:pt x="544" y="120"/>
                    </a:cubicBezTo>
                    <a:cubicBezTo>
                      <a:pt x="488" y="121"/>
                      <a:pt x="453" y="107"/>
                      <a:pt x="400" y="104"/>
                    </a:cubicBezTo>
                    <a:cubicBezTo>
                      <a:pt x="347" y="101"/>
                      <a:pt x="267" y="87"/>
                      <a:pt x="224" y="104"/>
                    </a:cubicBezTo>
                    <a:cubicBezTo>
                      <a:pt x="181" y="121"/>
                      <a:pt x="164" y="204"/>
                      <a:pt x="144" y="208"/>
                    </a:cubicBezTo>
                    <a:cubicBezTo>
                      <a:pt x="124" y="212"/>
                      <a:pt x="128" y="144"/>
                      <a:pt x="104" y="128"/>
                    </a:cubicBezTo>
                    <a:cubicBezTo>
                      <a:pt x="80" y="112"/>
                      <a:pt x="22" y="115"/>
                      <a:pt x="0" y="112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rot="21591600">
                <a:off x="-1289880" y="4730040"/>
                <a:ext cx="221760" cy="420840"/>
              </a:xfrm>
              <a:custGeom>
                <a:avLst/>
                <a:gdLst/>
                <a:ahLst/>
                <a:rect l="l" t="t" r="r" b="b"/>
                <a:pathLst>
                  <a:path w="390" h="764">
                    <a:moveTo>
                      <a:pt x="238" y="220"/>
                    </a:moveTo>
                    <a:cubicBezTo>
                      <a:pt x="218" y="125"/>
                      <a:pt x="241" y="40"/>
                      <a:pt x="222" y="20"/>
                    </a:cubicBezTo>
                    <a:cubicBezTo>
                      <a:pt x="203" y="0"/>
                      <a:pt x="145" y="83"/>
                      <a:pt x="122" y="100"/>
                    </a:cubicBezTo>
                    <a:cubicBezTo>
                      <a:pt x="99" y="117"/>
                      <a:pt x="105" y="115"/>
                      <a:pt x="86" y="124"/>
                    </a:cubicBezTo>
                    <a:cubicBezTo>
                      <a:pt x="67" y="133"/>
                      <a:pt x="12" y="112"/>
                      <a:pt x="6" y="156"/>
                    </a:cubicBezTo>
                    <a:cubicBezTo>
                      <a:pt x="0" y="200"/>
                      <a:pt x="21" y="296"/>
                      <a:pt x="50" y="388"/>
                    </a:cubicBezTo>
                    <a:cubicBezTo>
                      <a:pt x="79" y="480"/>
                      <a:pt x="155" y="652"/>
                      <a:pt x="178" y="708"/>
                    </a:cubicBezTo>
                    <a:cubicBezTo>
                      <a:pt x="201" y="764"/>
                      <a:pt x="179" y="719"/>
                      <a:pt x="186" y="724"/>
                    </a:cubicBezTo>
                    <a:cubicBezTo>
                      <a:pt x="193" y="729"/>
                      <a:pt x="233" y="747"/>
                      <a:pt x="218" y="740"/>
                    </a:cubicBezTo>
                    <a:cubicBezTo>
                      <a:pt x="203" y="733"/>
                      <a:pt x="96" y="684"/>
                      <a:pt x="94" y="684"/>
                    </a:cubicBezTo>
                    <a:cubicBezTo>
                      <a:pt x="92" y="684"/>
                      <a:pt x="165" y="732"/>
                      <a:pt x="206" y="740"/>
                    </a:cubicBezTo>
                    <a:cubicBezTo>
                      <a:pt x="247" y="748"/>
                      <a:pt x="311" y="741"/>
                      <a:pt x="342" y="732"/>
                    </a:cubicBezTo>
                    <a:cubicBezTo>
                      <a:pt x="373" y="723"/>
                      <a:pt x="390" y="708"/>
                      <a:pt x="390" y="684"/>
                    </a:cubicBezTo>
                    <a:cubicBezTo>
                      <a:pt x="390" y="660"/>
                      <a:pt x="367" y="665"/>
                      <a:pt x="342" y="588"/>
                    </a:cubicBezTo>
                    <a:cubicBezTo>
                      <a:pt x="317" y="511"/>
                      <a:pt x="258" y="315"/>
                      <a:pt x="238" y="22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 rot="21591600">
                <a:off x="-1271880" y="4780080"/>
                <a:ext cx="268560" cy="331560"/>
              </a:xfrm>
              <a:custGeom>
                <a:avLst/>
                <a:gdLst/>
                <a:ahLst/>
                <a:rect l="l" t="t" r="r" b="b"/>
                <a:pathLst>
                  <a:path w="473" h="602">
                    <a:moveTo>
                      <a:pt x="280" y="137"/>
                    </a:moveTo>
                    <a:cubicBezTo>
                      <a:pt x="267" y="196"/>
                      <a:pt x="261" y="296"/>
                      <a:pt x="264" y="353"/>
                    </a:cubicBezTo>
                    <a:cubicBezTo>
                      <a:pt x="267" y="410"/>
                      <a:pt x="296" y="457"/>
                      <a:pt x="296" y="481"/>
                    </a:cubicBezTo>
                    <a:cubicBezTo>
                      <a:pt x="296" y="505"/>
                      <a:pt x="277" y="502"/>
                      <a:pt x="264" y="497"/>
                    </a:cubicBezTo>
                    <a:cubicBezTo>
                      <a:pt x="251" y="492"/>
                      <a:pt x="232" y="465"/>
                      <a:pt x="216" y="449"/>
                    </a:cubicBezTo>
                    <a:cubicBezTo>
                      <a:pt x="200" y="433"/>
                      <a:pt x="184" y="412"/>
                      <a:pt x="168" y="401"/>
                    </a:cubicBezTo>
                    <a:cubicBezTo>
                      <a:pt x="152" y="390"/>
                      <a:pt x="146" y="381"/>
                      <a:pt x="120" y="385"/>
                    </a:cubicBezTo>
                    <a:cubicBezTo>
                      <a:pt x="94" y="389"/>
                      <a:pt x="24" y="405"/>
                      <a:pt x="12" y="425"/>
                    </a:cubicBezTo>
                    <a:cubicBezTo>
                      <a:pt x="0" y="445"/>
                      <a:pt x="38" y="485"/>
                      <a:pt x="48" y="505"/>
                    </a:cubicBezTo>
                    <a:cubicBezTo>
                      <a:pt x="58" y="525"/>
                      <a:pt x="60" y="537"/>
                      <a:pt x="72" y="545"/>
                    </a:cubicBezTo>
                    <a:cubicBezTo>
                      <a:pt x="84" y="553"/>
                      <a:pt x="101" y="556"/>
                      <a:pt x="120" y="553"/>
                    </a:cubicBezTo>
                    <a:cubicBezTo>
                      <a:pt x="139" y="550"/>
                      <a:pt x="160" y="522"/>
                      <a:pt x="184" y="529"/>
                    </a:cubicBezTo>
                    <a:cubicBezTo>
                      <a:pt x="208" y="536"/>
                      <a:pt x="233" y="584"/>
                      <a:pt x="264" y="593"/>
                    </a:cubicBezTo>
                    <a:cubicBezTo>
                      <a:pt x="295" y="602"/>
                      <a:pt x="337" y="597"/>
                      <a:pt x="368" y="585"/>
                    </a:cubicBezTo>
                    <a:cubicBezTo>
                      <a:pt x="399" y="573"/>
                      <a:pt x="440" y="556"/>
                      <a:pt x="448" y="521"/>
                    </a:cubicBezTo>
                    <a:cubicBezTo>
                      <a:pt x="456" y="486"/>
                      <a:pt x="416" y="418"/>
                      <a:pt x="416" y="377"/>
                    </a:cubicBezTo>
                    <a:cubicBezTo>
                      <a:pt x="416" y="336"/>
                      <a:pt x="441" y="314"/>
                      <a:pt x="448" y="273"/>
                    </a:cubicBezTo>
                    <a:cubicBezTo>
                      <a:pt x="455" y="232"/>
                      <a:pt x="473" y="174"/>
                      <a:pt x="456" y="129"/>
                    </a:cubicBezTo>
                    <a:cubicBezTo>
                      <a:pt x="439" y="84"/>
                      <a:pt x="373" y="0"/>
                      <a:pt x="344" y="1"/>
                    </a:cubicBezTo>
                    <a:cubicBezTo>
                      <a:pt x="315" y="2"/>
                      <a:pt x="293" y="78"/>
                      <a:pt x="280" y="13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e9f00"/>
                  </a:gs>
                  <a:gs pos="100000">
                    <a:srgbClr val="ffa95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-1345320" y="4419360"/>
                <a:ext cx="299880" cy="158760"/>
                <a:chOff x="-1345320" y="4419360"/>
                <a:chExt cx="299880" cy="15876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-1345320" y="4419360"/>
                  <a:ext cx="299880" cy="158760"/>
                  <a:chOff x="-1345320" y="4419360"/>
                  <a:chExt cx="299880" cy="15876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 flipH="1" rot="21591600">
                    <a:off x="-1243800" y="4419360"/>
                    <a:ext cx="19800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23">
                        <a:moveTo>
                          <a:pt x="8" y="95"/>
                        </a:moveTo>
                        <a:cubicBezTo>
                          <a:pt x="15" y="104"/>
                          <a:pt x="40" y="109"/>
                          <a:pt x="62" y="113"/>
                        </a:cubicBezTo>
                        <a:cubicBezTo>
                          <a:pt x="84" y="117"/>
                          <a:pt x="124" y="119"/>
                          <a:pt x="140" y="119"/>
                        </a:cubicBezTo>
                        <a:cubicBezTo>
                          <a:pt x="156" y="119"/>
                          <a:pt x="154" y="123"/>
                          <a:pt x="158" y="113"/>
                        </a:cubicBezTo>
                        <a:cubicBezTo>
                          <a:pt x="162" y="103"/>
                          <a:pt x="170" y="76"/>
                          <a:pt x="164" y="59"/>
                        </a:cubicBezTo>
                        <a:cubicBezTo>
                          <a:pt x="158" y="42"/>
                          <a:pt x="140" y="20"/>
                          <a:pt x="122" y="11"/>
                        </a:cubicBezTo>
                        <a:cubicBezTo>
                          <a:pt x="104" y="2"/>
                          <a:pt x="73" y="0"/>
                          <a:pt x="56" y="5"/>
                        </a:cubicBezTo>
                        <a:cubicBezTo>
                          <a:pt x="39" y="10"/>
                          <a:pt x="29" y="32"/>
                          <a:pt x="20" y="41"/>
                        </a:cubicBezTo>
                        <a:cubicBezTo>
                          <a:pt x="11" y="50"/>
                          <a:pt x="4" y="50"/>
                          <a:pt x="2" y="59"/>
                        </a:cubicBezTo>
                        <a:cubicBezTo>
                          <a:pt x="0" y="68"/>
                          <a:pt x="7" y="88"/>
                          <a:pt x="8" y="95"/>
                        </a:cubicBezTo>
                        <a:close/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rot="21591600">
                    <a:off x="-1345320" y="4479480"/>
                    <a:ext cx="12240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87">
                        <a:moveTo>
                          <a:pt x="12" y="0"/>
                        </a:moveTo>
                        <a:cubicBezTo>
                          <a:pt x="40" y="12"/>
                          <a:pt x="69" y="25"/>
                          <a:pt x="84" y="36"/>
                        </a:cubicBezTo>
                        <a:cubicBezTo>
                          <a:pt x="99" y="47"/>
                          <a:pt x="105" y="58"/>
                          <a:pt x="102" y="66"/>
                        </a:cubicBezTo>
                        <a:cubicBezTo>
                          <a:pt x="99" y="74"/>
                          <a:pt x="76" y="81"/>
                          <a:pt x="66" y="84"/>
                        </a:cubicBezTo>
                        <a:cubicBezTo>
                          <a:pt x="56" y="87"/>
                          <a:pt x="53" y="87"/>
                          <a:pt x="42" y="84"/>
                        </a:cubicBezTo>
                        <a:cubicBezTo>
                          <a:pt x="31" y="81"/>
                          <a:pt x="15" y="73"/>
                          <a:pt x="0" y="66"/>
                        </a:cubicBezTo>
                      </a:path>
                    </a:pathLst>
                  </a:cu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5" name=""/>
                <p:cNvSpPr/>
                <p:nvPr/>
              </p:nvSpPr>
              <p:spPr>
                <a:xfrm flipH="1" rot="2013600">
                  <a:off x="-1292400" y="4486680"/>
                  <a:ext cx="42120" cy="8280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24" y="0"/>
                      </a:moveTo>
                      <a:lnTo>
                        <a:pt x="0" y="12"/>
                      </a:lnTo>
                      <a:lnTo>
                        <a:pt x="12" y="30"/>
                      </a:lnTo>
                      <a:lnTo>
                        <a:pt x="24" y="48"/>
                      </a:lnTo>
                      <a:lnTo>
                        <a:pt x="24" y="84"/>
                      </a:lnTo>
                      <a:lnTo>
                        <a:pt x="24" y="102"/>
                      </a:lnTo>
                      <a:lnTo>
                        <a:pt x="42" y="114"/>
                      </a:lnTo>
                      <a:lnTo>
                        <a:pt x="60" y="96"/>
                      </a:lnTo>
                      <a:lnTo>
                        <a:pt x="48" y="36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99cc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 rot="21591600">
                  <a:off x="-1254240" y="4458960"/>
                  <a:ext cx="199800" cy="68400"/>
                </a:xfrm>
                <a:custGeom>
                  <a:avLst/>
                  <a:gdLst>
                    <a:gd name="textAreaLeft" fmla="*/ 79560 w 199800"/>
                    <a:gd name="textAreaRight" fmla="*/ 120240 w 199800"/>
                    <a:gd name="textAreaTop" fmla="*/ 27360 h 68400"/>
                    <a:gd name="textAreaBottom" fmla="*/ 41040 h 6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7913" y="11967"/>
                      </a:lnTo>
                      <a:lnTo>
                        <a:pt x="3163" y="18437"/>
                      </a:lnTo>
                      <a:lnTo>
                        <a:pt x="9583" y="13666"/>
                      </a:lnTo>
                      <a:lnTo>
                        <a:pt x="10800" y="21600"/>
                      </a:lnTo>
                      <a:lnTo>
                        <a:pt x="11967" y="13687"/>
                      </a:lnTo>
                      <a:lnTo>
                        <a:pt x="18437" y="18437"/>
                      </a:lnTo>
                      <a:lnTo>
                        <a:pt x="13666" y="12017"/>
                      </a:lnTo>
                      <a:lnTo>
                        <a:pt x="21600" y="10800"/>
                      </a:lnTo>
                      <a:lnTo>
                        <a:pt x="13687" y="9633"/>
                      </a:lnTo>
                      <a:lnTo>
                        <a:pt x="18437" y="3163"/>
                      </a:lnTo>
                      <a:lnTo>
                        <a:pt x="12017" y="7934"/>
                      </a:lnTo>
                      <a:lnTo>
                        <a:pt x="10800" y="0"/>
                      </a:lnTo>
                      <a:lnTo>
                        <a:pt x="9633" y="7913"/>
                      </a:lnTo>
                      <a:lnTo>
                        <a:pt x="3163" y="3163"/>
                      </a:lnTo>
                      <a:lnTo>
                        <a:pt x="7934" y="958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7" name=""/>
              <p:cNvSpPr/>
              <p:nvPr/>
            </p:nvSpPr>
            <p:spPr>
              <a:xfrm flipH="1" rot="21591600">
                <a:off x="-1071720" y="5073120"/>
                <a:ext cx="200520" cy="253800"/>
              </a:xfrm>
              <a:custGeom>
                <a:avLst/>
                <a:gdLst/>
                <a:ahLst/>
                <a:rect l="l" t="t" r="r" b="b"/>
                <a:pathLst>
                  <a:path w="353" h="461">
                    <a:moveTo>
                      <a:pt x="252" y="53"/>
                    </a:moveTo>
                    <a:cubicBezTo>
                      <a:pt x="245" y="56"/>
                      <a:pt x="187" y="36"/>
                      <a:pt x="164" y="29"/>
                    </a:cubicBezTo>
                    <a:cubicBezTo>
                      <a:pt x="141" y="22"/>
                      <a:pt x="137" y="8"/>
                      <a:pt x="112" y="13"/>
                    </a:cubicBezTo>
                    <a:cubicBezTo>
                      <a:pt x="87" y="18"/>
                      <a:pt x="32" y="45"/>
                      <a:pt x="16" y="61"/>
                    </a:cubicBezTo>
                    <a:cubicBezTo>
                      <a:pt x="0" y="77"/>
                      <a:pt x="6" y="96"/>
                      <a:pt x="16" y="109"/>
                    </a:cubicBezTo>
                    <a:cubicBezTo>
                      <a:pt x="26" y="122"/>
                      <a:pt x="52" y="125"/>
                      <a:pt x="76" y="141"/>
                    </a:cubicBezTo>
                    <a:cubicBezTo>
                      <a:pt x="100" y="157"/>
                      <a:pt x="129" y="178"/>
                      <a:pt x="160" y="205"/>
                    </a:cubicBezTo>
                    <a:cubicBezTo>
                      <a:pt x="191" y="232"/>
                      <a:pt x="239" y="262"/>
                      <a:pt x="260" y="301"/>
                    </a:cubicBezTo>
                    <a:cubicBezTo>
                      <a:pt x="281" y="340"/>
                      <a:pt x="269" y="413"/>
                      <a:pt x="284" y="437"/>
                    </a:cubicBezTo>
                    <a:cubicBezTo>
                      <a:pt x="299" y="461"/>
                      <a:pt x="343" y="457"/>
                      <a:pt x="348" y="445"/>
                    </a:cubicBezTo>
                    <a:cubicBezTo>
                      <a:pt x="353" y="433"/>
                      <a:pt x="331" y="398"/>
                      <a:pt x="316" y="365"/>
                    </a:cubicBezTo>
                    <a:cubicBezTo>
                      <a:pt x="301" y="332"/>
                      <a:pt x="270" y="288"/>
                      <a:pt x="260" y="245"/>
                    </a:cubicBezTo>
                    <a:cubicBezTo>
                      <a:pt x="250" y="202"/>
                      <a:pt x="265" y="148"/>
                      <a:pt x="256" y="109"/>
                    </a:cubicBezTo>
                    <a:cubicBezTo>
                      <a:pt x="247" y="70"/>
                      <a:pt x="217" y="26"/>
                      <a:pt x="208" y="13"/>
                    </a:cubicBezTo>
                    <a:cubicBezTo>
                      <a:pt x="199" y="0"/>
                      <a:pt x="197" y="22"/>
                      <a:pt x="204" y="29"/>
                    </a:cubicBezTo>
                    <a:cubicBezTo>
                      <a:pt x="211" y="36"/>
                      <a:pt x="242" y="48"/>
                      <a:pt x="252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 rot="21591600">
                <a:off x="-1469520" y="5001840"/>
                <a:ext cx="206640" cy="101160"/>
              </a:xfrm>
              <a:custGeom>
                <a:avLst/>
                <a:gdLst/>
                <a:ahLst/>
                <a:rect l="l" t="t" r="r" b="b"/>
                <a:pathLst>
                  <a:path w="364" h="184">
                    <a:moveTo>
                      <a:pt x="0" y="144"/>
                    </a:moveTo>
                    <a:cubicBezTo>
                      <a:pt x="5" y="132"/>
                      <a:pt x="4" y="136"/>
                      <a:pt x="28" y="120"/>
                    </a:cubicBezTo>
                    <a:cubicBezTo>
                      <a:pt x="52" y="104"/>
                      <a:pt x="101" y="68"/>
                      <a:pt x="144" y="48"/>
                    </a:cubicBezTo>
                    <a:cubicBezTo>
                      <a:pt x="187" y="28"/>
                      <a:pt x="254" y="0"/>
                      <a:pt x="288" y="0"/>
                    </a:cubicBezTo>
                    <a:cubicBezTo>
                      <a:pt x="322" y="0"/>
                      <a:pt x="364" y="32"/>
                      <a:pt x="348" y="48"/>
                    </a:cubicBezTo>
                    <a:cubicBezTo>
                      <a:pt x="332" y="64"/>
                      <a:pt x="244" y="75"/>
                      <a:pt x="192" y="96"/>
                    </a:cubicBezTo>
                    <a:cubicBezTo>
                      <a:pt x="140" y="117"/>
                      <a:pt x="68" y="168"/>
                      <a:pt x="36" y="176"/>
                    </a:cubicBezTo>
                    <a:cubicBezTo>
                      <a:pt x="4" y="184"/>
                      <a:pt x="8" y="151"/>
                      <a:pt x="0" y="1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9" name="" descr=""/>
          <p:cNvPicPr/>
          <p:nvPr/>
        </p:nvPicPr>
        <p:blipFill>
          <a:blip r:embed="rId4"/>
          <a:stretch/>
        </p:blipFill>
        <p:spPr>
          <a:xfrm>
            <a:off x="-3535200" y="3429000"/>
            <a:ext cx="3535200" cy="218268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2054520" y="1413000"/>
            <a:ext cx="651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 проехал 80 км за 5 ч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Сколько  времени  потратит на 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мотоциклист, если его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на 24 км/ч больше, чем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4319640" y="1557360"/>
            <a:ext cx="504720" cy="9144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238320 h 9144000"/>
              <a:gd name="textAreaBottom" fmla="*/ 890568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346200" y="62784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80 км  за 5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" action="ppaction://hlinkshowjump?jump=nextslide"/>
          </p:cNvPr>
          <p:cNvSpPr/>
          <p:nvPr/>
        </p:nvSpPr>
        <p:spPr>
          <a:xfrm>
            <a:off x="6804000" y="6308640"/>
            <a:ext cx="2016000" cy="393840"/>
          </a:xfrm>
          <a:custGeom>
            <a:avLst/>
            <a:gdLst>
              <a:gd name="textAreaLeft" fmla="*/ 25200 w 2016000"/>
              <a:gd name="textAreaRight" fmla="*/ 1990800 w 2016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10485" h="21600">
                <a:moveTo>
                  <a:pt x="0" y="0"/>
                </a:moveTo>
                <a:lnTo>
                  <a:pt x="110485" y="0"/>
                </a:lnTo>
                <a:lnTo>
                  <a:pt x="110485" y="21600"/>
                </a:lnTo>
                <a:lnTo>
                  <a:pt x="0" y="21600"/>
                </a:lnTo>
                <a:close/>
              </a:path>
              <a:path fill="lightenLess" w="110485" h="21600">
                <a:moveTo>
                  <a:pt x="0" y="0"/>
                </a:moveTo>
                <a:lnTo>
                  <a:pt x="110485" y="0"/>
                </a:lnTo>
                <a:lnTo>
                  <a:pt x="109086" y="1400"/>
                </a:lnTo>
                <a:lnTo>
                  <a:pt x="1400" y="1400"/>
                </a:lnTo>
                <a:close/>
              </a:path>
              <a:path fill="darken" w="110485" h="21600">
                <a:moveTo>
                  <a:pt x="110485" y="0"/>
                </a:moveTo>
                <a:lnTo>
                  <a:pt x="110485" y="21600"/>
                </a:lnTo>
                <a:lnTo>
                  <a:pt x="109086" y="20200"/>
                </a:lnTo>
                <a:lnTo>
                  <a:pt x="109086" y="1400"/>
                </a:lnTo>
                <a:close/>
              </a:path>
              <a:path fill="darkenLess" w="110485" h="21600">
                <a:moveTo>
                  <a:pt x="110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086" y="20200"/>
                </a:lnTo>
                <a:close/>
              </a:path>
              <a:path fill="lighten" w="110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ение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3" dur="indefinite" restart="never" nodeType="tmRoot">
          <p:childTnLst>
            <p:seq>
              <p:cTn id="3014" dur="indefinite" nodeType="mainSeq">
                <p:childTnLst>
                  <p:par>
                    <p:cTn id="3015" fill="hold">
                      <p:stCondLst>
                        <p:cond delay="0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3" dur="8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4" dur="8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5" dur="80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2960"/>
                            </p:stCondLst>
                            <p:childTnLst>
                              <p:par>
                                <p:cTn id="30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44444E-006 L 0.38941 0.00903 E">
                                      <p:cBhvr>
                                        <p:cTn id="3028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9" fill="hold">
                            <p:stCondLst>
                              <p:cond delay="4960"/>
                            </p:stCondLst>
                            <p:childTnLst>
                              <p:par>
                                <p:cTn id="30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941 0.00903 L 0.78316 0.00903 E">
                                      <p:cBhvr>
                                        <p:cTn id="3031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6960"/>
                            </p:stCondLst>
                            <p:childTnLst>
                              <p:par>
                                <p:cTn id="30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316 0.00903 L 1.41771 0.00903 E">
                                      <p:cBhvr>
                                        <p:cTn id="3034" dur="2000" fill="hold"/>
                                        <p:tgtEl>
                                          <p:spTgt spid="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5" fill="hold">
                            <p:stCondLst>
                              <p:cond delay="8960"/>
                            </p:stCondLst>
                            <p:childTnLst>
                              <p:par>
                                <p:cTn id="3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8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10960"/>
                            </p:stCondLst>
                            <p:childTnLst>
                              <p:par>
                                <p:cTn id="30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11960"/>
                            </p:stCondLst>
                            <p:childTnLst>
                              <p:par>
                                <p:cTn id="30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8" dur="8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9" dur="8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0" dur="80"/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13200"/>
                            </p:stCondLst>
                            <p:childTnLst>
                              <p:par>
                                <p:cTn id="30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4" dur="8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5" dur="8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6" dur="80"/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4320"/>
                            </p:stCondLst>
                            <p:childTnLst>
                              <p:par>
                                <p:cTn id="30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1" dur="8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2" dur="80"/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15400"/>
                            </p:stCondLst>
                            <p:childTnLst>
                              <p:par>
                                <p:cTn id="3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6" dur="8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7" dur="8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8" dur="80"/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15800"/>
                            </p:stCondLst>
                            <p:childTnLst>
                              <p:par>
                                <p:cTn id="307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3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5" fill="hold">
                            <p:stCondLst>
                              <p:cond delay="16800"/>
                            </p:stCondLst>
                            <p:childTnLst>
                              <p:par>
                                <p:cTn id="30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9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17800"/>
                            </p:stCondLst>
                            <p:childTnLst>
                              <p:par>
                                <p:cTn id="30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1.34115 -0.00671 E">
                                      <p:cBhvr>
                                        <p:cTn id="3083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7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054520" y="1413000"/>
            <a:ext cx="651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 проехал 80 км за 5 ч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Сколько  времени  потратит на  дор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мотоциклист, если его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на 24 км/ч больше, чем 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вса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123080" y="32544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4160" y="378936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)  80 : 5 = 16 (км/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927240" y="378936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скорость вса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14160" y="436572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  16 + 24 = 40 (км/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069800" y="4365720"/>
            <a:ext cx="43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скорость мотоцикл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4520" y="501336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)  80 : 40 = 2 (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73760" y="5661000"/>
            <a:ext cx="58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т: на весь путь мотоцик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тратит 2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1" dur="indefinite" restart="never" nodeType="tmRoot">
          <p:childTnLst>
            <p:seq>
              <p:cTn id="3092" dur="indefinite" nodeType="mainSeq">
                <p:childTnLst>
                  <p:par>
                    <p:cTn id="3093" fill="hold">
                      <p:stCondLst>
                        <p:cond delay="0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2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9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0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2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1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"/>
          <p:cNvGrpSpPr/>
          <p:nvPr/>
        </p:nvGrpSpPr>
        <p:grpSpPr>
          <a:xfrm>
            <a:off x="6062760" y="2924280"/>
            <a:ext cx="1212480" cy="946800"/>
            <a:chOff x="6062760" y="2924280"/>
            <a:chExt cx="1212480" cy="946800"/>
          </a:xfrm>
        </p:grpSpPr>
        <p:sp>
          <p:nvSpPr>
            <p:cNvPr id="1016" name=""/>
            <p:cNvSpPr/>
            <p:nvPr/>
          </p:nvSpPr>
          <p:spPr>
            <a:xfrm>
              <a:off x="6194520" y="2924280"/>
              <a:ext cx="1080720" cy="9396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62760" y="3289680"/>
              <a:ext cx="90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6 к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39640" y="2781360"/>
            <a:ext cx="3657240" cy="2031480"/>
            <a:chOff x="539640" y="2781360"/>
            <a:chExt cx="3657240" cy="2031480"/>
          </a:xfrm>
        </p:grpSpPr>
        <p:sp>
          <p:nvSpPr>
            <p:cNvPr id="1019" name=""/>
            <p:cNvSpPr/>
            <p:nvPr/>
          </p:nvSpPr>
          <p:spPr>
            <a:xfrm>
              <a:off x="539640" y="304884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919800" y="4277880"/>
              <a:ext cx="526680" cy="534960"/>
              <a:chOff x="919800" y="4277880"/>
              <a:chExt cx="526680" cy="534960"/>
            </a:xfrm>
          </p:grpSpPr>
          <p:sp>
            <p:nvSpPr>
              <p:cNvPr id="1021" name=""/>
              <p:cNvSpPr/>
              <p:nvPr/>
            </p:nvSpPr>
            <p:spPr>
              <a:xfrm>
                <a:off x="919800" y="42778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919800" y="42973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3173040" y="4258080"/>
              <a:ext cx="526680" cy="534960"/>
              <a:chOff x="3173040" y="4258080"/>
              <a:chExt cx="526680" cy="534960"/>
            </a:xfrm>
          </p:grpSpPr>
          <p:sp>
            <p:nvSpPr>
              <p:cNvPr id="1024" name=""/>
              <p:cNvSpPr/>
              <p:nvPr/>
            </p:nvSpPr>
            <p:spPr>
              <a:xfrm>
                <a:off x="3173040" y="42580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73040" y="42775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558720" y="3068640"/>
              <a:ext cx="3472200" cy="1298520"/>
            </a:xfrm>
            <a:custGeom>
              <a:avLst/>
              <a:gdLst/>
              <a:ahLst/>
              <a:rect l="l" t="t" r="r" b="b"/>
              <a:pathLst>
                <a:path w="2848" h="1048">
                  <a:moveTo>
                    <a:pt x="136" y="32"/>
                  </a:moveTo>
                  <a:lnTo>
                    <a:pt x="2720" y="0"/>
                  </a:lnTo>
                  <a:lnTo>
                    <a:pt x="2781" y="139"/>
                  </a:lnTo>
                  <a:lnTo>
                    <a:pt x="2832" y="312"/>
                  </a:lnTo>
                  <a:lnTo>
                    <a:pt x="2847" y="499"/>
                  </a:lnTo>
                  <a:lnTo>
                    <a:pt x="2848" y="632"/>
                  </a:lnTo>
                  <a:lnTo>
                    <a:pt x="2816" y="824"/>
                  </a:lnTo>
                  <a:lnTo>
                    <a:pt x="2768" y="936"/>
                  </a:lnTo>
                  <a:lnTo>
                    <a:pt x="2800" y="1008"/>
                  </a:lnTo>
                  <a:lnTo>
                    <a:pt x="176" y="1048"/>
                  </a:lnTo>
                  <a:lnTo>
                    <a:pt x="80" y="920"/>
                  </a:lnTo>
                  <a:lnTo>
                    <a:pt x="16" y="760"/>
                  </a:lnTo>
                  <a:lnTo>
                    <a:pt x="0" y="624"/>
                  </a:lnTo>
                  <a:lnTo>
                    <a:pt x="0" y="504"/>
                  </a:lnTo>
                  <a:lnTo>
                    <a:pt x="8" y="320"/>
                  </a:lnTo>
                  <a:lnTo>
                    <a:pt x="40" y="176"/>
                  </a:lnTo>
                  <a:lnTo>
                    <a:pt x="104" y="32"/>
                  </a:lnTo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3117960" y="2781360"/>
              <a:ext cx="559440" cy="336960"/>
              <a:chOff x="3117960" y="2781360"/>
              <a:chExt cx="559440" cy="336960"/>
            </a:xfrm>
          </p:grpSpPr>
          <p:sp>
            <p:nvSpPr>
              <p:cNvPr id="1028" name=""/>
              <p:cNvSpPr/>
              <p:nvPr/>
            </p:nvSpPr>
            <p:spPr>
              <a:xfrm>
                <a:off x="3117960" y="2949840"/>
                <a:ext cx="537120" cy="1684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139920" y="28652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17960" y="27813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997920" y="3212280"/>
              <a:ext cx="2372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к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150 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26440" y="299916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1137960" y="2801160"/>
              <a:ext cx="559440" cy="336240"/>
              <a:chOff x="1137960" y="2801160"/>
              <a:chExt cx="559440" cy="336240"/>
            </a:xfrm>
          </p:grpSpPr>
          <p:sp>
            <p:nvSpPr>
              <p:cNvPr id="1034" name=""/>
              <p:cNvSpPr/>
              <p:nvPr/>
            </p:nvSpPr>
            <p:spPr>
              <a:xfrm>
                <a:off x="1137960" y="2969280"/>
                <a:ext cx="537120" cy="1681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159920" y="28850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137960" y="28011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946160" y="1197000"/>
            <a:ext cx="71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Из 150 кг молока получается 6 к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ливочного масла. Сколько кг мол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требуется, чтобы получить 32 кг ма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16360" y="3645000"/>
            <a:ext cx="976320" cy="26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611280" y="4826160"/>
            <a:ext cx="3657240" cy="2031480"/>
            <a:chOff x="611280" y="4826160"/>
            <a:chExt cx="3657240" cy="2031480"/>
          </a:xfrm>
        </p:grpSpPr>
        <p:sp>
          <p:nvSpPr>
            <p:cNvPr id="1042" name=""/>
            <p:cNvSpPr/>
            <p:nvPr/>
          </p:nvSpPr>
          <p:spPr>
            <a:xfrm>
              <a:off x="611280" y="509364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991440" y="6322680"/>
              <a:ext cx="526680" cy="534960"/>
              <a:chOff x="991440" y="6322680"/>
              <a:chExt cx="526680" cy="534960"/>
            </a:xfrm>
          </p:grpSpPr>
          <p:sp>
            <p:nvSpPr>
              <p:cNvPr id="1044" name=""/>
              <p:cNvSpPr/>
              <p:nvPr/>
            </p:nvSpPr>
            <p:spPr>
              <a:xfrm>
                <a:off x="991440" y="63226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91440" y="63421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6832" dir="1999635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244680" y="6302880"/>
              <a:ext cx="526680" cy="534960"/>
              <a:chOff x="3244680" y="6302880"/>
              <a:chExt cx="526680" cy="534960"/>
            </a:xfrm>
          </p:grpSpPr>
          <p:sp>
            <p:nvSpPr>
              <p:cNvPr id="1047" name=""/>
              <p:cNvSpPr/>
              <p:nvPr/>
            </p:nvSpPr>
            <p:spPr>
              <a:xfrm>
                <a:off x="3244680" y="6302880"/>
                <a:ext cx="526680" cy="5349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244680" y="6322320"/>
                <a:ext cx="526680" cy="515160"/>
              </a:xfrm>
              <a:custGeom>
                <a:avLst/>
                <a:gdLst>
                  <a:gd name="textAreaLeft" fmla="*/ 242280 w 526680"/>
                  <a:gd name="textAreaRight" fmla="*/ 284400 w 526680"/>
                  <a:gd name="textAreaTop" fmla="*/ 237240 h 515160"/>
                  <a:gd name="textAreaBottom" fmla="*/ 277920 h 5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07" y="11032"/>
                    </a:lnTo>
                    <a:lnTo>
                      <a:pt x="786" y="14846"/>
                    </a:lnTo>
                    <a:lnTo>
                      <a:pt x="9781" y="11462"/>
                    </a:lnTo>
                    <a:lnTo>
                      <a:pt x="3163" y="18437"/>
                    </a:lnTo>
                    <a:lnTo>
                      <a:pt x="10121" y="11807"/>
                    </a:lnTo>
                    <a:lnTo>
                      <a:pt x="6580" y="20741"/>
                    </a:lnTo>
                    <a:lnTo>
                      <a:pt x="10547" y="11988"/>
                    </a:lnTo>
                    <a:lnTo>
                      <a:pt x="10800" y="21600"/>
                    </a:lnTo>
                    <a:lnTo>
                      <a:pt x="11032" y="11993"/>
                    </a:lnTo>
                    <a:lnTo>
                      <a:pt x="14846" y="20814"/>
                    </a:lnTo>
                    <a:lnTo>
                      <a:pt x="11462" y="11819"/>
                    </a:lnTo>
                    <a:lnTo>
                      <a:pt x="18437" y="18437"/>
                    </a:lnTo>
                    <a:lnTo>
                      <a:pt x="11807" y="11479"/>
                    </a:lnTo>
                    <a:lnTo>
                      <a:pt x="20741" y="15020"/>
                    </a:lnTo>
                    <a:lnTo>
                      <a:pt x="11988" y="11053"/>
                    </a:lnTo>
                    <a:lnTo>
                      <a:pt x="21600" y="10800"/>
                    </a:lnTo>
                    <a:lnTo>
                      <a:pt x="11993" y="10568"/>
                    </a:lnTo>
                    <a:lnTo>
                      <a:pt x="20814" y="6754"/>
                    </a:lnTo>
                    <a:lnTo>
                      <a:pt x="11819" y="10138"/>
                    </a:lnTo>
                    <a:lnTo>
                      <a:pt x="18437" y="3163"/>
                    </a:lnTo>
                    <a:lnTo>
                      <a:pt x="11479" y="9793"/>
                    </a:lnTo>
                    <a:lnTo>
                      <a:pt x="15020" y="859"/>
                    </a:lnTo>
                    <a:lnTo>
                      <a:pt x="11053" y="9612"/>
                    </a:lnTo>
                    <a:lnTo>
                      <a:pt x="10800" y="0"/>
                    </a:lnTo>
                    <a:lnTo>
                      <a:pt x="10568" y="9607"/>
                    </a:lnTo>
                    <a:lnTo>
                      <a:pt x="6754" y="786"/>
                    </a:lnTo>
                    <a:lnTo>
                      <a:pt x="10138" y="9781"/>
                    </a:lnTo>
                    <a:lnTo>
                      <a:pt x="3163" y="3163"/>
                    </a:lnTo>
                    <a:lnTo>
                      <a:pt x="9793" y="10121"/>
                    </a:lnTo>
                    <a:lnTo>
                      <a:pt x="859" y="6580"/>
                    </a:lnTo>
                    <a:lnTo>
                      <a:pt x="9612" y="1054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63504" dir="19383909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30360" y="5113440"/>
              <a:ext cx="3472200" cy="1298520"/>
            </a:xfrm>
            <a:custGeom>
              <a:avLst/>
              <a:gdLst/>
              <a:ahLst/>
              <a:rect l="l" t="t" r="r" b="b"/>
              <a:pathLst>
                <a:path w="2848" h="1048">
                  <a:moveTo>
                    <a:pt x="136" y="32"/>
                  </a:moveTo>
                  <a:lnTo>
                    <a:pt x="2720" y="0"/>
                  </a:lnTo>
                  <a:lnTo>
                    <a:pt x="2781" y="139"/>
                  </a:lnTo>
                  <a:lnTo>
                    <a:pt x="2832" y="312"/>
                  </a:lnTo>
                  <a:lnTo>
                    <a:pt x="2847" y="499"/>
                  </a:lnTo>
                  <a:lnTo>
                    <a:pt x="2848" y="632"/>
                  </a:lnTo>
                  <a:lnTo>
                    <a:pt x="2816" y="824"/>
                  </a:lnTo>
                  <a:lnTo>
                    <a:pt x="2768" y="936"/>
                  </a:lnTo>
                  <a:lnTo>
                    <a:pt x="2800" y="1008"/>
                  </a:lnTo>
                  <a:lnTo>
                    <a:pt x="176" y="1048"/>
                  </a:lnTo>
                  <a:lnTo>
                    <a:pt x="80" y="920"/>
                  </a:lnTo>
                  <a:lnTo>
                    <a:pt x="16" y="760"/>
                  </a:lnTo>
                  <a:lnTo>
                    <a:pt x="0" y="624"/>
                  </a:lnTo>
                  <a:lnTo>
                    <a:pt x="0" y="504"/>
                  </a:lnTo>
                  <a:lnTo>
                    <a:pt x="8" y="320"/>
                  </a:lnTo>
                  <a:lnTo>
                    <a:pt x="40" y="176"/>
                  </a:lnTo>
                  <a:lnTo>
                    <a:pt x="104" y="32"/>
                  </a:lnTo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3189600" y="4826160"/>
              <a:ext cx="559440" cy="336960"/>
              <a:chOff x="3189600" y="4826160"/>
              <a:chExt cx="559440" cy="336960"/>
            </a:xfrm>
          </p:grpSpPr>
          <p:sp>
            <p:nvSpPr>
              <p:cNvPr id="1051" name=""/>
              <p:cNvSpPr/>
              <p:nvPr/>
            </p:nvSpPr>
            <p:spPr>
              <a:xfrm>
                <a:off x="3189600" y="4994640"/>
                <a:ext cx="537120" cy="1684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11560" y="49100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189600" y="48261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1069560" y="5257080"/>
              <a:ext cx="2372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к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? 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98080" y="5043960"/>
              <a:ext cx="370440" cy="132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209600" y="4845960"/>
              <a:ext cx="559440" cy="336240"/>
              <a:chOff x="1209600" y="4845960"/>
              <a:chExt cx="559440" cy="336240"/>
            </a:xfrm>
          </p:grpSpPr>
          <p:sp>
            <p:nvSpPr>
              <p:cNvPr id="1057" name=""/>
              <p:cNvSpPr/>
              <p:nvPr/>
            </p:nvSpPr>
            <p:spPr>
              <a:xfrm>
                <a:off x="1209600" y="5014080"/>
                <a:ext cx="537120" cy="1681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231560" y="4929840"/>
                <a:ext cx="492480" cy="135360"/>
              </a:xfrm>
              <a:custGeom>
                <a:avLst/>
                <a:gdLst/>
                <a:ahLst/>
                <a:rect l="l" t="t" r="r" b="b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209600" y="4845960"/>
                <a:ext cx="559440" cy="15120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5989680" y="4653000"/>
            <a:ext cx="1611000" cy="1442520"/>
            <a:chOff x="5989680" y="4653000"/>
            <a:chExt cx="1611000" cy="1442520"/>
          </a:xfrm>
        </p:grpSpPr>
        <p:sp>
          <p:nvSpPr>
            <p:cNvPr id="1061" name=""/>
            <p:cNvSpPr/>
            <p:nvPr/>
          </p:nvSpPr>
          <p:spPr>
            <a:xfrm>
              <a:off x="6096960" y="4653000"/>
              <a:ext cx="1503720" cy="1442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989680" y="5213880"/>
              <a:ext cx="11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2 к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643280" y="5877000"/>
            <a:ext cx="976320" cy="26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nextslide"/>
          </p:cNvPr>
          <p:cNvSpPr/>
          <p:nvPr/>
        </p:nvSpPr>
        <p:spPr>
          <a:xfrm>
            <a:off x="6877080" y="6308640"/>
            <a:ext cx="2016000" cy="393840"/>
          </a:xfrm>
          <a:custGeom>
            <a:avLst/>
            <a:gdLst>
              <a:gd name="textAreaLeft" fmla="*/ 25200 w 2016000"/>
              <a:gd name="textAreaRight" fmla="*/ 1990800 w 20160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110485" h="21600">
                <a:moveTo>
                  <a:pt x="0" y="0"/>
                </a:moveTo>
                <a:lnTo>
                  <a:pt x="110485" y="0"/>
                </a:lnTo>
                <a:lnTo>
                  <a:pt x="110485" y="21600"/>
                </a:lnTo>
                <a:lnTo>
                  <a:pt x="0" y="21600"/>
                </a:lnTo>
                <a:close/>
              </a:path>
              <a:path fill="lightenLess" w="110485" h="21600">
                <a:moveTo>
                  <a:pt x="0" y="0"/>
                </a:moveTo>
                <a:lnTo>
                  <a:pt x="110485" y="0"/>
                </a:lnTo>
                <a:lnTo>
                  <a:pt x="109086" y="1400"/>
                </a:lnTo>
                <a:lnTo>
                  <a:pt x="1400" y="1400"/>
                </a:lnTo>
                <a:close/>
              </a:path>
              <a:path fill="darken" w="110485" h="21600">
                <a:moveTo>
                  <a:pt x="110485" y="0"/>
                </a:moveTo>
                <a:lnTo>
                  <a:pt x="110485" y="21600"/>
                </a:lnTo>
                <a:lnTo>
                  <a:pt x="109086" y="20200"/>
                </a:lnTo>
                <a:lnTo>
                  <a:pt x="109086" y="1400"/>
                </a:lnTo>
                <a:close/>
              </a:path>
              <a:path fill="darkenLess" w="110485" h="21600">
                <a:moveTo>
                  <a:pt x="110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086" y="20200"/>
                </a:lnTo>
                <a:close/>
              </a:path>
              <a:path fill="lighten" w="110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Решение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4" dur="indefinite" restart="never" nodeType="tmRoot">
          <p:childTnLst>
            <p:seq>
              <p:cTn id="3145" dur="indefinite" nodeType="mainSeq">
                <p:childTnLst>
                  <p:par>
                    <p:cTn id="3146" fill="hold">
                      <p:stCondLst>
                        <p:cond delay="0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4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5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6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3080"/>
                            </p:stCondLst>
                            <p:childTnLst>
                              <p:par>
                                <p:cTn id="3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0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1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4360"/>
                            </p:stCondLst>
                            <p:childTnLst>
                              <p:par>
                                <p:cTn id="3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6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7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8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5800"/>
                            </p:stCondLst>
                            <p:childTnLst>
                              <p:par>
                                <p:cTn id="3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6800"/>
                            </p:stCondLst>
                            <p:childTnLst>
                              <p:par>
                                <p:cTn id="3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9" fill="hold">
                            <p:stCondLst>
                              <p:cond delay="7800"/>
                            </p:stCondLst>
                            <p:childTnLst>
                              <p:par>
                                <p:cTn id="3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8800"/>
                            </p:stCondLst>
                            <p:childTnLst>
                              <p:par>
                                <p:cTn id="3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fill="hold">
                            <p:stCondLst>
                              <p:cond delay="9800"/>
                            </p:stCondLst>
                            <p:childTnLst>
                              <p:par>
                                <p:cTn id="3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fill="hold">
                            <p:stCondLst>
                              <p:cond delay="10800"/>
                            </p:stCondLst>
                            <p:childTnLst>
                              <p:par>
                                <p:cTn id="3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3708360" y="0"/>
            <a:ext cx="5435640" cy="836640"/>
          </a:xfrm>
          <a:prstGeom prst="cloudCallout">
            <a:avLst>
              <a:gd name="adj1" fmla="val -82097"/>
              <a:gd name="adj2" fmla="val 142601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ешить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946160" y="1197000"/>
            <a:ext cx="71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Из 150 кг молока получается 6 к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ливочного масла. Сколько кг мол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отребуется, чтобы получить 32 кг ма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143600" y="278136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14520" y="378936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)  150 : 6 = 25 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636360" y="3789360"/>
            <a:ext cx="385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молока для 1 кг ма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614520" y="4292640"/>
            <a:ext cx="3272760" cy="593640"/>
            <a:chOff x="614520" y="4292640"/>
            <a:chExt cx="3272760" cy="593640"/>
          </a:xfrm>
        </p:grpSpPr>
        <p:sp>
          <p:nvSpPr>
            <p:cNvPr id="1072" name=""/>
            <p:cNvSpPr/>
            <p:nvPr/>
          </p:nvSpPr>
          <p:spPr>
            <a:xfrm>
              <a:off x="614520" y="4365720"/>
              <a:ext cx="327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2)  25    32 = 800 (кг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621080" y="429264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259200" y="515772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т: 800 кг  молока  потребу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тобы  получить  32 кг  ма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2"/>
          <a:stretch/>
        </p:blipFill>
        <p:spPr>
          <a:xfrm>
            <a:off x="6826320" y="333072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7" dur="indefinite" restart="never" nodeType="tmRoot">
          <p:childTnLst>
            <p:seq>
              <p:cTn id="3198" dur="indefinite" nodeType="mainSeq">
                <p:childTnLst>
                  <p:par>
                    <p:cTn id="3199" fill="hold">
                      <p:stCondLst>
                        <p:cond delay="0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2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8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9" dur="8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0" dur="8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1" dur="80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6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539640" y="2637000"/>
            <a:ext cx="7848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картинок на 42 и 44 слайдах (дорога, мотоциклист и цистерны) Савченко Е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t-n.ru/profil.aspx?cat_no=692&amp;d_no=96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имированные картинки: 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livegif.ru</a:t>
            </a: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03640" y="260280"/>
            <a:ext cx="5543640" cy="1224000"/>
          </a:xfrm>
          <a:prstGeom prst="cloudCallout">
            <a:avLst>
              <a:gd name="adj1" fmla="val -72509"/>
              <a:gd name="adj2" fmla="val 60245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аполни 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40720" y="0"/>
            <a:ext cx="1403280" cy="1197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229360"/>
            <a:ext cx="1008000" cy="10080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508640"/>
            <a:ext cx="1079640" cy="107928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2205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2852640"/>
            <a:ext cx="107928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1989000"/>
            <a:ext cx="1079640" cy="107964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4149720"/>
            <a:ext cx="1081080" cy="1081080"/>
          </a:xfrm>
          <a:prstGeom prst="rect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8134400">
            <a:off x="351360" y="4075560"/>
            <a:ext cx="2374920" cy="287280"/>
          </a:xfrm>
          <a:custGeom>
            <a:avLst/>
            <a:gdLst>
              <a:gd name="textAreaLeft" fmla="*/ 296640 w 2374920"/>
              <a:gd name="textAreaRight" fmla="*/ 2078280 w 2374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2720" y="364500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4819200">
            <a:off x="2297160" y="3687120"/>
            <a:ext cx="1366920" cy="276120"/>
          </a:xfrm>
          <a:custGeom>
            <a:avLst/>
            <a:gdLst>
              <a:gd name="textAreaLeft" fmla="*/ 170640 w 1366920"/>
              <a:gd name="textAreaRight" fmla="*/ 1196280 w 136692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1800" y="35733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8134400">
            <a:off x="3060360" y="3860280"/>
            <a:ext cx="1582920" cy="287280"/>
          </a:xfrm>
          <a:custGeom>
            <a:avLst/>
            <a:gdLst>
              <a:gd name="textAreaLeft" fmla="*/ 197640 w 1582920"/>
              <a:gd name="textAreaRight" fmla="*/ 1385280 w 158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10160" y="40053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407200">
            <a:off x="5005080" y="2719440"/>
            <a:ext cx="1655640" cy="287280"/>
          </a:xfrm>
          <a:custGeom>
            <a:avLst/>
            <a:gdLst>
              <a:gd name="textAreaLeft" fmla="*/ 207000 w 1655640"/>
              <a:gd name="textAreaRight" fmla="*/ 1449000 w 1655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5800" y="2276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6702600">
            <a:off x="5897880" y="3469320"/>
            <a:ext cx="1366560" cy="276120"/>
          </a:xfrm>
          <a:custGeom>
            <a:avLst/>
            <a:gdLst>
              <a:gd name="textAreaLeft" fmla="*/ 170640 w 1366560"/>
              <a:gd name="textAreaRight" fmla="*/ 1195920 w 136656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61080" y="3213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*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00360" y="0"/>
            <a:ext cx="6443640" cy="1916280"/>
          </a:xfrm>
          <a:prstGeom prst="cloudCallout">
            <a:avLst>
              <a:gd name="adj1" fmla="val -62513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Укажите в предложенных  рядах чисел натуральный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364500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 3,  5,  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450864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,  1,  2,  3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37372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 2,  3,  4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2781360"/>
            <a:ext cx="2737080" cy="792000"/>
          </a:xfrm>
          <a:prstGeom prst="wedgeRoundRectCallout">
            <a:avLst>
              <a:gd name="adj1" fmla="val 60847"/>
              <a:gd name="adj2" fmla="val 11452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2708280"/>
            <a:ext cx="2736720" cy="792000"/>
          </a:xfrm>
          <a:prstGeom prst="wedgeRoundRectCallout">
            <a:avLst>
              <a:gd name="adj1" fmla="val 67458"/>
              <a:gd name="adj2" fmla="val 11813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08360" y="0"/>
            <a:ext cx="5435640" cy="1700280"/>
          </a:xfrm>
          <a:prstGeom prst="cloudCallout">
            <a:avLst>
              <a:gd name="adj1" fmla="val -82097"/>
              <a:gd name="adj2" fmla="val 44773"/>
            </a:avLst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Укажите числа, расположенные в порядке уб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645000"/>
            <a:ext cx="511344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5;  99;  74;  50; 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4508640"/>
            <a:ext cx="511344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;  28;  61;  88;  1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373720"/>
            <a:ext cx="5113440" cy="5745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97;  102;  5;  75;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59280" y="2781360"/>
            <a:ext cx="2737080" cy="792000"/>
          </a:xfrm>
          <a:prstGeom prst="wedgeRoundRectCallout">
            <a:avLst>
              <a:gd name="adj1" fmla="val 60847"/>
              <a:gd name="adj2" fmla="val 11452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Не  вер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708280"/>
            <a:ext cx="2736720" cy="792000"/>
          </a:xfrm>
          <a:prstGeom prst="wedgeRoundRectCallout">
            <a:avLst>
              <a:gd name="adj1" fmla="val 67458"/>
              <a:gd name="adj2" fmla="val 118134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76720" y="0"/>
            <a:ext cx="5616360" cy="1655640"/>
          </a:xfrm>
          <a:prstGeom prst="cloudCallout">
            <a:avLst>
              <a:gd name="adj1" fmla="val -73513"/>
              <a:gd name="adj2" fmla="val 47217"/>
            </a:avLst>
          </a:prstGeom>
          <a:solidFill>
            <a:srgbClr val="fddb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реди  данных  чисел  укажите  четырехзнач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005360"/>
            <a:ext cx="2374920" cy="1274760"/>
          </a:xfrm>
          <a:prstGeom prst="irregularSeal1">
            <a:avLst/>
          </a:prstGeom>
          <a:solidFill>
            <a:srgbClr val="ffcc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773360"/>
            <a:ext cx="2374920" cy="1274760"/>
          </a:xfrm>
          <a:prstGeom prst="irregularSeal1">
            <a:avLst/>
          </a:prstGeom>
          <a:solidFill>
            <a:srgbClr val="ccffcc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3429000"/>
            <a:ext cx="2374920" cy="1274760"/>
          </a:xfrm>
          <a:prstGeom prst="irregularSeal1">
            <a:avLst/>
          </a:prstGeom>
          <a:solidFill>
            <a:srgbClr val="00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5 9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5300640"/>
            <a:ext cx="2374920" cy="1274760"/>
          </a:xfrm>
          <a:prstGeom prst="irregularSeal1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 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4724280"/>
            <a:ext cx="2374920" cy="1274760"/>
          </a:xfrm>
          <a:prstGeom prst="irregularSeal1">
            <a:avLst/>
          </a:prstGeom>
          <a:solidFill>
            <a:srgbClr val="ccc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2 3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69080" y="1268280"/>
            <a:ext cx="2374920" cy="1274760"/>
          </a:xfrm>
          <a:prstGeom prst="irregularSeal1">
            <a:avLst/>
          </a:prstGeom>
          <a:solidFill>
            <a:srgbClr val="ffcc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205000"/>
            <a:ext cx="2374920" cy="1274760"/>
          </a:xfrm>
          <a:prstGeom prst="irregularSeal1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79640" y="0"/>
            <a:ext cx="7632720" cy="1916280"/>
          </a:xfrm>
          <a:prstGeom prst="cloudCallout">
            <a:avLst>
              <a:gd name="adj1" fmla="val -51125"/>
              <a:gd name="adj2" fmla="val 40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Укажите число восемнадцать миллионов три тысячи сто семьдесят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64500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3 001 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50864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 003 1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5373720"/>
            <a:ext cx="3311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50 0 1 8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26320" y="2997360"/>
            <a:ext cx="2317680" cy="3527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3500280"/>
            <a:ext cx="755640" cy="792360"/>
          </a:xfrm>
          <a:prstGeom prst="ellipse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365720"/>
            <a:ext cx="755640" cy="792000"/>
          </a:xfrm>
          <a:prstGeom prst="ellipse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5229360"/>
            <a:ext cx="755640" cy="792000"/>
          </a:xfrm>
          <a:prstGeom prst="ellipse">
            <a:avLst/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2781360"/>
            <a:ext cx="2737080" cy="792000"/>
          </a:xfrm>
          <a:prstGeom prst="wedgeRoundRectCallout">
            <a:avLst>
              <a:gd name="adj1" fmla="val 60847"/>
              <a:gd name="adj2" fmla="val 114527"/>
              <a:gd name="adj3" fmla="val 16667"/>
            </a:avLst>
          </a:prstGeom>
          <a:solidFill>
            <a:srgbClr val="fddbe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Подум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2781360"/>
            <a:ext cx="2736720" cy="792000"/>
          </a:xfrm>
          <a:prstGeom prst="wedgeRoundRectCallout">
            <a:avLst>
              <a:gd name="adj1" fmla="val 62180"/>
              <a:gd name="adj2" fmla="val 108916"/>
              <a:gd name="adj3" fmla="val 16667"/>
            </a:avLst>
          </a:prstGeom>
          <a:solidFill>
            <a:srgbClr val="ccffcc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аратанова Марина Николаев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7:26:55Z</dcterms:created>
  <dc:creator>MAMA</dc:creator>
  <dc:description/>
  <dc:language>en-US</dc:language>
  <cp:lastModifiedBy>Мама</cp:lastModifiedBy>
  <dcterms:modified xsi:type="dcterms:W3CDTF">2012-08-07T00:20:35Z</dcterms:modified>
  <cp:revision>12</cp:revision>
  <dc:subject/>
  <dc:title>Слайд 1</dc:title>
</cp:coreProperties>
</file>