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71E-1C8E-4283-90FA-ED7E07FD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A41-1E17-4EE4-ABB2-ED0CA3A7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408-EC39-447A-BEC8-C9EE76BC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631-2927-45FF-A8E5-64DB12E0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65B4-A863-4562-8297-F37B37B4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4A69-CE24-481A-BF3D-0AE315C5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6ED1-A05A-485D-9E87-68C28106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CAF7-9BBE-4B2A-8C1D-7EB98CC6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2B83-E5A6-4872-A567-74D7A51B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F241-A4A7-4E63-9EEE-39BB63E9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C0CE-9CB2-4549-87A8-F7F1E450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ED9-134E-48E5-B956-655A7966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414E-5901-4F7E-B82A-77E04848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F213-38F7-46DE-A167-7C9F5C05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EF7C-78E2-4707-B924-96A9A247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47EB-8989-4335-9974-93C871A7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030D-0B0C-4EFE-A50B-69930063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A54-3D88-4F20-AC22-DDAEA1CF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20C-7226-4BDE-A620-8DA49EF2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960-8411-441F-A7D1-E94291C0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119-876A-48CA-8D04-79465257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95C-FB5B-4D9F-8100-5517282E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923-A0E9-482C-9A08-C2742F8E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507-0CE0-4DC6-8B7B-EEB8F722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9D43-D3B7-4F28-B55E-4B4C14E6D62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F409-84CA-4D91-8C61-DE8FD2808B1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2545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ФРАЗЕОЛОГИЗМЫ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–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ЭТО ИНТЕРЕСНО!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Авторы проекта: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Рыспаева Ольга,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Шкуратов Андре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5300640"/>
            <a:ext cx="7345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Муниципальное казённое образовательное учреждение «Средняя общеобразовательная школа №6»                    городского округа город Фролов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012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ФРАЗЕОЛОГИЧЕСКИЙ ЗВЕРИНЕЦ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ИСТОЧНИКИ  ФРАЗЕОЛОГИЧЕСКИХ ОБОРОТ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40360" y="2565360"/>
            <a:ext cx="1343160" cy="1428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380360" y="436572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451640" y="5516640"/>
            <a:ext cx="1368360" cy="1030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211640" y="2565360"/>
            <a:ext cx="1276200" cy="1428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50920" y="2349360"/>
            <a:ext cx="1768320" cy="237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646360" y="2565360"/>
            <a:ext cx="1130400" cy="1500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5364000" y="5516640"/>
            <a:ext cx="1729080" cy="1023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5580000" y="4365720"/>
            <a:ext cx="1297080" cy="976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7524720" y="2565360"/>
            <a:ext cx="1123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ОС (52 фр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2160360" cy="1612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492360" y="2565360"/>
            <a:ext cx="2664000" cy="1776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116000" y="2565360"/>
            <a:ext cx="2016000" cy="1827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116000" y="4941720"/>
            <a:ext cx="243684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372360" y="285264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ОС ВОРОТИ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515772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УВЕСТИ ИЗ-ПОД НОС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ЗУБ ( 33 фр.)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1949400" cy="223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564000" y="2492280"/>
            <a:ext cx="2160360" cy="324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300720" y="3068640"/>
            <a:ext cx="2219400" cy="2087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132000" y="5877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УБ НА ЗУБ НЕ ПОПАДЁ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5229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ЕРЖИ ЯЗЫК ЗА ЗУБА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ИР СКАЗО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92896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оздать такой творческий продукт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 помощью которого детям в начальной школе было бы легко и интересно изучать фразеологизм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И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знать, каковы источники появления фразеологизмов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меть находить фразеологизмы во время работы с информацией, в жизн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здать сборник «Дружба сказок с фразеологизмами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АЛИЗАЦИЯ ЗАМЫС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32080" y="2362320"/>
            <a:ext cx="2585880" cy="1793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51400" y="2362320"/>
            <a:ext cx="2586240" cy="1793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432080" y="4292640"/>
            <a:ext cx="2585880" cy="1793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351400" y="4292640"/>
            <a:ext cx="25862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 ЗАРОЖДЕНИИ ФРАЗЕОЛОГИЗМ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5651640" y="2997360"/>
            <a:ext cx="504720" cy="1511280"/>
          </a:xfrm>
          <a:custGeom>
            <a:avLst/>
            <a:gdLst>
              <a:gd name="textAreaLeft" fmla="*/ 148320 w 504720"/>
              <a:gd name="textAreaRight" fmla="*/ 505080 w 504720"/>
              <a:gd name="textAreaTop" fmla="*/ 135720 h 1511280"/>
              <a:gd name="textAreaBottom" fmla="*/ 1375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40"/>
                  <a:pt x="0" y="3880"/>
                </a:cubicBezTo>
                <a:lnTo>
                  <a:pt x="0" y="17720"/>
                </a:lnTo>
                <a:cubicBezTo>
                  <a:pt x="0" y="19660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2708280"/>
            <a:ext cx="71280" cy="338472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48555E-006 L -0.09844 2.48555E-006 E">
                                      <p:cBhvr>
                                        <p:cTn id="1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ДОЙ НЕ РАЗОЛЬЁШ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4292640"/>
            <a:ext cx="2736720" cy="22986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042920" y="2492280"/>
            <a:ext cx="2665440" cy="1081080"/>
            <a:chOff x="1042920" y="2492280"/>
            <a:chExt cx="2665440" cy="1081080"/>
          </a:xfrm>
        </p:grpSpPr>
        <p:sp>
          <p:nvSpPr>
            <p:cNvPr id="114" name=""/>
            <p:cNvSpPr/>
            <p:nvPr/>
          </p:nvSpPr>
          <p:spPr>
            <a:xfrm>
              <a:off x="1042920" y="2492280"/>
              <a:ext cx="2665440" cy="10810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1908000" y="2781360"/>
              <a:ext cx="10288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вода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780000" y="3429000"/>
            <a:ext cx="1584000" cy="934920"/>
            <a:chOff x="3780000" y="3429000"/>
            <a:chExt cx="1584000" cy="934920"/>
          </a:xfrm>
        </p:grpSpPr>
        <p:sp>
          <p:nvSpPr>
            <p:cNvPr id="117" name=""/>
            <p:cNvSpPr/>
            <p:nvPr/>
          </p:nvSpPr>
          <p:spPr>
            <a:xfrm>
              <a:off x="3780000" y="3429000"/>
              <a:ext cx="1584000" cy="9349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4284360" y="3715920"/>
              <a:ext cx="6379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НЕ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796000" y="4149720"/>
            <a:ext cx="2521080" cy="1296720"/>
            <a:chOff x="5796000" y="4149720"/>
            <a:chExt cx="2521080" cy="1296720"/>
          </a:xfrm>
        </p:grpSpPr>
        <p:sp>
          <p:nvSpPr>
            <p:cNvPr id="120" name=""/>
            <p:cNvSpPr/>
            <p:nvPr/>
          </p:nvSpPr>
          <p:spPr>
            <a:xfrm>
              <a:off x="5796000" y="4149720"/>
              <a:ext cx="2521080" cy="1296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6012000" y="4510080"/>
              <a:ext cx="20955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РАЗЛИТЬ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084720" y="2276640"/>
            <a:ext cx="230364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СТОЧНИКИ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ФРАЗЕОЛОГИЧЕСКИХ ОБОРОТ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НАБЛЮДЕНИЯ ЧЕЛОВЕ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ИФОЛОГ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ИСТОРИЧЕСКИЕ СОБЫТ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ОСОБЕННОСТИ ЖИВОТНЫ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РГАНИЗМ ЧЕЛОВЕ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МИР СКАЗО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НОГО СНЕГА – МНОГО ХЛЕБ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ИСТОЧНИКИ  ФРАЗЕОЛОГИЧЕСКИХ ОБОРО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3240360" cy="2189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33116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К МАМАЙ ПРОШЁ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ИСТОЧНИКИ  ФРАЗЕОЛОГИЧЕСКИХ ОБОРОТ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1898640" cy="2519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211640" y="2492280"/>
            <a:ext cx="3673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0:51:18Z</dcterms:created>
  <dc:creator>Учитель</dc:creator>
  <dc:description/>
  <dc:language>en-US</dc:language>
  <cp:lastModifiedBy>1</cp:lastModifiedBy>
  <dcterms:modified xsi:type="dcterms:W3CDTF">2012-08-07T02:59:51Z</dcterms:modified>
  <cp:revision>8</cp:revision>
  <dc:subject/>
  <dc:title>ФРАЗЕОЛОГИЗМЫ  –  ЭТО ИНТЕРЕСНО!</dc:title>
</cp:coreProperties>
</file>