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5EF5-191C-4881-B795-7820BDAB8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FD62-01E2-49B6-8088-224CC46E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F614-4066-4237-B573-52B6AC8D0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8113-CD2B-4527-8238-1772B13A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E20B-6D56-4C21-917C-E7349160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68FC-13C6-4F6A-A61B-F1E222F3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E606-1929-48D4-B616-71E25843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9A3F-7FC5-4BCF-9FEA-A8F89104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B8A8-3943-4A2D-ACAE-486EA8AB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0844-FBDE-4044-B0A9-A2933636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E523-D229-473D-9675-57296D3C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5BD7-2695-4F92-BBB4-C0D8A212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EEDC-6D9E-47A5-8C57-AADC201B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ACF5-4CDC-420F-8623-9C82A01B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CB81-5821-46C9-8038-7BACF063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B39E-4CF7-45DB-B424-70589AECE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11F1-3303-4183-8899-B8781636F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1896-4BA1-44C8-9E0F-27A75AF1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16DD-B5C8-42A5-B907-7A139A77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8D6E-19DE-484D-BCD9-33481ED2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65B8-3D06-418C-B7FB-6BD62AAA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FCD7-81EB-4279-94EA-2CE7445A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A271-0C90-4270-8D8E-897881E2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3468-992A-4F21-A82C-25B1B689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5FEB-8E23-44FD-A59E-D6C5799390D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2BB7-301A-4615-A680-AEE14E07780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525456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ФРАЗЕОЛОГИЗМЫ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–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ЭТО ИНТЕРЕСНО!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Авторы проекта: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Рыспаева Ольга,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Шкуратов Андрей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5300640"/>
            <a:ext cx="7345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Муниципальное казённое образовательное учреждение «Средняя общеобразовательная школа №6»                    городского округа город Фролов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2012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ФРАЗЕОЛОГИЧЕСКИЙ ЗВЕРИНЕЦ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</a:rPr>
              <a:t>ИСТОЧНИКИ  ФРАЗЕОЛОГИЧЕСКИХ ОБОРОТ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940360" y="2565360"/>
            <a:ext cx="1343160" cy="1428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380360" y="4365720"/>
            <a:ext cx="1428840" cy="952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451640" y="5516640"/>
            <a:ext cx="1368360" cy="1030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4211640" y="2565360"/>
            <a:ext cx="1276200" cy="1428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250920" y="2349360"/>
            <a:ext cx="1768320" cy="2376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2646360" y="2565360"/>
            <a:ext cx="1130400" cy="1500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5364000" y="5516640"/>
            <a:ext cx="1729080" cy="1023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5580000" y="4365720"/>
            <a:ext cx="1297080" cy="9763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9"/>
          <a:stretch/>
        </p:blipFill>
        <p:spPr>
          <a:xfrm>
            <a:off x="7524720" y="2565360"/>
            <a:ext cx="11239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ОС (52 фр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659640" y="333360"/>
            <a:ext cx="2160360" cy="1612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492360" y="2565360"/>
            <a:ext cx="2664000" cy="1776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116000" y="2565360"/>
            <a:ext cx="2016000" cy="1827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1116000" y="4941720"/>
            <a:ext cx="2436840" cy="1624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372360" y="285264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НОС ВОРОТИ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515772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УВЕСТИ ИЗ-ПОД НОС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ЗУБ ( 33 фр.)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042920" y="2997360"/>
            <a:ext cx="1949400" cy="2232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564000" y="2492280"/>
            <a:ext cx="2160360" cy="3240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300720" y="3068640"/>
            <a:ext cx="2219400" cy="2087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132000" y="587700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ЗУБ НА ЗУБ НЕ ПОПАДЁ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27640" y="522936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ДЕРЖИ ЯЗЫК ЗА ЗУБАМ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МИР СКАЗО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276720" y="2492280"/>
            <a:ext cx="292896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ЦЕЛЬ ПРОЕК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Создать такой творческий продукт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с помощью которого детям в начальной школе было бы легко и интересно изучать фразеологизм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ДАЧИ ПРОЕК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узнать, каковы источники появления фразеологизмов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уметь находить фразеологизмы во время работы с информацией, в жизни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оздать сборник «Дружба сказок с фразеологизмами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ЕАЛИЗАЦИЯ ЗАМЫСЛ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32080" y="2362320"/>
            <a:ext cx="2585880" cy="1793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51400" y="2362320"/>
            <a:ext cx="2586240" cy="1793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432080" y="4292640"/>
            <a:ext cx="2585880" cy="1793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351400" y="4292640"/>
            <a:ext cx="258624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 ЗАРОЖДЕНИИ ФРАЗЕОЛОГИЗМ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5651640" y="2997360"/>
            <a:ext cx="504720" cy="1511280"/>
          </a:xfrm>
          <a:custGeom>
            <a:avLst/>
            <a:gdLst>
              <a:gd name="textAreaLeft" fmla="*/ 148320 w 504720"/>
              <a:gd name="textAreaRight" fmla="*/ 505080 w 504720"/>
              <a:gd name="textAreaTop" fmla="*/ 135720 h 1511280"/>
              <a:gd name="textAreaBottom" fmla="*/ 137556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40"/>
                  <a:pt x="0" y="3880"/>
                </a:cubicBezTo>
                <a:lnTo>
                  <a:pt x="0" y="17720"/>
                </a:lnTo>
                <a:cubicBezTo>
                  <a:pt x="0" y="19660"/>
                  <a:pt x="10800" y="21600"/>
                  <a:pt x="21600" y="21600"/>
                </a:cubicBezTo>
              </a:path>
            </a:pathLst>
          </a:custGeom>
          <a:noFill/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2708280"/>
            <a:ext cx="71280" cy="3384720"/>
          </a:xfrm>
          <a:prstGeom prst="line">
            <a:avLst/>
          </a:prstGeom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48555E-006 L -0.09844 2.48555E-006 E">
                                      <p:cBhvr>
                                        <p:cTn id="16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ОДОЙ НЕ РАЗОЛЬЁШ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55640" y="4292640"/>
            <a:ext cx="2736720" cy="229860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1042920" y="2492280"/>
            <a:ext cx="2665440" cy="1081080"/>
            <a:chOff x="1042920" y="2492280"/>
            <a:chExt cx="2665440" cy="1081080"/>
          </a:xfrm>
        </p:grpSpPr>
        <p:sp>
          <p:nvSpPr>
            <p:cNvPr id="114" name=""/>
            <p:cNvSpPr/>
            <p:nvPr/>
          </p:nvSpPr>
          <p:spPr>
            <a:xfrm>
              <a:off x="1042920" y="2492280"/>
              <a:ext cx="2665440" cy="10810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1908000" y="2781360"/>
              <a:ext cx="10288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вода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780000" y="3429000"/>
            <a:ext cx="1584000" cy="934920"/>
            <a:chOff x="3780000" y="3429000"/>
            <a:chExt cx="1584000" cy="934920"/>
          </a:xfrm>
        </p:grpSpPr>
        <p:sp>
          <p:nvSpPr>
            <p:cNvPr id="117" name=""/>
            <p:cNvSpPr/>
            <p:nvPr/>
          </p:nvSpPr>
          <p:spPr>
            <a:xfrm>
              <a:off x="3780000" y="3429000"/>
              <a:ext cx="1584000" cy="9349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4284360" y="3715920"/>
              <a:ext cx="6379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НЕ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5796000" y="4149720"/>
            <a:ext cx="2521080" cy="1296720"/>
            <a:chOff x="5796000" y="4149720"/>
            <a:chExt cx="2521080" cy="1296720"/>
          </a:xfrm>
        </p:grpSpPr>
        <p:sp>
          <p:nvSpPr>
            <p:cNvPr id="120" name=""/>
            <p:cNvSpPr/>
            <p:nvPr/>
          </p:nvSpPr>
          <p:spPr>
            <a:xfrm>
              <a:off x="5796000" y="4149720"/>
              <a:ext cx="2521080" cy="1296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6012000" y="4510080"/>
              <a:ext cx="20955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РАЗЛИТЬ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084720" y="2276640"/>
            <a:ext cx="230364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ИСТОЧНИКИ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ФРАЗЕОЛОГИЧЕСКИХ ОБОРОТ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НАБЛЮДЕНИЯ ЧЕЛОВЕ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ИФОЛОГ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ИСТОРИЧЕСКИЕ СОБЫТ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ОСОБЕННОСТИ ЖИВОТНЫ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РГАНИЗМ ЧЕЛОВЕ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МИР СКАЗО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МНОГО СНЕГА – МНОГО ХЛЕБ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ИСТОЧНИКИ  ФРАЗЕОЛОГИЧЕСКИХ ОБОРОТ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87280" y="2852640"/>
            <a:ext cx="3240360" cy="2189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716360" y="2852640"/>
            <a:ext cx="331164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АК МАМАЙ ПРОШЁ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ИСТОЧНИКИ  ФРАЗЕОЛОГИЧЕСКИХ ОБОРОТОВ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476360" y="2421000"/>
            <a:ext cx="1898640" cy="2519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211640" y="2492280"/>
            <a:ext cx="36734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3T10:51:18Z</dcterms:created>
  <dc:creator>Учитель</dc:creator>
  <dc:description/>
  <dc:language>en-US</dc:language>
  <cp:lastModifiedBy>1</cp:lastModifiedBy>
  <dcterms:modified xsi:type="dcterms:W3CDTF">2012-08-07T02:59:51Z</dcterms:modified>
  <cp:revision>8</cp:revision>
  <dc:subject/>
  <dc:title>ФРАЗЕОЛОГИЗМЫ  –  ЭТО ИНТЕРЕСНО!</dc:title>
</cp:coreProperties>
</file>