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670-5554-4127-BE63-802AC08C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0AA-DD0F-4376-9367-9C8CD8EA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380-F037-4170-A7F5-1E21AC68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7DE-48D1-4F7D-86DE-B29462F8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427-205B-4613-AA1B-CDF3715A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617-7070-44D6-8E81-08A8360A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03C6-EE9D-425A-9C1E-36C5F7FA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351-8978-4898-BBEE-32B061F6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DE9-D449-4D17-B0A6-976F70B0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9D9-EEF1-4C47-8F2D-897000A9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2203-EFB3-42FE-8341-C4EAEE5A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748-4C4C-4D1D-9541-3BC63C84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0092-A711-4C46-9C18-0B5C3432E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6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2.xml"/><Relationship Id="rId16" Type="http://schemas.openxmlformats.org/officeDocument/2006/relationships/slide" Target="slide33.xml"/><Relationship Id="rId17" Type="http://schemas.openxmlformats.org/officeDocument/2006/relationships/slide" Target="slide9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3.xml"/><Relationship Id="rId22" Type="http://schemas.openxmlformats.org/officeDocument/2006/relationships/slide" Target="slide14.xml"/><Relationship Id="rId23" Type="http://schemas.openxmlformats.org/officeDocument/2006/relationships/slide" Target="slide22.xml"/><Relationship Id="rId24" Type="http://schemas.openxmlformats.org/officeDocument/2006/relationships/slide" Target="slide28.xml"/><Relationship Id="rId25" Type="http://schemas.openxmlformats.org/officeDocument/2006/relationships/slide" Target="slide16.xml"/><Relationship Id="rId26" Type="http://schemas.openxmlformats.org/officeDocument/2006/relationships/slide" Target="slide15.xml"/><Relationship Id="rId2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matem.uspu.ru/2010-11-02-08-48-34/47-2011-01-24-09-09-13/199-2011-01-26-08-05-34" TargetMode="External"/><Relationship Id="rId4" Type="http://schemas.openxmlformats.org/officeDocument/2006/relationships/hyperlink" Target="http://matem.uspu.ru/2010-11-02-08-48-34/47-2011-01-24-09-09-13/199-2011-01-26-08-05-34" TargetMode="External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476280"/>
            <a:ext cx="18255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85ff8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7 класс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85ff8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0" y="6035760"/>
            <a:ext cx="47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Каратанова Ма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МКОУ СОШ №256 г.Фо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&amp;Kcy;&amp;acy;&amp;rcy;&amp;tcy;&amp;icy;&amp;ncy;&amp;kcy;&amp;acy; 27 &amp;icy;&amp;zcy; 36954"/>
          <p:cNvPicPr/>
          <p:nvPr/>
        </p:nvPicPr>
        <p:blipFill>
          <a:blip r:embed="rId1"/>
          <a:stretch/>
        </p:blipFill>
        <p:spPr>
          <a:xfrm>
            <a:off x="4284720" y="2573280"/>
            <a:ext cx="4859280" cy="4284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5280" y="-603360"/>
            <a:ext cx="6156360" cy="645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ешение задач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Сумма углов треугольник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нешний угол треугольник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16360" y="5877000"/>
                <a:ext cx="5256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724360" y="1844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263700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333360"/>
            <a:ext cx="8208720" cy="1440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углы равнобедренного тр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угол при основании в 3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ньше внешнего угла, смежного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8388360" y="31399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4360" y="479736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8388360" y="5300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2436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0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37080" y="24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&amp;Kcy;&amp;acy;&amp;rcy;&amp;tcy;&amp;icy;&amp;ncy;&amp;kcy;&amp;acy; 27 &amp;icy;&amp;zcy; 36954"/>
          <p:cNvPicPr/>
          <p:nvPr/>
        </p:nvPicPr>
        <p:blipFill>
          <a:blip r:embed="rId5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4000" y="2852640"/>
            <a:ext cx="3743280" cy="2519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9440" y="436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4809800">
            <a:off x="418788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508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3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8332800">
            <a:off x="3202920" y="472392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5373720"/>
            <a:ext cx="5181480" cy="144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371628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о внешн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ла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6" action="ppaction://hlinksldjump"/>
          </p:cNvPr>
          <p:cNvSpPr/>
          <p:nvPr/>
        </p:nvSpPr>
        <p:spPr>
          <a:xfrm>
            <a:off x="8388360" y="42195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059280" y="5899320"/>
                <a:ext cx="3241440" cy="73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221000" y="4292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4797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272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5780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55640" y="189000"/>
            <a:ext cx="8064360" cy="1439640"/>
            <a:chOff x="755640" y="189000"/>
            <a:chExt cx="8064360" cy="1439640"/>
          </a:xfrm>
        </p:grpSpPr>
        <p:sp>
          <p:nvSpPr>
            <p:cNvPr id="235" name=""/>
            <p:cNvSpPr/>
            <p:nvPr/>
          </p:nvSpPr>
          <p:spPr>
            <a:xfrm>
              <a:off x="755640" y="189000"/>
              <a:ext cx="8064360" cy="1371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, AB = BC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 –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ссектриса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489560" y="541440"/>
                  <a:ext cx="209844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2324160" y="1081080"/>
                  <a:ext cx="156852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242100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4" action="ppaction://hlinksldjump"/>
          </p:cNvPr>
          <p:cNvSpPr/>
          <p:nvPr/>
        </p:nvSpPr>
        <p:spPr>
          <a:xfrm>
            <a:off x="8388360" y="30700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24360" y="3645000"/>
            <a:ext cx="3095640" cy="718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5" action="ppaction://hlinksldjump"/>
          </p:cNvPr>
          <p:cNvSpPr/>
          <p:nvPr/>
        </p:nvSpPr>
        <p:spPr>
          <a:xfrm>
            <a:off x="8388360" y="39337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205000"/>
            <a:ext cx="4608360" cy="2592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3880" y="3265560"/>
            <a:ext cx="3236760" cy="1538280"/>
          </a:xfrm>
          <a:custGeom>
            <a:avLst/>
            <a:gdLst/>
            <a:ahLst/>
            <a:rect l="l" t="t" r="r" b="b"/>
            <a:pathLst>
              <a:path w="2039" h="969">
                <a:moveTo>
                  <a:pt x="0" y="969"/>
                </a:moveTo>
                <a:lnTo>
                  <a:pt x="2039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3440" y="285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65080" y="3213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8441400">
            <a:off x="971280" y="4365360"/>
            <a:ext cx="149040" cy="18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8441400">
            <a:off x="1042200" y="4581000"/>
            <a:ext cx="149400" cy="1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451008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6" action="ppaction://hlinksldjump"/>
          </p:cNvPr>
          <p:cNvSpPr/>
          <p:nvPr/>
        </p:nvSpPr>
        <p:spPr>
          <a:xfrm>
            <a:off x="8388360" y="48704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4809800">
            <a:off x="2892240" y="186804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24360" y="5445000"/>
            <a:ext cx="3095640" cy="505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7" action="ppaction://hlinksldjump"/>
          </p:cNvPr>
          <p:cNvSpPr/>
          <p:nvPr/>
        </p:nvSpPr>
        <p:spPr>
          <a:xfrm>
            <a:off x="8388360" y="5589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4809800">
            <a:off x="3612960" y="2660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5549E-006 L 0.03142 0.04208 E">
                                      <p:cBhvr>
                                        <p:cTn id="342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5516640"/>
                <a:ext cx="6156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060640" y="472428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308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55640" y="189000"/>
            <a:ext cx="8064360" cy="1371600"/>
            <a:chOff x="755640" y="189000"/>
            <a:chExt cx="8064360" cy="1371600"/>
          </a:xfrm>
        </p:grpSpPr>
        <p:sp>
          <p:nvSpPr>
            <p:cNvPr id="264" name=""/>
            <p:cNvSpPr/>
            <p:nvPr/>
          </p:nvSpPr>
          <p:spPr>
            <a:xfrm>
              <a:off x="755640" y="189000"/>
              <a:ext cx="8064360" cy="1371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E, DK –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ссектриса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углы треугольник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DE.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1763640" y="549360"/>
                  <a:ext cx="4824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DK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K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724360" y="170028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сказка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24360" y="249228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мотре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4" action="ppaction://hlinksldjump"/>
          </p:cNvPr>
          <p:cNvSpPr/>
          <p:nvPr/>
        </p:nvSpPr>
        <p:spPr>
          <a:xfrm>
            <a:off x="8388360" y="3068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24360" y="3716280"/>
            <a:ext cx="3095640" cy="71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5" action="ppaction://hlinksldjump"/>
          </p:cNvPr>
          <p:cNvSpPr/>
          <p:nvPr/>
        </p:nvSpPr>
        <p:spPr>
          <a:xfrm>
            <a:off x="8388360" y="4005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71640" y="2060640"/>
            <a:ext cx="3816360" cy="3168720"/>
          </a:xfrm>
          <a:prstGeom prst="triangle">
            <a:avLst>
              <a:gd name="adj" fmla="val 26694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89000" y="2104920"/>
            <a:ext cx="768600" cy="3119400"/>
          </a:xfrm>
          <a:custGeom>
            <a:avLst/>
            <a:gdLst/>
            <a:ahLst/>
            <a:rect l="l" t="t" r="r" b="b"/>
            <a:pathLst>
              <a:path w="484" h="1965">
                <a:moveTo>
                  <a:pt x="0" y="0"/>
                </a:moveTo>
                <a:lnTo>
                  <a:pt x="484" y="1965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21440" y="155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458136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6" action="ppaction://hlinksldjump"/>
          </p:cNvPr>
          <p:cNvSpPr/>
          <p:nvPr/>
        </p:nvSpPr>
        <p:spPr>
          <a:xfrm>
            <a:off x="8388360" y="49417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4809800">
            <a:off x="1163520" y="453204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618920" y="1773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497000">
            <a:off x="1869120" y="2524680"/>
            <a:ext cx="21744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4778000">
            <a:off x="2170440" y="2454840"/>
            <a:ext cx="20628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28640" y="2924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2731400">
            <a:off x="4355640" y="443628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4509E-006 L 0.03091 0.00254 E">
                                      <p:cBhvr>
                                        <p:cTn id="397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708360" y="5877000"/>
                <a:ext cx="31179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M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9372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108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189000"/>
            <a:ext cx="806436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, BM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BM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886360" y="195120"/>
                <a:ext cx="17622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сказка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24360" y="2421000"/>
            <a:ext cx="3095640" cy="1081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4" action="ppaction://hlinksldjump"/>
          </p:cNvPr>
          <p:cNvSpPr/>
          <p:nvPr/>
        </p:nvSpPr>
        <p:spPr>
          <a:xfrm>
            <a:off x="8388360" y="30700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24360" y="4653000"/>
            <a:ext cx="3095640" cy="107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5" action="ppaction://hlinksldjump"/>
          </p:cNvPr>
          <p:cNvSpPr/>
          <p:nvPr/>
        </p:nvSpPr>
        <p:spPr>
          <a:xfrm>
            <a:off x="8388360" y="5373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2060640"/>
            <a:ext cx="4968720" cy="2952720"/>
          </a:xfrm>
          <a:prstGeom prst="triangle">
            <a:avLst>
              <a:gd name="adj" fmla="val 4838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01880" y="2060640"/>
            <a:ext cx="14400" cy="2932200"/>
          </a:xfrm>
          <a:custGeom>
            <a:avLst/>
            <a:gdLst/>
            <a:ahLst/>
            <a:rect l="l" t="t" r="r" b="b"/>
            <a:pathLst>
              <a:path w="9" h="1847">
                <a:moveTo>
                  <a:pt x="0" y="0"/>
                </a:moveTo>
                <a:lnTo>
                  <a:pt x="9" y="1847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86160" y="155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24360" y="364500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6" action="ppaction://hlinksldjump"/>
          </p:cNvPr>
          <p:cNvSpPr/>
          <p:nvPr/>
        </p:nvSpPr>
        <p:spPr>
          <a:xfrm>
            <a:off x="8388360" y="4076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2093600">
            <a:off x="4858920" y="4149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0800000">
            <a:off x="2339640" y="1773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48360" y="5013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43280" y="4797360"/>
            <a:ext cx="2538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3502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24360" y="3502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9564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4509E-006 L 0.03091 0.00254 E">
                                      <p:cBhvr>
                                        <p:cTn id="490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000"/>
                            </p:stCondLst>
                            <p:childTnLst>
                              <p:par>
                                <p:cTn id="4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564000" y="5962680"/>
                <a:ext cx="24638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3860640" y="4437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80000" y="49417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0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65440" y="17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55640" y="189000"/>
            <a:ext cx="8209080" cy="1368360"/>
            <a:chOff x="755640" y="189000"/>
            <a:chExt cx="8209080" cy="1368360"/>
          </a:xfrm>
        </p:grpSpPr>
        <p:sp>
          <p:nvSpPr>
            <p:cNvPr id="321" name=""/>
            <p:cNvSpPr/>
            <p:nvPr/>
          </p:nvSpPr>
          <p:spPr>
            <a:xfrm>
              <a:off x="755640" y="189000"/>
              <a:ext cx="8209080" cy="1368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, AB = BC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5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С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1835280" y="569880"/>
                  <a:ext cx="237636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C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3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24360" y="314172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8388360" y="379080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24360" y="436572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5" action="ppaction://hlinksldjump"/>
          </p:cNvPr>
          <p:cNvSpPr/>
          <p:nvPr/>
        </p:nvSpPr>
        <p:spPr>
          <a:xfrm>
            <a:off x="8388360" y="465300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4517600">
            <a:off x="588600" y="417132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24360" y="2421000"/>
            <a:ext cx="3095640" cy="504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6" action="ppaction://hlinksldjump"/>
          </p:cNvPr>
          <p:cNvSpPr/>
          <p:nvPr/>
        </p:nvSpPr>
        <p:spPr>
          <a:xfrm>
            <a:off x="8388360" y="2565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2133720"/>
            <a:ext cx="3673440" cy="2808000"/>
          </a:xfrm>
          <a:prstGeom prst="triangle">
            <a:avLst>
              <a:gd name="adj" fmla="val 51255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05800" y="494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4000" y="4941720"/>
            <a:ext cx="5181480" cy="180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1600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42920" y="3645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59280" y="3645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1886000">
            <a:off x="3850920" y="414936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24360" y="522936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сторо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rId7" action="ppaction://hlinksldjump"/>
          </p:cNvPr>
          <p:cNvSpPr/>
          <p:nvPr/>
        </p:nvSpPr>
        <p:spPr>
          <a:xfrm>
            <a:off x="8388360" y="5589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4000" y="2133720"/>
            <a:ext cx="3673440" cy="2808000"/>
          </a:xfrm>
          <a:prstGeom prst="triangle">
            <a:avLst>
              <a:gd name="adj" fmla="val 51255"/>
            </a:avLst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4517600">
            <a:off x="2171520" y="1795320"/>
            <a:ext cx="44424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73988E-006 L -0.04792 0.00231 E">
                                      <p:cBhvr>
                                        <p:cTn id="520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250920" y="476280"/>
            <a:ext cx="86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готовым чертежам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16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4000" y="1916280"/>
            <a:ext cx="4968720" cy="266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bd97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о по рису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писать условие 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ответить на поставл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задачах под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сутств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rId2" action="ppaction://hlinksldjump"/>
          </p:cNvPr>
          <p:cNvSpPr/>
          <p:nvPr/>
        </p:nvSpPr>
        <p:spPr>
          <a:xfrm>
            <a:off x="1908000" y="5229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3" action="ppaction://hlinksldjump"/>
          </p:cNvPr>
          <p:cNvSpPr/>
          <p:nvPr/>
        </p:nvSpPr>
        <p:spPr>
          <a:xfrm>
            <a:off x="334800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4" action="ppaction://hlinksldjump"/>
          </p:cNvPr>
          <p:cNvSpPr/>
          <p:nvPr/>
        </p:nvSpPr>
        <p:spPr>
          <a:xfrm>
            <a:off x="478800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rId5" action="ppaction://hlinksldjump"/>
          </p:cNvPr>
          <p:cNvSpPr/>
          <p:nvPr/>
        </p:nvSpPr>
        <p:spPr>
          <a:xfrm>
            <a:off x="46836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6" action="ppaction://hlinksldjump"/>
          </p:cNvPr>
          <p:cNvSpPr/>
          <p:nvPr/>
        </p:nvSpPr>
        <p:spPr>
          <a:xfrm>
            <a:off x="622944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7" action="ppaction://hlinksldjump"/>
          </p:cNvPr>
          <p:cNvSpPr/>
          <p:nvPr/>
        </p:nvSpPr>
        <p:spPr>
          <a:xfrm>
            <a:off x="7669080" y="5229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8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&amp;Kcy;&amp;acy;&amp;rcy;&amp;tcy;&amp;icy;&amp;ncy;&amp;kcy;&amp;acy; 27 &amp;icy;&amp;zcy; 36954"/>
          <p:cNvPicPr/>
          <p:nvPr/>
        </p:nvPicPr>
        <p:blipFill>
          <a:blip r:embed="rId9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916360" y="5878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08000" y="57340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4800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8800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22944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669080" y="57340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0656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8620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764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6764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656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143240" y="5877000"/>
                <a:ext cx="22464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3573720" y="206064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3380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26920" y="189000"/>
            <a:ext cx="7993080" cy="658800"/>
            <a:chOff x="826920" y="189000"/>
            <a:chExt cx="7993080" cy="658800"/>
          </a:xfrm>
        </p:grpSpPr>
        <p:sp>
          <p:nvSpPr>
            <p:cNvPr id="375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2340000" y="260280"/>
                  <a:ext cx="92232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7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205440" y="907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2000" y="49417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564000" y="4797360"/>
            <a:ext cx="2538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64000" y="1341360"/>
            <a:ext cx="2520720" cy="367344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4778000">
            <a:off x="3651120" y="1772640"/>
            <a:ext cx="206280" cy="3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9272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924360" y="5084640"/>
                <a:ext cx="324000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4294440" y="278136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1440" y="119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391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2340000" y="260280"/>
                  <a:ext cx="338436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С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3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94216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9640" y="4437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21480000">
            <a:off x="4932000" y="2781360"/>
            <a:ext cx="25704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5400000">
            <a:off x="2074680" y="453600"/>
            <a:ext cx="2808360" cy="51580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1560" y="1611360"/>
            <a:ext cx="7967520" cy="2190600"/>
          </a:xfrm>
          <a:custGeom>
            <a:avLst/>
            <a:gdLst/>
            <a:ahLst/>
            <a:rect l="l" t="t" r="r" b="b"/>
            <a:pathLst>
              <a:path w="5019" h="1380">
                <a:moveTo>
                  <a:pt x="0" y="0"/>
                </a:moveTo>
                <a:lnTo>
                  <a:pt x="5019" y="138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46180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6040" y="2108160"/>
            <a:ext cx="162000" cy="292320"/>
          </a:xfrm>
          <a:custGeom>
            <a:avLst/>
            <a:gdLst/>
            <a:ahLst/>
            <a:rect l="l" t="t" r="r" b="b"/>
            <a:pathLst>
              <a:path w="99" h="184">
                <a:moveTo>
                  <a:pt x="99" y="0"/>
                </a:moveTo>
                <a:lnTo>
                  <a:pt x="0" y="18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32000" y="2133720"/>
            <a:ext cx="157320" cy="27936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59280" y="3716280"/>
            <a:ext cx="114120" cy="25092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32000" y="3716280"/>
            <a:ext cx="114480" cy="25092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96000" y="3068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00000" y="1700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00000" y="3716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3822840" y="5877000"/>
                <a:ext cx="28875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6310440" y="4797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48000" y="5445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94160" y="522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55640" y="189000"/>
            <a:ext cx="8064360" cy="1079280"/>
            <a:chOff x="755640" y="189000"/>
            <a:chExt cx="8064360" cy="1079280"/>
          </a:xfrm>
        </p:grpSpPr>
        <p:sp>
          <p:nvSpPr>
            <p:cNvPr id="415" name=""/>
            <p:cNvSpPr/>
            <p:nvPr/>
          </p:nvSpPr>
          <p:spPr>
            <a:xfrm>
              <a:off x="755640" y="189000"/>
              <a:ext cx="8064360" cy="1079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 = AC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2411280" y="692280"/>
                  <a:ext cx="144468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BD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17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570120" y="1785960"/>
            <a:ext cx="1800" cy="3686040"/>
          </a:xfrm>
          <a:custGeom>
            <a:avLst/>
            <a:gdLst/>
            <a:ahLst/>
            <a:rect l="l" t="t" r="r" b="b"/>
            <a:pathLst>
              <a:path w="1" h="2322">
                <a:moveTo>
                  <a:pt x="0" y="0"/>
                </a:moveTo>
                <a:lnTo>
                  <a:pt x="0" y="2322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0544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81200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64000" y="5229360"/>
            <a:ext cx="253800" cy="21564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6624600">
            <a:off x="3347640" y="1917360"/>
            <a:ext cx="3960720" cy="5256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21480000">
            <a:off x="6876720" y="4941720"/>
            <a:ext cx="25704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03640" y="2421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203640" y="5877000"/>
                <a:ext cx="4464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2997000" y="4292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49416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43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2411280" y="260280"/>
                  <a:ext cx="17719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34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5796000" y="98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244000" y="50846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3682200">
            <a:off x="3567240" y="4505040"/>
            <a:ext cx="31752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51280" y="1484280"/>
            <a:ext cx="4464000" cy="3645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31840" y="5121360"/>
            <a:ext cx="7185240" cy="14040"/>
          </a:xfrm>
          <a:custGeom>
            <a:avLst/>
            <a:gdLst/>
            <a:ahLst/>
            <a:rect l="l" t="t" r="r" b="b"/>
            <a:pathLst>
              <a:path w="4526" h="9">
                <a:moveTo>
                  <a:pt x="0" y="9"/>
                </a:moveTo>
                <a:lnTo>
                  <a:pt x="4526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5939640" y="1843560"/>
            <a:ext cx="28908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5976000" y="1735920"/>
            <a:ext cx="21600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05360" y="22035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211640" y="4437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596360" y="4437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1908000" y="335772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334800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78800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6227640" y="335772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766764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1908000" y="40752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334800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478800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622944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766764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190656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34656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478620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5" action="ppaction://hlinksldjump"/>
          </p:cNvPr>
          <p:cNvSpPr/>
          <p:nvPr/>
        </p:nvSpPr>
        <p:spPr>
          <a:xfrm>
            <a:off x="622764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6" action="ppaction://hlinksldjump"/>
          </p:cNvPr>
          <p:cNvSpPr/>
          <p:nvPr/>
        </p:nvSpPr>
        <p:spPr>
          <a:xfrm>
            <a:off x="766764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7" action="ppaction://hlinksldjump"/>
          </p:cNvPr>
          <p:cNvSpPr/>
          <p:nvPr/>
        </p:nvSpPr>
        <p:spPr>
          <a:xfrm>
            <a:off x="46836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8" action="ppaction://hlinksldjump"/>
          </p:cNvPr>
          <p:cNvSpPr/>
          <p:nvPr/>
        </p:nvSpPr>
        <p:spPr>
          <a:xfrm>
            <a:off x="1908000" y="17002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9" action="ppaction://hlinksldjump"/>
          </p:cNvPr>
          <p:cNvSpPr/>
          <p:nvPr/>
        </p:nvSpPr>
        <p:spPr>
          <a:xfrm>
            <a:off x="334800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0" action="ppaction://hlinksldjump"/>
          </p:cNvPr>
          <p:cNvSpPr/>
          <p:nvPr/>
        </p:nvSpPr>
        <p:spPr>
          <a:xfrm>
            <a:off x="478800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1" action="ppaction://hlinksldjump"/>
          </p:cNvPr>
          <p:cNvSpPr/>
          <p:nvPr/>
        </p:nvSpPr>
        <p:spPr>
          <a:xfrm>
            <a:off x="6227640" y="17002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2" action="ppaction://hlinksldjump"/>
          </p:cNvPr>
          <p:cNvSpPr/>
          <p:nvPr/>
        </p:nvSpPr>
        <p:spPr>
          <a:xfrm>
            <a:off x="766764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3" action="ppaction://hlinksldjump"/>
          </p:cNvPr>
          <p:cNvSpPr/>
          <p:nvPr/>
        </p:nvSpPr>
        <p:spPr>
          <a:xfrm>
            <a:off x="466560" y="40752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4" action="ppaction://hlinksldjump"/>
          </p:cNvPr>
          <p:cNvSpPr/>
          <p:nvPr/>
        </p:nvSpPr>
        <p:spPr>
          <a:xfrm>
            <a:off x="46656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5" action="ppaction://hlinksldjump"/>
          </p:cNvPr>
          <p:cNvSpPr/>
          <p:nvPr/>
        </p:nvSpPr>
        <p:spPr>
          <a:xfrm>
            <a:off x="46836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7956720" y="6308640"/>
            <a:ext cx="792000" cy="316080"/>
          </a:xfrm>
          <a:custGeom>
            <a:avLst/>
            <a:gdLst>
              <a:gd name="textAreaLeft" fmla="*/ 20160 w 792000"/>
              <a:gd name="textAreaRight" fmla="*/ 771840 w 79200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54086" h="21600">
                <a:moveTo>
                  <a:pt x="0" y="0"/>
                </a:moveTo>
                <a:lnTo>
                  <a:pt x="54086" y="0"/>
                </a:lnTo>
                <a:lnTo>
                  <a:pt x="54086" y="21600"/>
                </a:lnTo>
                <a:lnTo>
                  <a:pt x="0" y="21600"/>
                </a:lnTo>
                <a:close/>
              </a:path>
              <a:path fill="lightenLess" w="54086" h="21600">
                <a:moveTo>
                  <a:pt x="0" y="0"/>
                </a:moveTo>
                <a:lnTo>
                  <a:pt x="54086" y="0"/>
                </a:lnTo>
                <a:lnTo>
                  <a:pt x="52686" y="1400"/>
                </a:lnTo>
                <a:lnTo>
                  <a:pt x="1400" y="1400"/>
                </a:lnTo>
                <a:close/>
              </a:path>
              <a:path fill="darken" w="54086" h="21600">
                <a:moveTo>
                  <a:pt x="54086" y="0"/>
                </a:moveTo>
                <a:lnTo>
                  <a:pt x="54086" y="21600"/>
                </a:lnTo>
                <a:lnTo>
                  <a:pt x="52686" y="20200"/>
                </a:lnTo>
                <a:lnTo>
                  <a:pt x="52686" y="1400"/>
                </a:lnTo>
                <a:close/>
              </a:path>
              <a:path fill="darkenLess" w="54086" h="21600">
                <a:moveTo>
                  <a:pt x="54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6" y="20200"/>
                </a:lnTo>
                <a:close/>
              </a:path>
              <a:path fill="lighten" w="54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6" h="21600">
                <a:moveTo>
                  <a:pt x="30542" y="10800"/>
                </a:moveTo>
                <a:lnTo>
                  <a:pt x="20037" y="17806"/>
                </a:lnTo>
                <a:lnTo>
                  <a:pt x="20037" y="3794"/>
                </a:lnTo>
                <a:close/>
              </a:path>
              <a:path fill="darken" w="54086" h="21600">
                <a:moveTo>
                  <a:pt x="32387" y="3794"/>
                </a:moveTo>
                <a:lnTo>
                  <a:pt x="32387" y="17806"/>
                </a:lnTo>
                <a:lnTo>
                  <a:pt x="34049" y="17806"/>
                </a:lnTo>
                <a:lnTo>
                  <a:pt x="34049" y="3794"/>
                </a:lnTo>
                <a:close/>
              </a:path>
            </a:pathLst>
          </a:custGeom>
          <a:solidFill>
            <a:srgbClr val="b7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565360"/>
            <a:ext cx="8424720" cy="2951280"/>
          </a:xfrm>
          <a:prstGeom prst="rect">
            <a:avLst/>
          </a:prstGeom>
          <a:noFill/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6" action="ppaction://hlinksldjump"/>
          </p:cNvPr>
          <p:cNvSpPr/>
          <p:nvPr/>
        </p:nvSpPr>
        <p:spPr>
          <a:xfrm>
            <a:off x="539640" y="2708280"/>
            <a:ext cx="5327640" cy="431640"/>
          </a:xfrm>
          <a:custGeom>
            <a:avLst/>
            <a:gdLst>
              <a:gd name="textAreaLeft" fmla="*/ 27720 w 5327640"/>
              <a:gd name="textAreaRight" fmla="*/ 5299920 w 532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6400" h="21600">
                <a:moveTo>
                  <a:pt x="0" y="0"/>
                </a:moveTo>
                <a:lnTo>
                  <a:pt x="266400" y="0"/>
                </a:lnTo>
                <a:lnTo>
                  <a:pt x="266400" y="21600"/>
                </a:lnTo>
                <a:lnTo>
                  <a:pt x="0" y="21600"/>
                </a:lnTo>
                <a:close/>
              </a:path>
              <a:path fill="lightenLess" w="266400" h="21600">
                <a:moveTo>
                  <a:pt x="0" y="0"/>
                </a:moveTo>
                <a:lnTo>
                  <a:pt x="266400" y="0"/>
                </a:lnTo>
                <a:lnTo>
                  <a:pt x="265000" y="1400"/>
                </a:lnTo>
                <a:lnTo>
                  <a:pt x="1400" y="1400"/>
                </a:lnTo>
                <a:close/>
              </a:path>
              <a:path fill="darken" w="266400" h="21600">
                <a:moveTo>
                  <a:pt x="266400" y="0"/>
                </a:moveTo>
                <a:lnTo>
                  <a:pt x="266400" y="21600"/>
                </a:lnTo>
                <a:lnTo>
                  <a:pt x="265000" y="20200"/>
                </a:lnTo>
                <a:lnTo>
                  <a:pt x="265000" y="1400"/>
                </a:lnTo>
                <a:close/>
              </a:path>
              <a:path fill="darkenLess" w="266400" h="21600">
                <a:moveTo>
                  <a:pt x="26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0" y="20200"/>
                </a:lnTo>
                <a:close/>
              </a:path>
              <a:path fill="lighten" w="26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 готовым чертеж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3276720" y="5805360"/>
                <a:ext cx="4176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5230800" y="414828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8160" y="76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45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2432160" y="260280"/>
                  <a:ext cx="17287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54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78800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4764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6495600">
            <a:off x="5081040" y="4431960"/>
            <a:ext cx="31752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911240" y="5008680"/>
            <a:ext cx="6386760" cy="14040"/>
          </a:xfrm>
          <a:custGeom>
            <a:avLst/>
            <a:gdLst/>
            <a:ahLst/>
            <a:rect l="l" t="t" r="r" b="b"/>
            <a:pathLst>
              <a:path w="4023" h="9">
                <a:moveTo>
                  <a:pt x="0" y="9"/>
                </a:moveTo>
                <a:lnTo>
                  <a:pt x="4023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08000" y="1052640"/>
            <a:ext cx="3168720" cy="396072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8000" y="4797360"/>
            <a:ext cx="25416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84720" y="4365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08000" y="1341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635280" y="5373720"/>
                <a:ext cx="30974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302080" y="4076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57440" y="486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470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72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771640" y="83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861080" y="4940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6812400">
            <a:off x="5150880" y="4360680"/>
            <a:ext cx="31752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187280" y="1339920"/>
            <a:ext cx="3961080" cy="3645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79360" y="4976640"/>
            <a:ext cx="6705720" cy="17640"/>
          </a:xfrm>
          <a:custGeom>
            <a:avLst/>
            <a:gdLst/>
            <a:ahLst/>
            <a:rect l="l" t="t" r="r" b="b"/>
            <a:pathLst>
              <a:path w="4224" h="11">
                <a:moveTo>
                  <a:pt x="0" y="11"/>
                </a:moveTo>
                <a:lnTo>
                  <a:pt x="422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064040" y="3114720"/>
            <a:ext cx="162000" cy="291960"/>
          </a:xfrm>
          <a:custGeom>
            <a:avLst/>
            <a:gdLst/>
            <a:ahLst/>
            <a:rect l="l" t="t" r="r" b="b"/>
            <a:pathLst>
              <a:path w="99" h="184">
                <a:moveTo>
                  <a:pt x="99" y="0"/>
                </a:moveTo>
                <a:lnTo>
                  <a:pt x="0" y="18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140360" y="3139920"/>
            <a:ext cx="156960" cy="27972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050920" y="3068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24000" y="3068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03280" y="4292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987640" y="148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4292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59280" y="539748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5302080" y="4076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57440" y="486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49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4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3851280" y="177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07672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6812400">
            <a:off x="5439960" y="4433760"/>
            <a:ext cx="31752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176480" y="987480"/>
            <a:ext cx="6748200" cy="4005360"/>
          </a:xfrm>
          <a:custGeom>
            <a:avLst/>
            <a:gdLst/>
            <a:ahLst/>
            <a:rect l="l" t="t" r="r" b="b"/>
            <a:pathLst>
              <a:path w="4251" h="2523">
                <a:moveTo>
                  <a:pt x="2898" y="0"/>
                </a:moveTo>
                <a:lnTo>
                  <a:pt x="0" y="2505"/>
                </a:lnTo>
                <a:lnTo>
                  <a:pt x="4251" y="252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4970000">
            <a:off x="1546920" y="2348640"/>
            <a:ext cx="2880000" cy="388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12247200">
            <a:off x="4453920" y="2068560"/>
            <a:ext cx="198360" cy="4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2247200">
            <a:off x="4568760" y="1949040"/>
            <a:ext cx="287280" cy="77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97360" y="21337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51280" y="2492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63640" y="4292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788000" y="4292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7174080" y="4292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7816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1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1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723600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588000" y="5084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8184000">
            <a:off x="6948000" y="4508640"/>
            <a:ext cx="346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78000" y="1335240"/>
            <a:ext cx="6878520" cy="4151160"/>
          </a:xfrm>
          <a:custGeom>
            <a:avLst/>
            <a:gdLst/>
            <a:ahLst/>
            <a:rect l="l" t="t" r="r" b="b"/>
            <a:pathLst>
              <a:path w="4333" h="2615">
                <a:moveTo>
                  <a:pt x="329" y="2615"/>
                </a:moveTo>
                <a:lnTo>
                  <a:pt x="4333" y="0"/>
                </a:lnTo>
                <a:lnTo>
                  <a:pt x="4032" y="2350"/>
                </a:lnTo>
                <a:lnTo>
                  <a:pt x="0" y="235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3360" y="5013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21480000">
            <a:off x="971640" y="5084280"/>
            <a:ext cx="144360" cy="27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481040" y="5065560"/>
            <a:ext cx="6994800" cy="14400"/>
          </a:xfrm>
          <a:custGeom>
            <a:avLst/>
            <a:gdLst/>
            <a:ahLst/>
            <a:rect l="l" t="t" r="r" b="b"/>
            <a:pathLst>
              <a:path w="4406" h="9">
                <a:moveTo>
                  <a:pt x="0" y="0"/>
                </a:moveTo>
                <a:lnTo>
                  <a:pt x="4406" y="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7706400">
            <a:off x="6907320" y="4667760"/>
            <a:ext cx="215640" cy="42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24000" y="4437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04000" y="148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72360" y="4437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1765440" y="112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3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723600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34800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661000" y="1484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21480000">
            <a:off x="6297120" y="1411200"/>
            <a:ext cx="219240" cy="34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05280" y="1465200"/>
            <a:ext cx="4267080" cy="1946160"/>
          </a:xfrm>
          <a:custGeom>
            <a:avLst/>
            <a:gdLst/>
            <a:ahLst/>
            <a:rect l="l" t="t" r="r" b="b"/>
            <a:pathLst>
              <a:path w="2688" h="1226">
                <a:moveTo>
                  <a:pt x="0" y="1226"/>
                </a:moveTo>
                <a:lnTo>
                  <a:pt x="2688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3983400">
            <a:off x="3096000" y="8280"/>
            <a:ext cx="4103640" cy="47530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19513800">
            <a:off x="6443640" y="1844280"/>
            <a:ext cx="20016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56000" y="256536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356000" y="1341360"/>
            <a:ext cx="157320" cy="27936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148360" y="3564000"/>
            <a:ext cx="338040" cy="50760"/>
          </a:xfrm>
          <a:custGeom>
            <a:avLst/>
            <a:gdLst/>
            <a:ahLst/>
            <a:rect l="l" t="t" r="r" b="b"/>
            <a:pathLst>
              <a:path w="213" h="32">
                <a:moveTo>
                  <a:pt x="213" y="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627280" y="263700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05080" y="407844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76720" y="414972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340000" y="1413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63528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732720" y="1268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826920" y="189000"/>
            <a:ext cx="7993080" cy="693720"/>
            <a:chOff x="826920" y="189000"/>
            <a:chExt cx="7993080" cy="693720"/>
          </a:xfrm>
        </p:grpSpPr>
        <p:sp>
          <p:nvSpPr>
            <p:cNvPr id="557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, если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|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2340000" y="189000"/>
                  <a:ext cx="27367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59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7596360" y="17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6360" y="4581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086440" y="3645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7440" y="4578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51280" y="1484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076720" y="4653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5797800">
            <a:off x="5282640" y="4078080"/>
            <a:ext cx="287280" cy="42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311800" y="2249640"/>
            <a:ext cx="2830320" cy="2438280"/>
          </a:xfrm>
          <a:custGeom>
            <a:avLst/>
            <a:gdLst/>
            <a:ahLst/>
            <a:rect l="l" t="t" r="r" b="b"/>
            <a:pathLst>
              <a:path w="1783" h="1536">
                <a:moveTo>
                  <a:pt x="1783" y="0"/>
                </a:moveTo>
                <a:lnTo>
                  <a:pt x="0" y="1536"/>
                </a:lnTo>
                <a:lnTo>
                  <a:pt x="1609" y="150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4970000">
            <a:off x="1546560" y="2059200"/>
            <a:ext cx="2879640" cy="388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0205400">
            <a:off x="5873400" y="4219560"/>
            <a:ext cx="216000" cy="42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0234200">
            <a:off x="5994000" y="4082400"/>
            <a:ext cx="21600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237360" y="4076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95640" y="2060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619280" y="4076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88000" y="4076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203640" y="5445000"/>
                <a:ext cx="5043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F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6805800" y="47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81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2595600" y="260280"/>
                  <a:ext cx="251460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Е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FE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83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20364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76360" y="4797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637000" y="4149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3420000" y="1627920"/>
            <a:ext cx="2160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930320" y="2700360"/>
            <a:ext cx="2844720" cy="2074680"/>
          </a:xfrm>
          <a:custGeom>
            <a:avLst/>
            <a:gdLst/>
            <a:ahLst/>
            <a:rect l="l" t="t" r="r" b="b"/>
            <a:pathLst>
              <a:path w="1792" h="1307">
                <a:moveTo>
                  <a:pt x="0" y="1307"/>
                </a:moveTo>
                <a:lnTo>
                  <a:pt x="1792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7794000">
            <a:off x="2278800" y="4066560"/>
            <a:ext cx="184320" cy="35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08000" y="1413000"/>
            <a:ext cx="4969080" cy="3384360"/>
          </a:xfrm>
          <a:prstGeom prst="triangle">
            <a:avLst>
              <a:gd name="adj" fmla="val 30991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71816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86080" y="198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rot="9134400">
            <a:off x="2493720" y="4375080"/>
            <a:ext cx="21564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15577800">
            <a:off x="3431160" y="1658160"/>
            <a:ext cx="293760" cy="51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12000" y="4149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500720" y="2708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211640" y="5734080"/>
                <a:ext cx="3048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2125800" y="98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826920" y="189000"/>
            <a:ext cx="7993080" cy="669960"/>
            <a:chOff x="826920" y="189000"/>
            <a:chExt cx="7993080" cy="669960"/>
          </a:xfrm>
        </p:grpSpPr>
        <p:sp>
          <p:nvSpPr>
            <p:cNvPr id="60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2340000" y="260280"/>
                  <a:ext cx="153972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0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2050920" y="5157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516720" y="981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554200" y="1422360"/>
            <a:ext cx="1989360" cy="1871640"/>
          </a:xfrm>
          <a:custGeom>
            <a:avLst/>
            <a:gdLst/>
            <a:ahLst/>
            <a:rect l="l" t="t" r="r" b="b"/>
            <a:pathLst>
              <a:path w="1253" h="1179">
                <a:moveTo>
                  <a:pt x="0" y="0"/>
                </a:moveTo>
                <a:lnTo>
                  <a:pt x="1253" y="117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2555640" y="1412640"/>
            <a:ext cx="3887640" cy="388764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21080" y="227808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92360" y="2349360"/>
            <a:ext cx="24624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291280" y="234936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64000" y="234936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4076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635280" y="4076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rot="13724400">
            <a:off x="2700720" y="1411920"/>
            <a:ext cx="358920" cy="64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211640" y="5761080"/>
                <a:ext cx="30481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363708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826920" y="189000"/>
            <a:ext cx="7993080" cy="669960"/>
            <a:chOff x="826920" y="189000"/>
            <a:chExt cx="7993080" cy="669960"/>
          </a:xfrm>
        </p:grpSpPr>
        <p:sp>
          <p:nvSpPr>
            <p:cNvPr id="62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2340000" y="260280"/>
                  <a:ext cx="153972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2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32400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45964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46600" y="1770120"/>
            <a:ext cx="1422360" cy="3165480"/>
          </a:xfrm>
          <a:custGeom>
            <a:avLst/>
            <a:gdLst/>
            <a:ahLst/>
            <a:rect l="l" t="t" r="r" b="b"/>
            <a:pathLst>
              <a:path w="896" h="1994">
                <a:moveTo>
                  <a:pt x="0" y="0"/>
                </a:moveTo>
                <a:lnTo>
                  <a:pt x="896" y="1994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502160" y="342900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500720" y="3500280"/>
            <a:ext cx="24588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195640" y="4797360"/>
            <a:ext cx="11412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84360" y="1773360"/>
            <a:ext cx="7848360" cy="3168360"/>
          </a:xfrm>
          <a:prstGeom prst="triangle">
            <a:avLst>
              <a:gd name="adj" fmla="val 4020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54560" y="1785960"/>
            <a:ext cx="406080" cy="3164040"/>
          </a:xfrm>
          <a:custGeom>
            <a:avLst/>
            <a:gdLst/>
            <a:ahLst/>
            <a:rect l="l" t="t" r="r" b="b"/>
            <a:pathLst>
              <a:path w="256" h="1993">
                <a:moveTo>
                  <a:pt x="256" y="0"/>
                </a:moveTo>
                <a:lnTo>
                  <a:pt x="0" y="199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15280" y="472428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472428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2360" y="3645000"/>
            <a:ext cx="276480" cy="58680"/>
          </a:xfrm>
          <a:custGeom>
            <a:avLst/>
            <a:gdLst/>
            <a:ahLst/>
            <a:rect l="l" t="t" r="r" b="b"/>
            <a:pathLst>
              <a:path w="174" h="37">
                <a:moveTo>
                  <a:pt x="0" y="37"/>
                </a:moveTo>
                <a:lnTo>
                  <a:pt x="17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0208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51008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13200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07672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6200000">
            <a:off x="3778920" y="1845000"/>
            <a:ext cx="2905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67160" y="5776920"/>
                <a:ext cx="2737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>
            <a:off x="363708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826920" y="189000"/>
            <a:ext cx="7993080" cy="647640"/>
            <a:chOff x="826920" y="189000"/>
            <a:chExt cx="7993080" cy="647640"/>
          </a:xfrm>
        </p:grpSpPr>
        <p:sp>
          <p:nvSpPr>
            <p:cNvPr id="648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9" name=""/>
                <p:cNvSpPr txBox="1"/>
                <p:nvPr/>
              </p:nvSpPr>
              <p:spPr>
                <a:xfrm>
                  <a:off x="2340000" y="289080"/>
                  <a:ext cx="153972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BE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50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32400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45964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46600" y="1770120"/>
            <a:ext cx="1422360" cy="3165480"/>
          </a:xfrm>
          <a:custGeom>
            <a:avLst/>
            <a:gdLst/>
            <a:ahLst/>
            <a:rect l="l" t="t" r="r" b="b"/>
            <a:pathLst>
              <a:path w="896" h="1994">
                <a:moveTo>
                  <a:pt x="0" y="0"/>
                </a:moveTo>
                <a:lnTo>
                  <a:pt x="896" y="1994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502160" y="342900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500720" y="3500280"/>
            <a:ext cx="24588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195640" y="4797360"/>
            <a:ext cx="11412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73360"/>
            <a:ext cx="7848360" cy="3168360"/>
          </a:xfrm>
          <a:prstGeom prst="triangle">
            <a:avLst>
              <a:gd name="adj" fmla="val 4020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454560" y="1785960"/>
            <a:ext cx="406080" cy="3164040"/>
          </a:xfrm>
          <a:custGeom>
            <a:avLst/>
            <a:gdLst/>
            <a:ahLst/>
            <a:rect l="l" t="t" r="r" b="b"/>
            <a:pathLst>
              <a:path w="256" h="1993">
                <a:moveTo>
                  <a:pt x="256" y="0"/>
                </a:moveTo>
                <a:lnTo>
                  <a:pt x="0" y="199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515280" y="472428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588000" y="472428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492360" y="3645000"/>
            <a:ext cx="276480" cy="58680"/>
          </a:xfrm>
          <a:custGeom>
            <a:avLst/>
            <a:gdLst/>
            <a:ahLst/>
            <a:rect l="l" t="t" r="r" b="b"/>
            <a:pathLst>
              <a:path w="174" h="37">
                <a:moveTo>
                  <a:pt x="0" y="37"/>
                </a:moveTo>
                <a:lnTo>
                  <a:pt x="17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98100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46136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13200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07672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708360" y="2349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260280"/>
            <a:ext cx="7634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орема о сумм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лов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1800" y="155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71640" y="1989000"/>
            <a:ext cx="4248000" cy="3240360"/>
          </a:xfrm>
          <a:prstGeom prst="triangle">
            <a:avLst>
              <a:gd name="adj" fmla="val 72236"/>
            </a:avLst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2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42920" y="5418000"/>
            <a:ext cx="7274160" cy="1440000"/>
            <a:chOff x="1042920" y="5418000"/>
            <a:chExt cx="7274160" cy="1440000"/>
          </a:xfrm>
        </p:grpSpPr>
        <p:sp>
          <p:nvSpPr>
            <p:cNvPr id="80" name=""/>
            <p:cNvSpPr/>
            <p:nvPr/>
          </p:nvSpPr>
          <p:spPr>
            <a:xfrm>
              <a:off x="5724360" y="5734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42920" y="5418000"/>
              <a:ext cx="7274160" cy="14400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bd97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умма углов треугольника равна </a:t>
              </a:r>
              <a:r>
                <a:rPr b="1" lang="en-US" sz="3600" spc="-1" strike="noStrike">
                  <a:solidFill>
                    <a:srgbClr val="009900"/>
                  </a:solidFill>
                  <a:latin typeface="Times New Roman"/>
                </a:rPr>
                <a:t>180</a:t>
              </a:r>
              <a:r>
                <a:rPr b="1" lang="en-US" sz="3600" spc="-1" strike="noStrike" baseline="30000">
                  <a:solidFill>
                    <a:srgbClr val="009900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411280" y="6093000"/>
                  <a:ext cx="419904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B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627440" y="5516640"/>
                <a:ext cx="29466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A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1" name=""/>
          <p:cNvSpPr/>
          <p:nvPr/>
        </p:nvSpPr>
        <p:spPr>
          <a:xfrm>
            <a:off x="169236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67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2411280" y="260280"/>
                  <a:ext cx="151308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AD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75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6" name=""/>
          <p:cNvSpPr/>
          <p:nvPr/>
        </p:nvSpPr>
        <p:spPr>
          <a:xfrm>
            <a:off x="7020000" y="1052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94692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508280" y="4437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18915000">
            <a:off x="6227640" y="2133360"/>
            <a:ext cx="211320" cy="44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183280" y="1579680"/>
            <a:ext cx="1814400" cy="3440160"/>
          </a:xfrm>
          <a:custGeom>
            <a:avLst/>
            <a:gdLst/>
            <a:ahLst/>
            <a:rect l="l" t="t" r="r" b="b"/>
            <a:pathLst>
              <a:path w="1143" h="2167">
                <a:moveTo>
                  <a:pt x="0" y="2167"/>
                </a:moveTo>
                <a:lnTo>
                  <a:pt x="1143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16555200">
            <a:off x="6632640" y="2303280"/>
            <a:ext cx="21888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2122560" y="1557360"/>
            <a:ext cx="4897440" cy="345600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6804000" y="4797360"/>
            <a:ext cx="2160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93236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70036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140360" y="5904000"/>
                <a:ext cx="2946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F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205272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69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2411280" y="266760"/>
                  <a:ext cx="15130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FE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94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5" name=""/>
          <p:cNvSpPr/>
          <p:nvPr/>
        </p:nvSpPr>
        <p:spPr>
          <a:xfrm>
            <a:off x="4572000" y="83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5084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221000" y="1700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960640" y="4411800"/>
            <a:ext cx="3106800" cy="1046160"/>
          </a:xfrm>
          <a:custGeom>
            <a:avLst/>
            <a:gdLst/>
            <a:ahLst/>
            <a:rect l="l" t="t" r="r" b="b"/>
            <a:pathLst>
              <a:path w="1957" h="659">
                <a:moveTo>
                  <a:pt x="0" y="0"/>
                </a:moveTo>
                <a:lnTo>
                  <a:pt x="988" y="659"/>
                </a:lnTo>
                <a:lnTo>
                  <a:pt x="1957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4462200" y="1450800"/>
            <a:ext cx="14616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 rot="20041800">
            <a:off x="5795280" y="4220640"/>
            <a:ext cx="225360" cy="27972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195640" y="38606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484360" y="1197000"/>
            <a:ext cx="4105440" cy="424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 rot="7137000">
            <a:off x="2979000" y="4238640"/>
            <a:ext cx="295200" cy="28872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356000" y="537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94160" y="299736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292720" y="306864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227640" y="479736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360" y="2924280"/>
            <a:ext cx="28764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492360" y="2997360"/>
            <a:ext cx="28764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627280" y="4797360"/>
            <a:ext cx="2872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356000" y="472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4589640" y="5904000"/>
                <a:ext cx="20476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126216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718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9" name=""/>
                <p:cNvSpPr txBox="1"/>
                <p:nvPr/>
              </p:nvSpPr>
              <p:spPr>
                <a:xfrm>
                  <a:off x="2759040" y="266760"/>
                  <a:ext cx="81756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20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1" name=""/>
          <p:cNvSpPr/>
          <p:nvPr/>
        </p:nvSpPr>
        <p:spPr>
          <a:xfrm>
            <a:off x="6732720" y="1413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732720" y="4797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34080" y="2205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763640" y="1916280"/>
            <a:ext cx="5006880" cy="2671560"/>
          </a:xfrm>
          <a:custGeom>
            <a:avLst/>
            <a:gdLst/>
            <a:ahLst/>
            <a:rect l="l" t="t" r="r" b="b"/>
            <a:pathLst>
              <a:path w="3154" h="1683">
                <a:moveTo>
                  <a:pt x="0" y="1381"/>
                </a:moveTo>
                <a:lnTo>
                  <a:pt x="3154" y="0"/>
                </a:lnTo>
                <a:lnTo>
                  <a:pt x="2076" y="168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635280" y="2637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71636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41960" y="4510080"/>
            <a:ext cx="117720" cy="217440"/>
          </a:xfrm>
          <a:custGeom>
            <a:avLst/>
            <a:gdLst/>
            <a:ahLst/>
            <a:rect l="l" t="t" r="r" b="b"/>
            <a:pathLst>
              <a:path w="74" h="137">
                <a:moveTo>
                  <a:pt x="74" y="0"/>
                </a:moveTo>
                <a:lnTo>
                  <a:pt x="18" y="46"/>
                </a:lnTo>
                <a:lnTo>
                  <a:pt x="0" y="137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227640" y="2131920"/>
            <a:ext cx="287640" cy="144720"/>
          </a:xfrm>
          <a:custGeom>
            <a:avLst/>
            <a:gdLst/>
            <a:ahLst/>
            <a:rect l="l" t="t" r="r" b="b"/>
            <a:pathLst>
              <a:path w="181" h="91">
                <a:moveTo>
                  <a:pt x="0" y="0"/>
                </a:moveTo>
                <a:lnTo>
                  <a:pt x="83" y="63"/>
                </a:lnTo>
                <a:lnTo>
                  <a:pt x="181" y="9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735200" y="3106800"/>
            <a:ext cx="5065560" cy="1727280"/>
          </a:xfrm>
          <a:custGeom>
            <a:avLst/>
            <a:gdLst/>
            <a:ahLst/>
            <a:rect l="l" t="t" r="r" b="b"/>
            <a:pathLst>
              <a:path w="3191" h="1088">
                <a:moveTo>
                  <a:pt x="0" y="649"/>
                </a:moveTo>
                <a:lnTo>
                  <a:pt x="3191" y="1088"/>
                </a:lnTo>
                <a:lnTo>
                  <a:pt x="1435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445000" y="4221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227640" y="4568760"/>
            <a:ext cx="117720" cy="157320"/>
          </a:xfrm>
          <a:custGeom>
            <a:avLst/>
            <a:gdLst/>
            <a:ahLst/>
            <a:rect l="l" t="t" r="r" b="b"/>
            <a:pathLst>
              <a:path w="74" h="99">
                <a:moveTo>
                  <a:pt x="74" y="0"/>
                </a:moveTo>
                <a:lnTo>
                  <a:pt x="19" y="36"/>
                </a:lnTo>
                <a:lnTo>
                  <a:pt x="0" y="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653000" y="378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340000" y="3645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708360" y="5781600"/>
                <a:ext cx="2928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CH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781800" y="1125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826920" y="189000"/>
            <a:ext cx="7993080" cy="647640"/>
            <a:chOff x="826920" y="189000"/>
            <a:chExt cx="7993080" cy="647640"/>
          </a:xfrm>
        </p:grpSpPr>
        <p:sp>
          <p:nvSpPr>
            <p:cNvPr id="740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1" name=""/>
                <p:cNvSpPr txBox="1"/>
                <p:nvPr/>
              </p:nvSpPr>
              <p:spPr>
                <a:xfrm>
                  <a:off x="2340000" y="243000"/>
                  <a:ext cx="158436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CH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42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82692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859280" y="198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8459640" y="486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332000" y="2481120"/>
            <a:ext cx="3618000" cy="2576520"/>
          </a:xfrm>
          <a:custGeom>
            <a:avLst/>
            <a:gdLst/>
            <a:ahLst/>
            <a:rect l="l" t="t" r="r" b="b"/>
            <a:pathLst>
              <a:path w="2279" h="1623">
                <a:moveTo>
                  <a:pt x="0" y="1623"/>
                </a:moveTo>
                <a:lnTo>
                  <a:pt x="2279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581360" y="278136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79640" y="3789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7600800">
            <a:off x="2693520" y="2209680"/>
            <a:ext cx="4292640" cy="572148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 rot="12974400">
            <a:off x="3708000" y="1700280"/>
            <a:ext cx="281160" cy="3096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975040" y="1015920"/>
            <a:ext cx="5342040" cy="3962520"/>
          </a:xfrm>
          <a:custGeom>
            <a:avLst/>
            <a:gdLst/>
            <a:ahLst/>
            <a:rect l="l" t="t" r="r" b="b"/>
            <a:pathLst>
              <a:path w="3365" h="2496">
                <a:moveTo>
                  <a:pt x="0" y="0"/>
                </a:moveTo>
                <a:lnTo>
                  <a:pt x="3365" y="2496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rot="16200000">
            <a:off x="4860000" y="2492640"/>
            <a:ext cx="14436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302520" y="350208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00720" y="3573360"/>
            <a:ext cx="24624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348000" y="3427560"/>
            <a:ext cx="2872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348000" y="3500280"/>
            <a:ext cx="28728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468360" y="476280"/>
            <a:ext cx="640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емые ресурсы: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560" y="1197000"/>
            <a:ext cx="71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Ф.Гаврилова «Поурочные разработки по гео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. Универсальное  издание. Москва «Вако»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96360" y="191628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Картинка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4284720" y="2573280"/>
            <a:ext cx="4859280" cy="428472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1844640" y="1916280"/>
            <a:ext cx="53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tem.uspu.ru/2010-11-02-08-48-3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47-2011-01-24-09-09-13/199-2011-01-26-08-05-34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360" y="260280"/>
            <a:ext cx="7634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ешний угол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ойство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0" y="44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7800" y="112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1628640"/>
            <a:ext cx="3673440" cy="2808360"/>
          </a:xfrm>
          <a:prstGeom prst="triangle">
            <a:avLst>
              <a:gd name="adj" fmla="val 29523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7080" y="436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4797360"/>
            <a:ext cx="7274160" cy="144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 треугольника равен су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ух углов треугольника, не смежных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71640" y="6093000"/>
                <a:ext cx="3616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CD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500580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6240" y="4443480"/>
            <a:ext cx="5181480" cy="144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3263600">
            <a:off x="3924000" y="364428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920" y="260280"/>
            <a:ext cx="86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d5ff5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ойст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d5ff5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d5ff5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внобедренного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d5ff5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700280"/>
            <a:ext cx="2016000" cy="2952720"/>
          </a:xfrm>
          <a:prstGeom prst="triangle">
            <a:avLst>
              <a:gd name="adj" fmla="val 48741"/>
            </a:avLst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1700280"/>
            <a:ext cx="2016000" cy="29527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180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7080" y="1268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2160" y="458136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2720" y="45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90160" y="45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2440" y="3330720"/>
            <a:ext cx="241200" cy="16488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3355920"/>
            <a:ext cx="228600" cy="14436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5003000">
            <a:off x="4117680" y="2298240"/>
            <a:ext cx="10008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7476000">
            <a:off x="578520" y="4153680"/>
            <a:ext cx="23472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3172200">
            <a:off x="1878480" y="4150440"/>
            <a:ext cx="2239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5229360"/>
            <a:ext cx="2449800" cy="792000"/>
          </a:xfrm>
          <a:custGeom>
            <a:avLst/>
            <a:gdLst>
              <a:gd name="textAreaLeft" fmla="*/ 51120 w 2449800"/>
              <a:gd name="textAreaRight" fmla="*/ 2398680 w 24498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66792" h="21600">
                <a:moveTo>
                  <a:pt x="0" y="0"/>
                </a:moveTo>
                <a:lnTo>
                  <a:pt x="66792" y="0"/>
                </a:lnTo>
                <a:lnTo>
                  <a:pt x="66792" y="21600"/>
                </a:lnTo>
                <a:lnTo>
                  <a:pt x="0" y="21600"/>
                </a:lnTo>
                <a:close/>
              </a:path>
              <a:path fill="lightenLess" w="66792" h="21600">
                <a:moveTo>
                  <a:pt x="0" y="0"/>
                </a:moveTo>
                <a:lnTo>
                  <a:pt x="66792" y="0"/>
                </a:lnTo>
                <a:lnTo>
                  <a:pt x="65392" y="1400"/>
                </a:lnTo>
                <a:lnTo>
                  <a:pt x="1400" y="1400"/>
                </a:lnTo>
                <a:close/>
              </a:path>
              <a:path fill="darken" w="66792" h="21600">
                <a:moveTo>
                  <a:pt x="66792" y="0"/>
                </a:moveTo>
                <a:lnTo>
                  <a:pt x="66792" y="21600"/>
                </a:lnTo>
                <a:lnTo>
                  <a:pt x="65392" y="20200"/>
                </a:lnTo>
                <a:lnTo>
                  <a:pt x="65392" y="1400"/>
                </a:lnTo>
                <a:close/>
              </a:path>
              <a:path fill="darkenLess" w="66792" h="21600">
                <a:moveTo>
                  <a:pt x="66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392" y="20200"/>
                </a:lnTo>
                <a:close/>
              </a:path>
              <a:path fill="lighten" w="66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лы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4000" y="5229360"/>
            <a:ext cx="2592360" cy="792000"/>
          </a:xfrm>
          <a:custGeom>
            <a:avLst/>
            <a:gdLst>
              <a:gd name="textAreaLeft" fmla="*/ 51120 w 2592360"/>
              <a:gd name="textAreaRight" fmla="*/ 2541240 w 259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70678" h="21600">
                <a:moveTo>
                  <a:pt x="0" y="0"/>
                </a:moveTo>
                <a:lnTo>
                  <a:pt x="70678" y="0"/>
                </a:lnTo>
                <a:lnTo>
                  <a:pt x="70678" y="21600"/>
                </a:lnTo>
                <a:lnTo>
                  <a:pt x="0" y="21600"/>
                </a:lnTo>
                <a:close/>
              </a:path>
              <a:path fill="lightenLess" w="70678" h="21600">
                <a:moveTo>
                  <a:pt x="0" y="0"/>
                </a:moveTo>
                <a:lnTo>
                  <a:pt x="70678" y="0"/>
                </a:lnTo>
                <a:lnTo>
                  <a:pt x="69278" y="1400"/>
                </a:lnTo>
                <a:lnTo>
                  <a:pt x="1400" y="1400"/>
                </a:lnTo>
                <a:close/>
              </a:path>
              <a:path fill="darken" w="70678" h="21600">
                <a:moveTo>
                  <a:pt x="70678" y="0"/>
                </a:moveTo>
                <a:lnTo>
                  <a:pt x="70678" y="21600"/>
                </a:lnTo>
                <a:lnTo>
                  <a:pt x="69278" y="20200"/>
                </a:lnTo>
                <a:lnTo>
                  <a:pt x="69278" y="1400"/>
                </a:lnTo>
                <a:close/>
              </a:path>
              <a:path fill="darkenLess" w="70678" h="21600">
                <a:moveTo>
                  <a:pt x="70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278" y="20200"/>
                </a:lnTo>
                <a:close/>
              </a:path>
              <a:path fill="lighten" w="70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иана, выс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3284640"/>
            <a:ext cx="228600" cy="14436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3284640"/>
            <a:ext cx="241200" cy="16488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4941720"/>
            <a:ext cx="3456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авнобедре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основани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5013360"/>
            <a:ext cx="3780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внобедре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-ке биссектри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дённая к основан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вляется медиа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ыс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4040" y="1778040"/>
            <a:ext cx="1440" cy="2857320"/>
          </a:xfrm>
          <a:custGeom>
            <a:avLst/>
            <a:gdLst/>
            <a:ahLst/>
            <a:rect l="l" t="t" r="r" b="b"/>
            <a:pathLst>
              <a:path w="1" h="1800">
                <a:moveTo>
                  <a:pt x="0" y="0"/>
                </a:moveTo>
                <a:lnTo>
                  <a:pt x="0" y="1800"/>
                </a:ln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7236800">
            <a:off x="3906720" y="2293560"/>
            <a:ext cx="86040" cy="1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092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511600">
            <a:off x="3779640" y="4365720"/>
            <a:ext cx="274320" cy="207720"/>
          </a:xfrm>
          <a:custGeom>
            <a:avLst/>
            <a:gdLst/>
            <a:ahLst/>
            <a:rect l="l" t="t" r="r" b="b"/>
            <a:pathLst>
              <a:path w="173" h="131">
                <a:moveTo>
                  <a:pt x="173" y="41"/>
                </a:moveTo>
                <a:lnTo>
                  <a:pt x="41" y="0"/>
                </a:lnTo>
                <a:lnTo>
                  <a:pt x="0" y="1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260280"/>
            <a:ext cx="80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дианы, биссектрис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высоты треугольников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989000"/>
            <a:ext cx="2016000" cy="2952720"/>
          </a:xfrm>
          <a:prstGeom prst="triangle">
            <a:avLst>
              <a:gd name="adj" fmla="val 31102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773360"/>
            <a:ext cx="2592360" cy="2160360"/>
          </a:xfrm>
          <a:prstGeom prst="triangle">
            <a:avLst>
              <a:gd name="adj" fmla="val 81079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7440" y="148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4160" y="14130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6160" y="393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272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0520" y="39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09840" y="6286680"/>
            <a:ext cx="254160" cy="21564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5662440"/>
            <a:ext cx="3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7910600">
            <a:off x="4420080" y="2277000"/>
            <a:ext cx="238320" cy="35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5708000">
            <a:off x="4863240" y="2416680"/>
            <a:ext cx="21456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52560" y="1994040"/>
            <a:ext cx="355680" cy="2933640"/>
          </a:xfrm>
          <a:custGeom>
            <a:avLst/>
            <a:gdLst/>
            <a:ahLst/>
            <a:rect l="l" t="t" r="r" b="b"/>
            <a:pathLst>
              <a:path w="224" h="1848">
                <a:moveTo>
                  <a:pt x="0" y="0"/>
                </a:moveTo>
                <a:lnTo>
                  <a:pt x="224" y="184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2880" y="4788000"/>
            <a:ext cx="38160" cy="253800"/>
          </a:xfrm>
          <a:custGeom>
            <a:avLst/>
            <a:gdLst/>
            <a:ahLst/>
            <a:rect l="l" t="t" r="r" b="b"/>
            <a:pathLst>
              <a:path w="24" h="160">
                <a:moveTo>
                  <a:pt x="0" y="0"/>
                </a:moveTo>
                <a:lnTo>
                  <a:pt x="24" y="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4797360"/>
            <a:ext cx="38160" cy="254160"/>
          </a:xfrm>
          <a:custGeom>
            <a:avLst/>
            <a:gdLst/>
            <a:ahLst/>
            <a:rect l="l" t="t" r="r" b="b"/>
            <a:pathLst>
              <a:path w="24" h="160">
                <a:moveTo>
                  <a:pt x="0" y="0"/>
                </a:moveTo>
                <a:lnTo>
                  <a:pt x="24" y="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05240" y="1816200"/>
            <a:ext cx="622440" cy="2120760"/>
          </a:xfrm>
          <a:custGeom>
            <a:avLst/>
            <a:gdLst/>
            <a:ahLst/>
            <a:rect l="l" t="t" r="r" b="b"/>
            <a:pathLst>
              <a:path w="392" h="1336">
                <a:moveTo>
                  <a:pt x="392" y="0"/>
                </a:moveTo>
                <a:lnTo>
                  <a:pt x="0" y="1336"/>
                </a:lnTo>
              </a:path>
            </a:pathLst>
          </a:cu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9440" y="393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365720"/>
            <a:ext cx="2592360" cy="2160360"/>
          </a:xfrm>
          <a:prstGeom prst="triangle">
            <a:avLst>
              <a:gd name="adj" fmla="val 3502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22800" y="4368960"/>
            <a:ext cx="1440" cy="2146320"/>
          </a:xfrm>
          <a:custGeom>
            <a:avLst/>
            <a:gdLst/>
            <a:ahLst/>
            <a:rect l="l" t="t" r="r" b="b"/>
            <a:pathLst>
              <a:path w="1" h="1352">
                <a:moveTo>
                  <a:pt x="0" y="0"/>
                </a:moveTo>
                <a:lnTo>
                  <a:pt x="0" y="1352"/>
                </a:lnTo>
              </a:path>
            </a:pathLst>
          </a:custGeom>
          <a:noFill/>
          <a:ln w="572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800" y="633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4160" y="39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34160" y="6338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5080" y="6021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522936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573408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64000" y="623736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с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72436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52600" y="5335560"/>
                <a:ext cx="652932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ОB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ВОC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АО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умма смежных углов равна 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565800" y="14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08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344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4130640"/>
            <a:ext cx="4381200" cy="12600"/>
          </a:xfrm>
          <a:custGeom>
            <a:avLst/>
            <a:gdLst/>
            <a:ahLst/>
            <a:rect l="l" t="t" r="r" b="b"/>
            <a:pathLst>
              <a:path w="2760" h="8">
                <a:moveTo>
                  <a:pt x="0" y="0"/>
                </a:moveTo>
                <a:lnTo>
                  <a:pt x="2760" y="8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1700280"/>
            <a:ext cx="1447920" cy="2413080"/>
          </a:xfrm>
          <a:custGeom>
            <a:avLst/>
            <a:gdLst/>
            <a:ahLst/>
            <a:rect l="l" t="t" r="r" b="b"/>
            <a:pathLst>
              <a:path w="912" h="1520">
                <a:moveTo>
                  <a:pt x="912" y="0"/>
                </a:moveTo>
                <a:lnTo>
                  <a:pt x="0" y="152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380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260280"/>
            <a:ext cx="7705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межные угл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79280" y="620640"/>
            <a:ext cx="86425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вносторонний треугольник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5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2160" y="134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89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3500280"/>
            <a:ext cx="228600" cy="14472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5661000"/>
            <a:ext cx="6769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авностороннем треуголь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е сторон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Ы и все угл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1773360"/>
            <a:ext cx="4032000" cy="34876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9640" y="3500280"/>
            <a:ext cx="241200" cy="16524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8920" y="51213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0"/>
                </a:move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8620200">
            <a:off x="2986920" y="4581000"/>
            <a:ext cx="36036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5905400">
            <a:off x="4410720" y="2149920"/>
            <a:ext cx="36036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611200">
            <a:off x="5795640" y="4581360"/>
            <a:ext cx="36036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708360" y="5197320"/>
                <a:ext cx="338472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724360" y="1989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278136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333360"/>
            <a:ext cx="8208720" cy="1440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углы равнобедренного тр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угол при основании в 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льше угла, противолежащего осн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3" action="ppaction://hlinksldjump"/>
          </p:cNvPr>
          <p:cNvSpPr/>
          <p:nvPr/>
        </p:nvSpPr>
        <p:spPr>
          <a:xfrm>
            <a:off x="8388360" y="35002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4149720"/>
            <a:ext cx="3095640" cy="107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4" action="ppaction://hlinksldjump"/>
          </p:cNvPr>
          <p:cNvSpPr/>
          <p:nvPr/>
        </p:nvSpPr>
        <p:spPr>
          <a:xfrm>
            <a:off x="8388360" y="4797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9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144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544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&amp;Kcy;&amp;acy;&amp;rcy;&amp;tcy;&amp;icy;&amp;ncy;&amp;kcy;&amp;acy; 27 &amp;icy;&amp;zcy; 36954"/>
          <p:cNvPicPr/>
          <p:nvPr/>
        </p:nvPicPr>
        <p:blipFill>
          <a:blip r:embed="rId5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71640" y="2205000"/>
            <a:ext cx="2376360" cy="316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938800">
            <a:off x="1596600" y="2228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7800" y="2106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4809800">
            <a:off x="310824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416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2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4809800">
            <a:off x="116352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4944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2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8:30:05Z</dcterms:created>
  <dc:creator>КарМаН</dc:creator>
  <dc:description/>
  <dc:language>en-US</dc:language>
  <cp:lastModifiedBy>Мама</cp:lastModifiedBy>
  <dcterms:modified xsi:type="dcterms:W3CDTF">2012-08-04T04:13:56Z</dcterms:modified>
  <cp:revision>152</cp:revision>
  <dc:subject/>
  <dc:title>Слайд 1</dc:title>
</cp:coreProperties>
</file>