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F09-3565-4200-8D38-4BE8D335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A9A-55B2-40D7-8CEB-65F6EB0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5BE-B68F-40EF-838C-CF94111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6D9-7CD4-4ECB-802A-1D81AB1D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BE11-8634-47C7-89EC-E9470CBB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6C27-5EA8-42C2-BC01-149AA465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07DB6-AA8C-4BEF-ADD6-272C4619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2EB15-5B42-4F38-930C-D3CCB14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D2269-EFF2-4A83-BB9E-086A680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12FB-D0A4-4CFF-A886-A7E508A9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9C70-B322-4F33-A2ED-252DC14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D98-611B-491F-9364-B3273100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21F7-6383-4BFB-9189-8CB0558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5CC4-0792-459A-9D2D-7CDFC147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0A73-8C53-40A7-8299-7EABE627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98DF7-4C11-4417-A077-B3FBF3F2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80870-24BB-4F06-833D-D966C5FB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DD9-C312-4EB4-87EA-5142469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F7B-DB84-4C38-92D3-192B12CC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3CE-A5BD-4A65-9AF0-9581B3C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16E-78C5-44B2-BF8C-0EFDE4C3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2A5-D89D-4652-93B0-9570A61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93C-3657-46E1-A869-7944704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2BE-219E-4A37-99AB-A1005E4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E8E-100F-4DF7-A291-668FE803D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2F4-47E0-4858-92CD-D37118B1EF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спользование  здоровьесберегающих технолог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Здоровье — великое дело как для того, кто им пользуется, так и для друг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33760" y="1994040"/>
            <a:ext cx="416268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810160" cy="454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29574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384720" cy="454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4560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Горизонтальная восьмёр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тягиваем перед собой правую руку на уровне глаз, пальцы сжимаем в кулак, оставляя вытянутым указательный и сред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ем в воздухе этими пальцами горизонтальную восьмерку как можно большего размера. Когда рука из центра этого знака пойдет вверх, начать следить глазами, не мигая, не поворачивая гл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ыхательные упраж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"Подуем на одуванчик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ложите детям сорвать отцветший одуванчик, поднесите его к губам (держать на небольшом расстоянии) и подуть так, чтобы слетели все семена-парашютики. Задание выполняется вначале в несколько приемов, а затем дети пытаются сдуть парашютики за время одного долгого выдо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"Подуем на листики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ладошку положить упавший листок или лист, вырезанный из бумаги, и сдуть е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нег, снег кружится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пражнение на воображение. Дети представляют как в воздухе кружатся снежинки, и дуют на н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305080" cy="24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4005360"/>
            <a:ext cx="237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альчиковые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Грабл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истья падают в сад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Я их граблями сме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адони на себя, пальчики переплетены между собой выпрямлены и тоже направлены на себ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Очк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абушка очки наде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 внучонка разгляд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ольшой палец правой и левой руки вместе с остальными образуют колечко. Колечки поднести к глаза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9433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19640" y="4141800"/>
            <a:ext cx="2952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елаксаци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Задуй свечу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убоко вдохнуть, набирая в легкие как можно больше воздуха. Затем, вытянув губы трубочкой, медленно выдохнуть, как бы дуя на свечу, при этом длительно произносить звук “у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48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Это всё разрушает наше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        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332000" y="4005360"/>
            <a:ext cx="136692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4076640"/>
            <a:ext cx="1387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Берегите свое здоровь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84360" y="981000"/>
            <a:ext cx="45147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!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на тему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Использование здоровьесберегающих технологий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0552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зентацию подгото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ОУ СОШ №3 г. Пушк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сков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ихай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ан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6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Цель: </a:t>
            </a: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охрана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и укрепление здоровья учащих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у учащихся потребности в здоровье и здоровом образе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системы знаний о здоровье и здоровом образе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умений и навыков по физическому и нравственному самоусовершенствован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гигиенических навы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78200" y="1954080"/>
            <a:ext cx="396108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Направления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режим дня, учёбы и отды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личная гигие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сновы рационального 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доровье и здоровый образ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начение физкультуры и закаливания для сохранения здоровь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антиалкогольное и антитабачное воспит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46544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физкультурные зан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физкультурно-оздоровительные мероприятия в режиме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портивные праздн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занятия в спортивных сек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2360" cy="241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39640" y="404640"/>
            <a:ext cx="7848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новные  формы    физического  воспитани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омпоненты здоровьесберегающих технолог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физминутки (динамические пауз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альчиковы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инезиологические приё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гимнастика для глаз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ыхательные упраж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елакс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3214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изминутки для улучшения мозгового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       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Парох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роход плывет по реч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ыхтит он, словно пе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Обе ладони поставлены на ребро, чуть согнуты – пароход, большие пальцы подняты вверх – труб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Качание голов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лучшает мыслительную деятельность и мозговое кровообращение. Дышать глубоко, уронить голову вперед, плечи расправ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95640" cy="454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2464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Кинезиологически упраж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3168720" cy="447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1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456000" cy="4546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413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8:45:12Z</dcterms:created>
  <dc:creator>Евгений</dc:creator>
  <dc:description/>
  <dc:language>en-US</dc:language>
  <cp:lastModifiedBy>Евгений</cp:lastModifiedBy>
  <dcterms:modified xsi:type="dcterms:W3CDTF">2012-08-07T11:33:54Z</dcterms:modified>
  <cp:revision>2</cp:revision>
  <dc:subject/>
  <dc:title>Использование  здоровьесберегающих технологий</dc:title>
</cp:coreProperties>
</file>