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6.jpeg" ContentType="image/jpeg"/>
  <Override PartName="/ppt/media/image28.jpeg" ContentType="image/jpeg"/>
  <Override PartName="/ppt/media/image7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2.jpeg" ContentType="image/jpeg"/>
  <Override PartName="/ppt/media/image23.png" ContentType="image/pn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2.png" ContentType="image/png"/>
  <Override PartName="/ppt/media/image24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0.png" ContentType="image/png"/>
  <Override PartName="/ppt/media/image2.jpeg" ContentType="image/jpeg"/>
  <Override PartName="/ppt/media/image1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2CC58-9335-4BA4-8D29-A23FB674E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58590-4ECB-41B1-B4A1-9337BF9C7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45827-3F04-4A5D-95BE-EA010AF98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91FEE-B24D-4C63-ABFF-D2BECDAD4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8881EA-4615-4148-91AB-5758E94D8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D71291-394F-4FB0-AA56-929154E2E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184F16-37E5-47C6-BACA-777A59781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B69AB0-ACAA-4BE3-835C-1E63AEC7D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140648-C923-49FE-AC32-08D8A7197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F99B10-EC7A-4264-AC7E-887D83585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2D9C5B-6700-4F28-A046-254D0303D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EE69F-2E10-4BE2-9216-BDD0CB287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261BCC-6540-498F-8E29-646D82079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967EA8-CDB4-41CB-B46B-075F3AF95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AB60A1-E89C-4E68-B319-42128D4F3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6490DA-111C-4120-A999-0E2774DC7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10DBC1-EB65-4926-891D-BBF25BF97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B547D-EE41-45B6-9870-7AF7F7E3F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8D01F-945F-45A9-922E-D51D80EF2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B1C23-1AA3-4CEC-BE73-FF02A8FD3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BA9DA-C3BF-404A-9CF8-458A645D1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8CA47-D9A1-4F25-8E49-B658727D2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060C4-3EAD-4F93-93CF-04C84D024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26BAE-0C26-4DDF-B388-59616E81A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D9ED3-6BF9-45E6-A5F6-9FDD0D11874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63B3E-8364-4BEA-9738-2A2EE2B10BC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slideLayout" Target="../slideLayouts/slideLayout1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Использование  здоровьесберегающих технологи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4041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i="1" lang="en-US" sz="3600" spc="-1" strike="noStrike">
                <a:solidFill>
                  <a:srgbClr val="ffffff"/>
                </a:solidFill>
                <a:latin typeface="Tahoma"/>
              </a:rPr>
              <a:t>Здоровье — великое дело как для того, кто им пользуется, так и для других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4433760" y="1994040"/>
            <a:ext cx="4162680" cy="320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ahoma"/>
              </a:rPr>
              <a:t>Кинезиологические упражнения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539640" y="1484280"/>
            <a:ext cx="2810160" cy="45468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5148360" y="1484280"/>
            <a:ext cx="2957400" cy="454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ahoma"/>
              </a:rPr>
              <a:t>Кинезиологические упражнения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395280" y="1484280"/>
            <a:ext cx="3384720" cy="45468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5148360" y="1484280"/>
            <a:ext cx="3456000" cy="454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Гимнастика для глаз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Tahoma"/>
              </a:rPr>
              <a:t>Горизонтальная восьмёрк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ытягиваем перед собой правую руку на уровне глаз, пальцы сжимаем в кулак, оставляя вытянутым указательный и средний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Рисуем в воздухе этими пальцами горизонтальную восьмерку как можно большего размера. Когда рука из центра этого знака пойдет вверх, начать следить глазами, не мигая, не поворачивая глаз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4356000" y="2060640"/>
            <a:ext cx="453708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Дыхательные упражнени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. </a:t>
            </a:r>
            <a:r>
              <a:rPr b="0" lang="ru-RU" sz="2000" spc="-1" strike="noStrike">
                <a:solidFill>
                  <a:srgbClr val="ffcc00"/>
                </a:solidFill>
                <a:latin typeface="Tahoma"/>
              </a:rPr>
              <a:t>"Подуем на одуванчик"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Предложите детям сорвать отцветший одуванчик, поднесите его к губам (держать на небольшом расстоянии) и подуть так, чтобы слетели все семена-парашютики. Задание выполняется вначале в несколько приемов, а затем дети пытаются сдуть парашютики за время одного долгого выдоха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00"/>
                </a:solidFill>
                <a:latin typeface="Tahoma"/>
              </a:rPr>
              <a:t>"Подуем на листики".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На ладошку положить упавший листок или лист, вырезанный из бумаги, и сдуть его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"</a:t>
            </a:r>
            <a:r>
              <a:rPr b="0" lang="ru-RU" sz="1800" spc="-1" strike="noStrike">
                <a:solidFill>
                  <a:srgbClr val="ffcc00"/>
                </a:solidFill>
                <a:latin typeface="Tahoma"/>
              </a:rPr>
              <a:t>Снег, снег кружится".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Упражнение на воображение. Дети представляют как в воздухе кружатся снежинки, и дуют на них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5867280" y="1484280"/>
            <a:ext cx="2305080" cy="24130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5867280" y="4005360"/>
            <a:ext cx="2376720" cy="23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Пальчиковые игры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«Грабли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Листья падают в саду,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Я их граблями смету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Ладони на себя, пальчики переплетены между собой выпрямлены и тоже направлены на себя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«Очки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Бабушка очки надела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И внучонка разглядела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Большой палец правой и левой руки вместе с остальными образуют колечко. Колечки поднести к глазам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5219640" y="1700280"/>
            <a:ext cx="2943360" cy="19447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5219640" y="4141800"/>
            <a:ext cx="2952720" cy="23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Релаксация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Задуй свечу”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Глубоко вдохнуть, набирая в легкие как можно больше воздуха. Затем, вытянув губы трубочкой, медленно выдохнуть, как бы дуя на свечу, при этом длительно произносить звук “у”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1979640" y="4005360"/>
            <a:ext cx="482436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        </a:t>
            </a: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Это всё разрушает наше </a:t>
            </a: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                 здоровье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2771640" y="1989000"/>
            <a:ext cx="1968480" cy="198144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6443640" y="1916280"/>
            <a:ext cx="1981080" cy="198108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4"/>
          <a:stretch/>
        </p:blipFill>
        <p:spPr>
          <a:xfrm>
            <a:off x="1332000" y="4005360"/>
            <a:ext cx="1366920" cy="198108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5"/>
          <a:stretch/>
        </p:blipFill>
        <p:spPr>
          <a:xfrm>
            <a:off x="4932360" y="4076640"/>
            <a:ext cx="138744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-1717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Берегите свое здоровье!!!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2484360" y="981000"/>
            <a:ext cx="4514760" cy="77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Будьте здоровы!!!</a:t>
            </a:r>
            <a:endParaRPr b="0" lang="en-US" sz="4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1258920" y="1916280"/>
            <a:ext cx="640872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езентация на тему: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4000"/>
            </a:b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«Использование здоровьесберегающих технологий»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105520" y="206064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Презентацию подготовила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учитель начальных классов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МАОУ СОШ №3 г. Пушкино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Московской област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Михайлов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Жанна Николаевн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250920" y="1989000"/>
            <a:ext cx="460836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Tahoma"/>
              </a:rPr>
              <a:t>Цель: </a:t>
            </a:r>
            <a:r>
              <a:rPr b="1" lang="en-US" sz="3600" spc="-1" strike="noStrike">
                <a:solidFill>
                  <a:srgbClr val="010199"/>
                </a:solidFill>
                <a:latin typeface="Tahoma"/>
              </a:rPr>
              <a:t>охрана</a:t>
            </a:r>
            <a:r>
              <a:rPr b="0" lang="en-US" sz="4400" spc="-1" strike="noStrike">
                <a:solidFill>
                  <a:srgbClr val="010199"/>
                </a:solidFill>
                <a:latin typeface="Tahoma"/>
              </a:rPr>
              <a:t> </a:t>
            </a:r>
            <a:r>
              <a:rPr b="1" lang="en-US" sz="4000" spc="-1" strike="noStrike">
                <a:solidFill>
                  <a:srgbClr val="010199"/>
                </a:solidFill>
                <a:latin typeface="Tahoma"/>
              </a:rPr>
              <a:t>и укрепление здоровья учащихся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4041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Задачи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- формирование у учащихся потребности в здоровье и здоровом образе жизни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- формирование системы знаний о здоровье и здоровом образе жизни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- формирование умений и навыков по физическому и нравственному самоусовершенствованию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- формирование гигиенических навыков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4678200" y="1954080"/>
            <a:ext cx="3961080" cy="4056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Направления: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- режим дня, учёбы и отдыха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- личная гигиена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- основы рационального питания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- здоровье и здоровый образ жизни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- значение физкультуры и закаливания для сохранения здоровья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- антиалкогольное и антитабачное воспитание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4427640" y="1916280"/>
            <a:ext cx="4465440" cy="381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 физкультурные занятия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 физкультурно-оздоровительные мероприятия в режиме дня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 спортивные праздники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 занятия в спортивных секциях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4643280" y="1484280"/>
            <a:ext cx="4032360" cy="24130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4643280" y="4005360"/>
            <a:ext cx="3961080" cy="25923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 txBox="1"/>
          <p:nvPr/>
        </p:nvSpPr>
        <p:spPr>
          <a:xfrm>
            <a:off x="539640" y="404640"/>
            <a:ext cx="7848720" cy="581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Основные  формы    физического  воспитания</a:t>
            </a:r>
            <a:endParaRPr b="0" lang="en-US" sz="32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Компоненты здоровьесберегающих технологи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- физминутки (динамические паузы)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- пальчиковые игры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- кинезиологические приёмы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- гимнастика для глаз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- дыхательные упражнения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- релаксаци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643280" y="1844640"/>
            <a:ext cx="4321440" cy="36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         </a:t>
            </a: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Физминутки для улучшения мозгового</a:t>
            </a:r>
            <a:br>
              <a:rPr sz="2800"/>
            </a:b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                       кровообращен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«Пароход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Пароход плывет по речке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И пыхтит он, словно печк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(Обе ладони поставлены на ребро, чуть согнуты – пароход, большие пальцы подняты вверх – труба)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«Качание головой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Улучшает мыслительную деятельность и мозговое кровообращение. Дышать глубоко, уронить голову вперед, плечи расправить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4648320" y="2060640"/>
            <a:ext cx="4038480" cy="338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ahoma"/>
              </a:rPr>
              <a:t>Кинезиологические упражнения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755640" y="1413000"/>
            <a:ext cx="3095640" cy="45464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4716360" y="1413000"/>
            <a:ext cx="3246480" cy="460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ahoma"/>
              </a:rPr>
              <a:t>Кинезиологически упражнени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1187280" y="1557360"/>
            <a:ext cx="3168720" cy="44737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5219640" y="1557360"/>
            <a:ext cx="316872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ahoma"/>
              </a:rPr>
              <a:t>Кинезиологические упражнения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1116000" y="1484280"/>
            <a:ext cx="3456000" cy="45468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5292720" y="1484280"/>
            <a:ext cx="341316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07T08:45:12Z</dcterms:created>
  <dc:creator>Евгений</dc:creator>
  <dc:description/>
  <dc:language>en-US</dc:language>
  <cp:lastModifiedBy>Евгений</cp:lastModifiedBy>
  <dcterms:modified xsi:type="dcterms:W3CDTF">2012-08-07T11:33:54Z</dcterms:modified>
  <cp:revision>2</cp:revision>
  <dc:subject/>
  <dc:title>Использование  здоровьесберегающих технологий</dc:title>
</cp:coreProperties>
</file>