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4EBC-0AE3-413C-9238-39A3A76CD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0320-026C-4483-A67C-703D4944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4ED0-8905-484D-B55D-7E3DB538E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CED9-8A91-4EBA-A987-D0C49ED07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E9BF-9478-4DCA-9329-401799A2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BC60-59A9-4134-B45B-811C9FEB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2AB8-B8E2-4495-83C9-1EA71D48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03EB-60AB-4A7A-8C0E-F7C8359F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85FE-715B-4B34-8FF3-C09F1807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7B82-897C-40C9-96CD-74941A19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8C43-EE1C-451B-8BBA-80710025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B266-F8A9-483D-843D-7853364D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4AFA-E164-4F4F-8A6C-D4B987E8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B287-9E16-4000-987B-43E9C85E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2CBD-EC0B-40C3-8351-20A693F6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B758-1AFC-4A75-A67F-67834A7EA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5502-6DD6-43A0-9F80-C8843DCD9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049A-5D30-46A3-BBB8-4E278D6B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D31C-F052-4D04-8156-2DEA48F4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CF74-A9BD-46E8-B132-D32DDB0F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0D71-F14B-453F-AFF8-E9FBB3A3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74B9-5D33-4127-BE14-F2A81F3A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A589-47AE-45C4-A991-32151940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0FBE-269C-4331-9840-5B5C7D92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2680d2"/>
                </a:gs>
                <a:gs pos="100000">
                  <a:srgbClr val="174e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2680d2"/>
                </a:gs>
                <a:gs pos="100000">
                  <a:srgbClr val="174e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2680d2"/>
                </a:gs>
                <a:gs pos="100000">
                  <a:srgbClr val="174e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2680d2"/>
                </a:gs>
                <a:gs pos="100000">
                  <a:srgbClr val="174e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2680d2"/>
                </a:gs>
                <a:gs pos="100000">
                  <a:srgbClr val="174e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306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306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2680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2680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2680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0382-1659-4229-BD1D-9E83A6861F5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2680d2"/>
                </a:gs>
                <a:gs pos="100000">
                  <a:srgbClr val="174e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2680d2"/>
                </a:gs>
                <a:gs pos="100000">
                  <a:srgbClr val="174e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2680d2"/>
                </a:gs>
                <a:gs pos="100000">
                  <a:srgbClr val="174e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244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2680d2"/>
                </a:gs>
                <a:gs pos="100000">
                  <a:srgbClr val="174e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2680d2"/>
                </a:gs>
                <a:gs pos="100000">
                  <a:srgbClr val="174e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306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306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2680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2680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2680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449A-242B-49BF-95E3-F0CD41F49E9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hyperlink" Target="http://www.astronaut.ru/as_rusia/lady80/foto/ivanova_s.htm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astronaut.ru/as_rusia/lady80/foto/ivanova_s.htm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warheroes.ru/hero/hero.asp?Hero_id=1306" TargetMode="External"/><Relationship Id="rId3" Type="http://schemas.openxmlformats.org/officeDocument/2006/relationships/hyperlink" Target="http://www.warheroes.ru/hero/hero.asp?Hero_id=1306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C:\Documents and Settings\Admin\Мои документы\Фото космос\98815_1024_768[1]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C:\Documents and Settings\Admin\Мои документы\Фото космос\107107_1024_768[1]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2560" y="1213920"/>
            <a:ext cx="9001080" cy="5286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daeff"/>
                </a:solidFill>
                <a:latin typeface="Arial"/>
              </a:rPr>
              <a:t>Женщины космонавты России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0" y="47862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C:\Documents and Settings\Admin\Мои документы\Фото космос\127501_1024_768[1]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Статус на текущее врем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507168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Verdana"/>
              </a:rPr>
              <a:t>   </a:t>
            </a:r>
            <a:r>
              <a:rPr b="0" i="1" lang="ru-RU" sz="3200" spc="-1" strike="noStrike">
                <a:solidFill>
                  <a:srgbClr val="ffff00"/>
                </a:solidFill>
                <a:latin typeface="Verdana"/>
              </a:rPr>
              <a:t>1997 г.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- выбыла из отряда космонавтов в связи с достижением предельного возраста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3" descr="C:\Documents and Settings\Admin\Мои документы\Фото космос\184302_1024_768[1]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торой набор женщин космонавт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3" name="Picture 2" descr="http://www.astronaut.ru/as_rusia/energia/foto/kuleshova.jpg"/>
          <p:cNvPicPr/>
          <p:nvPr/>
        </p:nvPicPr>
        <p:blipFill>
          <a:blip r:embed="rId2"/>
          <a:stretch/>
        </p:blipFill>
        <p:spPr>
          <a:xfrm>
            <a:off x="0" y="1357200"/>
            <a:ext cx="2797200" cy="3286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http://www.astronaut.ru/as_rusia/lady80/foto/ivanova_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72080" y="1500120"/>
            <a:ext cx="2928960" cy="3286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http://www.astronaut.ru/as_rusia/an/foto/latisheva.jpg"/>
          <p:cNvPicPr/>
          <p:nvPr/>
        </p:nvPicPr>
        <p:blipFill>
          <a:blip r:embed="rId5"/>
          <a:stretch/>
        </p:blipFill>
        <p:spPr>
          <a:xfrm>
            <a:off x="2928960" y="1500120"/>
            <a:ext cx="2492280" cy="3191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http://www.astronaut.ru/as_rusia/energia/foto/pronina.jpg"/>
          <p:cNvPicPr/>
          <p:nvPr/>
        </p:nvPicPr>
        <p:blipFill>
          <a:blip r:embed="rId6"/>
          <a:stretch/>
        </p:blipFill>
        <p:spPr>
          <a:xfrm>
            <a:off x="1285920" y="4286160"/>
            <a:ext cx="2571840" cy="27860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5" descr="СавицкаяСветлана Евгеньевна"/>
          <p:cNvPicPr/>
          <p:nvPr/>
        </p:nvPicPr>
        <p:blipFill>
          <a:blip r:embed="rId7"/>
          <a:stretch/>
        </p:blipFill>
        <p:spPr>
          <a:xfrm>
            <a:off x="4071960" y="4286160"/>
            <a:ext cx="25002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3" descr="C:\Documents and Settings\Admin\Мои документы\Фото космос\184302_1024_768[1]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Наталия Дмитриевна Кулешов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214880" y="1599840"/>
            <a:ext cx="4929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одилась 14 марта 1956 года в поселке Новый городок Одинцовского района Московской области, РСФСР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 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 21 августа 1978 года работала инженером 30-го отдела НПО «Энергия». С 1 июля 1980 года до зачисления в отряд работала инженером 151-го отдела НПО «Энергия». После ухода из отряда космонавтов с 23 августа 1992 года работала инженером 2-й категории 292-го отдела НПО «Энергия».  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Picture 2" descr="http://www.astronaut.ru/as_rusia/energia/foto/kuleshova.jpg"/>
          <p:cNvPicPr/>
          <p:nvPr/>
        </p:nvPicPr>
        <p:blipFill>
          <a:blip r:embed="rId2"/>
          <a:stretch/>
        </p:blipFill>
        <p:spPr>
          <a:xfrm>
            <a:off x="0" y="1643040"/>
            <a:ext cx="42148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3" descr="C:\Documents and Settings\Admin\Мои документы\Фото космос\184302_1024_768[1]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Ирина Рудольфовна Пронина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000320" y="1357200"/>
            <a:ext cx="51433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одилась 14 апреля 1953 года в городе Москва, РСФСР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С марта 1976 по декабрь 1980 года работала инженером в НИИ тепловых процессов (НИИ ТП). В декабре 1980 года была переведена в НПО «Энергия». После ухода из отряда космонавтов с 23 июля 1992 года работала инженером 2-й категории 292-го отдела НПО «Энергия». Принимала участие в работах по созданию и работе с ОК «Мир».   &lt;&gt;&lt;&gt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2" descr="http://www.astronaut.ru/as_rusia/energia/foto/pronina.jpg"/>
          <p:cNvPicPr/>
          <p:nvPr/>
        </p:nvPicPr>
        <p:blipFill>
          <a:blip r:embed="rId2"/>
          <a:stretch/>
        </p:blipFill>
        <p:spPr>
          <a:xfrm>
            <a:off x="0" y="1463760"/>
            <a:ext cx="4000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3" descr="C:\Documents and Settings\Admin\Мои документы\Фото космос\184302_1024_768[1]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Ирина Дмитриевна Латышев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000320" y="1599840"/>
            <a:ext cx="5143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одилась 9 июля 1953 года в Моск С сентября 1977 года работала инженером Института радиотехники и электроники (ИРЭ) АН СССР. Принимала участие в подготовке аппаратуры и постановке экспериментов на КА "Астрон". В 1985 - 1992 годах занималась астрономическими наблюдениями на оптическом телескопе Крымской обсерватории Государственного астрономического института им.П.К.Штернберга (ГАИШ). Проводила наблюдения рентгеновских астрофизических объектов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Picture 2" descr="http://www.astronaut.ru/as_rusia/an/foto/latisheva.jpg"/>
          <p:cNvPicPr/>
          <p:nvPr/>
        </p:nvPicPr>
        <p:blipFill>
          <a:blip r:embed="rId2"/>
          <a:stretch/>
        </p:blipFill>
        <p:spPr>
          <a:xfrm>
            <a:off x="0" y="1809720"/>
            <a:ext cx="394344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3" descr="C:\Documents and Settings\Admin\Мои документы\Фото космос\184302_1024_768[1]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Екатерина Александровна Иванова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000320" y="1000080"/>
            <a:ext cx="51433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Родилась 3 октября 1949 года в городе Ленинград, РСФСР.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 время учебы в институте (1967 - 1973 годы) преподавала в Клубе юных космонавтов аэродинамику и работала воспитателем в летнем лагере Клуба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38840" indent="-438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 ноября 1972 по январь 1973 года работала лаборантом НИИ командных приборов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38840" indent="-438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 апреля 1973 года работала инженером НИИ командных приборов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38840" indent="-438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C декабря 1975 по декабрь 1978 года работала аспиранткой, а с января 1979 по август 1982 года - младшим научным сотрудником (м.н.с.) кафедры №5 Ленинградского механического института. Участвовала в выполнении научно-исследовательских работ по заданию ЦПК им.Ю.А. Гагарина. В июле 1982 года участвовала в эксперименте ИМБП по гипокинезии. С сентября 1982 по март 1983 года работала ассистентом в ЛМИ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38840" indent="-438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меет два авторских свидетельства на изобретения в области систем автоматического управления летательными аппаратами (08.02.1982 и 09.03.1983), а также одно рационализаторское предложение (09.10.1975)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38840" indent="-438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ле прекращения подготовки в ЦПК, в мае 1987 года вернулась на работу в ЛМИ. 15 декабря 1994 года ушла на пенсию по выслуге лет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38840" indent="-438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 16 декабря 1994 года работатет ассистентом профессора БГТУ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Picture 2" descr="http://www.astronaut.ru/as_rusia/lady80/foto/ivanova_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214200" y="1500120"/>
            <a:ext cx="41432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3" descr="C:\Documents and Settings\Admin\Мои документы\Фото космос\184302_1024_768[1]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авицкая Светлана Евгеньевн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ветлана Евгеньевна родилась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 в Москве. В семье маршала авиации Евгения Савицкого в августе 1948года.Вторая женщина космонавт в мире. Дважды Герой Советского Союза. Заслуженный мастер спорта СССР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-612720" y="-171360"/>
          <a:ext cx="5370480" cy="3306600"/>
        </p:xfrm>
        <a:graphic>
          <a:graphicData uri="http://schemas.openxmlformats.org/drawingml/2006/table">
            <a:tbl>
              <a:tblPr/>
              <a:tblGrid>
                <a:gridCol w="301680"/>
                <a:gridCol w="262440"/>
                <a:gridCol w="262440"/>
                <a:gridCol w="3896640"/>
                <a:gridCol w="216000"/>
                <a:gridCol w="216000"/>
                <a:gridCol w="216000"/>
              </a:tblGrid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ru-RU" sz="17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                                                                          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9" name="Picture 5" descr="0"/>
          <p:cNvPicPr/>
          <p:nvPr/>
        </p:nvPicPr>
        <p:blipFill>
          <a:blip r:embed="rId2"/>
          <a:stretch/>
        </p:blipFill>
        <p:spPr>
          <a:xfrm>
            <a:off x="131760" y="158436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0"/>
          <p:cNvPicPr/>
          <p:nvPr/>
        </p:nvPicPr>
        <p:blipFill>
          <a:blip r:embed="rId3"/>
          <a:stretch/>
        </p:blipFill>
        <p:spPr>
          <a:xfrm>
            <a:off x="434880" y="158436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0"/>
          <p:cNvPicPr/>
          <p:nvPr/>
        </p:nvPicPr>
        <p:blipFill>
          <a:blip r:embed="rId4"/>
          <a:stretch/>
        </p:blipFill>
        <p:spPr>
          <a:xfrm>
            <a:off x="698400" y="1584360"/>
            <a:ext cx="38160" cy="9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" descr="0"/>
          <p:cNvPicPr/>
          <p:nvPr/>
        </p:nvPicPr>
        <p:blipFill>
          <a:blip r:embed="rId5"/>
          <a:stretch/>
        </p:blipFill>
        <p:spPr>
          <a:xfrm>
            <a:off x="961920" y="4608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3" descr="0"/>
          <p:cNvPicPr/>
          <p:nvPr/>
        </p:nvPicPr>
        <p:blipFill>
          <a:blip r:embed="rId6"/>
          <a:stretch/>
        </p:blipFill>
        <p:spPr>
          <a:xfrm>
            <a:off x="961920" y="274680"/>
            <a:ext cx="9720" cy="38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5" descr="СавицкаяСветлана Евгеньевна"/>
          <p:cNvPicPr/>
          <p:nvPr/>
        </p:nvPicPr>
        <p:blipFill>
          <a:blip r:embed="rId7"/>
          <a:stretch/>
        </p:blipFill>
        <p:spPr>
          <a:xfrm>
            <a:off x="-84240" y="1413000"/>
            <a:ext cx="4872240" cy="5445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50"/>
          <p:cNvSpPr/>
          <p:nvPr/>
        </p:nvSpPr>
        <p:spPr>
          <a:xfrm>
            <a:off x="3780000" y="6237360"/>
            <a:ext cx="5511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Rectangle 53"/>
          <p:cNvSpPr/>
          <p:nvPr/>
        </p:nvSpPr>
        <p:spPr>
          <a:xfrm>
            <a:off x="-3060720" y="3500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C:\Documents and Settings\Admin\Мои документы\Фото космос\184302_1024_768[1]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осмонавт –исследователь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С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авицкая Светлана Евгеньевна - лётчик-космонавт СССР № 53, космонавт-исследователь космического корабля (КК) "Союз Т-7", бортинженер КК "Союз Т-12" и орбитальной станции "Салют-7", первая женщина в мире, совершившая выход в космическое пространство, первая и единственная женщина дважды Герой Советского Союза, кандидат технических наук, заслуженный мастер спорта Союза Советских Социалистических Республик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C:\Documents and Settings\Admin\Мои документы\Фото космос\184302_1024_768[1]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ервый космический полет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13840" y="1285920"/>
            <a:ext cx="8472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</a:t>
            </a:r>
            <a:br>
              <a:rPr sz="20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ервый космический полет продолжительностью 7 суток 21 час 52 минуты 24 секунды С.Е. Савицкая совершила 19-27 августа 1982 года в качестве космонавта-исследователя на КК "Союз Т-7" и орбитальной станции "Салют-7" совместно с командиром экипажа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Поповым Л.И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и бортинженером Серебровым А.А. В ходе полёта на орбитальном комплексе "Салют-7" - "Союз Т-5" - "Союз Т-7" экипаж в составе Березового А.Н., Лебедева В.В.,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Попова Л.И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 Сереброва А.А., Савицкой С.Е. провел технические, гео- и астрофизические исследования, выполнил биотехнологические и медико-биологические эксперименты. Она стала 53-м советским космонавтом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 111-м космонавтом мира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8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C:\Documents and Settings\Admin\Мои документы\Фото космос\184302_1024_768[1]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торой космический полёт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торой космический полет продолжительностью 11 суток 19 часов 14 минут 36 секунд Герой Советского Союза Савицкая С.Е. совершила 17-29 июля 1984 года в качестве бортинженера КК "Союз Т-12" и орбитальной станции "Салют-7" совместно с командиром экипажа Джанибековым В.А. и космонавтом-исследователем Волком И.П. В ходе полета на орбитальном комплексе "Салют-7" - "Союз Т-11" - "Союз Т-12" космический экипаж в составе Кизима Л.Д., Соловьева В.А., Атькова О.Ю., Джанибекова В.А., Савицкой С.Е., Волка И.П. провел ряд совместных экспериментов и исследований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C:\Documents and Settings\Admin\Мои документы\Фото космос\127501_1024_768[1].jpg"/>
          <p:cNvPicPr/>
          <p:nvPr/>
        </p:nvPicPr>
        <p:blipFill>
          <a:blip r:embed="rId1"/>
          <a:stretch/>
        </p:blipFill>
        <p:spPr>
          <a:xfrm>
            <a:off x="-28584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285840" y="277920"/>
            <a:ext cx="94298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ервый набор женщин космонавт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00720" y="4642920"/>
            <a:ext cx="464328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Слева направо: Т.Пицхелаури, И.Соловьёва, В.Терешкова, В.Пономарёв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2" descr="женский набор в 1962г"/>
          <p:cNvPicPr/>
          <p:nvPr/>
        </p:nvPicPr>
        <p:blipFill>
          <a:blip r:embed="rId2"/>
          <a:stretch/>
        </p:blipFill>
        <p:spPr>
          <a:xfrm>
            <a:off x="0" y="1428840"/>
            <a:ext cx="43909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C:\Documents and Settings\Admin\Мои документы\Фото космос\184302_1024_768[1]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Женщина в открытом космос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5 июля 1984 года впервые в мире женщина-космонавт Савицкая С.Е. осуществила выход в открытый космос, пробыв вне космического корабля 3 часа 35 минут. Вместе с Джанибековым В.А. ею были выполнены в условиях открытого космоса уникальные эксперименты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4" descr="C:\Documents and Settings\Admin\Мои документы\Фото космос\184302_1024_768[1]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ата выхода из отряд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з отряда ушла в октябре 1993года в звании майора в связи с выходом на пенсию. Завершив полёты в космос, до 1989 года С.Е. Савицкая трудилась на посту заместителя начальника отдела главного конструкторского НПО "Энергия", первого заместителя председателя Советского фонда мира. В 1992-95 годах - доцент Московского государственного авиационного института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5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5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C:\Documents and Settings\Admin\Мои документы\Фото космос\184302_1024_768[1]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татус на текущее врем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7 декабря 1995 года С.Е. Савицкая избрана депутатом Государственной Думы Федерального Собрания Российской Федерации второго созыва. На президентских выборах 1996 года - доверенное лицо Г.А. Зюганова в Московской области. В мае 1997 была избрана первым вице-президентом Российской ассоциации Героев Советского Союза. 19 декабря 1999 избрана депутатом Государственной Думы Федерального Собрания Российской Федерации третьего созыва, а в декабре 2003 года - четвёртого созыва В 2003году и в 2007году депутат Государственной Думы. Член фракции Коммунистической партии Российской Федерации. Проживает в городе-герое Москве.</a:t>
            </a: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7" name="Picture 4" descr="C:\Documents and Settings\Admin\Мои документы\Фото космос\106860_1024_768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7068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Космонавт –испытатель  2006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C:\Documents and Settings\Admin\Мои документы\Фото космос\106860_1024_768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706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Елена Олеговна Серова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142880" y="1213920"/>
            <a:ext cx="50007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одилась 22 апреля 1976 года в поселке Воздвиженка Уссурийского района Приморского края, Росси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Будучи студенткой, с марта по декабрь 1998 года подрабатывала техником в НИИ низких температур при МА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 августа 2001 года работает в РКК «Энергия»: сначала инженером, а с декабря 2004 года – инженером 2-й категории в Главной оперативной группе управления в ЦУПе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 период прохождения общекосмической подготовки прикомандирована к РГНИИ ЦПК имени Ю.А.Гагарин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2" name="Picture 2" descr="http://www.astronaut.ru/as_rusia/2005/foto/serova.jpg"/>
          <p:cNvPicPr/>
          <p:nvPr/>
        </p:nvPicPr>
        <p:blipFill>
          <a:blip r:embed="rId2"/>
          <a:stretch/>
        </p:blipFill>
        <p:spPr>
          <a:xfrm>
            <a:off x="0" y="1494000"/>
            <a:ext cx="419256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C:\Documents and Settings\Admin\Мои документы\Фото космос\127501_1024_768[1]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ного лет спуст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929200" y="1599840"/>
            <a:ext cx="2757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2" descr="женский набор в 1987г"/>
          <p:cNvPicPr/>
          <p:nvPr/>
        </p:nvPicPr>
        <p:blipFill>
          <a:blip r:embed="rId2"/>
          <a:stretch/>
        </p:blipFill>
        <p:spPr>
          <a:xfrm>
            <a:off x="-285840" y="1214280"/>
            <a:ext cx="942984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C:\Documents and Settings\Admin\Мои документы\Фото космос\127501_1024_768[1]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214560" y="277920"/>
            <a:ext cx="9358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Терешкова Валентина Владимировн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ОРЯДКОВЫЙ НОМЕР: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6/10.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КОЛИЧЕСТВО ПОЛЕТОВ: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1.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НАЛЕТ: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ffff00"/>
                </a:solidFill>
                <a:latin typeface="Verdana"/>
              </a:rPr>
              <a:t>2 сут. 22 час. 50 мин.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МИРОВОЕ ПЕРВЕНСТВО: 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первая в мире женщина-космонавт («Восток-6», 1963 г.); первая в мире женщина-пилот (командир) космического корабля («Восток-6», 1963 г.); первый в мире одиночный полет женщины в космос (без экипажа) («Восток-6», 1963 г.).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ДАТА И МЕСТО РОЖДЕНИЯ: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6 марта 1937 г., дер. Масленниково, Тутаевского р-на, Ярославской обл., РСФСР (Россия).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НАЦИОНАЛЬНОСТЬ: 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русская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7" descr="tereshkova_1"/>
          <p:cNvPicPr/>
          <p:nvPr/>
        </p:nvPicPr>
        <p:blipFill>
          <a:blip r:embed="rId2"/>
          <a:stretch/>
        </p:blipFill>
        <p:spPr>
          <a:xfrm>
            <a:off x="-214200" y="1714680"/>
            <a:ext cx="4897440" cy="53575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C:\Documents and Settings\Admin\Мои документы\Фото космос\127501_1024_768[1]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бразован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64312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Verdana"/>
              </a:rPr>
              <a:t>   </a:t>
            </a:r>
            <a:r>
              <a:rPr b="0" i="1" lang="ru-RU" sz="2400" spc="-1" strike="noStrike">
                <a:solidFill>
                  <a:srgbClr val="ffff00"/>
                </a:solidFill>
                <a:latin typeface="Verdana"/>
              </a:rPr>
              <a:t>1953 г. 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- окончила 7 классов средней школы № 32 г. Ярославля; 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Verdana"/>
              </a:rPr>
              <a:t>1955 г. 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- окончила 8 и 9-й классы школы рабочей молодежи № 10 в г. Ярославле; 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Verdana"/>
              </a:rPr>
              <a:t>1955-1960 гг. 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- учеба в Ярославском заочном техникуме легкой промышленности по специальности техника-технолога по хлопкопрядению; 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Verdana"/>
              </a:rPr>
              <a:t>сентябрь 1964 г. - 31 мая 1969 г. 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- слушатель инженерного факультета ВВИА им. Н.Е. Жуковского. Окончила с отличием и получила квалификацию «летчик-космонавт-инженер»; 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Verdana"/>
              </a:rPr>
              <a:t>1976 г. 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- присуждена ученая степень «кандидат технических наук»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C:\Documents and Settings\Admin\Мои документы\Фото космос\127501_1024_768[1]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Деятельность до зачисления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ffff00"/>
                </a:solidFill>
                <a:latin typeface="Verdana"/>
              </a:rPr>
              <a:t>27 июля 1954 г. - 12 апреля 1955 г. 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– закройщица на Ярославском шинном заводе в цехе № 5; 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Verdana"/>
              </a:rPr>
              <a:t>с 2 июня 1955 г. 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- ровничница на Ярославском ордена Ленина комбинате технических тканей «Красный Перекоп» в ленторовничном цехе; 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Verdana"/>
              </a:rPr>
              <a:t>1960 г. 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- после окончания Ярославского заочного техникума легкой промышленности стажировалась в ремонтно-механическом цехе фабрики № 2; 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Verdana"/>
              </a:rPr>
              <a:t>с 11 августа 1960 г. 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- освобожденный секретарь комитета ВЛКСМ комбината «Красный Перекоп»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C:\Documents and Settings\Admin\Мои документы\Фото космос\127501_1024_768[1]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4437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Дата прихода в отряд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2643120"/>
            <a:ext cx="91440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ffff00"/>
                </a:solidFill>
                <a:latin typeface="Verdana"/>
              </a:rPr>
              <a:t>27 июля 1954 г. - 12 апреля 1955 г. 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– закройщица на Ярославском шинном заводе в цехе № 5; 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Verdana"/>
              </a:rPr>
              <a:t>с 2 июня 1955 г. 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- ровничница на Ярославском ордена Ленина комбинате технических тканей «Красный Перекоп» в ленторовничном цехе; 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Verdana"/>
              </a:rPr>
              <a:t>1960 г. 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- после окончания Ярославского заочного техникума легкой промышленности стажировалась в ремонтно-механическом цехе фабрики № 2; 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Verdana"/>
              </a:rPr>
              <a:t>с 11 августа 1960 г. 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- освобожденный секретарь комитета ВЛКСМ комбината «Красный Перекоп»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C:\Documents and Settings\Admin\Мои документы\Фото космос\127501_1024_768[1]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9358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Совершённые космические полёты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3214800"/>
            <a:ext cx="86868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Verdana"/>
              </a:rPr>
              <a:t>   </a:t>
            </a:r>
            <a:r>
              <a:rPr b="1" i="1" lang="ru-RU" sz="3200" spc="-1" strike="noStrike">
                <a:solidFill>
                  <a:srgbClr val="ffff00"/>
                </a:solidFill>
                <a:latin typeface="Verdana"/>
              </a:rPr>
              <a:t>16-19 июня 1963 г.</a:t>
            </a:r>
            <a:r>
              <a:rPr b="0" i="1" lang="ru-RU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в качестве командира КК «Восток-6». Полет проходил одновременно с полетом корабля «Восток-5», пилотируемого В. Быковским. </a:t>
            </a:r>
            <a:r>
              <a:rPr b="1" i="1" lang="ru-RU" sz="3200" spc="-1" strike="noStrike">
                <a:solidFill>
                  <a:srgbClr val="ffff00"/>
                </a:solidFill>
                <a:latin typeface="Verdana"/>
              </a:rPr>
              <a:t>Продолжительность полета: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 2 суток 22 час. 50 мин. </a:t>
            </a:r>
            <a:r>
              <a:rPr b="1" i="1" lang="ru-RU" sz="3200" spc="-1" strike="noStrike">
                <a:solidFill>
                  <a:srgbClr val="ffff00"/>
                </a:solidFill>
                <a:latin typeface="Verdana"/>
              </a:rPr>
              <a:t>Позывной: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«Чайка»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C:\Documents and Settings\Admin\Мои документы\Фото космос\127501_1024_768[1]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5840" y="259920"/>
            <a:ext cx="90597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ата выхода из отряд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485784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Verdana"/>
              </a:rPr>
              <a:t>   </a:t>
            </a:r>
            <a:r>
              <a:rPr b="0" i="1" lang="ru-RU" sz="3200" spc="-1" strike="noStrike">
                <a:solidFill>
                  <a:srgbClr val="ffff00"/>
                </a:solidFill>
                <a:latin typeface="Verdana"/>
              </a:rPr>
              <a:t>1997 г.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- выбыла из отряда космонавтов в связи с достижением предельного возраста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3:56:49Z</dcterms:created>
  <dc:creator>опа</dc:creator>
  <dc:description/>
  <dc:language>en-US</dc:language>
  <cp:lastModifiedBy>Admin</cp:lastModifiedBy>
  <dcterms:modified xsi:type="dcterms:W3CDTF">2011-03-13T11:15:36Z</dcterms:modified>
  <cp:revision>24</cp:revision>
  <dc:subject/>
  <dc:title>Женщины космонавты.</dc:title>
</cp:coreProperties>
</file>