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399-C82F-4D98-B7C9-24A3EF73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1BC-ABF1-4B0A-8EEB-CF9743D6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42C5-3F21-49D4-AC68-7969FD5D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19B-9D2A-4A26-AD45-059FFC72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B9F0-8B43-44DC-BCE8-500B232E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4B99-259E-4E6E-837F-4F946224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1C5F-2110-445B-8707-FD7F255F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08D6-0F89-4AAB-96A6-3A6D4384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A029-7ABD-4918-9E14-A9B41E71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82E9-539D-4277-B186-E98857CD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49E0-75CF-4144-BC64-437E1C54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4D1-A2BB-45F9-8DFD-F060E8FB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5A84-5E82-4A3E-853F-19463132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FD3D-0C8C-4B09-9D73-7FC1E56C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80D1-97D4-4697-AA76-1F1BC596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3802-BF3D-4393-8883-E116039D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2FE3-38A9-4849-97E9-179B6D51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667-08B7-46ED-AB27-74E24DB6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D01-E178-4E67-96C8-CABBC599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205B-9AA8-4F0E-A3AE-FB60CC63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6DF-CEB9-4E6E-B71C-9076BEC8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4B4A-A441-48DD-9A84-E12FB01C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79C7-182A-4741-BD38-D761FBAF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0D8-7E10-482D-80B0-ED062C7E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2680d2"/>
                </a:gs>
                <a:gs pos="100000">
                  <a:srgbClr val="174e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2680d2"/>
                </a:gs>
                <a:gs pos="100000">
                  <a:srgbClr val="174e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2680d2"/>
                </a:gs>
                <a:gs pos="100000">
                  <a:srgbClr val="174e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2680d2"/>
                </a:gs>
                <a:gs pos="100000">
                  <a:srgbClr val="174e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2680d2"/>
                </a:gs>
                <a:gs pos="100000">
                  <a:srgbClr val="174e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306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306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2680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2680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2680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9A73-B5A3-41D8-9BF5-10FAB5AFEF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2680d2"/>
                </a:gs>
                <a:gs pos="100000">
                  <a:srgbClr val="174e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2680d2"/>
                </a:gs>
                <a:gs pos="100000">
                  <a:srgbClr val="174e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2680d2"/>
                </a:gs>
                <a:gs pos="100000">
                  <a:srgbClr val="174e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2680d2"/>
                </a:gs>
                <a:gs pos="100000">
                  <a:srgbClr val="174e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2680d2"/>
                </a:gs>
                <a:gs pos="100000">
                  <a:srgbClr val="174e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306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306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2680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2680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2680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F672-C21D-4A1A-B539-809F8F9990B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www.astronaut.ru/as_rusia/lady80/foto/ivanova_s.htm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astronaut.ru/as_rusia/lady80/foto/ivanova_s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warheroes.ru/hero/hero.asp?Hero_id=1306" TargetMode="External"/><Relationship Id="rId3" Type="http://schemas.openxmlformats.org/officeDocument/2006/relationships/hyperlink" Target="http://www.warheroes.ru/hero/hero.asp?Hero_id=1306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C:\Documents and Settings\Admin\Мои документы\Фото космос\98815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Documents and Settings\Admin\Мои документы\Фото космос\107107_1024_768[1]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1213920"/>
            <a:ext cx="9001080" cy="5286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daeff"/>
                </a:solidFill>
                <a:latin typeface="Arial"/>
              </a:rPr>
              <a:t>Женщины космонавты России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0" y="47862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C:\Documents and Settings\Admin\Мои документы\Фото космос\127501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татус на текущее врем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507168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ffff00"/>
                </a:solidFill>
                <a:latin typeface="Verdana"/>
              </a:rPr>
              <a:t>1997 г.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- выбыла из отряда космонавтов в связи с достижением предельного возраста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3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торой набор женщин космонавт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2" descr="http://www.astronaut.ru/as_rusia/energia/foto/kuleshova.jpg"/>
          <p:cNvPicPr/>
          <p:nvPr/>
        </p:nvPicPr>
        <p:blipFill>
          <a:blip r:embed="rId2"/>
          <a:stretch/>
        </p:blipFill>
        <p:spPr>
          <a:xfrm>
            <a:off x="0" y="1357200"/>
            <a:ext cx="2797200" cy="3286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://www.astronaut.ru/as_rusia/lady80/foto/ivanova_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72080" y="1500120"/>
            <a:ext cx="2928960" cy="3286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www.astronaut.ru/as_rusia/an/foto/latisheva.jpg"/>
          <p:cNvPicPr/>
          <p:nvPr/>
        </p:nvPicPr>
        <p:blipFill>
          <a:blip r:embed="rId5"/>
          <a:stretch/>
        </p:blipFill>
        <p:spPr>
          <a:xfrm>
            <a:off x="2928960" y="1500120"/>
            <a:ext cx="2492280" cy="3191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www.astronaut.ru/as_rusia/energia/foto/pronina.jpg"/>
          <p:cNvPicPr/>
          <p:nvPr/>
        </p:nvPicPr>
        <p:blipFill>
          <a:blip r:embed="rId6"/>
          <a:stretch/>
        </p:blipFill>
        <p:spPr>
          <a:xfrm>
            <a:off x="1285920" y="4286160"/>
            <a:ext cx="2571840" cy="2786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СавицкаяСветлана Евгеньевна"/>
          <p:cNvPicPr/>
          <p:nvPr/>
        </p:nvPicPr>
        <p:blipFill>
          <a:blip r:embed="rId7"/>
          <a:stretch/>
        </p:blipFill>
        <p:spPr>
          <a:xfrm>
            <a:off x="4071960" y="4286160"/>
            <a:ext cx="2500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3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аталия Дмитриевна Кулешо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214880" y="1599840"/>
            <a:ext cx="4929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одилась 14 марта 1956 года в поселке Новый городок Одинцовского района Московской области, РСФСР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 21 августа 1978 года работала инженером 30-го отдела НПО «Энергия». С 1 июля 1980 года до зачисления в отряд работала инженером 151-го отдела НПО «Энергия». После ухода из отряда космонавтов с 23 августа 1992 года работала инженером 2-й категории 292-го отдела НПО «Энергия».  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2" descr="http://www.astronaut.ru/as_rusia/energia/foto/kuleshova.jpg"/>
          <p:cNvPicPr/>
          <p:nvPr/>
        </p:nvPicPr>
        <p:blipFill>
          <a:blip r:embed="rId2"/>
          <a:stretch/>
        </p:blipFill>
        <p:spPr>
          <a:xfrm>
            <a:off x="0" y="1643040"/>
            <a:ext cx="42148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3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Ирина Рудольфовна Пронина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000320" y="1357200"/>
            <a:ext cx="5143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одилась 14 апреля 1953 года в городе Москва, РСФСР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С марта 1976 по декабрь 1980 года работала инженером в НИИ тепловых процессов (НИИ ТП). В декабре 1980 года была переведена в НПО «Энергия». После ухода из отряда космонавтов с 23 июля 1992 года работала инженером 2-й категории 292-го отдела НПО «Энергия». Принимала участие в работах по созданию и работе с ОК «Мир».   &lt;&gt;&lt;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2" descr="http://www.astronaut.ru/as_rusia/energia/foto/pronina.jpg"/>
          <p:cNvPicPr/>
          <p:nvPr/>
        </p:nvPicPr>
        <p:blipFill>
          <a:blip r:embed="rId2"/>
          <a:stretch/>
        </p:blipFill>
        <p:spPr>
          <a:xfrm>
            <a:off x="0" y="1463760"/>
            <a:ext cx="4000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3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Ирина Дмитриевна Латыше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000320" y="1599840"/>
            <a:ext cx="5143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одилась 9 июля 1953 года в Моск С сентября 1977 года работала инженером Института радиотехники и электроники (ИРЭ) АН СССР. Принимала участие в подготовке аппаратуры и постановке экспериментов на КА "Астрон". В 1985 - 1992 годах занималась астрономическими наблюдениями на оптическом телескопе Крымской обсерватории Государственного астрономического института им.П.К.Штернберга (ГАИШ). Проводила наблюдения рентгеновских астрофизических объект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http://www.astronaut.ru/as_rusia/an/foto/latisheva.jpg"/>
          <p:cNvPicPr/>
          <p:nvPr/>
        </p:nvPicPr>
        <p:blipFill>
          <a:blip r:embed="rId2"/>
          <a:stretch/>
        </p:blipFill>
        <p:spPr>
          <a:xfrm>
            <a:off x="0" y="1809720"/>
            <a:ext cx="39434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3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Екатерина Александровна Иванов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000320" y="1000080"/>
            <a:ext cx="51433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одилась 3 октября 1949 года в городе Ленинград, РСФСР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 время учебы в институте (1967 - 1973 годы) преподавала в Клубе юных космонавтов аэродинамику и работала воспитателем в летнем лагере Клуба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38840" indent="-43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ноября 1972 по январь 1973 года работала лаборантом НИИ командных приборов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38840" indent="-43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апреля 1973 года работала инженером НИИ командных приборов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38840" indent="-43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C декабря 1975 по декабрь 1978 года работала аспиранткой, а с января 1979 по август 1982 года - младшим научным сотрудником (м.н.с.) кафедры №5 Ленинградского механического института. Участвовала в выполнении научно-исследовательских работ по заданию ЦПК им.Ю.А. Гагарина. В июле 1982 года участвовала в эксперименте ИМБП по гипокинезии. С сентября 1982 по март 1983 года работала ассистентом в ЛМИ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38840" indent="-43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меет два авторских свидетельства на изобретения в области систем автоматического управления летательными аппаратами (08.02.1982 и 09.03.1983), а также одно рационализаторское предложение (09.10.1975)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38840" indent="-43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ле прекращения подготовки в ЦПК, в мае 1987 года вернулась на работу в ЛМИ. 15 декабря 1994 года ушла на пенсию по выслуге лет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38840" indent="-43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16 декабря 1994 года работатет ассистентом профессора БГТУ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Picture 2" descr="http://www.astronaut.ru/as_rusia/lady80/foto/ivanova_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214200" y="1500120"/>
            <a:ext cx="4143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3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авицкая Светлана Евгеньевн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ветлана Евгеньевна родилась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в Москве. В семье маршала авиации Евгения Савицкого в августе 1948года.Вторая женщина космонавт в мире. Дважды Герой Советского Союза. Заслуженный мастер спорта ССС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-612720" y="-171360"/>
          <a:ext cx="5370480" cy="3306600"/>
        </p:xfrm>
        <a:graphic>
          <a:graphicData uri="http://schemas.openxmlformats.org/drawingml/2006/table">
            <a:tbl>
              <a:tblPr/>
              <a:tblGrid>
                <a:gridCol w="301680"/>
                <a:gridCol w="262440"/>
                <a:gridCol w="262440"/>
                <a:gridCol w="3896640"/>
                <a:gridCol w="216000"/>
                <a:gridCol w="216000"/>
                <a:gridCol w="216000"/>
              </a:tblGrid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17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5" descr="0"/>
          <p:cNvPicPr/>
          <p:nvPr/>
        </p:nvPicPr>
        <p:blipFill>
          <a:blip r:embed="rId2"/>
          <a:stretch/>
        </p:blipFill>
        <p:spPr>
          <a:xfrm>
            <a:off x="131760" y="158436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0"/>
          <p:cNvPicPr/>
          <p:nvPr/>
        </p:nvPicPr>
        <p:blipFill>
          <a:blip r:embed="rId3"/>
          <a:stretch/>
        </p:blipFill>
        <p:spPr>
          <a:xfrm>
            <a:off x="434880" y="158436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0"/>
          <p:cNvPicPr/>
          <p:nvPr/>
        </p:nvPicPr>
        <p:blipFill>
          <a:blip r:embed="rId4"/>
          <a:stretch/>
        </p:blipFill>
        <p:spPr>
          <a:xfrm>
            <a:off x="698400" y="1584360"/>
            <a:ext cx="38160" cy="9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0"/>
          <p:cNvPicPr/>
          <p:nvPr/>
        </p:nvPicPr>
        <p:blipFill>
          <a:blip r:embed="rId5"/>
          <a:stretch/>
        </p:blipFill>
        <p:spPr>
          <a:xfrm>
            <a:off x="961920" y="4608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0"/>
          <p:cNvPicPr/>
          <p:nvPr/>
        </p:nvPicPr>
        <p:blipFill>
          <a:blip r:embed="rId6"/>
          <a:stretch/>
        </p:blipFill>
        <p:spPr>
          <a:xfrm>
            <a:off x="961920" y="2746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5" descr="СавицкаяСветлана Евгеньевна"/>
          <p:cNvPicPr/>
          <p:nvPr/>
        </p:nvPicPr>
        <p:blipFill>
          <a:blip r:embed="rId7"/>
          <a:stretch/>
        </p:blipFill>
        <p:spPr>
          <a:xfrm>
            <a:off x="-84240" y="1413000"/>
            <a:ext cx="4872240" cy="5445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0"/>
          <p:cNvSpPr/>
          <p:nvPr/>
        </p:nvSpPr>
        <p:spPr>
          <a:xfrm>
            <a:off x="3780000" y="6237360"/>
            <a:ext cx="551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Rectangle 53"/>
          <p:cNvSpPr/>
          <p:nvPr/>
        </p:nvSpPr>
        <p:spPr>
          <a:xfrm>
            <a:off x="-3060720" y="350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осмонавт –исследователь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вицкая Светлана Евгеньевна - лётчик-космонавт СССР № 53, космонавт-исследователь космического корабля (КК) "Союз Т-7", бортинженер КК "Союз Т-12" и орбитальной станции "Салют-7", первая женщина в мире, совершившая выход в космическое пространство, первая и единственная женщина дважды Герой Советского Союза, кандидат технических наук, заслуженный мастер спорта Союза Советских Социалистических Республик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рвый космический полет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13840" y="1285920"/>
            <a:ext cx="8472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ервый космический полет продолжительностью 7 суток 21 час 52 минуты 24 секунды С.Е. Савицкая совершила 19-27 августа 1982 года в качестве космонавта-исследователя на КК "Союз Т-7" и орбитальной станции "Салют-7" совместно с командиром экипажа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Поповым Л.И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бортинженером Серебровым А.А. В ходе полёта на орбитальном комплексе "Салют-7" - "Союз Т-5" - "Союз Т-7" экипаж в составе Березового А.Н., Лебедева В.В.,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Попова Л.И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Сереброва А.А., Савицкой С.Е. провел технические, гео- и астрофизические исследования, выполнил биотехнологические и медико-биологические эксперименты. Она стала 53-м советским космонавтом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 111-м космонавтом мира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торой космический полёт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торой космический полет продолжительностью 11 суток 19 часов 14 минут 36 секунд Герой Советского Союза Савицкая С.Е. совершила 17-29 июля 1984 года в качестве бортинженера КК "Союз Т-12" и орбитальной станции "Салют-7" совместно с командиром экипажа Джанибековым В.А. и космонавтом-исследователем Волком И.П. В ходе полета на орбитальном комплексе "Салют-7" - "Союз Т-11" - "Союз Т-12" космический экипаж в составе Кизима Л.Д., Соловьева В.А., Атькова О.Ю., Джанибекова В.А., Савицкой С.Е., Волка И.П. провел ряд совместных экспериментов и исследовани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:\Documents and Settings\Admin\Мои документы\Фото космос\127501_1024_768[1].jpg"/>
          <p:cNvPicPr/>
          <p:nvPr/>
        </p:nvPicPr>
        <p:blipFill>
          <a:blip r:embed="rId1"/>
          <a:stretch/>
        </p:blipFill>
        <p:spPr>
          <a:xfrm>
            <a:off x="-28584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285840" y="277920"/>
            <a:ext cx="94298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ервый набор женщин космонав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00720" y="4642920"/>
            <a:ext cx="464328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Слева направо: Т.Пицхелаури, И.Соловьёва, В.Терешкова, В.Пономарёв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2" descr="женский набор в 1962г"/>
          <p:cNvPicPr/>
          <p:nvPr/>
        </p:nvPicPr>
        <p:blipFill>
          <a:blip r:embed="rId2"/>
          <a:stretch/>
        </p:blipFill>
        <p:spPr>
          <a:xfrm>
            <a:off x="0" y="1428840"/>
            <a:ext cx="4390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Женщина в открытом космос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5 июля 1984 года впервые в мире женщина-космонавт Савицкая С.Е. осуществила выход в открытый космос, пробыв вне космического корабля 3 часа 35 минут. Вместе с Джанибековым В.А. ею были выполнены в условиях открытого космоса уникальные эксперименты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ата выхода из отряд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 отряда ушла в октябре 1993года в звании майора в связи с выходом на пенсию. Завершив полёты в космос, до 1989 года С.Е. Савицкая трудилась на посту заместителя начальника отдела главного конструкторского НПО "Энергия", первого заместителя председателя Советского фонда мира. В 1992-95 годах - доцент Московского государственного авиационного институт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атус на текущее врем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7 декабря 1995 года С.Е. Савицкая избрана депутатом Государственной Думы Федерального Собрания Российской Федерации второго созыва. На президентских выборах 1996 года - доверенное лицо Г.А. Зюганова в Московской области. В мае 1997 была избрана первым вице-президентом Российской ассоциации Героев Советского Союза. 19 декабря 1999 избрана депутатом Государственной Думы Федерального Собрания Российской Федерации третьего созыва, а в декабре 2003 года - четвёртого созыва В 2003году и в 2007году депутат Государственной Думы. Член фракции Коммунистической партии Российской Федерации. Проживает в городе-герое Москве.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7" name="Picture 4" descr="C:\Documents and Settings\Admin\Мои документы\Фото космос\106860_1024_768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Космонавт –испытатель  2006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C:\Documents and Settings\Admin\Мои документы\Фото космос\106860_1024_768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Елена Олеговна Серов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142880" y="1213920"/>
            <a:ext cx="5000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одилась 22 апреля 1976 года в поселке Воздвиженка Уссурийского района Приморского края, Росс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удучи студенткой, с марта по декабрь 1998 года подрабатывала техником в НИИ низких температур при МА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 августа 2001 года работает в РКК «Энергия»: сначала инженером, а с декабря 2004 года – инженером 2-й категории в Главной оперативной группе управления в ЦУПе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 период прохождения общекосмической подготовки прикомандирована к РГНИИ ЦПК имени Ю.А.Гагарин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2" name="Picture 2" descr="http://www.astronaut.ru/as_rusia/2005/foto/serova.jpg"/>
          <p:cNvPicPr/>
          <p:nvPr/>
        </p:nvPicPr>
        <p:blipFill>
          <a:blip r:embed="rId2"/>
          <a:stretch/>
        </p:blipFill>
        <p:spPr>
          <a:xfrm>
            <a:off x="0" y="1494000"/>
            <a:ext cx="419256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C:\Documents and Settings\Admin\Мои документы\Фото космос\127501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ного лет спуст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929200" y="1599840"/>
            <a:ext cx="2757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2" descr="женский набор в 1987г"/>
          <p:cNvPicPr/>
          <p:nvPr/>
        </p:nvPicPr>
        <p:blipFill>
          <a:blip r:embed="rId2"/>
          <a:stretch/>
        </p:blipFill>
        <p:spPr>
          <a:xfrm>
            <a:off x="-285840" y="1214280"/>
            <a:ext cx="94298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C:\Documents and Settings\Admin\Мои документы\Фото космос\127501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214560" y="277920"/>
            <a:ext cx="9358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ерешкова Валентина Владимировн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ОРЯДКОВЫЙ НОМЕР: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6/10.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ЛИЧЕСТВО ПОЛЕТОВ: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1.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НАЛЕТ: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ffff00"/>
                </a:solidFill>
                <a:latin typeface="Verdana"/>
              </a:rPr>
              <a:t>2 сут. 22 час. 50 мин.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МИРОВОЕ ПЕРВЕНСТВО: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ервая в мире женщина-космонавт («Восток-6», 1963 г.); первая в мире женщина-пилот (командир) космического корабля («Восток-6», 1963 г.); первый в мире одиночный полет женщины в космос (без экипажа) («Восток-6», 1963 г.).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АТА И МЕСТО РОЖДЕНИЯ: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6 марта 1937 г., дер. Масленниково, Тутаевского р-на, Ярославской обл., РСФСР (Россия).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НАЦИОНАЛЬНОСТЬ: 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русская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7" descr="tereshkova_1"/>
          <p:cNvPicPr/>
          <p:nvPr/>
        </p:nvPicPr>
        <p:blipFill>
          <a:blip r:embed="rId2"/>
          <a:stretch/>
        </p:blipFill>
        <p:spPr>
          <a:xfrm>
            <a:off x="-214200" y="1714680"/>
            <a:ext cx="4897440" cy="5357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C:\Documents and Settings\Admin\Мои документы\Фото космос\127501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бразов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64312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Verdana"/>
              </a:rPr>
              <a:t>   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1953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окончила 7 классов средней школы № 32 г. Ярославля;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1955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окончила 8 и 9-й классы школы рабочей молодежи № 10 в г. Ярославле;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1955-1960 г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учеба в Ярославском заочном техникуме легкой промышленности по специальности техника-технолога по хлопкопрядению;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сентябрь 1964 г. - 31 мая 1969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слушатель инженерного факультета ВВИА им. Н.Е. Жуковского. Окончила с отличием и получила квалификацию «летчик-космонавт-инженер»;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1976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присуждена ученая степень «кандидат технических наук»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C:\Documents and Settings\Admin\Мои документы\Фото космос\127501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еятельность до зачисления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27 июля 1954 г. - 12 апреля 1955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– закройщица на Ярославском шинном заводе в цехе № 5;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с 2 июня 1955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ровничница на Ярославском ордена Ленина комбинате технических тканей «Красный Перекоп» в ленторовничном цехе;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1960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после окончания Ярославского заочного техникума легкой промышленности стажировалась в ремонтно-механическом цехе фабрики № 2;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с 11 августа 1960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освобожденный секретарь комитета ВЛКСМ комбината «Красный Перекоп»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C:\Documents and Settings\Admin\Мои документы\Фото космос\127501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443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ата прихода в отряд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643120"/>
            <a:ext cx="91440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27 июля 1954 г. - 12 апреля 1955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– закройщица на Ярославском шинном заводе в цехе № 5;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с 2 июня 1955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ровничница на Ярославском ордена Ленина комбинате технических тканей «Красный Перекоп» в ленторовничном цехе;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1960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после окончания Ярославского заочного техникума легкой промышленности стажировалась в ремонтно-механическом цехе фабрики № 2;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с 11 августа 1960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освобожденный секретарь комитета ВЛКСМ комбината «Красный Перекоп»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C:\Documents and Settings\Admin\Мои документы\Фото космос\127501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9358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овершённые космические полёты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3214800"/>
            <a:ext cx="8686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16-19 июня 1963 г.</a:t>
            </a:r>
            <a:r>
              <a:rPr b="0" i="1" lang="ru-RU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 качестве командира КК «Восток-6». Полет проходил одновременно с полетом корабля «Восток-5», пилотируемого В. Быковским. </a:t>
            </a: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Продолжительность полета: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 2 суток 22 час. 50 мин. </a:t>
            </a: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Позывной: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«Чайка»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C:\Documents and Settings\Admin\Мои документы\Фото космос\127501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5840" y="259920"/>
            <a:ext cx="90597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ата выхода из отряд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485784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ffff00"/>
                </a:solidFill>
                <a:latin typeface="Verdana"/>
              </a:rPr>
              <a:t>1997 г.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- выбыла из отряда космонавтов в связи с достижением предельного возраста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56:49Z</dcterms:created>
  <dc:creator>опа</dc:creator>
  <dc:description/>
  <dc:language>en-US</dc:language>
  <cp:lastModifiedBy>Admin</cp:lastModifiedBy>
  <dcterms:modified xsi:type="dcterms:W3CDTF">2011-03-13T11:15:36Z</dcterms:modified>
  <cp:revision>24</cp:revision>
  <dc:subject/>
  <dc:title>Женщины космонавты.</dc:title>
</cp:coreProperties>
</file>