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2E4-E7F7-423E-807C-A26E7820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941-3944-48D8-B26F-B79EC0E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AFD-6DC9-424C-9BA3-7F1A819C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0E8-73C6-4AF0-B8ED-A92130C4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65F3-709C-4813-8A6B-232AFFBB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CDD4-DD31-4E04-A3C5-BEEBD7FC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55FF-83CA-46BB-97ED-62AE3F1E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3B9D-9C63-417F-9476-98B2A96F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E30-61CC-4F5F-BAF6-5A8BCB9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BCBD-1CD7-42A3-B4EF-74FF5E0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BDAA-8D53-4EFF-9CE8-E738EC7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252-0574-4F74-9D6B-B8CE7739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307C-EE08-4C72-B2FF-7F21020A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616F-248F-4CCB-B3FB-DD54821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7082-6B11-47F7-8ADC-650B12F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B0D-2A79-4F30-8FCC-10D3BEAD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756E-D29A-4568-8B2D-2819ABF4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047-A419-4A03-84E8-D9DE39D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BE4-F190-4A64-9AF7-CCE7EE5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75A-7D89-4EF0-AE5E-B27CC165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442-9B5F-4734-A3FA-8988078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CEF-BD97-4796-B225-6E4B138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8DA-CB04-4D1B-BBD3-D049D17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992-5FC9-4948-AA1B-CC67A05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113F-F2CA-45FD-B084-389FC97DCF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1407-4384-4511-AD8B-94A7CDF298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066008"/>
                </a:solidFill>
                <a:latin typeface="Garamond"/>
              </a:rPr>
              <a:t>МАГИЯ ЧИСЕЛ</a:t>
            </a:r>
            <a:endParaRPr b="0" lang="en-US" sz="1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90560" y="4869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винкиной Александ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ы 5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Игнатовской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овинкина Т.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070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еление  на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Земля, вода и неб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Солнце, Луна, звёзд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Длина, ширина, высо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Прошлое, настоящее и будущее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ойк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частливое числ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есчастливое числ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5 из 88337"/>
          <p:cNvPicPr/>
          <p:nvPr/>
        </p:nvPicPr>
        <p:blipFill>
          <a:blip r:embed="rId2"/>
          <a:stretch/>
        </p:blipFill>
        <p:spPr>
          <a:xfrm>
            <a:off x="250920" y="189000"/>
            <a:ext cx="4029120" cy="525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41929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569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7 из 3796"/>
          <p:cNvPicPr/>
          <p:nvPr/>
        </p:nvPicPr>
        <p:blipFill>
          <a:blip r:embed="rId2"/>
          <a:stretch/>
        </p:blipFill>
        <p:spPr>
          <a:xfrm>
            <a:off x="0" y="-387360"/>
            <a:ext cx="93963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41 из 3796"/>
          <p:cNvPicPr/>
          <p:nvPr/>
        </p:nvPicPr>
        <p:blipFill>
          <a:blip r:embed="rId2"/>
          <a:stretch/>
        </p:blipFill>
        <p:spPr>
          <a:xfrm>
            <a:off x="1979640" y="260280"/>
            <a:ext cx="4568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Картинка 64 из 3811"/>
          <p:cNvPicPr/>
          <p:nvPr/>
        </p:nvPicPr>
        <p:blipFill>
          <a:blip r:embed="rId2"/>
          <a:stretch/>
        </p:blipFill>
        <p:spPr>
          <a:xfrm>
            <a:off x="0" y="0"/>
            <a:ext cx="10260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Картинка 58 из 3796"/>
          <p:cNvPicPr/>
          <p:nvPr/>
        </p:nvPicPr>
        <p:blipFill>
          <a:blip r:embed="rId2"/>
          <a:stretch/>
        </p:blipFill>
        <p:spPr>
          <a:xfrm>
            <a:off x="0" y="0"/>
            <a:ext cx="9685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Гипотеза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ла играют важную роль в жизни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441360"/>
            <a:ext cx="9144000" cy="72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Картинка 145 из 235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9 из 23531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90 из 23525"/>
          <p:cNvPicPr/>
          <p:nvPr/>
        </p:nvPicPr>
        <p:blipFill>
          <a:blip r:embed="rId2"/>
          <a:stretch/>
        </p:blipFill>
        <p:spPr>
          <a:xfrm>
            <a:off x="1692360" y="0"/>
            <a:ext cx="462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187 из 23525"/>
          <p:cNvPicPr/>
          <p:nvPr/>
        </p:nvPicPr>
        <p:blipFill>
          <a:blip r:embed="rId2"/>
          <a:stretch/>
        </p:blipFill>
        <p:spPr>
          <a:xfrm>
            <a:off x="2286000" y="290520"/>
            <a:ext cx="4572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194 из 235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Картинка 2 из 1059"/>
          <p:cNvPicPr/>
          <p:nvPr/>
        </p:nvPicPr>
        <p:blipFill>
          <a:blip r:embed="rId2"/>
          <a:stretch/>
        </p:blipFill>
        <p:spPr>
          <a:xfrm>
            <a:off x="-757080" y="36360"/>
            <a:ext cx="10548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92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6633"/>
                </a:solidFill>
                <a:latin typeface="Garamond"/>
              </a:rPr>
              <a:t>ТРИДЕВЯТОЕ</a:t>
            </a:r>
            <a:endParaRPr b="0" lang="en-US" sz="6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Предмет исследования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ла в русских сказ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400" spc="-1" strike="noStrike">
                <a:solidFill>
                  <a:srgbClr val="006633"/>
                </a:solidFill>
                <a:latin typeface="Garamond"/>
              </a:rPr>
              <a:t>9 = 3х3</a:t>
            </a:r>
            <a:endParaRPr b="0" lang="en-US" sz="17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006633"/>
                </a:solidFill>
                <a:latin typeface="Garamond"/>
              </a:rPr>
              <a:t>3 х 9 = 27</a:t>
            </a:r>
            <a:endParaRPr b="0" lang="en-US" sz="11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1 из 995"/>
          <p:cNvPicPr/>
          <p:nvPr/>
        </p:nvPicPr>
        <p:blipFill>
          <a:blip r:embed="rId2"/>
          <a:stretch/>
        </p:blipFill>
        <p:spPr>
          <a:xfrm>
            <a:off x="-252360" y="0"/>
            <a:ext cx="1026000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64020b"/>
                </a:solidFill>
                <a:latin typeface="Georgia"/>
              </a:rPr>
              <a:t>Тридесятое государство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Вывод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ла играет важную роль в жизни человека. Об особенностях чисел написано много разнообразных книг. Поэты посвящают им стихи, писатели используют в своих произведениях. Мир чисел полон интереснейших тайн, среди них есть и те, что до сих пор не познаны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567320" cy="61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80000" y="260280"/>
            <a:ext cx="29718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66008"/>
                </a:solidFill>
                <a:latin typeface="Times New Roman"/>
              </a:rPr>
              <a:t>Среди книг самые удиви-тельные – </a:t>
            </a:r>
            <a:r>
              <a:rPr b="1" lang="ru-RU" sz="6600" spc="-1" strike="noStrike">
                <a:solidFill>
                  <a:srgbClr val="066008"/>
                </a:solidFill>
                <a:latin typeface="Times New Roman"/>
              </a:rPr>
              <a:t>сказ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22 из 82953"/>
          <p:cNvPicPr/>
          <p:nvPr/>
        </p:nvPicPr>
        <p:blipFill>
          <a:blip r:embed="rId2"/>
          <a:stretch/>
        </p:blipFill>
        <p:spPr>
          <a:xfrm>
            <a:off x="-1332000" y="0"/>
            <a:ext cx="1098072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400" spc="-1" strike="noStrike">
                <a:solidFill>
                  <a:srgbClr val="000000"/>
                </a:solidFill>
                <a:latin typeface="Arial"/>
              </a:rPr>
              <a:t>1+2 = 3</a:t>
            </a:r>
            <a:endParaRPr b="0" lang="en-US" sz="1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066008"/>
                </a:solidFill>
                <a:latin typeface="Garamond"/>
              </a:rPr>
              <a:t>ЧИСЛО 3</a:t>
            </a:r>
            <a:endParaRPr b="0" lang="en-US" sz="11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9 из 67775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36:12Z</dcterms:created>
  <dc:creator>Таня</dc:creator>
  <dc:description/>
  <dc:language>en-US</dc:language>
  <cp:lastModifiedBy>Таня</cp:lastModifiedBy>
  <dcterms:modified xsi:type="dcterms:W3CDTF">2012-04-05T17:07:29Z</dcterms:modified>
  <cp:revision>2</cp:revision>
  <dc:subject/>
  <dc:title>Слайд 1</dc:title>
</cp:coreProperties>
</file>