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8CD-6609-4224-9826-48FA6510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626-CAA0-4928-8A6B-BBA054C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CB4-B178-4E3B-AA6A-CE15D039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047-3D03-4A9B-9D7C-D59AC694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8148-498D-4BE1-85B5-BE3025FE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E404-852E-4032-990A-0DD0BA5C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592F-34B1-4EBE-880E-30D3B229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4509-B32C-4FCB-8D6E-2A26844B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DD39-F234-45F6-AF28-5C18B69D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B51D-FAC1-406D-94C4-4DC3A26A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1BF6-083E-42B3-ADC1-3138FAF9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1DF-F0B6-44D4-8231-BD25FD16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F802-9B31-4D4D-9BFC-7067A685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E001-3E9F-40D9-BA78-83F616D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9FA9-8B53-4A5A-8CE1-4310E9C0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5EA8-9498-4094-8CFC-4652B3F0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9C49-DD0E-4A70-BDD0-8859C97A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769-933E-4EA4-8544-1100E0F0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583-FFBA-41AD-A954-5A0F3725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578-C586-48EC-A7A3-D5BD7624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84E-3E50-4800-94C2-0ED9F568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CDD-1B68-486F-BF4D-1D8E5BF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19D-353A-44B1-A6DC-3C36664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56D-5E45-426C-901F-05D70F86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7B59-9739-41D7-8EC5-EDDEE664CA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B5C-D211-40B4-BB83-D27D6414EC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900" spc="-1" strike="noStrike">
                <a:solidFill>
                  <a:srgbClr val="066008"/>
                </a:solidFill>
                <a:latin typeface="Garamond"/>
              </a:rPr>
              <a:t>МАГИЯ ЧИСЕЛ</a:t>
            </a:r>
            <a:endParaRPr b="0" lang="en-US" sz="1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90560" y="48690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винкиной Александ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цы 5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Игнатовской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овинкина Т.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0702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Деление  на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Земля, вода и неб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Солнце, Луна, звёзд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Длина, ширина, высо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Прошлое, настоящее и будущее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ойк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частливое числ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Несчастливое числ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Картинка 5 из 88337"/>
          <p:cNvPicPr/>
          <p:nvPr/>
        </p:nvPicPr>
        <p:blipFill>
          <a:blip r:embed="rId2"/>
          <a:stretch/>
        </p:blipFill>
        <p:spPr>
          <a:xfrm>
            <a:off x="250920" y="189000"/>
            <a:ext cx="4029120" cy="525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41929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569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27 из 3796"/>
          <p:cNvPicPr/>
          <p:nvPr/>
        </p:nvPicPr>
        <p:blipFill>
          <a:blip r:embed="rId2"/>
          <a:stretch/>
        </p:blipFill>
        <p:spPr>
          <a:xfrm>
            <a:off x="0" y="-387360"/>
            <a:ext cx="93963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Картинка 41 из 3796"/>
          <p:cNvPicPr/>
          <p:nvPr/>
        </p:nvPicPr>
        <p:blipFill>
          <a:blip r:embed="rId2"/>
          <a:stretch/>
        </p:blipFill>
        <p:spPr>
          <a:xfrm>
            <a:off x="1979640" y="260280"/>
            <a:ext cx="45687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Картинка 64 из 3811"/>
          <p:cNvPicPr/>
          <p:nvPr/>
        </p:nvPicPr>
        <p:blipFill>
          <a:blip r:embed="rId2"/>
          <a:stretch/>
        </p:blipFill>
        <p:spPr>
          <a:xfrm>
            <a:off x="0" y="0"/>
            <a:ext cx="10260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Картинка 58 из 3796"/>
          <p:cNvPicPr/>
          <p:nvPr/>
        </p:nvPicPr>
        <p:blipFill>
          <a:blip r:embed="rId2"/>
          <a:stretch/>
        </p:blipFill>
        <p:spPr>
          <a:xfrm>
            <a:off x="0" y="0"/>
            <a:ext cx="968544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Гипотеза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Числа играют важную роль в жизни челов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441360"/>
            <a:ext cx="9144000" cy="72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Картинка 145 из 235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9 из 23531"/>
          <p:cNvPicPr/>
          <p:nvPr/>
        </p:nvPicPr>
        <p:blipFill>
          <a:blip r:embed="rId2"/>
          <a:stretch/>
        </p:blipFill>
        <p:spPr>
          <a:xfrm>
            <a:off x="-396720" y="0"/>
            <a:ext cx="954072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90 из 23525"/>
          <p:cNvPicPr/>
          <p:nvPr/>
        </p:nvPicPr>
        <p:blipFill>
          <a:blip r:embed="rId2"/>
          <a:stretch/>
        </p:blipFill>
        <p:spPr>
          <a:xfrm>
            <a:off x="1692360" y="0"/>
            <a:ext cx="462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187 из 23525"/>
          <p:cNvPicPr/>
          <p:nvPr/>
        </p:nvPicPr>
        <p:blipFill>
          <a:blip r:embed="rId2"/>
          <a:stretch/>
        </p:blipFill>
        <p:spPr>
          <a:xfrm>
            <a:off x="2286000" y="290520"/>
            <a:ext cx="45720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194 из 235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Картинка 2 из 1059"/>
          <p:cNvPicPr/>
          <p:nvPr/>
        </p:nvPicPr>
        <p:blipFill>
          <a:blip r:embed="rId2"/>
          <a:stretch/>
        </p:blipFill>
        <p:spPr>
          <a:xfrm>
            <a:off x="-757080" y="36360"/>
            <a:ext cx="105487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200" spc="-1" strike="noStrike">
                <a:solidFill>
                  <a:srgbClr val="006633"/>
                </a:solidFill>
                <a:latin typeface="Garamond"/>
              </a:rPr>
              <a:t>3</a:t>
            </a:r>
            <a:endParaRPr b="0" lang="en-US" sz="3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924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6633"/>
                </a:solidFill>
                <a:latin typeface="Garamond"/>
              </a:rPr>
              <a:t>ТРИДЕВЯТОЕ</a:t>
            </a:r>
            <a:endParaRPr b="0" lang="en-US" sz="6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Предмет исследования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Числа в русских сказ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400" spc="-1" strike="noStrike">
                <a:solidFill>
                  <a:srgbClr val="006633"/>
                </a:solidFill>
                <a:latin typeface="Garamond"/>
              </a:rPr>
              <a:t>9 = 3х3</a:t>
            </a:r>
            <a:endParaRPr b="0" lang="en-US" sz="17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900" spc="-1" strike="noStrike">
                <a:solidFill>
                  <a:srgbClr val="006633"/>
                </a:solidFill>
                <a:latin typeface="Garamond"/>
              </a:rPr>
              <a:t>3 х 9 = 27</a:t>
            </a:r>
            <a:endParaRPr b="0" lang="en-US" sz="119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Картинка 1 из 995"/>
          <p:cNvPicPr/>
          <p:nvPr/>
        </p:nvPicPr>
        <p:blipFill>
          <a:blip r:embed="rId2"/>
          <a:stretch/>
        </p:blipFill>
        <p:spPr>
          <a:xfrm>
            <a:off x="-252360" y="0"/>
            <a:ext cx="1026000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1440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64020b"/>
                </a:solidFill>
                <a:latin typeface="Georgia"/>
              </a:rPr>
              <a:t>Тридесятое государство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6633"/>
                </a:solidFill>
                <a:latin typeface="Garamond"/>
              </a:rPr>
              <a:t>Вывод: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числа играет важную роль в жизни человека. Об особенностях чисел написано много разнообразных книг. Поэты посвящают им стихи, писатели используют в своих произведениях. Мир чисел полон интереснейших тайн, среди них есть и те, что до сих пор не познаны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567320" cy="612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80000" y="260280"/>
            <a:ext cx="29718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66008"/>
                </a:solidFill>
                <a:latin typeface="Times New Roman"/>
              </a:rPr>
              <a:t>Среди книг самые удиви-тельные – </a:t>
            </a:r>
            <a:r>
              <a:rPr b="1" lang="ru-RU" sz="6600" spc="-1" strike="noStrike">
                <a:solidFill>
                  <a:srgbClr val="066008"/>
                </a:solidFill>
                <a:latin typeface="Times New Roman"/>
              </a:rPr>
              <a:t>сказ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Картинка 22 из 82953"/>
          <p:cNvPicPr/>
          <p:nvPr/>
        </p:nvPicPr>
        <p:blipFill>
          <a:blip r:embed="rId2"/>
          <a:stretch/>
        </p:blipFill>
        <p:spPr>
          <a:xfrm>
            <a:off x="-1332000" y="0"/>
            <a:ext cx="10980720" cy="70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400" spc="-1" strike="noStrike">
                <a:solidFill>
                  <a:srgbClr val="000000"/>
                </a:solidFill>
                <a:latin typeface="Arial"/>
              </a:rPr>
              <a:t>1+2 = 3</a:t>
            </a:r>
            <a:endParaRPr b="0" lang="en-US" sz="1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900" spc="-1" strike="noStrike">
                <a:solidFill>
                  <a:srgbClr val="066008"/>
                </a:solidFill>
                <a:latin typeface="Garamond"/>
              </a:rPr>
              <a:t>ЧИСЛО 3</a:t>
            </a:r>
            <a:endParaRPr b="0" lang="en-US" sz="119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19 из 67775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36:12Z</dcterms:created>
  <dc:creator>Таня</dc:creator>
  <dc:description/>
  <dc:language>en-US</dc:language>
  <cp:lastModifiedBy>Таня</cp:lastModifiedBy>
  <dcterms:modified xsi:type="dcterms:W3CDTF">2012-04-05T17:07:29Z</dcterms:modified>
  <cp:revision>2</cp:revision>
  <dc:subject/>
  <dc:title>Слайд 1</dc:title>
</cp:coreProperties>
</file>