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AEE77-20F0-4B2A-A8BA-6570CB497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2A3D8-FD04-4130-B809-C59066401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7376E-902F-4BF6-A77C-661453C80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240F8-4C11-436B-B1D4-C3E661E05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14B92-6C46-44F7-90EE-94C4B2ACB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44C19-8406-4CE4-8AE1-48DA5B7BB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3D243-8E9E-40F0-B548-467DFCF4F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93940-4AE7-45A2-BA43-AAC0E976C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FB334-2E9E-48D0-956E-BD5C07A1D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6BA41-958B-40FE-AF60-99192DC7F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AF3E6-58E2-4CA7-A809-8F9F42A77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976B2-0815-418D-A683-ABFD6EB97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53286-1219-470B-9A20-227293C621B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milaiw.narod.ru/les/image/image_neo/baniyn_3.jpg" TargetMode="External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radikal.ru/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ru.wikipedia.org/wiki/&#1051;&#1080;&#1085;&#1085;&#1077;&#1081;" TargetMode="External"/><Relationship Id="rId3" Type="http://schemas.openxmlformats.org/officeDocument/2006/relationships/hyperlink" Target="http://ru.wikipedia.org/wiki/&#1051;&#1072;&#1090;&#1080;&#1085;&#1089;&#1082;&#1080;&#1081;_&#1103;&#1079;&#1099;&#1082;" TargetMode="External"/><Relationship Id="rId4" Type="http://schemas.openxmlformats.org/officeDocument/2006/relationships/hyperlink" Target="http://ru.wikipedia.org/wiki/&#1052;&#1099;&#1083;&#1086;" TargetMode="External"/><Relationship Id="rId5" Type="http://schemas.openxmlformats.org/officeDocument/2006/relationships/hyperlink" Target="http://ru.wikipedia.org/wiki/&#1051;&#1072;&#1090;&#1080;&#1085;&#1089;&#1082;&#1080;&#1081;_&#1103;&#1079;&#1099;&#1082;" TargetMode="External"/><Relationship Id="rId6" Type="http://schemas.openxmlformats.org/officeDocument/2006/relationships/hyperlink" Target="http://ru.wikipedia.org/wiki/&#1048;&#1085;&#1076;&#1077;&#1081;&#1094;&#1099;" TargetMode="External"/><Relationship Id="rId7" Type="http://schemas.openxmlformats.org/officeDocument/2006/relationships/hyperlink" Target="http://upload.wikimedia.org/wikipedia/commons/e/e4/Starr_050407-6253_Sapindus_saponaria.jpg" TargetMode="External"/><Relationship Id="rId8" Type="http://schemas.openxmlformats.org/officeDocument/2006/relationships/image" Target="../media/image4.jpe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milaiw.narod.ru/les/image/image_neo/zelezo_03.jp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radikal.ru/" TargetMode="Externa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radikal.ru/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Object 4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000000"/>
                </a:solidFill>
                <a:latin typeface="Monotype Corsiva"/>
              </a:rPr>
              <a:t>Самые необычные деревья</a:t>
            </a:r>
            <a:br>
              <a:rPr sz="4900"/>
            </a:b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Помимо того, что в мире существует много незнакомых нам экзотических плодов, вызывают удивление и сами названия некоторых плодов и деревьев, на которых они растут. Вот об этом мне и хочется вам рассказать.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дерево-ле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-360" y="1600200"/>
            <a:ext cx="7000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Rectangle 1"/>
          <p:cNvSpPr/>
          <p:nvPr/>
        </p:nvSpPr>
        <p:spPr>
          <a:xfrm>
            <a:off x="4357800" y="548640"/>
            <a:ext cx="4786200" cy="88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Баньян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, или, как его еще называют,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дерево-лес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, имеет не один, а тысячи ствол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его центре находится главный ствол, от него вырастают толстые побеги, от этих побегов вниз тянутся ответвления, которые, достигнув почвы, укореняются. После этого они начинают расти в толщину, и впоследствии вторичные стволы становятся похожими на главный ствол, и уже от них отходят новые побеги... Так продолжается до бесконечност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0"/>
            </a:b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2" descr="http://milaiw.narod.ru/les/image/image_neo/baniyn_3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1131840"/>
            <a:ext cx="4429080" cy="57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«Хлопчатобумажные» или «шерстяные» деревья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357440" y="999720"/>
            <a:ext cx="432900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Эти деревья растут в Бразилии. Они очень похожи на большие кадки высотой в 20 метров. В период цветения ветви, которые отходят от верхней суженной части «кадки», покрываются большим количеством красивых цветов. Семена «хлопчатобумажного» дерева рассеиваются с помощью ветра. К каждому семечку присоединен «парашютик», который помогает держаться ему в воздухе и с легкостью преодолевать большие расстояния. </a:t>
            </a:r>
            <a:br>
              <a:rPr sz="2000"/>
            </a:br>
            <a:br>
              <a:rPr sz="1300"/>
            </a:br>
            <a:br>
              <a:rPr sz="1300"/>
            </a:b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Хлопковое дерево"/>
          <p:cNvPicPr/>
          <p:nvPr/>
        </p:nvPicPr>
        <p:blipFill>
          <a:blip r:embed="rId2"/>
          <a:stretch/>
        </p:blipFill>
        <p:spPr>
          <a:xfrm>
            <a:off x="0" y="1197000"/>
            <a:ext cx="4249800" cy="56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"Конфетное" дерево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714560" y="1600200"/>
            <a:ext cx="397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"Конфетное" дерево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, говения (лат. Hovenia dulcis) — листопадное дерево семейства Крушиновые, происходящее из Японии, Восточного Китая, Кореи и предгорьев Гималаев, где оно может расти на высотах до 2000 м. над уровнем моря, на суглинистых или влажных песчаных почвах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ерево может вырастать до 10-20 м. в высоту. Оно довольно декоративно на вид: раскидистая крона, большие глянцевые тёмно-зелёные листья, гроздья маленьких кремовых цветов, цветущих в июл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2" descr="http://milaiw.narod.ru/les/image/image_neo/gov_1.jpg"/>
          <p:cNvPicPr/>
          <p:nvPr/>
        </p:nvPicPr>
        <p:blipFill>
          <a:blip r:embed="rId2"/>
          <a:stretch/>
        </p:blipFill>
        <p:spPr>
          <a:xfrm>
            <a:off x="0" y="1357200"/>
            <a:ext cx="450072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«Молочное» дерев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астет в странах Центральной и Южной Америки. Это невысокие деревья с блестящими и толстыми листьями с несъедобными плодами. Местные жители употребляют сок этого растения как молоко. Но вытекает оно из дерева достаточно медленно: из одного надреза за 1 час вытекает 1 литр сока. К тому же употреблять этот напиток нужно сразу, так как он быстро портится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и кипячении сока на его поверхности выделяется воск, идущий на изготовление свечей и жевательной резинки. Кроме всего, древесина из этих деревьев прекрасно подходит в качестве строительного материал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2" descr="Молочное дерево"/>
          <p:cNvPicPr/>
          <p:nvPr/>
        </p:nvPicPr>
        <p:blipFill>
          <a:blip r:embed="rId2"/>
          <a:stretch/>
        </p:blipFill>
        <p:spPr>
          <a:xfrm>
            <a:off x="0" y="1357200"/>
            <a:ext cx="4786200" cy="54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«Колбасное» дерево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2" descr="http://milaiw.narod.ru/les/image/image_neo/kolbasa_02.jpg"/>
          <p:cNvPicPr/>
          <p:nvPr/>
        </p:nvPicPr>
        <p:blipFill>
          <a:blip r:embed="rId2"/>
          <a:stretch/>
        </p:blipFill>
        <p:spPr>
          <a:xfrm>
            <a:off x="0" y="857160"/>
            <a:ext cx="5286240" cy="5786640"/>
          </a:xfrm>
          <a:prstGeom prst="rect">
            <a:avLst/>
          </a:prstGeom>
          <a:ln w="0">
            <a:noFill/>
          </a:ln>
        </p:spPr>
      </p:pic>
      <p:sp>
        <p:nvSpPr>
          <p:cNvPr id="84" name="Прямоугольник 5"/>
          <p:cNvSpPr/>
          <p:nvPr/>
        </p:nvSpPr>
        <p:spPr>
          <a:xfrm>
            <a:off x="5429160" y="1071720"/>
            <a:ext cx="3429000" cy="408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 территории экваториальной Африки на высоких деревьях растут несъедобные плоды, которые очень напоминают ливерную колбасу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Эти деревья называются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кигелиями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, или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«колбасными» деревьями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(sausage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tree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лоды кигелии совершенно несъедобны. Увесистые колбаски могут достигать в дину полуметра, но едят их разве что гиппопотамы, и попугаи выковыривают семен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Золотое дерево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2" descr="http://s39.radikal.ru/i086/1009/b0/da93cc304954.jpg"/>
          <p:cNvPicPr/>
          <p:nvPr/>
        </p:nvPicPr>
        <p:blipFill>
          <a:blip r:embed="rId2"/>
          <a:stretch/>
        </p:blipFill>
        <p:spPr>
          <a:xfrm>
            <a:off x="357120" y="1500120"/>
            <a:ext cx="8429760" cy="53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Дерево «путешественников» или дерево-«колодец»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78576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о из всех мадагаскарских деревьев наиболее известна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Равенала Мадагаскарская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. С виду она похожа на банан, только у банана листья растут прямо от земли, а у равеналы есть настоящий ствол, от верхушки которого расходятся, словно спицы колеса, огромные листья, разорванные ветром по краям. У этого невысокого дерева (4 м) нет ветвей, а огромные листья растут из ствола. Они свернуты трубочкой и имеют длину 7 метров. В середине трубочки находится чистая и прохладная вода, которую растение получает из почвы. В таком дереве может находиться до 25 литров воды. Встретив равеналу, усталый путник всегда может утолить жажду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2" descr="Равенала Мадагаскарская"/>
          <p:cNvPicPr/>
          <p:nvPr/>
        </p:nvPicPr>
        <p:blipFill>
          <a:blip r:embed="rId2"/>
          <a:stretch/>
        </p:blipFill>
        <p:spPr>
          <a:xfrm>
            <a:off x="571680" y="1285920"/>
            <a:ext cx="303336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Земляничное дерев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5000400" y="1600200"/>
            <a:ext cx="4143240" cy="50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Земляничное дерево, или земляничник крупноплодный (Arbutus unedo) растет в Средиземноморье. То есть чуть южнее, чем наше черноморское побережье. Относится он к семейству Вересковых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5" descr="http://s61.radikal.ru/i173/1009/e9/0a27a55254c2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1428840"/>
            <a:ext cx="5286240" cy="54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Мыльное дерево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929120" y="1213920"/>
            <a:ext cx="421488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Современное научное название растения было дано </a:t>
            </a:r>
            <a:r>
              <a:rPr b="0" lang="ru-RU" sz="26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Линнеем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, сокращённо от </a:t>
            </a:r>
            <a:r>
              <a:rPr b="0" lang="ru-RU" sz="26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лат.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sapo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— </a:t>
            </a:r>
            <a:r>
              <a:rPr b="0" lang="ru-RU" sz="26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мыло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0" lang="ru-RU" sz="26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лат.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indicus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— </a:t>
            </a:r>
            <a:r>
              <a:rPr b="0" lang="ru-RU" sz="26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индейский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, что дословно означает «индейское мыло». Линнею было известно о использовании индейцами плодов дерева 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Sapindus saponaria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при отбеливании тканей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Файл:Starr 050407-6253 Sapindus saponaria.jpg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1217520"/>
            <a:ext cx="4857840" cy="564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85840"/>
            <a:ext cx="777240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Железное дерево».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285800" y="1213920"/>
            <a:ext cx="464364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Деревья тверже железа растут в Азербайджане и в Иране, и называются </a:t>
            </a: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темир-агач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(дамирагач), что в переводе означает «железное дерево». Его древесина очень тяжелая, поэтому быстро тонет в воде. Оно интересно тем, что имеет свойство образовывать непроходимые чащи. Кора железного дерева очень тонкая и поэтому легко разрушается. Ветви соседних деревьев, которые касаются друг друга, сразу срастаются, и образуют причудливые сплетения. Темир-агач часто используют для сооружения живых ограждений, которые со временем становятся все более крепкими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Железное дерево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1071720"/>
            <a:ext cx="4125960" cy="55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Свечное дерево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286160" y="785520"/>
            <a:ext cx="485784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вечное дерево, или парментьера съедобная относится к семейству бигнониевых, или колбасных деревьев. У многих растений из этого семейства плоды похожи на гигантские колбасы, как, например, у кигелии перистой из Африк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12" descr="http://i062.radikal.ru/1009/06/e5554fca7f4b.jpg"/>
          <p:cNvPicPr/>
          <p:nvPr/>
        </p:nvPicPr>
        <p:blipFill>
          <a:blip r:embed="rId2"/>
          <a:stretch/>
        </p:blipFill>
        <p:spPr>
          <a:xfrm>
            <a:off x="0" y="1071720"/>
            <a:ext cx="4572000" cy="57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Ландышевое дерево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5072040" y="1071720"/>
            <a:ext cx="421488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огда читаешь названия, подобные выше приведенному, сразу на ум приходит огромное дерево, которое усеяно цветами, в данном случае ландыша. Однако дело обстоит совсем по-другому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http://s42.radikal.ru/i095/1009/5e/5d89e857bfb9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1000080"/>
            <a:ext cx="5294160" cy="58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Бутылочное дерево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643280" y="1000080"/>
            <a:ext cx="450072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оринга оливолистная, моринга бутолочная или дерево хрена (Moringa oleifera) дерево, принадлежащее к семейству Моринговых. Родиной растения является Южная Африка, где строго год делится на засушливую зиму и дождливое лето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" descr="http://i049.radikal.ru/1009/54/87326d9c9672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928800"/>
            <a:ext cx="4952880" cy="59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Сосисочное дерево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10" descr="http://s04.radikal.ru/i177/1009/66/fa8cd2a12ddc.jpg"/>
          <p:cNvPicPr/>
          <p:nvPr/>
        </p:nvPicPr>
        <p:blipFill>
          <a:blip r:embed="rId2"/>
          <a:stretch/>
        </p:blipFill>
        <p:spPr>
          <a:xfrm>
            <a:off x="0" y="1214280"/>
            <a:ext cx="4486320" cy="5643720"/>
          </a:xfrm>
          <a:prstGeom prst="rect">
            <a:avLst/>
          </a:prstGeom>
          <a:ln w="0">
            <a:noFill/>
          </a:ln>
        </p:spPr>
      </p:pic>
      <p:sp>
        <p:nvSpPr>
          <p:cNvPr id="65" name="Прямоугольник 4"/>
          <p:cNvSpPr/>
          <p:nvPr/>
        </p:nvSpPr>
        <p:spPr>
          <a:xfrm>
            <a:off x="4572000" y="1143000"/>
            <a:ext cx="42861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так, синее сосисочное дерево, или декенея Фарже (Decaisnea fargesii) кустарник, достигающий 5-метровой высоты из семейства Лардизабаловых. Это небольшое семейство отличается эксклюзивного вида фруктами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Огуречное дерево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11" descr="http://s46.radikal.ru/i113/1009/74/222d483a295b.jpg"/>
          <p:cNvPicPr/>
          <p:nvPr/>
        </p:nvPicPr>
        <p:blipFill>
          <a:blip r:embed="rId2"/>
          <a:stretch/>
        </p:blipFill>
        <p:spPr>
          <a:xfrm>
            <a:off x="0" y="1025640"/>
            <a:ext cx="4857840" cy="5832360"/>
          </a:xfrm>
          <a:prstGeom prst="rect">
            <a:avLst/>
          </a:prstGeom>
          <a:ln w="0">
            <a:noFill/>
          </a:ln>
        </p:spPr>
      </p:pic>
      <p:sp>
        <p:nvSpPr>
          <p:cNvPr id="68" name="Прямоугольник 4"/>
          <p:cNvSpPr/>
          <p:nvPr/>
        </p:nvSpPr>
        <p:spPr>
          <a:xfrm>
            <a:off x="4857840" y="1428840"/>
            <a:ext cx="40719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гуречное дерево, билимби, аверроа билимби (Averrhoa Bilimbi) дерево из семейства Кисличных родом с островов Индонезии.  Его близким родственником является карамбола, или звездный фрукт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6T13:22:20Z</dcterms:created>
  <dc:creator>Admin</dc:creator>
  <dc:description/>
  <dc:language>en-US</dc:language>
  <cp:lastModifiedBy>Admin</cp:lastModifiedBy>
  <dcterms:modified xsi:type="dcterms:W3CDTF">2011-02-06T13:49:53Z</dcterms:modified>
  <cp:revision>3</cp:revision>
  <dc:subject/>
  <dc:title>Самые необычные деревья </dc:title>
</cp:coreProperties>
</file>