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714-161C-47E3-8AC9-E83A99B8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1D7-2691-4DA2-83D5-5F9EF65D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919-E1A7-4145-9B1A-E57B212B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2E0-724F-4A7A-B0CF-44185D40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7B6-775D-4A1D-BC15-D580EAA5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E7B-A7BA-4FB4-A170-685908F3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05B-E8B1-48AA-A686-DF7584F2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E81-638E-41F9-898A-D20B3170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9AB-EA51-443C-B0F6-9B1C3F66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460-1301-4C04-9753-FA34CD64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1AE-7B82-46AA-B416-508A130F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DB5-6973-4D00-A4A4-8496293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A860-8BE9-4077-9C91-A86E7E69B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ilaiw.narod.ru/les/image/image_neo/baniyn_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51;&#1080;&#1085;&#1085;&#1077;&#1081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&#1052;&#1099;&#1083;&#1086;" TargetMode="External"/><Relationship Id="rId5" Type="http://schemas.openxmlformats.org/officeDocument/2006/relationships/hyperlink" Target="http://ru.wikipedia.org/wiki/&#1051;&#1072;&#1090;&#1080;&#1085;&#1089;&#1082;&#1080;&#1081;_&#1103;&#1079;&#1099;&#1082;" TargetMode="External"/><Relationship Id="rId6" Type="http://schemas.openxmlformats.org/officeDocument/2006/relationships/hyperlink" Target="http://ru.wikipedia.org/wiki/&#1048;&#1085;&#1076;&#1077;&#1081;&#1094;&#1099;" TargetMode="External"/><Relationship Id="rId7" Type="http://schemas.openxmlformats.org/officeDocument/2006/relationships/hyperlink" Target="http://upload.wikimedia.org/wikipedia/commons/e/e4/Starr_050407-6253_Sapindus_saponaria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milaiw.narod.ru/les/image/image_neo/zelezo_03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Monotype Corsiva"/>
              </a:rPr>
              <a:t>Самые необычные деревья</a:t>
            </a:r>
            <a:br>
              <a:rPr sz="49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мимо того, что в мире существует много незнакомых нам экзотических плодов, вызывают удивление и сами названия некоторых плодов и деревьев, на которых они растут. Вот об этом мне и хочется вам рассказать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рево-л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600200"/>
            <a:ext cx="70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4357800" y="548640"/>
            <a:ext cx="4786200" cy="88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нья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ли, как его еще называю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о-ле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меет не один, а тысячи ст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его центре находится главный ствол, от него вырастают толстые побеги, от этих побегов вниз тянутся ответвления, которые, достигнув почвы, укореняются. После этого они начинают расти в толщину, и впоследствии вторичные стволы становятся похожими на главный ствол, и уже от них отходят новые побеги... Так продолжается до бесконе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0"/>
            </a:b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milaiw.narod.ru/les/image/image_neo/baniyn_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131840"/>
            <a:ext cx="4429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Хлопчатобумажные» или «шерстяные» деревь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57440" y="999720"/>
            <a:ext cx="4329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 деревья растут в Бразилии. Они очень похожи на большие кадки высотой в 20 метров. В период цветения ветви, которые отходят от верхней суженной части «кадки», покрываются большим количеством красивых цветов. Семена «хлопчатобумажного» дерева рассеиваются с помощью ветра. К каждому семечку присоединен «парашютик», который помогает держаться ему в воздухе и с легкостью преодолевать большие расстояния. </a:t>
            </a:r>
            <a:br>
              <a:rPr sz="2000"/>
            </a:b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Хлопковое дерево"/>
          <p:cNvPicPr/>
          <p:nvPr/>
        </p:nvPicPr>
        <p:blipFill>
          <a:blip r:embed="rId2"/>
          <a:stretch/>
        </p:blipFill>
        <p:spPr>
          <a:xfrm>
            <a:off x="0" y="1197000"/>
            <a:ext cx="4249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"Конфетное" дерев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71456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Конфетное" дере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говения (лат. Hovenia dulcis) — листопадное дерево семейства Крушиновые, происходящее из Японии, Восточного Китая, Кореи и предгорьев Гималаев, где оно может расти на высотах до 2000 м. над уровнем моря, на суглинистых или влажных песчаных почв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ево может вырастать до 10-20 м. в высоту. Оно довольно декоративно на вид: раскидистая крона, большие глянцевые тёмно-зелёные листья, гроздья маленьких кремовых цветов, цветущих в ию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milaiw.narod.ru/les/image/image_neo/gov_1.jpg"/>
          <p:cNvPicPr/>
          <p:nvPr/>
        </p:nvPicPr>
        <p:blipFill>
          <a:blip r:embed="rId2"/>
          <a:stretch/>
        </p:blipFill>
        <p:spPr>
          <a:xfrm>
            <a:off x="0" y="1357200"/>
            <a:ext cx="4500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Молочное»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ет в странах Центральной и Южной Америки. Это невысокие деревья с блестящими и толстыми листьями с несъедобными плодами. Местные жители употребляют сок этого растения как молоко. Но вытекает оно из дерева достаточно медленно: из одного надреза за 1 час вытекает 1 литр сока. К тому же употреблять этот напиток нужно сразу, так как он быстро портитс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кипячении сока на его поверхности выделяется воск, идущий на изготовление свечей и жевательной резинки. Кроме всего, древесина из этих деревьев прекрасно подходит в качестве строительного матер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Молочное дерево"/>
          <p:cNvPicPr/>
          <p:nvPr/>
        </p:nvPicPr>
        <p:blipFill>
          <a:blip r:embed="rId2"/>
          <a:stretch/>
        </p:blipFill>
        <p:spPr>
          <a:xfrm>
            <a:off x="0" y="1357200"/>
            <a:ext cx="47862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Колбасное»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milaiw.narod.ru/les/image/image_neo/kolbasa_02.jpg"/>
          <p:cNvPicPr/>
          <p:nvPr/>
        </p:nvPicPr>
        <p:blipFill>
          <a:blip r:embed="rId2"/>
          <a:stretch/>
        </p:blipFill>
        <p:spPr>
          <a:xfrm>
            <a:off x="0" y="857160"/>
            <a:ext cx="5286240" cy="57866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5429160" y="1071720"/>
            <a:ext cx="3429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ерритории экваториальной Африки на высоких деревьях растут несъедобные плоды, которые очень напоминают ливерную колбас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и деревья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игелия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колбасными» деревья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sausag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e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ды кигелии совершенно несъедобны. Увесистые колбаски могут достигать в дину полуметра, но едят их разве что гиппопотамы, и попугаи выковыривают сем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олот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s39.radikal.ru/i086/1009/b0/da93cc304954.jpg"/>
          <p:cNvPicPr/>
          <p:nvPr/>
        </p:nvPicPr>
        <p:blipFill>
          <a:blip r:embed="rId2"/>
          <a:stretch/>
        </p:blipFill>
        <p:spPr>
          <a:xfrm>
            <a:off x="357120" y="1500120"/>
            <a:ext cx="8429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рево «путешественников» или дерево-«колодец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8576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из всех мадагаскарских деревьев наиболее извест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венала Мадагаскар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С виду она похожа на банан, только у банана листья растут прямо от земли, а у равеналы есть настоящий ствол, от верхушки которого расходятся, словно спицы колеса, огромные листья, разорванные ветром по краям. У этого невысокого дерева (4 м) нет ветвей, а огромные листья растут из ствола. Они свернуты трубочкой и имеют длину 7 метров. В середине трубочки находится чистая и прохладная вода, которую растение получает из почвы. В таком дереве может находиться до 25 литров воды. Встретив равеналу, усталый путник всегда может утолить жаж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Равенала Мадагаскарская"/>
          <p:cNvPicPr/>
          <p:nvPr/>
        </p:nvPicPr>
        <p:blipFill>
          <a:blip r:embed="rId2"/>
          <a:stretch/>
        </p:blipFill>
        <p:spPr>
          <a:xfrm>
            <a:off x="571680" y="1285920"/>
            <a:ext cx="3033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0" y="1600200"/>
            <a:ext cx="4143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емляничное дерево, или земляничник крупноплодный (Arbutus unedo) растет в Средиземноморье. То есть чуть южнее, чем наше черноморское побережье. Относится он к семейству Вересков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http://s61.radikal.ru/i173/1009/e9/0a27a55254c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28840"/>
            <a:ext cx="5286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ыльное дере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29120" y="1213920"/>
            <a:ext cx="4214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ременное научное название растения было дано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Линнее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сокращённо от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ат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sap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мыло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лат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indicu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ндейск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что дословно означает «индейское мыло». Линнею было известно о использовании индейцами плодов дерева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Sapindus saponari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ри отбеливании ткан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Файл:Starr 050407-6253 Sapindus saponari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217520"/>
            <a:ext cx="48578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елезное дерево»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285800" y="1213920"/>
            <a:ext cx="4643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ревья тверже железа растут в Азербайджане и в Иране, и н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емир-агач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дамирагач), что в переводе означает «железное дерево». Его древесина очень тяжелая, поэтому быстро тонет в воде. Оно интересно тем, что имеет свойство образовывать непроходимые чащи. Кора железного дерева очень тонкая и поэтому легко разрушается. Ветви соседних деревьев, которые касаются друг друга, сразу срастаются, и образуют причудливые сплетения. Темир-агач часто используют для сооружения живых ограждений, которые со временем становятся все более крепки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Железное дерево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41259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ечное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6160" y="785520"/>
            <a:ext cx="4857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ечное дерево, или парментьера съедобная относится к семейству бигнониевых, или колбасных деревьев. У многих растений из этого семейства плоды похожи на гигантские колбасы, как, например, у кигелии перистой из Афр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http://i062.radikal.ru/1009/06/e5554fca7f4b.jpg"/>
          <p:cNvPicPr/>
          <p:nvPr/>
        </p:nvPicPr>
        <p:blipFill>
          <a:blip r:embed="rId2"/>
          <a:stretch/>
        </p:blipFill>
        <p:spPr>
          <a:xfrm>
            <a:off x="0" y="1071720"/>
            <a:ext cx="4572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андышевое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72040" y="1071720"/>
            <a:ext cx="42148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читаешь названия, подобные выше приведенному, сразу на ум приходит огромное дерево, которое усеяно цветами, в данном случае ландыша. Однако дело обстоит совсем по-друг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s42.radikal.ru/i095/1009/5e/5d89e857bfb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00080"/>
            <a:ext cx="5294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тылочное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3280" y="1000080"/>
            <a:ext cx="45007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ринга оливолистная, моринга бутолочная или дерево хрена (Moringa oleifera) дерево, принадлежащее к семейству Моринговых. Родиной растения является Южная Африка, где строго год делится на засушливую зиму и дождливое лет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i049.radikal.ru/1009/54/87326d9c967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28800"/>
            <a:ext cx="49528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исочное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http://s04.radikal.ru/i177/1009/66/fa8cd2a12ddc.jpg"/>
          <p:cNvPicPr/>
          <p:nvPr/>
        </p:nvPicPr>
        <p:blipFill>
          <a:blip r:embed="rId2"/>
          <a:stretch/>
        </p:blipFill>
        <p:spPr>
          <a:xfrm>
            <a:off x="0" y="1214280"/>
            <a:ext cx="4486320" cy="5643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572000" y="1143000"/>
            <a:ext cx="4286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так, синее сосисочное дерево, или декенея Фарже (Decaisnea fargesii) кустарник, достигающий 5-метровой высоты из семейства Лардизабаловых. Это небольшое семейство отличается эксклюзивного вида фрукта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1" descr="http://s46.radikal.ru/i113/1009/74/222d483a295b.jpg"/>
          <p:cNvPicPr/>
          <p:nvPr/>
        </p:nvPicPr>
        <p:blipFill>
          <a:blip r:embed="rId2"/>
          <a:stretch/>
        </p:blipFill>
        <p:spPr>
          <a:xfrm>
            <a:off x="0" y="1025640"/>
            <a:ext cx="4857840" cy="5832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4857840" y="1428840"/>
            <a:ext cx="4071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уречное дерево, билимби, аверроа билимби (Averrhoa Bilimbi) дерево из семейства Кисличных родом с островов Индонезии.  Его близким родственником является карамбола, или звездный фрук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3:22:20Z</dcterms:created>
  <dc:creator>Admin</dc:creator>
  <dc:description/>
  <dc:language>en-US</dc:language>
  <cp:lastModifiedBy>Admin</cp:lastModifiedBy>
  <dcterms:modified xsi:type="dcterms:W3CDTF">2011-02-06T13:49:53Z</dcterms:modified>
  <cp:revision>3</cp:revision>
  <dc:subject/>
  <dc:title>Самые необычные деревья </dc:title>
</cp:coreProperties>
</file>