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D371-D9FC-4A9D-8080-0E5AF858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2E63-8CB7-4013-A881-5DD4FFD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FE8B-9D2D-4083-9B2E-A89E8E33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76EE-B792-4866-98AB-18845E1D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E7DA-5F81-4FB6-92ED-80162A0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A9D-A72D-4E81-80EB-64701815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EA82-8A49-4852-8A96-FFA27E2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4100-2D29-4ED4-AF6C-38AAF2A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C25-305B-4A7A-9D8A-DA7F4896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C29-E2EB-4279-8DBA-E82136D7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626-3AAD-4645-99D2-D6EA11D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04A2-E07E-4011-8A7D-E24F38F2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6B7-A561-4AB9-B3B6-637EE14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7A81-986E-4C70-87CD-6CC48DE4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E06-4B9C-453E-A427-5C24F72B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B0F-C923-4899-8E16-8946B2F0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CD8E-52B0-4C53-8F54-49A57D7C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C570-577C-44AF-B22E-A6C88C1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FFFD-F137-4CE6-A74C-A3E112D7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E4B5-AA5C-4D41-A4EF-890F130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980E-EF01-4691-AED0-FC9C4FE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ECA5-A7D9-423C-A45D-6F642F0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EA20-4281-493E-A839-4DFE715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FF1A-44DD-4B04-9E1D-4EE2CDCB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053-5255-420F-87B7-BEF7FD7916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2E2B-D802-449F-8236-C6CD60E99A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0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"/>
          <p:cNvSpPr/>
          <p:nvPr/>
        </p:nvSpPr>
        <p:spPr>
          <a:xfrm>
            <a:off x="324000" y="1557360"/>
            <a:ext cx="86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Мы выбираем жизнь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wallpapers_ru_040303_sleem_la_nuit_tranquille_spokojnaya_noc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0_27d99_a61b2a37_XL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70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Словесные признак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интересованность вопросами смер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69ca3f2fd1180c9c6083799ea9c5a008"/>
          <p:cNvPicPr/>
          <p:nvPr/>
        </p:nvPicPr>
        <p:blipFill>
          <a:blip r:embed="rId1"/>
          <a:stretch/>
        </p:blipFill>
        <p:spPr>
          <a:xfrm>
            <a:off x="5219640" y="2492280"/>
            <a:ext cx="36673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69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здают другим вещи, имеющие большую личную значимость, приводят в порядок дела, мирятся с давними вра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нстрируют радикальные перемены в поведен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оявляют признаки беспомощности, безнадежности и отча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_14990"/>
          <p:cNvPicPr/>
          <p:nvPr/>
        </p:nvPicPr>
        <p:blipFill>
          <a:blip r:embed="rId1"/>
          <a:stretch/>
        </p:blipFill>
        <p:spPr>
          <a:xfrm>
            <a:off x="5003640" y="2205000"/>
            <a:ext cx="38498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51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Социально изолирован (не имеет друзей или имеет только одного друга), чувствует себя отверж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Живет в нестабильном окруж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щущает себя жертвой насил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едпринимал раньше попытки суиц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Имеет склонность к самоубийст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еренес тяжелую потерю (смерть кого-то из близких, развод р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Слишком критически настроен по отношению к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wallpapers_ru_020907_luana_alien_sun_moon_flow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66348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овет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нимательно выслушайте решившегося на самоубийство подрост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цените серьезность намерений и чувств решившегося на самоубийство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нимательно отнеситесь ко всем, даже самым незначительным обидам и жалоб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6984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3690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7390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789280" y="27806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тихотворение о человек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5" descr="1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m3"/>
          <p:cNvPicPr/>
          <p:nvPr/>
        </p:nvPicPr>
        <p:blipFill>
          <a:blip r:embed="rId2"/>
          <a:stretch/>
        </p:blipFill>
        <p:spPr>
          <a:xfrm>
            <a:off x="539640" y="0"/>
            <a:ext cx="8172720" cy="69152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900000" y="33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50560" y="117360"/>
            <a:ext cx="60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лушайте, ведь если звёзды зажигают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30520" y="623736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чит это кому-нибудь нуж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37-1"/>
          <p:cNvPicPr/>
          <p:nvPr/>
        </p:nvPicPr>
        <p:blipFill>
          <a:blip r:embed="rId1"/>
          <a:stretch/>
        </p:blipFill>
        <p:spPr>
          <a:xfrm>
            <a:off x="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843280" y="549360"/>
            <a:ext cx="6121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ыбираем жизнь, они – смер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пишем письма, они – предсмертные запи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строим планы на будущее, у них…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у них – нет будущего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жется, что мы и они – из разных ми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как велика пропасть между нам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читающими эти строки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теми, кто решился на самоубийств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сильно нужно измениться человеку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чтобы сделать этот шаг?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го лишь – шаг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и не были рождены самоубийцам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но умерли с этим клеймом.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и продолжают умир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8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5"/>
          <p:cNvSpPr/>
          <p:nvPr/>
        </p:nvSpPr>
        <p:spPr>
          <a:xfrm>
            <a:off x="179280" y="1628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Ты выбираеш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Сам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699999988079071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ый год кончают жизнь самоубийством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 000 000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человек. Среди ни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80 тысяч китай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30 тысяч американ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5 тысяч япон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0 тысяч француз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50 тысяч рус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4" descr="suicid-30"/>
          <p:cNvPicPr/>
          <p:nvPr/>
        </p:nvPicPr>
        <p:blipFill>
          <a:blip r:embed="rId6"/>
          <a:stretch/>
        </p:blipFill>
        <p:spPr>
          <a:xfrm>
            <a:off x="0" y="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самоубийств среди молодежи выросло в 3 ра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двенадцатый подросток в возрасте 15-19 лет пытается совершить попытку самоубий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законченных суицидов среди юношей в среднем в 3 раза больше, чем среди девуш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ушки пытаются покончить с собой в 4 раза чаще, чем юнош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Причины самоубийств: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% - страх перед наказа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% – душевная боле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% - домашние огор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% - стр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% денежные по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4% - пресыщенность жи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2% - физические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1% - друг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0_321_5d7d2715_XL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тором месте – угроза потери близкого человека (неразделимая любовь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етьем месте – несправедливое отношение, обви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00038134"/>
          <p:cNvPicPr/>
          <p:nvPr/>
        </p:nvPicPr>
        <p:blipFill>
          <a:blip r:embed="rId1"/>
          <a:stretch/>
        </p:blipFill>
        <p:spPr>
          <a:xfrm>
            <a:off x="0" y="0"/>
            <a:ext cx="10333080" cy="68612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252000" y="20952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 зря пословица глас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616400" y="602136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Что жизнь пройти - не поле перей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татьяна</cp:lastModifiedBy>
  <dcterms:modified xsi:type="dcterms:W3CDTF">2012-04-25T16:42:51Z</dcterms:modified>
  <cp:revision>24</cp:revision>
  <dc:subject/>
  <dc:title>Слайд 1</dc:title>
</cp:coreProperties>
</file>