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D05D-5E13-49CD-BB7B-2CDC8957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3E1D-C194-438D-9E59-41CB14DC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1433-2E6A-4F9D-8C2F-9F0295AA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03EB-73D5-4935-B633-A54798B6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46C6-964E-44DC-86CB-AA70A73B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8BE-F77C-4594-BE64-972A07F9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FAB5-E1A3-4225-9128-7F695E34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41A4-6D82-45DE-AEAA-6D81077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8663-729F-4E3F-9917-0B4C2B8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57CF-54C4-40EF-9CDC-211433B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CE91-727B-4B04-A6A9-D97EB8C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C9A9-5046-4DB0-B91C-D2B6E1F7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73C-29A8-45CB-B25F-4A423AAC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4394-9FE0-4284-9060-1B399FB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DFDD-3CA0-4523-950A-B97B96CA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51E9-5A8C-4104-880D-7521C33C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FB25-60E3-4959-B917-2EC76816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99B4-16ED-479E-B00E-E4FAB7E6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0F08-70D3-479B-8CA3-2BF61D7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61B5-C2F0-41F6-95E0-CB0AA2F1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4446-537D-4DC1-BBBA-7A3C4043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26EF-7CFB-443B-A269-C046C17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848A-E838-4603-A10C-CAC82B7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19DD-6FE7-4443-BFFE-BF7B50B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C716-9AE1-43A7-A014-3F631BA6F6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9A29-7940-4454-9016-E9E3701DBA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0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4"/>
          <p:cNvSpPr/>
          <p:nvPr/>
        </p:nvSpPr>
        <p:spPr>
          <a:xfrm>
            <a:off x="324000" y="1557360"/>
            <a:ext cx="86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Мы выбираем жизнь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wallpapers_ru_040303_sleem_la_nuit_tranquille_spokojnaya_noc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0_27d99_a61b2a37_XL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70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fdef6"/>
                </a:solidFill>
                <a:latin typeface="Arial"/>
              </a:rPr>
              <a:t>Словесные признак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19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оворы о смерти: “Я собираюсь покончить с собой”; “Я не могу так дальше жить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мёки  о своем намерении: “Я больше не буду ни для кого проблемой”; “Тебе больше не придется обо мне волноваться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шутят на тему самоуби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интересованность вопросами смер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69ca3f2fd1180c9c6083799ea9c5a008"/>
          <p:cNvPicPr/>
          <p:nvPr/>
        </p:nvPicPr>
        <p:blipFill>
          <a:blip r:embed="rId1"/>
          <a:stretch/>
        </p:blipFill>
        <p:spPr>
          <a:xfrm>
            <a:off x="5219640" y="2492280"/>
            <a:ext cx="36673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Поведенческие признаки: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4691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Раздают другим вещи, имеющие большую личную значимость, приводят в порядок дела, мирятся с давними враг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нстрируют радикальные перемены в поведен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оявляют признаки беспомощности, безнадежности и отчая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_14990"/>
          <p:cNvPicPr/>
          <p:nvPr/>
        </p:nvPicPr>
        <p:blipFill>
          <a:blip r:embed="rId1"/>
          <a:stretch/>
        </p:blipFill>
        <p:spPr>
          <a:xfrm>
            <a:off x="5003640" y="2205000"/>
            <a:ext cx="38498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Ситуационные признаки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519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Социально изолирован (не имеет друзей или имеет только одного друга), чувствует себя отверже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Живет в нестабильном окруж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щущает себя жертвой насил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редпринимал раньше попытки суици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Имеет склонность к самоубийст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еренес тяжелую потерю (смерть кого-то из близких, развод родителе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Слишком критически настроен по отношению к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1210079445_4003791_2237554"/>
          <p:cNvPicPr/>
          <p:nvPr/>
        </p:nvPicPr>
        <p:blipFill>
          <a:blip r:embed="rId1"/>
          <a:stretch/>
        </p:blipFill>
        <p:spPr>
          <a:xfrm>
            <a:off x="5867280" y="1557360"/>
            <a:ext cx="3019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wallpapers_ru_020907_luana_alien_sun_moon_flow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5"/>
          <p:cNvSpPr/>
          <p:nvPr/>
        </p:nvSpPr>
        <p:spPr>
          <a:xfrm>
            <a:off x="66348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овет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нимательно выслушайте решившегося на самоубийство подрост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цените серьезность намерений и чувств решившегося на самоубийство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цените глубину эмоционального кризи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нимательно отнеситесь ко всем, даже самым незначительным обидам и жалоба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 бойтесь прямо спросить, не думают ли он или она о самоубийств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6984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3690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73903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2789280" y="27806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тихотворение о человек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5" descr="17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m3"/>
          <p:cNvPicPr/>
          <p:nvPr/>
        </p:nvPicPr>
        <p:blipFill>
          <a:blip r:embed="rId2"/>
          <a:stretch/>
        </p:blipFill>
        <p:spPr>
          <a:xfrm>
            <a:off x="539640" y="0"/>
            <a:ext cx="8172720" cy="69152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7"/>
          <p:cNvSpPr/>
          <p:nvPr/>
        </p:nvSpPr>
        <p:spPr>
          <a:xfrm>
            <a:off x="900000" y="33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250560" y="117360"/>
            <a:ext cx="60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лушайте, ведь если звёзды зажигают,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30520" y="623736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начит это кому-нибудь нуж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37-1"/>
          <p:cNvPicPr/>
          <p:nvPr/>
        </p:nvPicPr>
        <p:blipFill>
          <a:blip r:embed="rId1"/>
          <a:stretch/>
        </p:blipFill>
        <p:spPr>
          <a:xfrm>
            <a:off x="0" y="333360"/>
            <a:ext cx="2241720" cy="60516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2843280" y="549360"/>
            <a:ext cx="6121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выбираем жизнь, они – смер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пишем письма, они – предсмертные запи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строим планы на будущее, у них…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у них – нет будущего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жется, что мы и они – из разных ми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о как велика пропасть между нами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читающими эти строки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 теми, кто решился на самоубийство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к сильно нужно измениться человеку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чтобы сделать этот шаг?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его лишь – шаг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ни не были рождены самоубийцами,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.............................но умерли с этим клеймом.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ни продолжают умир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84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5"/>
          <p:cNvSpPr/>
          <p:nvPr/>
        </p:nvSpPr>
        <p:spPr>
          <a:xfrm>
            <a:off x="179280" y="1628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Ты выбираешь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Сам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699999988079071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ждый год кончают жизнь самоубийством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 000 000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человек. Среди ни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80 тысяч китайц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30 тысяч американц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5 тысяч японц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0 тысяч француз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50 тысяч рус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4" descr="suicid-30"/>
          <p:cNvPicPr/>
          <p:nvPr/>
        </p:nvPicPr>
        <p:blipFill>
          <a:blip r:embed="rId6"/>
          <a:stretch/>
        </p:blipFill>
        <p:spPr>
          <a:xfrm>
            <a:off x="0" y="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самоубийств среди молодежи выросло в 3 раз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ый двенадцатый подросток в возрасте 15-19 лет пытается совершить попытку самоубий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законченных суицидов среди юношей в среднем в 3 раза больше, чем среди девуш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вушки пытаются покончить с собой в 4 раза чаще, чем юнош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dfdef6"/>
                </a:solidFill>
                <a:latin typeface="Arial"/>
              </a:rPr>
              <a:t>Причины самоубийств: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% - страх перед наказани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% – душевная боле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% - домашние огор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% - стра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% денежные пот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4% - пресыщенность жизн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2% - физические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1% - друг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0_321_5d7d2715_XL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Информация к размышлению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частой причиной попытки самоубийств среди подростков - семейные конфликты с родит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тором месте – угроза потери близкого человека (неразделимая любовь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ретьем месте – несправедливое отношение, обви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% суицидов предпринимали повторные попытки самоубий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00038134"/>
          <p:cNvPicPr/>
          <p:nvPr/>
        </p:nvPicPr>
        <p:blipFill>
          <a:blip r:embed="rId1"/>
          <a:stretch/>
        </p:blipFill>
        <p:spPr>
          <a:xfrm>
            <a:off x="0" y="0"/>
            <a:ext cx="10333080" cy="68612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252000" y="209520"/>
            <a:ext cx="53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Не зря пословица гласи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616400" y="602136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Что жизнь пройти - не поле перей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44:13Z</dcterms:created>
  <dc:creator>Я</dc:creator>
  <dc:description/>
  <dc:language>en-US</dc:language>
  <cp:lastModifiedBy>татьяна</cp:lastModifiedBy>
  <dcterms:modified xsi:type="dcterms:W3CDTF">2012-04-25T16:42:51Z</dcterms:modified>
  <cp:revision>24</cp:revision>
  <dc:subject/>
  <dc:title>Слайд 1</dc:title>
</cp:coreProperties>
</file>