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01F-CA88-4FD6-9970-93C66202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04E-1E01-4596-95EB-48886E81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383-88CD-418E-B9F2-6C052E35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C15-F2C7-4D85-8347-C65F0CC2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006-CC55-4B7A-86DA-916E486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E82-3600-462E-8056-9A25A75C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812-DF46-495F-8070-173C2245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8E5-A43D-4B85-BA85-F2B60BA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B23-1675-4113-BE37-4195606D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BF6-18B7-45F8-BF4A-0652DCC6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21A-3F76-4B30-B4AE-94E6C8BD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7D7-A102-4D33-B724-DDB36A9A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6288-C5E8-4219-A97C-D010B2E32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Мысль народная» в романе Л. Н. Толстого «Война и мир». Сложность жизненного выбора, поиска смысла жизн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Андрей перед Аустерлицем.wmv" descr=""/>
          <p:cNvPicPr/>
          <p:nvPr/>
        </p:nvPicPr>
        <p:blipFill>
          <a:blip r:embed="rId1"/>
          <a:stretch/>
        </p:blipFill>
        <p:spPr>
          <a:xfrm>
            <a:off x="250920" y="-27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читать главы о Кутузове и Наполеоне. По ходу чтения проследить за участием полководцев в ходе боевых сражений, определить, как относятся к полководцам их воины ( в группах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-я группа. Кутузов (т.3. ч.2, гл 15 – 16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-я группа. Наполеон (т.3, ч.1, гл.2,6; т.3, ч.2, гл. 26, 27, 33).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-я группа. Перечитать избранные главы, посвященные Бородинскому сражению, и сравнить настроение рядовых солдат и офицеров  и штабных офицеров (т.3, ч.2, гл. 20 – 2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50920" y="115920"/>
          <a:ext cx="8424720" cy="6940440"/>
        </p:xfrm>
        <a:graphic>
          <a:graphicData uri="http://schemas.openxmlformats.org/drawingml/2006/table">
            <a:tbl>
              <a:tblPr/>
              <a:tblGrid>
                <a:gridCol w="2103480"/>
                <a:gridCol w="2097000"/>
                <a:gridCol w="2109600"/>
                <a:gridCol w="2114640"/>
              </a:tblGrid>
              <a:tr h="210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вязк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йна 1805 – 1807 гг.; австрийские п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льминация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12 г.; Бороди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яз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ртизанская вой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 стороны России – это захватническая война, её цели не понятны солдатам, поэтому Л.Н. Толстой показывает действенность этой 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о освободительная война, цель которой – защита своей земли, поэтому здесь единение всего народа, вылившееся в партизанскую войну, то есть, «движение самих масс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юда высокий дух патриотизма, героизм (курган Раевского, полк князя Андрея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00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роический дух русских солдат; способность к самоотверженности и подвигу (смотр под Браунау, переправа через Энс, Шенграбенское  сраж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яжёлое положение армии; неразбериха среди командования; лицемерие штабных офицеров; военные амбиции (переправа через Энс, Шленграбенское  сражение, военный совет, Аустерлиц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4"/>
          <p:cNvSpPr/>
          <p:nvPr/>
        </p:nvSpPr>
        <p:spPr>
          <a:xfrm>
            <a:off x="6188040" y="376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Шенграбенское сражение – первое, в котором принимал участие князь Андрей Болконский. Чувства, которые он испытывает в первые минуты сражения, роднят его с другими солдатами и офицерами. Какие это чувст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началось! вот оно! .wmv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 влияет присутствие Багратиона на окружающих его солдат и офицер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 проявил себя в сражении капитан Тушин вместе со своей батарее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батарея Тушина.wmv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68824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гратион обвинил Тушина в том, что тот оставил два орудия на поле боя. Почему капитан не стал оправдывать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Болконский и Тушин.wmv" descr=""/>
          <p:cNvPicPr/>
          <p:nvPr/>
        </p:nvPicPr>
        <p:blipFill>
          <a:blip r:embed="rId1"/>
          <a:stretch/>
        </p:blipFill>
        <p:spPr>
          <a:xfrm>
            <a:off x="324000" y="225360"/>
            <a:ext cx="856908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 чём размышляет князь Андрей накануне Аустерлицкого сражения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Alla</cp:lastModifiedBy>
  <dcterms:modified xsi:type="dcterms:W3CDTF">2012-06-24T20:59:54Z</dcterms:modified>
  <cp:revision>18</cp:revision>
  <dc:subject/>
  <dc:title>Презентация PowerPoint</dc:title>
</cp:coreProperties>
</file>