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2C1-699D-4E97-8C8D-2A97139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789-4B1F-4DFB-AB86-0A996A46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0DD-21BD-4C3A-945B-4EF2BD30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72F-3511-4775-AF76-FA77586C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551-6031-49A0-9D0D-4F0A0BA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065-E3C7-4735-B19B-9E9969A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89C-6E7B-44B1-87F2-F71F6B16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5CE-0B88-4145-9857-206E9443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7B0-4C10-4761-80FC-3D71677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ED3-5E39-4E2F-A861-D6689E8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A9C-6510-40ED-9C8B-F9ED743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07C-C9D8-4957-9D82-E5A0B45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C20-B2D5-4E8E-8AF5-9C1C18312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ысль народная» в романе Л. Н. Толстого «Война и мир». Сложность жизненного выбора, поиска смысла жиз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Андрей перед Аустерлицем.wmv" descr=""/>
          <p:cNvPicPr/>
          <p:nvPr/>
        </p:nvPicPr>
        <p:blipFill>
          <a:blip r:embed="rId1"/>
          <a:stretch/>
        </p:blipFill>
        <p:spPr>
          <a:xfrm>
            <a:off x="250920" y="-27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читать главы о Кутузове и Наполеоне. По ходу чтения проследить за участием полководцев в ходе боевых сражений, определить, как относятся к полководцам их воины ( в группа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-я группа. Кутузов (т.3. ч.2, гл 15 – 16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-я группа. Наполеон (т.3, ч.1, гл.2,6; т.3, ч.2, гл. 26, 27, 33)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-я группа. Перечитать избранные главы, посвященные Бородинскому сражению, и сравнить настроение рядовых солдат и офицеров  и штабных офицеров (т.3, ч.2, гл. 20 – 2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115920"/>
          <a:ext cx="8424720" cy="6940440"/>
        </p:xfrm>
        <a:graphic>
          <a:graphicData uri="http://schemas.openxmlformats.org/drawingml/2006/table">
            <a:tbl>
              <a:tblPr/>
              <a:tblGrid>
                <a:gridCol w="2103480"/>
                <a:gridCol w="2097000"/>
                <a:gridCol w="2109600"/>
                <a:gridCol w="2114640"/>
              </a:tblGrid>
              <a:tr h="210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вяз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йна 1805 – 1807 гг.; австрийские п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минаци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12 г.; Бород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яз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тизанская во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 стороны России – это захватническая война, её цели не понятны солдатам, поэтому Л.Н. Толстой показывает действенность эт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освободительная война, цель которой – защита своей земли, поэтому здесь единение всего народа, вылившееся в партизанскую войну, то есть, «движение самих масс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юда высокий дух патриотизма, героизм (курган Раевского, полк князя Андре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роический дух русских солдат; способность к самоотверженности и подвигу (смотр под Браунау, переправа через Энс, Шенграбенское  сраж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ёлое положение армии; неразбериха среди командования; лицемерие штабных офицеров; военные амбиции (переправа через Энс, Шленграбенское  сражение, военный совет, Аустерлиц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4"/>
          <p:cNvSpPr/>
          <p:nvPr/>
        </p:nvSpPr>
        <p:spPr>
          <a:xfrm>
            <a:off x="6188040" y="376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енграбенское сражение – первое, в котором принимал участие князь Андрей Болконский. Чувства, которые он испытывает в первые минуты сражения, роднят его с другими солдатами и офицерами. Какие это чув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началось! вот оно! .wmv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влияет присутствие Багратиона на окружающих его солдат и офице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проявил себя в сражении капитан Тушин вместе со своей батаре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батарея Тушина.wmv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68824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гратион обвинил Тушина в том, что тот оставил два орудия на поле боя. Почему капитан не стал оправдывать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Болконский и Тушин.wmv" descr=""/>
          <p:cNvPicPr/>
          <p:nvPr/>
        </p:nvPicPr>
        <p:blipFill>
          <a:blip r:embed="rId1"/>
          <a:stretch/>
        </p:blipFill>
        <p:spPr>
          <a:xfrm>
            <a:off x="324000" y="225360"/>
            <a:ext cx="8569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 чём размышляет князь Андрей накануне Аустерлицкого сражени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Alla</cp:lastModifiedBy>
  <dcterms:modified xsi:type="dcterms:W3CDTF">2012-06-24T20:59:54Z</dcterms:modified>
  <cp:revision>18</cp:revision>
  <dc:subject/>
  <dc:title>Презентация PowerPoint</dc:title>
</cp:coreProperties>
</file>