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2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31.png" ContentType="image/png"/>
  <Override PartName="/ppt/media/image34.png" ContentType="image/png"/>
  <Override PartName="/ppt/media/image40.jpeg" ContentType="image/jpeg"/>
  <Override PartName="/ppt/media/image44.png" ContentType="image/png"/>
  <Override PartName="/ppt/media/image45.png" ContentType="image/png"/>
  <Override PartName="/ppt/media/image46.jpeg" ContentType="image/jpeg"/>
  <Override PartName="/ppt/media/image32.jpeg" ContentType="image/jpeg"/>
  <Override PartName="/ppt/media/image51.png" ContentType="image/png"/>
  <Override PartName="/ppt/media/image48.jpeg" ContentType="image/jpeg"/>
  <Override PartName="/ppt/media/image53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54.png" ContentType="image/png"/>
  <Override PartName="/ppt/media/image14.jpeg" ContentType="image/jpeg"/>
  <Override PartName="/ppt/media/image20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42.jpeg" ContentType="image/jpeg"/>
  <Override PartName="/ppt/media/image19.jpeg" ContentType="image/jpeg"/>
  <Override PartName="/ppt/media/image6.png" ContentType="image/png"/>
  <Override PartName="/ppt/media/image36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7DD-BB5C-419D-8247-82DC5311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ADD8-F878-4375-B726-69D0AAEA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72D9A-4258-4276-9BBF-AA4C82A9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D29CA-27F3-4B20-A69D-FD6704D6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20385-CA1D-4AB4-B896-C9406D60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A7076-5C52-4ECA-84BA-504B7C36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A298C-05A0-49C7-BAE3-8D40BE60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ADB76-6A6D-4A4B-BAB7-D6BD1D5D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E8278-50EA-4339-A060-084FC3FE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FF0FE-FFB6-4388-9591-4351B514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45267-820F-4F04-A86C-478DC7F0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77AE-88C4-43FB-A2C2-DA381D4C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CA5-9549-424E-994A-B6F52060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0216-2A51-432E-A6B0-A1913D29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F99A-EA9F-4C9E-A2B6-B810B4D1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60B1-E4EA-45C0-AA72-CBC60CF8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A7F8-54AA-461A-8183-E282618F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24D2-138C-4673-99FF-4DF8B94F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E7DA-E9E9-4DA4-80FD-8826EA8D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DB69-7AE9-430D-B4AD-C2DD392D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FDA-2CE6-4C63-9148-6D616EB9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55F6-02E6-4B3A-9920-F84A737F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8FFC-A06E-4FA2-A82E-E47231A4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A169-73F5-42E0-9AB6-CEEA39DC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D8D3-2EFF-4FC1-8460-08915C20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21F3-2751-486D-B71D-7D65AE93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15162-E449-4E06-906D-10D0EF4B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A41C0-29C7-4D67-A13F-E279C1E1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8E600-D95F-4772-A85F-C25779B8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88311-A3F1-4308-AEC1-B39D8AF0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D64AD-AA55-4291-88D0-56373353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42A-CB29-483E-95FF-2183EF0B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8DEBF-8A72-4C09-9B52-D4899C40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6368D-4273-445A-A691-1B16DCA4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1C28D-342F-410A-A634-35441928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C4F04-B8A2-429B-8A10-DE3335D7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C27B9-A72F-412E-B358-0BF93A6D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32E64-1E17-4099-BBCE-28D3E548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4516D-8E1F-465B-81F6-0E318710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C34A9-F40C-4021-B36C-A3966AC1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4EFF0-09EA-413D-BF7A-F9390FD6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11F2C-FEC8-4774-A7BC-ECADEF83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E26-2C47-45BA-8875-4E99D671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52E28-3B18-4670-A90B-D8AE15A1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A324B-5037-484E-84B1-1397DBA8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86DB3-3773-43FE-B4C8-7E7F5A84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E788C-A720-40B6-9DAC-FE32BD72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08139-2EF0-459E-BCEA-BC9E4DA1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7DEF1-A486-4F03-8D65-C8771386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206A4-918E-4F1F-A7FA-89776D24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20E80-B802-43D5-B746-4C0F2A8A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95EEE-E16B-4A42-B71A-BAF14AAA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8126F-FB40-455C-9F73-C71EFA59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716-B8B6-404A-A7EC-454CE93A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F7B0E-9159-4C18-9C65-9BD40802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0578B-1855-487A-8ADD-21F6B02F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7C97A-151D-4E85-8C39-3D38B062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85C48-FE56-4FF0-B1A1-C91D60A0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2C2B6-1793-4ED1-A5D9-C75D9ED9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B3465-657E-410D-B596-31458E8C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B7F04-E303-48F7-B20C-1D798BE6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0C2E9-7380-4A00-AC05-13DB081B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17B63-03A9-4DF9-B491-02B8F741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410EC-FF9B-4B29-AA00-0DE76E12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63CD-8CFD-4C1F-AF54-07B8F8E6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DA6DD-DFEA-41F7-BD8E-F5B963BA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EDE25-7477-4020-A8CB-BFA7F4E6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520A1-AA62-42A3-8119-B6A2EFC1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E7F13-8134-4934-AAE6-491AA3EC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05588-4A86-4C44-A9C1-0E54A0F5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20881-0DF6-4C30-ADDF-026264A1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55D1E-BBC1-4779-B573-760080E6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5BB51-EE5B-4C49-A56B-B8950208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37628-1469-4DCF-9515-A3E36720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66605-45CB-4BA3-B3D0-668A3431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2FE-BB2F-49BF-B303-690EC374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10098-F54E-4E2D-AEFC-98368A2C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81896-2A60-4A66-BE82-E95DBA86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27EE5-2B32-4C8F-9D53-1099E55F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34049-0EC5-4D09-A8BF-7CBE8825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C9CA3-AB8B-4741-A8C7-1A50422F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0DD13-7A17-45B1-883C-00024BE1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91D84-67FA-451B-B994-5E655D86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BFFA3-408B-4590-9037-1790FD12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3D122-4036-49C3-A4D9-D46B904D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D7212-60E1-492C-8116-090038E8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CE71-EA2C-47EC-8939-BDBDD105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EB1CE-5806-4229-BCB1-A6D7FF92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81441-1138-4CF6-8269-6E8E6EA6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3BE8C-8A22-4517-BB81-AC3E79E5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A1DBD-1315-4EAE-B7DF-19565724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A39ED-DE35-4724-8273-C474D45A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34788-F878-44A2-9732-BB02368B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10E5D-FA86-42A8-961B-06A8FF98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A0BAC-8B4A-4149-962F-3887D888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E35B6-3DA9-4A9E-8688-AA2CA6EE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5F902-BF3B-4438-B50D-13E2D872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6858-9C86-4E0A-9F3A-A7F6C085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22BF5-1D14-4604-A73A-A3AB0EB7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FA02B-1A9F-4E3D-AF89-AA182DF6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C8357-07F4-46A3-9B43-F913CE47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F47AD-DE6F-4555-8E5A-98DA7941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46903-BE95-4255-AD9A-361D1554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E5D50-D98B-4338-B79A-B9E10E5F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398C7-6136-4BD4-95A7-7F752C34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D0BCB-DEFF-46BF-9454-0757B3F1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EFF20-1C3C-4488-8427-59DFE182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5232B-B1E5-4B01-A9BA-A4B1D737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7B31-2D26-4515-A25F-76A43DC0FEA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52DE-7CDD-4889-BE0B-CEDA741C99B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BC81-0B5C-430D-8E29-A9F7057E7C3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E3CF-C99C-4C07-8D21-44A7BC936BA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5173-D18C-40B5-897F-19E05C73927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401B-90CF-4F75-8D3F-95F25A88BA1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6535-F0BA-4F58-9004-FB566EF36FC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F23A-2F68-4FF0-B76B-FAE00F50BBA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F8BC-5BFF-43BA-A3A4-4E432ACD4AF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0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1026" descr=""/>
          <p:cNvPicPr/>
          <p:nvPr/>
        </p:nvPicPr>
        <p:blipFill>
          <a:blip r:embed="rId1"/>
          <a:stretch/>
        </p:blipFill>
        <p:spPr>
          <a:xfrm>
            <a:off x="530280" y="1182600"/>
            <a:ext cx="7796160" cy="117000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030"/>
          <p:cNvSpPr/>
          <p:nvPr/>
        </p:nvSpPr>
        <p:spPr>
          <a:xfrm>
            <a:off x="380988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033"/>
          <p:cNvSpPr/>
          <p:nvPr/>
        </p:nvSpPr>
        <p:spPr>
          <a:xfrm>
            <a:off x="3881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036"/>
          <p:cNvSpPr/>
          <p:nvPr/>
        </p:nvSpPr>
        <p:spPr>
          <a:xfrm>
            <a:off x="285840" y="792720"/>
            <a:ext cx="8358120" cy="1678320"/>
          </a:xfrm>
          <a:prstGeom prst="rect">
            <a:avLst/>
          </a:prstGeom>
          <a:noFill/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ТЕЛЬСКАЯ  РАБ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ЕМ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КАК «ЛЕЧАТ» КОШ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Рисунок 10" descr=""/>
          <p:cNvPicPr/>
          <p:nvPr/>
        </p:nvPicPr>
        <p:blipFill>
          <a:blip r:embed="rId2"/>
          <a:stretch/>
        </p:blipFill>
        <p:spPr>
          <a:xfrm>
            <a:off x="3357720" y="2857680"/>
            <a:ext cx="2357280" cy="2946240"/>
          </a:xfrm>
          <a:prstGeom prst="rect">
            <a:avLst/>
          </a:prstGeom>
          <a:ln w="9360">
            <a:solidFill>
              <a:srgbClr val="f0a2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7858080" cy="22496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213840" y="1571760"/>
            <a:ext cx="4643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а ласкова, добра, но ненавязчив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 требует большого ухода, уравновешенная и игривая почти до старости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егко приспосабливается к ритму жизни своих хозяев, но полностью им не подчиняется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екрасные мышеловы и крысолов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Picture 6" descr="01"/>
          <p:cNvPicPr/>
          <p:nvPr/>
        </p:nvPicPr>
        <p:blipFill>
          <a:blip r:embed="rId2"/>
          <a:stretch/>
        </p:blipFill>
        <p:spPr>
          <a:xfrm>
            <a:off x="5072040" y="3786120"/>
            <a:ext cx="3576600" cy="24289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eur_d23_sm"/>
          <p:cNvPicPr/>
          <p:nvPr/>
        </p:nvPicPr>
        <p:blipFill>
          <a:blip r:embed="rId3"/>
          <a:stretch/>
        </p:blipFill>
        <p:spPr>
          <a:xfrm>
            <a:off x="5786280" y="1071720"/>
            <a:ext cx="228600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487440" y="133200"/>
            <a:ext cx="7980120" cy="134784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285840" y="1428840"/>
            <a:ext cx="42098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Характерный признак этой породы - темная окраска конечных частей тела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ктивная, иногда агрессивная, общительная и чувствительная кошка, которая четко разделяет людей на любимых и нелюбимых. К последним относится недоверчиво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3" name="Picture 7" descr="i"/>
          <p:cNvPicPr/>
          <p:nvPr/>
        </p:nvPicPr>
        <p:blipFill>
          <a:blip r:embed="rId2"/>
          <a:stretch/>
        </p:blipFill>
        <p:spPr>
          <a:xfrm>
            <a:off x="5500800" y="1643040"/>
            <a:ext cx="3071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-201600" y="328680"/>
            <a:ext cx="7980480" cy="1305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42560" y="1428840"/>
            <a:ext cx="471492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рсы имеют тихий нрав, их голос редко слышит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рсы создают атмосферу покоя, но в то же время они будут сопровождать вас из комнаты в комнату только затем, чтобы быть в поле вашего зрени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6" name="Picture 5" descr="main4"/>
          <p:cNvPicPr/>
          <p:nvPr/>
        </p:nvPicPr>
        <p:blipFill>
          <a:blip r:embed="rId2"/>
          <a:stretch/>
        </p:blipFill>
        <p:spPr>
          <a:xfrm>
            <a:off x="4786200" y="2071800"/>
            <a:ext cx="41832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487440" y="281160"/>
            <a:ext cx="7980120" cy="119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285480" y="1214280"/>
            <a:ext cx="39193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рупная, сильная, с длинной шерстью, неза-висимая, но любящая своего хозяин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ибиряки – одни из самых сообразительных, легко обучаемых, наиболее настроенных на хозяин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9" name="Picture 6" descr="main"/>
          <p:cNvPicPr/>
          <p:nvPr/>
        </p:nvPicPr>
        <p:blipFill>
          <a:blip r:embed="rId2"/>
          <a:stretch/>
        </p:blipFill>
        <p:spPr>
          <a:xfrm>
            <a:off x="4500720" y="1500120"/>
            <a:ext cx="450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98440" y="139680"/>
            <a:ext cx="8699400" cy="2017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шкотерапия —лечение больного, когда, наряду с лекарствами, ему предписано общение с кошкой</a:t>
            </a:r>
            <a:r>
              <a:rPr b="0" lang="ru-RU" sz="44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-1119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85800" y="785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становлено, что кошки оказывают лучший лечебный эффект, чем коты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шки оказывают положительное воздействие на людей с заболеваниями нервной системы и внутренних органов, а коты — на тех, кто страдает от остеохондроза, радикулита и артроза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-1119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85800" y="71424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тоит отметить, что длинношерстные кошки считаются прекрасными невропатологами и могут вылечить хозяина от депрессии, бессонницы и раздражительности.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вот кошки с недлинной, но густой шерстью специализируются на сердечно-сосудистых заболеваниях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меют значение и цвет, и порода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Черные гладкошерстные и сиамские кошки хорошо снимают хроническую усталость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елые полудлинношерстные и длинношерстные (ангора и перс) исцеляют заболевания обмена веществ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рыжие и серые - универсалы, они помогают при любых недомоганиях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2928600"/>
            <a:ext cx="868680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становлено, что человек получает положительные эмоции не только от общения и наблюдения за кошками, но также от процесса создания фигурок и картинок кошек - очень полезно рисовать, лепить, фотографировать этих животных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0" name="Рисунок 22" descr=""/>
          <p:cNvPicPr/>
          <p:nvPr/>
        </p:nvPicPr>
        <p:blipFill>
          <a:blip r:embed="rId2"/>
          <a:stretch/>
        </p:blipFill>
        <p:spPr>
          <a:xfrm>
            <a:off x="431640" y="571680"/>
            <a:ext cx="1497240" cy="197928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16" descr=""/>
          <p:cNvPicPr/>
          <p:nvPr/>
        </p:nvPicPr>
        <p:blipFill>
          <a:blip r:embed="rId3"/>
          <a:stretch/>
        </p:blipFill>
        <p:spPr>
          <a:xfrm>
            <a:off x="2357280" y="552600"/>
            <a:ext cx="1516320" cy="194760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9" descr=""/>
          <p:cNvPicPr/>
          <p:nvPr/>
        </p:nvPicPr>
        <p:blipFill>
          <a:blip r:embed="rId4"/>
          <a:stretch/>
        </p:blipFill>
        <p:spPr>
          <a:xfrm>
            <a:off x="4214880" y="571680"/>
            <a:ext cx="14288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блюдения за кошками проводились дома, у соседей, знакомых, у бабушки в деревне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96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нная тема актуальна, так как в настоящее время в медицине все чаще используются нетрадиционные методы лечен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ще во времена Гиппократа было известно, что домашние животные благоприятно влияют на здоровье человек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Они создают у людей хорошее настроение и служат стимулом к жизни, особенно у одиноких люд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Домашние животные способны избавить человека от многих серьезных заболевани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Ученые убеждены, что длительная дружба с кошкой укрепляет иммунную систему и способствует здоровью и долголетию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Rectangle 4" descr=""/>
          <p:cNvPicPr/>
          <p:nvPr/>
        </p:nvPicPr>
        <p:blipFill>
          <a:blip r:embed="rId1"/>
          <a:stretch/>
        </p:blipFill>
        <p:spPr>
          <a:xfrm>
            <a:off x="487440" y="603360"/>
            <a:ext cx="7980120" cy="131112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42814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иамская кошка Лола  любила устраиваться рядом с головой хозяин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а не забиралась сразу на руки, а подходила и стояла какое-то время рядом, наблюдая за нам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ола всех успокаивала и все вокруг нее становилось спокойным и добрым.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7" name="Picture 7" descr="IMG_1340"/>
          <p:cNvPicPr/>
          <p:nvPr/>
        </p:nvPicPr>
        <p:blipFill>
          <a:blip r:embed="rId2"/>
          <a:stretch/>
        </p:blipFill>
        <p:spPr>
          <a:xfrm>
            <a:off x="4643280" y="2492280"/>
            <a:ext cx="40989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4" descr=""/>
          <p:cNvPicPr/>
          <p:nvPr/>
        </p:nvPicPr>
        <p:blipFill>
          <a:blip r:embed="rId1"/>
          <a:stretch/>
        </p:blipFill>
        <p:spPr>
          <a:xfrm>
            <a:off x="-6480" y="542880"/>
            <a:ext cx="7785360" cy="130968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т Рыжик, наоборот, был немного бестолковым и самоуверенным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 сразу прыгал на колен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ыжик любил спать, развалившись на диване, животом кверху, раскинув лап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т него в доме тоже становилось теплее и уютнее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0" name="Picture 7" descr="IMG_1395"/>
          <p:cNvPicPr/>
          <p:nvPr/>
        </p:nvPicPr>
        <p:blipFill>
          <a:blip r:embed="rId2"/>
          <a:stretch/>
        </p:blipFill>
        <p:spPr>
          <a:xfrm>
            <a:off x="5572080" y="2793960"/>
            <a:ext cx="2685960" cy="33163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IMG_1423"/>
          <p:cNvPicPr/>
          <p:nvPr/>
        </p:nvPicPr>
        <p:blipFill>
          <a:blip r:embed="rId3"/>
          <a:stretch/>
        </p:blipFill>
        <p:spPr>
          <a:xfrm>
            <a:off x="5643720" y="357120"/>
            <a:ext cx="271620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гда гладишь кошек, успокаиваешься, становится хорошо на душе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гда рядом урчит кошка, легко засыпаешь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4" name="Picture 6" descr="IMG_2051"/>
          <p:cNvPicPr/>
          <p:nvPr/>
        </p:nvPicPr>
        <p:blipFill>
          <a:blip r:embed="rId1"/>
          <a:stretch/>
        </p:blipFill>
        <p:spPr>
          <a:xfrm>
            <a:off x="4648320" y="2836800"/>
            <a:ext cx="380988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шки любят спать на компьютере, холодильнике, работающей стиральной машине, на телевизоре, то есть на тех приборах, которые излучают отрицательные электромагнитные колебания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ероятно, для жизни ей необходимо постоянно получать какое-то количество отрицательной энерги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7" name="Picture 6" descr="PICT0028"/>
          <p:cNvPicPr/>
          <p:nvPr/>
        </p:nvPicPr>
        <p:blipFill>
          <a:blip r:embed="rId1"/>
          <a:stretch/>
        </p:blipFill>
        <p:spPr>
          <a:xfrm>
            <a:off x="4478400" y="214200"/>
            <a:ext cx="4403520" cy="3071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IMG_1345"/>
          <p:cNvPicPr/>
          <p:nvPr/>
        </p:nvPicPr>
        <p:blipFill>
          <a:blip r:embed="rId2"/>
          <a:stretch/>
        </p:blipFill>
        <p:spPr>
          <a:xfrm>
            <a:off x="4857840" y="3635280"/>
            <a:ext cx="36432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85680" y="420840"/>
            <a:ext cx="889308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результате наблюдений мы пришли к выводу, что гипотеза, выдвинутая в исследовательской работе, полностью подтвердилас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шки способны угадывать больные места своего хозяин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и чувствуют все неполадки в нашем организм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шки- универсальные лекари- они нормализуют наш энергообмен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255600" y="420840"/>
            <a:ext cx="8894880" cy="115884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сли вы истощены, выдохлись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, кошка вас «подпитает», вернет утраченные силы. Все, что вам нужно делать, - почаще брать на руки только что проснувшуюся, хорошо отдохнувшую хвостатую подружк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сли вы никак не можете успокоиться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может сонная кошка: прижмите ее к себе, погладьте, послушайте ее умиротворяющее мурлыкань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5" name="Picture 6" descr="IMG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 гипертонии и остеохондрозе шейного отдела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прекрасно зарекомендовал себя «кошачий воротник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кладывайте три раза в день кошку на 3-4 минуты на шею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Rectangle 2" descr=""/>
          <p:cNvPicPr/>
          <p:nvPr/>
        </p:nvPicPr>
        <p:blipFill>
          <a:blip r:embed="rId1"/>
          <a:stretch/>
        </p:blipFill>
        <p:spPr>
          <a:xfrm>
            <a:off x="487440" y="603360"/>
            <a:ext cx="7980120" cy="131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пражнение 1. Уткнитесь в свою кошку лбом и замрите в таком положении на 5 минут.</a:t>
            </a:r>
            <a:br>
              <a:rPr sz="2200"/>
            </a:br>
            <a:r>
              <a:rPr b="0" lang="ru-RU" sz="22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то нормализует давление, снимает стресс и головную боль, помогает при сердечно-сосудистых заболеваниях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0" name="Picture 7" descr="Рисунок1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Rectangle 2" descr=""/>
          <p:cNvPicPr/>
          <p:nvPr/>
        </p:nvPicPr>
        <p:blipFill>
          <a:blip r:embed="rId1"/>
          <a:stretch/>
        </p:blipFill>
        <p:spPr>
          <a:xfrm>
            <a:off x="487440" y="603360"/>
            <a:ext cx="7980120" cy="13111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 несколько минут положите кошку на шею. (Но приучайте ее лежать у вас на шее постепенно!)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 время этого упражнения отлично прогреваются все шейные позвонки и снимаются негативные эмоции.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3" name="Picture 5" descr="P1000042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P1000042"/>
          <p:cNvPicPr/>
          <p:nvPr/>
        </p:nvPicPr>
        <p:blipFill>
          <a:blip r:embed="rId3"/>
          <a:stretch/>
        </p:blipFill>
        <p:spPr>
          <a:xfrm>
            <a:off x="4643280" y="257184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5" descr="P1000042"/>
          <p:cNvPicPr/>
          <p:nvPr/>
        </p:nvPicPr>
        <p:blipFill>
          <a:blip r:embed="rId4"/>
          <a:stretch/>
        </p:blipFill>
        <p:spPr>
          <a:xfrm>
            <a:off x="4795920" y="272412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pic>
        <p:nvPicPr>
          <p:cNvPr id="407" name="Rectangle 3" descr=""/>
          <p:cNvPicPr/>
          <p:nvPr/>
        </p:nvPicPr>
        <p:blipFill>
          <a:blip r:embed="rId2"/>
          <a:stretch/>
        </p:blipFill>
        <p:spPr>
          <a:xfrm>
            <a:off x="298440" y="1517760"/>
            <a:ext cx="86994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Rectangle 2" descr=""/>
          <p:cNvPicPr/>
          <p:nvPr/>
        </p:nvPicPr>
        <p:blipFill>
          <a:blip r:embed="rId1"/>
          <a:stretch/>
        </p:blipFill>
        <p:spPr>
          <a:xfrm>
            <a:off x="487440" y="603360"/>
            <a:ext cx="798012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сколько раз попеременно каждой рукой проведите рукой по спине кошки: от ушей до самого кончика хвоста.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 время этого упражнения массируются активные точки на ладонях, что в целом положительно влияет на организм человек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8" name="Picture 5" descr="IMG_2050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Rectangle 2" descr=""/>
          <p:cNvPicPr/>
          <p:nvPr/>
        </p:nvPicPr>
        <p:blipFill>
          <a:blip r:embed="rId1"/>
          <a:stretch/>
        </p:blipFill>
        <p:spPr>
          <a:xfrm>
            <a:off x="378000" y="176040"/>
            <a:ext cx="8040600" cy="13669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1" name="Picture 4" descr="051108-1226-2"/>
          <p:cNvPicPr/>
          <p:nvPr/>
        </p:nvPicPr>
        <p:blipFill>
          <a:blip r:embed="rId2"/>
          <a:stretch/>
        </p:blipFill>
        <p:spPr>
          <a:xfrm>
            <a:off x="3071880" y="1714680"/>
            <a:ext cx="3571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читать литературу о кошка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вести наблюдения за кошкам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делать вывод по проделанной работе и дать рекомендаци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омашние кошки разных пород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шки наделены даром угадывать больные места своего хозяин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и чувствуют все неполадки в нашем организм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шка является красивым, умным, ласковым и преданным создание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шка быстро запоминает дом и становится милым и близким другом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авильно воспитанная кошка не причиняет хозяину неприятных хлопот, а в плохие минуты жизни поможет снять нервное напряжение, избавит от плохого самочувствия, отвлечет от грустных мыслей и забот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13840" y="571680"/>
            <a:ext cx="635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рвое свидетельство об одомашнивании кошек относится  к 2500 году до нашей эры и получено из Египта,  где были обнаружены сотни тысяч их мумий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умии кошек были в золотых и серебряных усыпальницах с драгоценными камням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юди ценили кошек как истребителей грызунов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шкам в Египте посвящались роскошные храмы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6" descr="5965926"/>
          <p:cNvPicPr/>
          <p:nvPr/>
        </p:nvPicPr>
        <p:blipFill>
          <a:blip r:embed="rId1"/>
          <a:stretch/>
        </p:blipFill>
        <p:spPr>
          <a:xfrm>
            <a:off x="857160" y="4956120"/>
            <a:ext cx="2425680" cy="15447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EgyptianCat"/>
          <p:cNvPicPr/>
          <p:nvPr/>
        </p:nvPicPr>
        <p:blipFill>
          <a:blip r:embed="rId2"/>
          <a:stretch/>
        </p:blipFill>
        <p:spPr>
          <a:xfrm>
            <a:off x="6643800" y="1285920"/>
            <a:ext cx="2255760" cy="4000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5" descr="apophis"/>
          <p:cNvPicPr/>
          <p:nvPr/>
        </p:nvPicPr>
        <p:blipFill>
          <a:blip r:embed="rId3"/>
          <a:stretch/>
        </p:blipFill>
        <p:spPr>
          <a:xfrm>
            <a:off x="3786120" y="5000760"/>
            <a:ext cx="271476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9" descr="485057"/>
          <p:cNvPicPr/>
          <p:nvPr/>
        </p:nvPicPr>
        <p:blipFill>
          <a:blip r:embed="rId1"/>
          <a:stretch/>
        </p:blipFill>
        <p:spPr>
          <a:xfrm>
            <a:off x="3276720" y="189000"/>
            <a:ext cx="2633400" cy="17557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84000" y="2421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шки относятся к семейству кошачьих. В него входят и самые крупные хищники - тигр, лев, пантера, пума, гепард и хищники поменьше - рысь, камышовый кот и т.д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Picture 6" descr="824006"/>
          <p:cNvPicPr/>
          <p:nvPr/>
        </p:nvPicPr>
        <p:blipFill>
          <a:blip r:embed="rId2"/>
          <a:stretch/>
        </p:blipFill>
        <p:spPr>
          <a:xfrm>
            <a:off x="5429160" y="438156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826042"/>
          <p:cNvPicPr/>
          <p:nvPr/>
        </p:nvPicPr>
        <p:blipFill>
          <a:blip r:embed="rId3"/>
          <a:stretch/>
        </p:blipFill>
        <p:spPr>
          <a:xfrm>
            <a:off x="6024600" y="2357280"/>
            <a:ext cx="2876400" cy="1917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827019"/>
          <p:cNvPicPr/>
          <p:nvPr/>
        </p:nvPicPr>
        <p:blipFill>
          <a:blip r:embed="rId4"/>
          <a:srcRect l="0" t="0" r="0" b="-1246"/>
          <a:stretch/>
        </p:blipFill>
        <p:spPr>
          <a:xfrm>
            <a:off x="6357960" y="214200"/>
            <a:ext cx="2214720" cy="19195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0" descr="485061"/>
          <p:cNvPicPr/>
          <p:nvPr/>
        </p:nvPicPr>
        <p:blipFill>
          <a:blip r:embed="rId5"/>
          <a:stretch/>
        </p:blipFill>
        <p:spPr>
          <a:xfrm>
            <a:off x="214200" y="285840"/>
            <a:ext cx="2678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2-08-10T19:47:50Z</dcterms:modified>
  <cp:revision>103</cp:revision>
  <dc:subject/>
  <dc:title>PowerPoint Presentation</dc:title>
</cp:coreProperties>
</file>