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31.png" ContentType="image/png"/>
  <Override PartName="/ppt/media/image34.png" ContentType="image/png"/>
  <Override PartName="/ppt/media/image40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32.jpeg" ContentType="image/jpeg"/>
  <Override PartName="/ppt/media/image51.png" ContentType="image/png"/>
  <Override PartName="/ppt/media/image48.jpeg" ContentType="image/jpeg"/>
  <Override PartName="/ppt/media/image5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20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E7F-4708-4F6D-9950-EAA19B1F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617-5318-45A0-8B47-BDA8DC86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F3C25-4468-4FF2-953D-436858AB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561A6-4656-41D4-8A59-814B70BC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2B9D6-8031-49A0-B800-288D2D4C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B6EDA-898C-46EE-B402-CD26F8C8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F6FBD-0773-44A6-A153-94CEA4DE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117F7-66F6-47A9-A985-840CD620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24BF6-4FD3-4CB4-A4B1-394F4CC8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88658-E469-46B4-BBD1-B2AB9E30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106CE-00CF-4CD3-A2AB-E7E53039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1CF-9F19-4823-BDA7-0B482C59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890-A263-47B5-BE63-5AAAF3EA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A26D-5493-4AB6-81A6-08283C71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1DFE-C668-4A71-BC17-A32413E2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44F4-965C-4A1A-8CC6-5EB16EC0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1A28-35D1-40AD-A20B-837B046A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255C-03AE-46BB-AFD8-D2EC9A06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04B8-0074-4AE5-A8E8-A57136C9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8C59-862B-40ED-9423-1038103D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2A2-2B21-4C93-B076-D5BD64E4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D564-00F5-41B3-9F0F-9B306386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CDE3-84BF-4D8A-B1B9-3CF18B62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870C-D16F-4926-A5A6-227D5AF8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2AA9-B654-4387-9EA1-3EE2D7B8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8AFB-566C-402F-B7EE-92B7698C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F0BF-487B-449E-8C25-E3A794C5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2426-50D0-4FC4-96F3-319FB7A8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DFC1-0330-4ABF-A42D-CA776BE2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34FB-2A2C-49E1-8C4C-7B579C2C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2F9B-4936-4DF0-BE6D-16DD99FC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579-28C4-4468-9881-9C43B3D2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764E9-DA2D-4C70-B55D-0A40C085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4884-62E5-4796-B48B-F5E4D33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D251B-437A-42DD-A2D5-F6308CE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495F-01CD-47BD-A37B-67C4B424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98A8-5280-42E1-9B57-3F752639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3E79-484E-4E09-8E2B-E26FF66A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0F49-8C81-4B67-A301-47ECC7DA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F3E52-BCE3-43FF-8B7B-F0916C1D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8AB66-4122-4C29-B23E-31C54B92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70808-FE62-4763-AAF3-DABDAE86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80B-DB5B-486D-A6CA-75F0527C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08D5-CA65-43F0-B473-AE167EBE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56648-F8EA-4F1C-BCCC-1BF62394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ED80-9EDF-435D-A817-008F4931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1A5C-E9C2-4100-BA67-40B0C487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322C-3D8F-4509-8384-0515696A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B8C3D-2213-4BEF-B1FF-E8EC5514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5BD9-7752-4B04-945E-C03E17B3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91611-A784-4309-8F55-331B3824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9E314-6439-44EF-89ED-2A7966DE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62B4F-CF25-4BD0-A258-DE8B3B1D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550-6C58-4D92-8A3F-E7189FB4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9D6A-5EEA-4B2E-86AB-9B3DE8ED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900DD-FA40-432E-ABFC-3A75C26C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3132E-2FA0-40ED-B913-0617D851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92D3-60B9-478D-8A7D-B7DBD422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CC715-7517-4C6A-A4A3-9E60D427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96F34-BEEA-4A06-B92E-228B2F7C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9CA72-5151-4F55-89D4-F6B38B1C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B798-152E-4D5A-996A-3565C01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AF0F9-0713-46EA-BA80-89C0FB23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9959E-F5E4-4F57-A84A-23B3D113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66E-7344-468A-A9FA-895D850C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F5B41-1EF6-480C-BBE1-A2B1BEA1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7C35C-28FB-4A4D-9590-49190544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A73B-047D-4A2C-928E-AABCB778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CC821-AB1D-4B1C-96DC-8C63E915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D929E-884F-4D0A-8193-D45D554F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74D1C-4E18-4E22-AD72-BECFC79F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E92C1-2565-42B2-820F-F9AF9F5E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C300-1143-46E3-BC3D-E7ED731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4CB77-5642-417C-A705-1A2CC6E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851A2-1B57-404F-8061-2E0EF602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AD4-2ACF-4A40-8BA0-28CA8298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81FE3-B611-4A0D-BDC0-A6C740FD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39968-B7D0-4702-BA02-31C5399A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932D7-3DDC-4AD9-A86D-B8102C5E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B3D5-89C8-4E52-B4D7-0640FDBB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AC267-96CC-47E8-BD7B-E5383989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C2844-6A90-4ECC-AF56-FB6A82B5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5E640-F32A-40E0-B3B1-6AA2840C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90D76-EAB7-49C7-85D7-12CC131E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92395-93E6-4822-8ADF-036547A1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2EF21-39E5-4051-A692-5CC1C72A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CCA-BBBA-46A8-A6F2-7284CD20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CE671-852B-4E83-A0B4-A6F4800F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4B93D-FD61-46D5-980E-11CAFAEE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FBBE1-F181-466A-9189-B296A5B8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D17B-246F-48E8-A9FA-A615F981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3C2FD-EF3F-4FB8-B779-F309F581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AE287-6AF9-4B19-A83F-E41C71C7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82328-F010-438C-80C8-88FE555C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4EC8-25A6-4358-A0FF-A0102C20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D8BBC-87E0-41C8-8CF9-900AA855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237D-9566-47CE-BC7F-F7EE195C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25C-BA8A-4B85-8C15-4E332F65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6BBC4-DE35-4EE7-BC96-B652C5B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A009A-D358-4719-85CB-7DB3A18D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C17BE-E9B2-47B7-B35B-ADD9EE2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1F39D-3699-40B8-A540-68D7F90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FF564-19D6-48CC-8409-7DB75851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B13F4-60E0-4F27-8308-BC507936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B956E-0194-465C-AA45-5E698585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262AB-1E52-4338-8CFB-849CFEFB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89949-41DE-4A6C-B0F3-FCB5FF96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D4487-72EA-4775-B533-284B6282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0180-D40A-485A-833F-A3535EF01D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584A-373D-4D22-81C8-E14723F862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8405-707F-4BD1-8771-58585965FC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A470-F184-4363-8225-C538C1E836D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7D92-EAA0-4335-8622-95AF23A3614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A7DD-090A-4B61-8E37-C154D48B8B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3288-A786-416B-9A3E-434F5AFB96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11C8-628F-43AC-BEE0-309C05B832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77DA-ECA0-486A-9A6F-9694C274DC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1026" descr=""/>
          <p:cNvPicPr/>
          <p:nvPr/>
        </p:nvPicPr>
        <p:blipFill>
          <a:blip r:embed="rId1"/>
          <a:stretch/>
        </p:blipFill>
        <p:spPr>
          <a:xfrm>
            <a:off x="530280" y="1182600"/>
            <a:ext cx="7796160" cy="11700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030"/>
          <p:cNvSpPr/>
          <p:nvPr/>
        </p:nvSpPr>
        <p:spPr>
          <a:xfrm>
            <a:off x="380988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033"/>
          <p:cNvSpPr/>
          <p:nvPr/>
        </p:nvSpPr>
        <p:spPr>
          <a:xfrm>
            <a:off x="3881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36"/>
          <p:cNvSpPr/>
          <p:nvPr/>
        </p:nvSpPr>
        <p:spPr>
          <a:xfrm>
            <a:off x="285840" y="792720"/>
            <a:ext cx="8358120" cy="1678320"/>
          </a:xfrm>
          <a:prstGeom prst="rect">
            <a:avLst/>
          </a:prstGeom>
          <a:noFill/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ТЕЛЬСКАЯ  РАБ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КАК «ЛЕЧАТ» КОШ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Рисунок 10" descr=""/>
          <p:cNvPicPr/>
          <p:nvPr/>
        </p:nvPicPr>
        <p:blipFill>
          <a:blip r:embed="rId2"/>
          <a:stretch/>
        </p:blipFill>
        <p:spPr>
          <a:xfrm>
            <a:off x="3357720" y="2857680"/>
            <a:ext cx="2357280" cy="294624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7858080" cy="22496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13840" y="1571760"/>
            <a:ext cx="4643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а ласкова, добра, но ненавязчив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требует большого ухода, уравновешенная и игривая почти до старост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егко приспосабливается к ритму жизни своих хозяев, но полностью им не подчиняется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красные мышеловы и крысолов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6" descr="01"/>
          <p:cNvPicPr/>
          <p:nvPr/>
        </p:nvPicPr>
        <p:blipFill>
          <a:blip r:embed="rId2"/>
          <a:stretch/>
        </p:blipFill>
        <p:spPr>
          <a:xfrm>
            <a:off x="5072040" y="3786120"/>
            <a:ext cx="3576600" cy="2428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eur_d23_sm"/>
          <p:cNvPicPr/>
          <p:nvPr/>
        </p:nvPicPr>
        <p:blipFill>
          <a:blip r:embed="rId3"/>
          <a:stretch/>
        </p:blipFill>
        <p:spPr>
          <a:xfrm>
            <a:off x="5786280" y="1071720"/>
            <a:ext cx="22860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87440" y="133200"/>
            <a:ext cx="7980120" cy="13478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4209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арактерный признак этой породы - темная окраска конечных частей тел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ктивная, иногда агрессивная, общительная и чувствительная кошка, которая четко разделяет людей на любимых и нелюбимых. К последним относится недоверчиво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Picture 7" descr="i"/>
          <p:cNvPicPr/>
          <p:nvPr/>
        </p:nvPicPr>
        <p:blipFill>
          <a:blip r:embed="rId2"/>
          <a:stretch/>
        </p:blipFill>
        <p:spPr>
          <a:xfrm>
            <a:off x="5500800" y="1643040"/>
            <a:ext cx="3071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-201600" y="328680"/>
            <a:ext cx="7980480" cy="1305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42560" y="1428840"/>
            <a:ext cx="471492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сы имеют тихий нрав, их голос редко слыши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сы создают атмосферу покоя, но в то же время они будут сопровождать вас из комнаты в комнату только затем, чтобы быть в поле вашего зр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Picture 5" descr="main4"/>
          <p:cNvPicPr/>
          <p:nvPr/>
        </p:nvPicPr>
        <p:blipFill>
          <a:blip r:embed="rId2"/>
          <a:stretch/>
        </p:blipFill>
        <p:spPr>
          <a:xfrm>
            <a:off x="4786200" y="2071800"/>
            <a:ext cx="41832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487440" y="281160"/>
            <a:ext cx="7980120" cy="119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85480" y="1214280"/>
            <a:ext cx="39193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упная, сильная, с длинной шерстью, неза-висимая, но любящая своего хозяин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ибиряки – одни из самых сообразительных, легко обучаемых, наиболее настроенных на хозяин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Picture 6" descr="main"/>
          <p:cNvPicPr/>
          <p:nvPr/>
        </p:nvPicPr>
        <p:blipFill>
          <a:blip r:embed="rId2"/>
          <a:stretch/>
        </p:blipFill>
        <p:spPr>
          <a:xfrm>
            <a:off x="4500720" y="1500120"/>
            <a:ext cx="450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98440" y="139680"/>
            <a:ext cx="8699400" cy="2017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отерапия —лечение больного, когда, наряду с лекарствами, ему предписано общение с кошкой</a:t>
            </a: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-1119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85800" y="785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ановлено, что кошки оказывают лучший лечебный эффект, чем коты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 оказывают положительное воздействие на людей с заболеваниями нервной системы и внутренних органов, а коты — на тех, кто страдает от остеохондроза, радикулита и артроза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1119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7142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оит отметить, что длинношерстные кошки считаются прекрасными невропатологами и могут вылечить хозяина от депрессии, бессонницы и раздражительности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вот кошки с недлинной, но густой шерстью специализируются на сердечно-сосудистых заболеваниях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меют значение и цвет, и пород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Черные гладкошерстные и сиамские кошки хорошо снимают хроническую усталост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елые полудлинношерстные и длинношерстные (ангора и перс) исцеляют заболевания обмена веществ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рыжие и серые - универсалы, они помогают при любых недомогания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2928600"/>
            <a:ext cx="868680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ановлено, что человек получает положительные эмоции не только от общения и наблюдения за кошками, но также от процесса создания фигурок и картинок кошек - очень полезно рисовать, лепить, фотографировать этих животных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0" name="Рисунок 22" descr=""/>
          <p:cNvPicPr/>
          <p:nvPr/>
        </p:nvPicPr>
        <p:blipFill>
          <a:blip r:embed="rId2"/>
          <a:stretch/>
        </p:blipFill>
        <p:spPr>
          <a:xfrm>
            <a:off x="431640" y="571680"/>
            <a:ext cx="1497240" cy="197928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16" descr=""/>
          <p:cNvPicPr/>
          <p:nvPr/>
        </p:nvPicPr>
        <p:blipFill>
          <a:blip r:embed="rId3"/>
          <a:stretch/>
        </p:blipFill>
        <p:spPr>
          <a:xfrm>
            <a:off x="2357280" y="552600"/>
            <a:ext cx="1516320" cy="194760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9" descr=""/>
          <p:cNvPicPr/>
          <p:nvPr/>
        </p:nvPicPr>
        <p:blipFill>
          <a:blip r:embed="rId4"/>
          <a:stretch/>
        </p:blipFill>
        <p:spPr>
          <a:xfrm>
            <a:off x="4214880" y="571680"/>
            <a:ext cx="14288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блюдения за кошками проводились дома, у соседей, знакомых, у бабушки в деревне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9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нная тема актуальна, так как в настоящее время в медицине все чаще используются нетрадиционные методы лечен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ще во времена Гиппократа было известно, что домашние животные благоприятно влияют на здоровье человек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Они создают у людей хорошее настроение и служат стимулом к жизни, особенно у одиноких люд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Домашние животные способны избавить человека от многих серьезных заболевани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Ученые убеждены, что длительная дружба с кошкой укрепляет иммунную систему и способствует здоровью и долголетию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4" descr=""/>
          <p:cNvPicPr/>
          <p:nvPr/>
        </p:nvPicPr>
        <p:blipFill>
          <a:blip r:embed="rId1"/>
          <a:stretch/>
        </p:blipFill>
        <p:spPr>
          <a:xfrm>
            <a:off x="487440" y="603360"/>
            <a:ext cx="7980120" cy="13111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4281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иамская кошка Лола  любила устраиваться рядом с головой хозяин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а не забиралась сразу на руки, а подходила и стояла какое-то время рядом, наблюдая за нам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ола всех успокаивала и все вокруг нее становилось спокойным и добрым.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Picture 7" descr="IMG_1340"/>
          <p:cNvPicPr/>
          <p:nvPr/>
        </p:nvPicPr>
        <p:blipFill>
          <a:blip r:embed="rId2"/>
          <a:stretch/>
        </p:blipFill>
        <p:spPr>
          <a:xfrm>
            <a:off x="4643280" y="2492280"/>
            <a:ext cx="40989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4" descr=""/>
          <p:cNvPicPr/>
          <p:nvPr/>
        </p:nvPicPr>
        <p:blipFill>
          <a:blip r:embed="rId1"/>
          <a:stretch/>
        </p:blipFill>
        <p:spPr>
          <a:xfrm>
            <a:off x="-6480" y="542880"/>
            <a:ext cx="7785360" cy="13096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т Рыжик, наоборот, был немного бестолковым и самоуверенным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сразу прыгал на колен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ыжик любил спать, развалившись на диване, животом кверху, раскинув лап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 него в доме тоже становилось теплее и уютне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0" name="Picture 7" descr="IMG_1395"/>
          <p:cNvPicPr/>
          <p:nvPr/>
        </p:nvPicPr>
        <p:blipFill>
          <a:blip r:embed="rId2"/>
          <a:stretch/>
        </p:blipFill>
        <p:spPr>
          <a:xfrm>
            <a:off x="5572080" y="2793960"/>
            <a:ext cx="2685960" cy="3316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IMG_1423"/>
          <p:cNvPicPr/>
          <p:nvPr/>
        </p:nvPicPr>
        <p:blipFill>
          <a:blip r:embed="rId3"/>
          <a:stretch/>
        </p:blipFill>
        <p:spPr>
          <a:xfrm>
            <a:off x="5643720" y="357120"/>
            <a:ext cx="27162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гда гладишь кошек, успокаиваешься, становится хорошо на душе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гда рядом урчит кошка, легко засыпаеш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4" name="Picture 6" descr="IMG_2051"/>
          <p:cNvPicPr/>
          <p:nvPr/>
        </p:nvPicPr>
        <p:blipFill>
          <a:blip r:embed="rId1"/>
          <a:stretch/>
        </p:blipFill>
        <p:spPr>
          <a:xfrm>
            <a:off x="4648320" y="2836800"/>
            <a:ext cx="38098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 любят спать на компьютере, холодильнике, работающей стиральной машине, на телевизоре, то есть на тех приборах, которые излучают отрицательные электромагнитные колебани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роятно, для жизни ей необходимо постоянно получать какое-то количество отрицательной энерг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Picture 6" descr="PICT0028"/>
          <p:cNvPicPr/>
          <p:nvPr/>
        </p:nvPicPr>
        <p:blipFill>
          <a:blip r:embed="rId1"/>
          <a:stretch/>
        </p:blipFill>
        <p:spPr>
          <a:xfrm>
            <a:off x="4478400" y="214200"/>
            <a:ext cx="4403520" cy="3071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IMG_1345"/>
          <p:cNvPicPr/>
          <p:nvPr/>
        </p:nvPicPr>
        <p:blipFill>
          <a:blip r:embed="rId2"/>
          <a:stretch/>
        </p:blipFill>
        <p:spPr>
          <a:xfrm>
            <a:off x="4857840" y="3635280"/>
            <a:ext cx="36432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85680" y="420840"/>
            <a:ext cx="8893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результате наблюдений мы пришли к выводу, что гипотеза, выдвинутая в исследовательской работе, полностью подтвердилас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 способны угадывать больные места своего хозяин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и чувствуют все неполадки в нашем организм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- универсальные лекари- они нормализуют наш энергообме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255600" y="420840"/>
            <a:ext cx="8894880" cy="11588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вы истощены, выдохлись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кошка вас «подпитает», вернет утраченные силы. Все, что вам нужно делать, - почаще брать на руки только что проснувшуюся, хорошо отдохнувшую хвостатую подруж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вы никак не можете успокоиться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может сонная кошка: прижмите ее к себе, погладьте, послушайте ее умиротворяющее мурлыкань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5" name="Picture 6" descr="IMG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 гипертонии и остеохондрозе шейного отдела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прекрасно зарекомендовал себя «кошачий воротник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кладывайте три раза в день кошку на 3-4 минуты на ше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487440" y="603360"/>
            <a:ext cx="7980120" cy="131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ражнение 1. Уткнитесь в свою кошку лбом и замрите в таком положении на 5 минут.</a:t>
            </a:r>
            <a:br>
              <a:rPr sz="2200"/>
            </a:br>
            <a:r>
              <a:rPr b="0" lang="ru-RU" sz="22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о нормализует давление, снимает стресс и головную боль, помогает при сердечно-сосудистых заболеваниях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Picture 7" descr="Рисунок1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487440" y="603360"/>
            <a:ext cx="7980120" cy="13111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несколько минут положите кошку на шею. (Но приучайте ее лежать у вас на шее постепенно!)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 время этого упражнения отлично прогреваются все шейные позвонки и снимаются негативные эмоции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3" name="Picture 5" descr="P1000042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P1000042"/>
          <p:cNvPicPr/>
          <p:nvPr/>
        </p:nvPicPr>
        <p:blipFill>
          <a:blip r:embed="rId3"/>
          <a:stretch/>
        </p:blipFill>
        <p:spPr>
          <a:xfrm>
            <a:off x="4643280" y="257184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5" descr="P1000042"/>
          <p:cNvPicPr/>
          <p:nvPr/>
        </p:nvPicPr>
        <p:blipFill>
          <a:blip r:embed="rId4"/>
          <a:stretch/>
        </p:blipFill>
        <p:spPr>
          <a:xfrm>
            <a:off x="4795920" y="27241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Rectangle 3" descr=""/>
          <p:cNvPicPr/>
          <p:nvPr/>
        </p:nvPicPr>
        <p:blipFill>
          <a:blip r:embed="rId2"/>
          <a:stretch/>
        </p:blipFill>
        <p:spPr>
          <a:xfrm>
            <a:off x="298440" y="1517760"/>
            <a:ext cx="86994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2" descr=""/>
          <p:cNvPicPr/>
          <p:nvPr/>
        </p:nvPicPr>
        <p:blipFill>
          <a:blip r:embed="rId1"/>
          <a:stretch/>
        </p:blipFill>
        <p:spPr>
          <a:xfrm>
            <a:off x="487440" y="603360"/>
            <a:ext cx="798012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сколько раз попеременно каждой рукой проведите рукой по спине кошки: от ушей до самого кончика хвоста.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 время этого упражнения массируются активные точки на ладонях, что в целом положительно влияет на организм человек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8" name="Picture 5" descr="IMG_2050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378000" y="176040"/>
            <a:ext cx="8040600" cy="13669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1" name="Picture 4" descr="051108-1226-2"/>
          <p:cNvPicPr/>
          <p:nvPr/>
        </p:nvPicPr>
        <p:blipFill>
          <a:blip r:embed="rId2"/>
          <a:stretch/>
        </p:blipFill>
        <p:spPr>
          <a:xfrm>
            <a:off x="3071880" y="1714680"/>
            <a:ext cx="3571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читать литературу о кошк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вести наблюдения за кошкам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делать вывод по проделанной работе и дать рекомендац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машние кошки разных пород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 наделены даром угадывать больные места своего хозяи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и чувствуют все неполадки в нашем организм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а является красивым, умным, ласковым и преданным создание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а быстро запоминает дом и становится милым и близким друго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авильно воспитанная кошка не причиняет хозяину неприятных хлопот, а в плохие минуты жизни поможет снять нервное напряжение, избавит от плохого самочувствия, отвлечет от грустных мыслей и забот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3840" y="571680"/>
            <a:ext cx="635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рвое свидетельство об одомашнивании кошек относится  к 2500 году до нашей эры и получено из Египта,  где были обнаружены сотни тысяч их муми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умии кошек были в золотых и серебряных усыпальницах с драгоценными камням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юди ценили кошек как истребителей грызунов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ам в Египте посвящались роскошные храмы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6" descr="5965926"/>
          <p:cNvPicPr/>
          <p:nvPr/>
        </p:nvPicPr>
        <p:blipFill>
          <a:blip r:embed="rId1"/>
          <a:stretch/>
        </p:blipFill>
        <p:spPr>
          <a:xfrm>
            <a:off x="857160" y="4956120"/>
            <a:ext cx="2425680" cy="1544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EgyptianCat"/>
          <p:cNvPicPr/>
          <p:nvPr/>
        </p:nvPicPr>
        <p:blipFill>
          <a:blip r:embed="rId2"/>
          <a:stretch/>
        </p:blipFill>
        <p:spPr>
          <a:xfrm>
            <a:off x="6643800" y="1285920"/>
            <a:ext cx="2255760" cy="4000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apophis"/>
          <p:cNvPicPr/>
          <p:nvPr/>
        </p:nvPicPr>
        <p:blipFill>
          <a:blip r:embed="rId3"/>
          <a:stretch/>
        </p:blipFill>
        <p:spPr>
          <a:xfrm>
            <a:off x="3786120" y="5000760"/>
            <a:ext cx="271476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9" descr="485057"/>
          <p:cNvPicPr/>
          <p:nvPr/>
        </p:nvPicPr>
        <p:blipFill>
          <a:blip r:embed="rId1"/>
          <a:stretch/>
        </p:blipFill>
        <p:spPr>
          <a:xfrm>
            <a:off x="3276720" y="189000"/>
            <a:ext cx="2633400" cy="17557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84000" y="2421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шки относятся к семейству кошачьих. В него входят и самые крупные хищники - тигр, лев, пантера, пума, гепард и хищники поменьше - рысь, камышовый кот и т.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6" descr="824006"/>
          <p:cNvPicPr/>
          <p:nvPr/>
        </p:nvPicPr>
        <p:blipFill>
          <a:blip r:embed="rId2"/>
          <a:stretch/>
        </p:blipFill>
        <p:spPr>
          <a:xfrm>
            <a:off x="5429160" y="438156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826042"/>
          <p:cNvPicPr/>
          <p:nvPr/>
        </p:nvPicPr>
        <p:blipFill>
          <a:blip r:embed="rId3"/>
          <a:stretch/>
        </p:blipFill>
        <p:spPr>
          <a:xfrm>
            <a:off x="6024600" y="2357280"/>
            <a:ext cx="2876400" cy="1917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827019"/>
          <p:cNvPicPr/>
          <p:nvPr/>
        </p:nvPicPr>
        <p:blipFill>
          <a:blip r:embed="rId4"/>
          <a:srcRect l="0" t="0" r="0" b="-1246"/>
          <a:stretch/>
        </p:blipFill>
        <p:spPr>
          <a:xfrm>
            <a:off x="6357960" y="214200"/>
            <a:ext cx="2214720" cy="19195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485061"/>
          <p:cNvPicPr/>
          <p:nvPr/>
        </p:nvPicPr>
        <p:blipFill>
          <a:blip r:embed="rId5"/>
          <a:stretch/>
        </p:blipFill>
        <p:spPr>
          <a:xfrm>
            <a:off x="214200" y="285840"/>
            <a:ext cx="2678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08-10T19:47:50Z</dcterms:modified>
  <cp:revision>103</cp:revision>
  <dc:subject/>
  <dc:title>PowerPoint Presentation</dc:title>
</cp:coreProperties>
</file>