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06E-5874-4D97-B74E-B70A31AE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07D-1BF7-46FD-8A3A-434F2EC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FA3-1DEB-4BF2-8A4B-83C8AF0B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564-C7CF-40C8-8221-0F808651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101BB-5F5D-47F2-A82C-6F0410F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29BBA-758F-4B33-89EF-AB958F29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4693-4C7F-45ED-8684-3F51278D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5406B-9B91-4333-B5BD-1F6293F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365E4-E608-4091-AC05-09359805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09218-4726-42AF-A423-1036508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5F99F-C734-4AE1-9507-FF4A444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B08-63FF-4EB3-9E29-94ABB76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6B64-1035-4404-A0D5-EDE5FBF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1BC63-A43D-419C-9748-8AD24BB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A2816-5B82-4F5C-AC59-9387DBF2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9A158-C66B-4DAF-BEF6-F79B8ABF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91AF7-177B-4573-A66C-4C56CD8C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E06-1647-470D-B2A4-C771D7F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E59-A619-4996-BD1D-BBE6E6C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0E5-C9AE-4B6C-ACD1-B45A935D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63D-50E9-449D-BC2D-FB781D8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F0D-0376-49BF-BBE1-69ABA29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E3D-3108-44CF-A073-630BD85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42A-C628-4849-B595-69B129F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6FB-45D2-41CC-B837-02AFA9CCA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8DB-16DE-4C2A-AADB-E1D9BFD56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Модель изменения поведения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АКОО «Позитивное развитие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ила зам.директора по ВР МБОУ «Ребрихинская СОШ»  Карунина Л.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ется достаточная информация о своей пробл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осознаёт значимость для себя решения этой пробл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принимает решение и ищет выход из проблемы, обдумывает варианты действий для изменения повед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77" name="_s37892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37893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37894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37895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37896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37897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37898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37899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37900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37901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37902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37903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йств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меняет своё повед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обрение других людей очень значим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ая кратковременная, но очень важная стад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721160" y="873720"/>
            <a:ext cx="5549040" cy="4728600"/>
            <a:chOff x="1721160" y="873720"/>
            <a:chExt cx="5549040" cy="4728600"/>
          </a:xfrm>
        </p:grpSpPr>
        <p:sp>
          <p:nvSpPr>
            <p:cNvPr id="192" name="_s39940"/>
            <p:cNvSpPr/>
            <p:nvPr/>
          </p:nvSpPr>
          <p:spPr>
            <a:xfrm>
              <a:off x="3198600" y="87372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39941"/>
            <p:cNvSpPr/>
            <p:nvPr/>
          </p:nvSpPr>
          <p:spPr>
            <a:xfrm rot="3600000">
              <a:off x="4302360" y="1374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39942"/>
            <p:cNvSpPr/>
            <p:nvPr/>
          </p:nvSpPr>
          <p:spPr>
            <a:xfrm rot="7200000">
              <a:off x="4302000" y="250884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39943"/>
            <p:cNvSpPr/>
            <p:nvPr/>
          </p:nvSpPr>
          <p:spPr>
            <a:xfrm rot="10800000">
              <a:off x="3198600" y="314316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39944"/>
            <p:cNvSpPr/>
            <p:nvPr/>
          </p:nvSpPr>
          <p:spPr>
            <a:xfrm rot="14400000">
              <a:off x="2229120" y="2508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39945"/>
            <p:cNvSpPr/>
            <p:nvPr/>
          </p:nvSpPr>
          <p:spPr>
            <a:xfrm rot="18000000">
              <a:off x="2229480" y="137340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39946"/>
            <p:cNvSpPr/>
            <p:nvPr/>
          </p:nvSpPr>
          <p:spPr>
            <a:xfrm>
              <a:off x="515592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39947"/>
            <p:cNvSpPr/>
            <p:nvPr/>
          </p:nvSpPr>
          <p:spPr>
            <a:xfrm>
              <a:off x="629892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39948"/>
            <p:cNvSpPr/>
            <p:nvPr/>
          </p:nvSpPr>
          <p:spPr>
            <a:xfrm>
              <a:off x="515592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39949"/>
            <p:cNvSpPr/>
            <p:nvPr/>
          </p:nvSpPr>
          <p:spPr>
            <a:xfrm>
              <a:off x="172692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39950"/>
            <p:cNvSpPr/>
            <p:nvPr/>
          </p:nvSpPr>
          <p:spPr>
            <a:xfrm>
              <a:off x="286992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39951"/>
            <p:cNvSpPr/>
            <p:nvPr/>
          </p:nvSpPr>
          <p:spPr>
            <a:xfrm>
              <a:off x="286992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держа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жно закрепить правильное поведение, избежать рециди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жна позиция значимого окру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близкие люди и друзья одобряют поступки человека, то вероятность рецидива сниж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сё хорошо, то выход из круга, если нет, т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9-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340280" y="873720"/>
            <a:ext cx="5549040" cy="4728600"/>
            <a:chOff x="1340280" y="873720"/>
            <a:chExt cx="5549040" cy="4728600"/>
          </a:xfrm>
        </p:grpSpPr>
        <p:sp>
          <p:nvSpPr>
            <p:cNvPr id="209" name="_s43012"/>
            <p:cNvSpPr/>
            <p:nvPr/>
          </p:nvSpPr>
          <p:spPr>
            <a:xfrm>
              <a:off x="2817720" y="87372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43013"/>
            <p:cNvSpPr/>
            <p:nvPr/>
          </p:nvSpPr>
          <p:spPr>
            <a:xfrm rot="3600000">
              <a:off x="3921480" y="1374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43014"/>
            <p:cNvSpPr/>
            <p:nvPr/>
          </p:nvSpPr>
          <p:spPr>
            <a:xfrm rot="7200000">
              <a:off x="3921120" y="250884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43015"/>
            <p:cNvSpPr/>
            <p:nvPr/>
          </p:nvSpPr>
          <p:spPr>
            <a:xfrm rot="10800000">
              <a:off x="2817720" y="3143160"/>
              <a:ext cx="2594160" cy="245916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459160"/>
                <a:gd name="textAreaBottom" fmla="*/ 245952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43016"/>
            <p:cNvSpPr/>
            <p:nvPr/>
          </p:nvSpPr>
          <p:spPr>
            <a:xfrm rot="14400000">
              <a:off x="1848240" y="250812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43017"/>
            <p:cNvSpPr/>
            <p:nvPr/>
          </p:nvSpPr>
          <p:spPr>
            <a:xfrm rot="18000000">
              <a:off x="1848600" y="1373400"/>
              <a:ext cx="2459160" cy="2593800"/>
            </a:xfrm>
            <a:custGeom>
              <a:avLst/>
              <a:gdLst>
                <a:gd name="textAreaLeft" fmla="*/ 0 w 2459160"/>
                <a:gd name="textAreaRight" fmla="*/ 2459520 w 245916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_s43018"/>
            <p:cNvSpPr/>
            <p:nvPr/>
          </p:nvSpPr>
          <p:spPr>
            <a:xfrm>
              <a:off x="477504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_s43019"/>
            <p:cNvSpPr/>
            <p:nvPr/>
          </p:nvSpPr>
          <p:spPr>
            <a:xfrm>
              <a:off x="591804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43020"/>
            <p:cNvSpPr/>
            <p:nvPr/>
          </p:nvSpPr>
          <p:spPr>
            <a:xfrm>
              <a:off x="477504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43021"/>
            <p:cNvSpPr/>
            <p:nvPr/>
          </p:nvSpPr>
          <p:spPr>
            <a:xfrm>
              <a:off x="1346040" y="277920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3022"/>
            <p:cNvSpPr/>
            <p:nvPr/>
          </p:nvSpPr>
          <p:spPr>
            <a:xfrm>
              <a:off x="2489040" y="90252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3023"/>
            <p:cNvSpPr/>
            <p:nvPr/>
          </p:nvSpPr>
          <p:spPr>
            <a:xfrm>
              <a:off x="2489040" y="4656240"/>
              <a:ext cx="96696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цидив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334120" y="55627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цидив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цидив –возвращение к проблемному поведени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может потерять веру в возможность изменить себя, свои привы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ко не исключено, что он может через некоторое время вновь вернуться на стадию намере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нная модель -циклич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ый человек может покинуть её на любой стад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 стадия, на которой находится человек, является главным показателем возможного прогресса в модели изменения его п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28120" y="967320"/>
            <a:ext cx="3583080" cy="3627360"/>
            <a:chOff x="5028120" y="967320"/>
            <a:chExt cx="3583080" cy="3627360"/>
          </a:xfrm>
        </p:grpSpPr>
        <p:sp>
          <p:nvSpPr>
            <p:cNvPr id="226" name="_s50180"/>
            <p:cNvSpPr/>
            <p:nvPr/>
          </p:nvSpPr>
          <p:spPr>
            <a:xfrm>
              <a:off x="6026760" y="967320"/>
              <a:ext cx="1585440" cy="1886400"/>
            </a:xfrm>
            <a:custGeom>
              <a:avLst/>
              <a:gdLst>
                <a:gd name="textAreaLeft" fmla="*/ 0 w 1585440"/>
                <a:gd name="textAreaRight" fmla="*/ 1585800 w 15854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50181"/>
            <p:cNvSpPr/>
            <p:nvPr/>
          </p:nvSpPr>
          <p:spPr>
            <a:xfrm rot="3600000">
              <a:off x="6509880" y="155304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50182"/>
            <p:cNvSpPr/>
            <p:nvPr/>
          </p:nvSpPr>
          <p:spPr>
            <a:xfrm rot="7200000">
              <a:off x="6509880" y="242352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50183"/>
            <p:cNvSpPr/>
            <p:nvPr/>
          </p:nvSpPr>
          <p:spPr>
            <a:xfrm rot="10800000">
              <a:off x="6026760" y="2708280"/>
              <a:ext cx="1585440" cy="1886400"/>
            </a:xfrm>
            <a:custGeom>
              <a:avLst/>
              <a:gdLst>
                <a:gd name="textAreaLeft" fmla="*/ 0 w 1585440"/>
                <a:gd name="textAreaRight" fmla="*/ 1585800 w 158544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50184"/>
            <p:cNvSpPr/>
            <p:nvPr/>
          </p:nvSpPr>
          <p:spPr>
            <a:xfrm rot="14400000">
              <a:off x="5242680" y="242352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50185"/>
            <p:cNvSpPr/>
            <p:nvPr/>
          </p:nvSpPr>
          <p:spPr>
            <a:xfrm rot="18000000">
              <a:off x="5242680" y="1553040"/>
              <a:ext cx="1886040" cy="158508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0 h 1585080"/>
                <a:gd name="textAreaBottom" fmla="*/ 1585440 h 158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50186"/>
            <p:cNvSpPr/>
            <p:nvPr/>
          </p:nvSpPr>
          <p:spPr>
            <a:xfrm>
              <a:off x="7223400" y="386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поддержан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50187"/>
            <p:cNvSpPr/>
            <p:nvPr/>
          </p:nvSpPr>
          <p:spPr>
            <a:xfrm>
              <a:off x="7921800" y="242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действ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50188"/>
            <p:cNvSpPr/>
            <p:nvPr/>
          </p:nvSpPr>
          <p:spPr>
            <a:xfrm>
              <a:off x="7223400" y="98928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50189"/>
            <p:cNvSpPr/>
            <p:nvPr/>
          </p:nvSpPr>
          <p:spPr>
            <a:xfrm>
              <a:off x="5127480" y="242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50190"/>
            <p:cNvSpPr/>
            <p:nvPr/>
          </p:nvSpPr>
          <p:spPr>
            <a:xfrm>
              <a:off x="5825880" y="98928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50191"/>
            <p:cNvSpPr/>
            <p:nvPr/>
          </p:nvSpPr>
          <p:spPr>
            <a:xfrm>
              <a:off x="5825880" y="3868920"/>
              <a:ext cx="590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 стадия –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рецидив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828800" y="1219320"/>
            <a:ext cx="5367240" cy="25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хов в работ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Модель изменения поведения придумали Джеймс Прочаско и Карло де –Клемент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ль поведения зависит не только от того, как человек умеет вести себя, но и от того, чего он хочет своими поступками 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235560" y="29718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отивац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тив –причина по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ешь мотив 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ешь причину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идишь методы воздейств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8-18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8669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одель изменения поведе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3240" y="1513800"/>
            <a:ext cx="5538960" cy="4210560"/>
            <a:chOff x="1803240" y="1513800"/>
            <a:chExt cx="5538960" cy="4210560"/>
          </a:xfrm>
        </p:grpSpPr>
        <p:sp>
          <p:nvSpPr>
            <p:cNvPr id="132" name="_s26636"/>
            <p:cNvSpPr/>
            <p:nvPr/>
          </p:nvSpPr>
          <p:spPr>
            <a:xfrm>
              <a:off x="3274920" y="15138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26634"/>
            <p:cNvSpPr/>
            <p:nvPr/>
          </p:nvSpPr>
          <p:spPr>
            <a:xfrm rot="3600000">
              <a:off x="4513320" y="18169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26633"/>
            <p:cNvSpPr/>
            <p:nvPr/>
          </p:nvSpPr>
          <p:spPr>
            <a:xfrm rot="7200000">
              <a:off x="4513320" y="28270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26642"/>
            <p:cNvSpPr/>
            <p:nvPr/>
          </p:nvSpPr>
          <p:spPr>
            <a:xfrm rot="10800000">
              <a:off x="3274920" y="35344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26638"/>
            <p:cNvSpPr/>
            <p:nvPr/>
          </p:nvSpPr>
          <p:spPr>
            <a:xfrm rot="14400000">
              <a:off x="2440440" y="28274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26640"/>
            <p:cNvSpPr/>
            <p:nvPr/>
          </p:nvSpPr>
          <p:spPr>
            <a:xfrm rot="18000000">
              <a:off x="2440440" y="1817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26631"/>
            <p:cNvSpPr/>
            <p:nvPr/>
          </p:nvSpPr>
          <p:spPr>
            <a:xfrm>
              <a:off x="5232240" y="48816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26632"/>
            <p:cNvSpPr/>
            <p:nvPr/>
          </p:nvSpPr>
          <p:spPr>
            <a:xfrm>
              <a:off x="6375240" y="32104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26635"/>
            <p:cNvSpPr/>
            <p:nvPr/>
          </p:nvSpPr>
          <p:spPr>
            <a:xfrm>
              <a:off x="5232240" y="15393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26637"/>
            <p:cNvSpPr/>
            <p:nvPr/>
          </p:nvSpPr>
          <p:spPr>
            <a:xfrm>
              <a:off x="1803240" y="32104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6639"/>
            <p:cNvSpPr/>
            <p:nvPr/>
          </p:nvSpPr>
          <p:spPr>
            <a:xfrm>
              <a:off x="2946240" y="15393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6641"/>
            <p:cNvSpPr/>
            <p:nvPr/>
          </p:nvSpPr>
          <p:spPr>
            <a:xfrm>
              <a:off x="2946240" y="48816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днамер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не подозревает, что у него есть пробл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окружающих проблема может быть очевидна, но сам человек её не осознаё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47" name="_s34821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4822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4823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34824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34825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34826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34827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8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4829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34830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34831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34832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мерен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ловек начинает признавать наличие пробл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 больше подвержен психологическим расстройст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ирует необходимые затраты и преимущества в случае изменения поведения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726920" y="828000"/>
            <a:ext cx="5538960" cy="4210560"/>
            <a:chOff x="1726920" y="828000"/>
            <a:chExt cx="5538960" cy="4210560"/>
          </a:xfrm>
        </p:grpSpPr>
        <p:sp>
          <p:nvSpPr>
            <p:cNvPr id="162" name="_s35844"/>
            <p:cNvSpPr/>
            <p:nvPr/>
          </p:nvSpPr>
          <p:spPr>
            <a:xfrm>
              <a:off x="3198600" y="82800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35845"/>
            <p:cNvSpPr/>
            <p:nvPr/>
          </p:nvSpPr>
          <p:spPr>
            <a:xfrm rot="3600000">
              <a:off x="4437000" y="113112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5846"/>
            <p:cNvSpPr/>
            <p:nvPr/>
          </p:nvSpPr>
          <p:spPr>
            <a:xfrm rot="7200000">
              <a:off x="4437000" y="21412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35847"/>
            <p:cNvSpPr/>
            <p:nvPr/>
          </p:nvSpPr>
          <p:spPr>
            <a:xfrm rot="10800000">
              <a:off x="3198600" y="2848680"/>
              <a:ext cx="2594160" cy="2189880"/>
            </a:xfrm>
            <a:custGeom>
              <a:avLst/>
              <a:gdLst>
                <a:gd name="textAreaLeft" fmla="*/ 0 w 2594160"/>
                <a:gd name="textAreaRight" fmla="*/ 2594520 w 259416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35848"/>
            <p:cNvSpPr/>
            <p:nvPr/>
          </p:nvSpPr>
          <p:spPr>
            <a:xfrm rot="14400000">
              <a:off x="2364120" y="214164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35849"/>
            <p:cNvSpPr/>
            <p:nvPr/>
          </p:nvSpPr>
          <p:spPr>
            <a:xfrm rot="18000000">
              <a:off x="2364120" y="1131480"/>
              <a:ext cx="2189520" cy="2593800"/>
            </a:xfrm>
            <a:custGeom>
              <a:avLst/>
              <a:gdLst>
                <a:gd name="textAreaLeft" fmla="*/ 0 w 2189520"/>
                <a:gd name="textAreaRight" fmla="*/ 2189880 w 21895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35850"/>
            <p:cNvSpPr/>
            <p:nvPr/>
          </p:nvSpPr>
          <p:spPr>
            <a:xfrm>
              <a:off x="5155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35851"/>
            <p:cNvSpPr/>
            <p:nvPr/>
          </p:nvSpPr>
          <p:spPr>
            <a:xfrm>
              <a:off x="6298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35852"/>
            <p:cNvSpPr/>
            <p:nvPr/>
          </p:nvSpPr>
          <p:spPr>
            <a:xfrm>
              <a:off x="5155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 стадия-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шение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35853"/>
            <p:cNvSpPr/>
            <p:nvPr/>
          </p:nvSpPr>
          <p:spPr>
            <a:xfrm>
              <a:off x="1726920" y="252468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1 стадия 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еднамерение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35854"/>
            <p:cNvSpPr/>
            <p:nvPr/>
          </p:nvSpPr>
          <p:spPr>
            <a:xfrm>
              <a:off x="2869920" y="85356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 стадия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мерение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35855"/>
            <p:cNvSpPr/>
            <p:nvPr/>
          </p:nvSpPr>
          <p:spPr>
            <a:xfrm>
              <a:off x="2869920" y="4195800"/>
              <a:ext cx="96696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2-08-10T08:06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