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481-2D67-4914-A3E8-EBCFB7169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1460-42E7-4EB5-893D-28F7BD74E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365-0A3D-4F4C-B1B4-886B5B1BC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CD12-2A29-4C3E-A598-5AEB48D1B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A34E-8DED-40D3-8825-4A95F9B93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00DE-8549-48F9-95BB-D965B48B6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09E9-7F27-48F5-AF71-D61F1B2A4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4B1-F5F0-4298-A892-8A6016D31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CB4-9012-44A0-A25A-66286F300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6E8-B6E5-4F11-987D-815B146D5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968-1149-495F-81E0-3E0C8B4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9B6-B639-4FB7-886E-F158DBE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724-D6CC-4582-BA8C-8F5388B7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01A-6064-41CE-90FA-86D5F4C0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522-AAD3-4433-8998-053FF05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5F2-DBC8-410A-ADC8-B5B73E9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586-B28B-47F6-B72E-081E3B1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74A-9269-4B4C-8A7C-99A4E07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A1C-9C24-4FB2-9630-DB05C8FD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82B-A958-4D1C-B305-AA0AF7FC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847-6BB8-4D22-8367-942277C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6D2-B929-4559-B19C-0A8C26D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8CF-DD07-414C-BEC2-6FF8E89CF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«Перпендикулярность прямых и плоскост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7240" y="3581280"/>
            <a:ext cx="5257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читель математики высшей категории ГБОУ «Адыгейской республиканской гимназ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зумурга Зинаид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ЕРПЕНДИКУЛЯРНОСТЬ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1295280"/>
            <a:ext cx="787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плоскости называются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пендикуляр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если угол между ними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90720" y="2133720"/>
            <a:ext cx="77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Теорема.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знак перпендикулярности двух плоскостей.) Если плоскость проходит через прямую, перпендикулярную другой плоскости, то эти плоскости перпендикуля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2654280" y="3505320"/>
            <a:ext cx="3987720" cy="27097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3CD8-3434-4854-B27C-EB2D6E2A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586728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1143000"/>
            <a:ext cx="79250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плоскости, проходящие через вершины куба, перпендикулярные плоскости: а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б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33520" y="5486400"/>
            <a:ext cx="731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возврат 6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EAE-28D2-4813-97B0-86A98ACB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ДВУГРАННЫ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312408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угранным уг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г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рис. 1), образован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вумя полуплоскостями, с общей ограничивающей их прямой, и частью пространства, ограниченной этими полуплоскостями. Полуплоскости называются гранями двугранного угла, а их общая граничная прямая – ребром двугранного уг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5257800" cy="268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57200" y="49402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Линейным углом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угранного угла называется угол, полученный в результате пересечения данного двугранного угла и какой-нибудь плоскости, перпендикулярной его ребру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3520" y="6019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еличиной двугранного угла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ется величина его линейно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C0EC-2EA4-4377-8627-69B0B1E9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066680"/>
            <a:ext cx="77724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5867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3717720" cy="3016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17A-7E62-41E9-9B63-4D937D0C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990720"/>
            <a:ext cx="77724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вет: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718080" cy="3016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возврат 5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04D-69CA-47B9-B60B-94F0F859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038480" y="914400"/>
                <a:ext cx="49323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сстоя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4" name="Group 25"/>
          <p:cNvGrpSpPr/>
          <p:nvPr/>
        </p:nvGrpSpPr>
        <p:grpSpPr>
          <a:xfrm>
            <a:off x="304920" y="228600"/>
            <a:ext cx="3558960" cy="3530160"/>
            <a:chOff x="304920" y="228600"/>
            <a:chExt cx="3558960" cy="3530160"/>
          </a:xfrm>
        </p:grpSpPr>
        <p:sp>
          <p:nvSpPr>
            <p:cNvPr id="155" name="Freeform 8"/>
            <p:cNvSpPr/>
            <p:nvPr/>
          </p:nvSpPr>
          <p:spPr>
            <a:xfrm>
              <a:off x="835200" y="611640"/>
              <a:ext cx="2495520" cy="15267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835200" y="2138400"/>
              <a:ext cx="2495520" cy="1081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>
              <a:off x="2073960" y="606240"/>
              <a:ext cx="916920" cy="261288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304920" y="2099880"/>
              <a:ext cx="33156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963360" y="2099880"/>
              <a:ext cx="3265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1616760" y="2099880"/>
              <a:ext cx="3265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2270160" y="2099880"/>
              <a:ext cx="3265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2923560" y="2099880"/>
              <a:ext cx="3301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3059280" y="2134440"/>
              <a:ext cx="271440" cy="1612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2208960" y="228600"/>
              <a:ext cx="466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8"/>
            <p:cNvSpPr/>
            <p:nvPr/>
          </p:nvSpPr>
          <p:spPr>
            <a:xfrm>
              <a:off x="3497400" y="197316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9"/>
            <p:cNvSpPr/>
            <p:nvPr/>
          </p:nvSpPr>
          <p:spPr>
            <a:xfrm>
              <a:off x="572760" y="191448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0"/>
            <p:cNvSpPr/>
            <p:nvPr/>
          </p:nvSpPr>
          <p:spPr>
            <a:xfrm>
              <a:off x="3004200" y="311832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1328400" y="1395720"/>
              <a:ext cx="113760" cy="111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2473920" y="1934640"/>
              <a:ext cx="139680" cy="511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2774880" y="1501920"/>
              <a:ext cx="131760" cy="892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3995640" y="3124080"/>
                <a:ext cx="4996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стоя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ршины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56"/>
          <p:cNvGrpSpPr/>
          <p:nvPr/>
        </p:nvGrpSpPr>
        <p:grpSpPr>
          <a:xfrm>
            <a:off x="457200" y="3124080"/>
            <a:ext cx="3463560" cy="3595320"/>
            <a:chOff x="457200" y="3124080"/>
            <a:chExt cx="3463560" cy="3595320"/>
          </a:xfrm>
        </p:grpSpPr>
        <p:grpSp>
          <p:nvGrpSpPr>
            <p:cNvPr id="173" name="Group 51"/>
            <p:cNvGrpSpPr/>
            <p:nvPr/>
          </p:nvGrpSpPr>
          <p:grpSpPr>
            <a:xfrm>
              <a:off x="457200" y="3124080"/>
              <a:ext cx="3463560" cy="3595320"/>
              <a:chOff x="457200" y="3124080"/>
              <a:chExt cx="3463560" cy="3595320"/>
            </a:xfrm>
          </p:grpSpPr>
          <p:sp>
            <p:nvSpPr>
              <p:cNvPr id="174" name="Freeform 29"/>
              <p:cNvSpPr/>
              <p:nvPr/>
            </p:nvSpPr>
            <p:spPr>
              <a:xfrm>
                <a:off x="964080" y="3639960"/>
                <a:ext cx="2420640" cy="14835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972000" y="5127480"/>
                <a:ext cx="2421720" cy="10494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1"/>
              <p:cNvSpPr/>
              <p:nvPr/>
            </p:nvSpPr>
            <p:spPr>
              <a:xfrm>
                <a:off x="2174040" y="3639960"/>
                <a:ext cx="889920" cy="25369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32"/>
              <p:cNvSpPr/>
              <p:nvPr/>
            </p:nvSpPr>
            <p:spPr>
              <a:xfrm>
                <a:off x="457200" y="5090040"/>
                <a:ext cx="32184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3"/>
              <p:cNvSpPr/>
              <p:nvPr/>
            </p:nvSpPr>
            <p:spPr>
              <a:xfrm>
                <a:off x="1096200" y="5090040"/>
                <a:ext cx="3168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34"/>
              <p:cNvSpPr/>
              <p:nvPr/>
            </p:nvSpPr>
            <p:spPr>
              <a:xfrm>
                <a:off x="1730160" y="5090040"/>
                <a:ext cx="3168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35"/>
              <p:cNvSpPr/>
              <p:nvPr/>
            </p:nvSpPr>
            <p:spPr>
              <a:xfrm>
                <a:off x="2364480" y="5090040"/>
                <a:ext cx="3168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36"/>
              <p:cNvSpPr/>
              <p:nvPr/>
            </p:nvSpPr>
            <p:spPr>
              <a:xfrm>
                <a:off x="2998440" y="5090040"/>
                <a:ext cx="320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3130200" y="5123520"/>
                <a:ext cx="263520" cy="1566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38"/>
              <p:cNvSpPr/>
              <p:nvPr/>
            </p:nvSpPr>
            <p:spPr>
              <a:xfrm>
                <a:off x="1598760" y="3124080"/>
                <a:ext cx="4669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24211d"/>
                    </a:solidFill>
                    <a:latin typeface="Arial"/>
                  </a:rPr>
                  <a:t>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39"/>
              <p:cNvSpPr/>
              <p:nvPr/>
            </p:nvSpPr>
            <p:spPr>
              <a:xfrm>
                <a:off x="3554280" y="4967280"/>
                <a:ext cx="366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24211d"/>
                    </a:solidFill>
                    <a:latin typeface="Arial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0"/>
              <p:cNvSpPr/>
              <p:nvPr/>
            </p:nvSpPr>
            <p:spPr>
              <a:xfrm>
                <a:off x="717120" y="4910040"/>
                <a:ext cx="3481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24211d"/>
                    </a:solidFill>
                    <a:latin typeface="Arial"/>
                  </a:rPr>
                  <a:t>А</a:t>
                </a: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41"/>
              <p:cNvSpPr/>
              <p:nvPr/>
            </p:nvSpPr>
            <p:spPr>
              <a:xfrm>
                <a:off x="3076920" y="6078960"/>
                <a:ext cx="3556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24211d"/>
                    </a:solidFill>
                    <a:latin typeface="Arial"/>
                  </a:rPr>
                  <a:t>В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1976400" y="3639960"/>
                <a:ext cx="206280" cy="2014560"/>
              </a:xfrm>
              <a:prstGeom prst="pie">
                <a:avLst/>
              </a:pr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1985040" y="3636360"/>
                <a:ext cx="1415880" cy="2026800"/>
              </a:xfrm>
              <a:prstGeom prst="pie">
                <a:avLst/>
              </a:pr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4"/>
              <p:cNvSpPr/>
              <p:nvPr/>
            </p:nvSpPr>
            <p:spPr>
              <a:xfrm>
                <a:off x="1712160" y="5580360"/>
                <a:ext cx="2872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24211d"/>
                    </a:solidFill>
                    <a:latin typeface="Arial"/>
                  </a:rPr>
                  <a:t>О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1833480" y="5399640"/>
                <a:ext cx="172800" cy="242280"/>
              </a:xfrm>
              <a:prstGeom prst="pie">
                <a:avLst/>
              </a:prstGeom>
              <a:noFill/>
              <a:ln w="0">
                <a:solidFill>
                  <a:srgbClr val="0089e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6"/>
              <p:cNvSpPr/>
              <p:nvPr/>
            </p:nvSpPr>
            <p:spPr>
              <a:xfrm>
                <a:off x="2079720" y="5670720"/>
                <a:ext cx="1080" cy="1080"/>
              </a:xfrm>
              <a:prstGeom prst="rect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7"/>
              <p:cNvSpPr/>
              <p:nvPr/>
            </p:nvSpPr>
            <p:spPr>
              <a:xfrm>
                <a:off x="1989000" y="5416200"/>
                <a:ext cx="172800" cy="238320"/>
              </a:xfrm>
              <a:prstGeom prst="pie">
                <a:avLst/>
              </a:prstGeom>
              <a:noFill/>
              <a:ln w="0">
                <a:solidFill>
                  <a:srgbClr val="0089e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8"/>
              <p:cNvSpPr/>
              <p:nvPr/>
            </p:nvSpPr>
            <p:spPr>
              <a:xfrm>
                <a:off x="1450440" y="4406040"/>
                <a:ext cx="110520" cy="1080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9"/>
              <p:cNvSpPr/>
              <p:nvPr/>
            </p:nvSpPr>
            <p:spPr>
              <a:xfrm>
                <a:off x="2562120" y="4929480"/>
                <a:ext cx="135360" cy="496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0"/>
              <p:cNvSpPr/>
              <p:nvPr/>
            </p:nvSpPr>
            <p:spPr>
              <a:xfrm>
                <a:off x="2854080" y="4509360"/>
                <a:ext cx="127800" cy="867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53"/>
            <p:cNvSpPr/>
            <p:nvPr/>
          </p:nvSpPr>
          <p:spPr>
            <a:xfrm>
              <a:off x="2049480" y="47844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4"/>
            <p:cNvSpPr/>
            <p:nvPr/>
          </p:nvSpPr>
          <p:spPr>
            <a:xfrm rot="17091600">
              <a:off x="3053880" y="5427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5"/>
            <p:cNvSpPr/>
            <p:nvPr/>
          </p:nvSpPr>
          <p:spPr>
            <a:xfrm rot="16465800">
              <a:off x="1434960" y="4455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5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4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55C-57E0-4F87-A9AC-3DC3AAFB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5715000" y="533520"/>
                <a:ext cx="320364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Group 5"/>
          <p:cNvGrpSpPr/>
          <p:nvPr/>
        </p:nvGrpSpPr>
        <p:grpSpPr>
          <a:xfrm>
            <a:off x="1142640" y="0"/>
            <a:ext cx="4533120" cy="3364200"/>
            <a:chOff x="1142640" y="0"/>
            <a:chExt cx="4533120" cy="3364200"/>
          </a:xfrm>
        </p:grpSpPr>
        <p:sp>
          <p:nvSpPr>
            <p:cNvPr id="203" name="AutoShape 4"/>
            <p:cNvSpPr/>
            <p:nvPr/>
          </p:nvSpPr>
          <p:spPr>
            <a:xfrm>
              <a:off x="1143000" y="45360"/>
              <a:ext cx="439488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1420200" y="1906920"/>
              <a:ext cx="4084200" cy="11718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2444760" y="1906920"/>
              <a:ext cx="2039040" cy="117684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1415160" y="156960"/>
              <a:ext cx="4128480" cy="2930400"/>
            </a:xfrm>
            <a:prstGeom prst="pie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1415160" y="483480"/>
              <a:ext cx="747000" cy="259524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1420200" y="2757600"/>
              <a:ext cx="698040" cy="3211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"/>
            <p:cNvSpPr/>
            <p:nvPr/>
          </p:nvSpPr>
          <p:spPr>
            <a:xfrm>
              <a:off x="3759840" y="1839600"/>
              <a:ext cx="62280" cy="1432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"/>
            <p:cNvSpPr/>
            <p:nvPr/>
          </p:nvSpPr>
          <p:spPr>
            <a:xfrm>
              <a:off x="4833720" y="2568600"/>
              <a:ext cx="168840" cy="266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"/>
            <p:cNvSpPr/>
            <p:nvPr/>
          </p:nvSpPr>
          <p:spPr>
            <a:xfrm>
              <a:off x="2963520" y="2989440"/>
              <a:ext cx="124920" cy="1926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4"/>
            <p:cNvSpPr/>
            <p:nvPr/>
          </p:nvSpPr>
          <p:spPr>
            <a:xfrm>
              <a:off x="1938960" y="2367360"/>
              <a:ext cx="182520" cy="266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1150200" y="292212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2312280" y="155268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5408280" y="137196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"/>
            <p:cNvSpPr/>
            <p:nvPr/>
          </p:nvSpPr>
          <p:spPr>
            <a:xfrm>
              <a:off x="4613760" y="28915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D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2257200" y="11772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"/>
            <p:cNvSpPr/>
            <p:nvPr/>
          </p:nvSpPr>
          <p:spPr>
            <a:xfrm>
              <a:off x="1142640" y="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715000" y="2362320"/>
                <a:ext cx="32767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ямым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1640" y="3284640"/>
                <a:ext cx="6372360" cy="33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войств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агонал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E</m:t>
                                </m:r>
                                <m:r>
                                  <m:t xml:space="preserve">⊥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C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ус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п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E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rPr>
                        <m:lit/>
                        <m:nor/>
                      </m:rPr>
                      <m:t xml:space="preserve">следовательн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знак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ерпендикулярност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ямой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,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  <m:r>
                              <m:t xml:space="preserve">⊥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EC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значит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го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ежд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ен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5"/>
          <p:cNvSpPr/>
          <p:nvPr/>
        </p:nvSpPr>
        <p:spPr>
          <a:xfrm>
            <a:off x="83808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6A8-F392-44A4-B1E8-7BF4E5AC7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0" y="762120"/>
            <a:ext cx="5067360" cy="4315320"/>
            <a:chOff x="0" y="762120"/>
            <a:chExt cx="5067360" cy="4315320"/>
          </a:xfrm>
        </p:grpSpPr>
        <p:sp>
          <p:nvSpPr>
            <p:cNvPr id="224" name="AutoShape 3"/>
            <p:cNvSpPr/>
            <p:nvPr/>
          </p:nvSpPr>
          <p:spPr>
            <a:xfrm>
              <a:off x="0" y="862200"/>
              <a:ext cx="5067360" cy="40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"/>
            <p:cNvSpPr/>
            <p:nvPr/>
          </p:nvSpPr>
          <p:spPr>
            <a:xfrm>
              <a:off x="652320" y="1324080"/>
              <a:ext cx="3090960" cy="18939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>
              <a:off x="662040" y="3222720"/>
              <a:ext cx="3092400" cy="1339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>
              <a:off x="2197080" y="1324080"/>
              <a:ext cx="1136880" cy="323856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4680" y="3175200"/>
              <a:ext cx="41112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820800" y="3175200"/>
              <a:ext cx="4046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630440" y="3175200"/>
              <a:ext cx="4046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440080" y="3175200"/>
              <a:ext cx="4046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3249720" y="3175200"/>
              <a:ext cx="40932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191680" y="762120"/>
              <a:ext cx="466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3959280" y="301788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336600" y="294480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>
              <a:off x="3349800" y="443700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1273320" y="2301840"/>
              <a:ext cx="141120" cy="138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2692440" y="2970360"/>
              <a:ext cx="173160" cy="633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3065400" y="2433600"/>
              <a:ext cx="163440" cy="111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2324160" y="3133800"/>
              <a:ext cx="47520" cy="1998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2403360" y="3122640"/>
              <a:ext cx="46080" cy="2001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1650960" y="3668760"/>
              <a:ext cx="173160" cy="1159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1687680" y="3738600"/>
              <a:ext cx="179280" cy="1141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3438720" y="3811680"/>
              <a:ext cx="195120" cy="57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3417840" y="3890880"/>
              <a:ext cx="200160" cy="57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4392720" y="1219320"/>
            <a:ext cx="4751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М равноудалена от всех вершин правильного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торона которого равна 4 см. Расстояние от точки М до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вно 2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ажите, что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MC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снование перпендикуляра, опущенного из точки М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угол между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угол между прямо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лоскость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90CB-8046-48FF-BDEE-6B8258E2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4"/>
          <p:cNvGrpSpPr/>
          <p:nvPr/>
        </p:nvGrpSpPr>
        <p:grpSpPr>
          <a:xfrm>
            <a:off x="0" y="838080"/>
            <a:ext cx="5067360" cy="4034520"/>
            <a:chOff x="0" y="838080"/>
            <a:chExt cx="5067360" cy="4034520"/>
          </a:xfrm>
        </p:grpSpPr>
        <p:sp>
          <p:nvSpPr>
            <p:cNvPr id="250" name="AutoShape 3"/>
            <p:cNvSpPr/>
            <p:nvPr/>
          </p:nvSpPr>
          <p:spPr>
            <a:xfrm>
              <a:off x="0" y="930240"/>
              <a:ext cx="506736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662040" y="3110400"/>
              <a:ext cx="3092400" cy="12373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636840" y="1348200"/>
              <a:ext cx="3122640" cy="17618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2197440" y="1356840"/>
              <a:ext cx="1136520" cy="299052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5040" y="3066480"/>
              <a:ext cx="4111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820800" y="3066480"/>
              <a:ext cx="4050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1630440" y="3066480"/>
              <a:ext cx="4050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>
              <a:off x="2440080" y="3066480"/>
              <a:ext cx="4050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2"/>
            <p:cNvSpPr/>
            <p:nvPr/>
          </p:nvSpPr>
          <p:spPr>
            <a:xfrm>
              <a:off x="3249720" y="3066480"/>
              <a:ext cx="409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313720" y="838080"/>
              <a:ext cx="466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"/>
            <p:cNvSpPr/>
            <p:nvPr/>
          </p:nvSpPr>
          <p:spPr>
            <a:xfrm>
              <a:off x="4073040" y="292140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"/>
            <p:cNvSpPr/>
            <p:nvPr/>
          </p:nvSpPr>
          <p:spPr>
            <a:xfrm>
              <a:off x="451440" y="285408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3474360" y="423216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646200" y="3095640"/>
              <a:ext cx="142920" cy="525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920880" y="3148560"/>
              <a:ext cx="14616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1198800" y="3206880"/>
              <a:ext cx="142920" cy="543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>
              <a:off x="1471680" y="3261600"/>
              <a:ext cx="142920" cy="522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1746360" y="3318840"/>
              <a:ext cx="14616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2024280" y="3377160"/>
              <a:ext cx="14292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"/>
            <p:cNvSpPr/>
            <p:nvPr/>
          </p:nvSpPr>
          <p:spPr>
            <a:xfrm>
              <a:off x="2297160" y="3431520"/>
              <a:ext cx="142920" cy="525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"/>
            <p:cNvSpPr/>
            <p:nvPr/>
          </p:nvSpPr>
          <p:spPr>
            <a:xfrm>
              <a:off x="2571840" y="3488760"/>
              <a:ext cx="14148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5"/>
            <p:cNvSpPr/>
            <p:nvPr/>
          </p:nvSpPr>
          <p:spPr>
            <a:xfrm>
              <a:off x="2845080" y="3542760"/>
              <a:ext cx="147600" cy="525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6"/>
            <p:cNvSpPr/>
            <p:nvPr/>
          </p:nvSpPr>
          <p:spPr>
            <a:xfrm>
              <a:off x="3122640" y="3600000"/>
              <a:ext cx="14292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"/>
            <p:cNvSpPr/>
            <p:nvPr/>
          </p:nvSpPr>
          <p:spPr>
            <a:xfrm>
              <a:off x="3397320" y="3659040"/>
              <a:ext cx="136800" cy="4788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"/>
            <p:cNvSpPr/>
            <p:nvPr/>
          </p:nvSpPr>
          <p:spPr>
            <a:xfrm>
              <a:off x="3602160" y="3095640"/>
              <a:ext cx="14148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9"/>
            <p:cNvSpPr/>
            <p:nvPr/>
          </p:nvSpPr>
          <p:spPr>
            <a:xfrm>
              <a:off x="3333960" y="3169080"/>
              <a:ext cx="141120" cy="626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0"/>
            <p:cNvSpPr/>
            <p:nvPr/>
          </p:nvSpPr>
          <p:spPr>
            <a:xfrm>
              <a:off x="3065760" y="3246480"/>
              <a:ext cx="14112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1"/>
            <p:cNvSpPr/>
            <p:nvPr/>
          </p:nvSpPr>
          <p:spPr>
            <a:xfrm>
              <a:off x="2797200" y="3324240"/>
              <a:ext cx="14148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2"/>
            <p:cNvSpPr/>
            <p:nvPr/>
          </p:nvSpPr>
          <p:spPr>
            <a:xfrm>
              <a:off x="2529000" y="3396240"/>
              <a:ext cx="14292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3"/>
            <p:cNvSpPr/>
            <p:nvPr/>
          </p:nvSpPr>
          <p:spPr>
            <a:xfrm>
              <a:off x="2256120" y="3474000"/>
              <a:ext cx="14112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4"/>
            <p:cNvSpPr/>
            <p:nvPr/>
          </p:nvSpPr>
          <p:spPr>
            <a:xfrm>
              <a:off x="1987560" y="3551760"/>
              <a:ext cx="141480" cy="626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5"/>
            <p:cNvSpPr/>
            <p:nvPr/>
          </p:nvSpPr>
          <p:spPr>
            <a:xfrm>
              <a:off x="1835280" y="3624840"/>
              <a:ext cx="25560" cy="291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6"/>
            <p:cNvSpPr/>
            <p:nvPr/>
          </p:nvSpPr>
          <p:spPr>
            <a:xfrm>
              <a:off x="3229200" y="4246560"/>
              <a:ext cx="1141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7"/>
            <p:cNvSpPr/>
            <p:nvPr/>
          </p:nvSpPr>
          <p:spPr>
            <a:xfrm>
              <a:off x="3044880" y="4051440"/>
              <a:ext cx="109800" cy="11268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"/>
            <p:cNvSpPr/>
            <p:nvPr/>
          </p:nvSpPr>
          <p:spPr>
            <a:xfrm>
              <a:off x="2854440" y="385812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>
              <a:off x="2665440" y="366444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0"/>
            <p:cNvSpPr/>
            <p:nvPr/>
          </p:nvSpPr>
          <p:spPr>
            <a:xfrm>
              <a:off x="2481480" y="346968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1"/>
            <p:cNvSpPr/>
            <p:nvPr/>
          </p:nvSpPr>
          <p:spPr>
            <a:xfrm>
              <a:off x="2292480" y="327636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2"/>
            <p:cNvSpPr/>
            <p:nvPr/>
          </p:nvSpPr>
          <p:spPr>
            <a:xfrm>
              <a:off x="2124360" y="3095640"/>
              <a:ext cx="95040" cy="9648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"/>
            <p:cNvSpPr/>
            <p:nvPr/>
          </p:nvSpPr>
          <p:spPr>
            <a:xfrm>
              <a:off x="2181240" y="1356840"/>
              <a:ext cx="4788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4"/>
            <p:cNvSpPr/>
            <p:nvPr/>
          </p:nvSpPr>
          <p:spPr>
            <a:xfrm>
              <a:off x="2219400" y="1614960"/>
              <a:ext cx="41400" cy="1303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5"/>
            <p:cNvSpPr/>
            <p:nvPr/>
          </p:nvSpPr>
          <p:spPr>
            <a:xfrm>
              <a:off x="2251080" y="1871640"/>
              <a:ext cx="4608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6"/>
            <p:cNvSpPr/>
            <p:nvPr/>
          </p:nvSpPr>
          <p:spPr>
            <a:xfrm>
              <a:off x="2287800" y="2129400"/>
              <a:ext cx="41400" cy="1303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7"/>
            <p:cNvSpPr/>
            <p:nvPr/>
          </p:nvSpPr>
          <p:spPr>
            <a:xfrm>
              <a:off x="2319480" y="2387520"/>
              <a:ext cx="46080" cy="1346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8"/>
            <p:cNvSpPr/>
            <p:nvPr/>
          </p:nvSpPr>
          <p:spPr>
            <a:xfrm>
              <a:off x="2355840" y="2648520"/>
              <a:ext cx="4140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9"/>
            <p:cNvSpPr/>
            <p:nvPr/>
          </p:nvSpPr>
          <p:spPr>
            <a:xfrm>
              <a:off x="2387880" y="2906640"/>
              <a:ext cx="46080" cy="1303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0"/>
            <p:cNvSpPr/>
            <p:nvPr/>
          </p:nvSpPr>
          <p:spPr>
            <a:xfrm>
              <a:off x="2424240" y="3163320"/>
              <a:ext cx="4752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1"/>
            <p:cNvSpPr/>
            <p:nvPr/>
          </p:nvSpPr>
          <p:spPr>
            <a:xfrm>
              <a:off x="2460960" y="3421080"/>
              <a:ext cx="31680" cy="439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2"/>
            <p:cNvSpPr/>
            <p:nvPr/>
          </p:nvSpPr>
          <p:spPr>
            <a:xfrm>
              <a:off x="2377800" y="352260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3"/>
            <p:cNvSpPr/>
            <p:nvPr/>
          </p:nvSpPr>
          <p:spPr>
            <a:xfrm>
              <a:off x="2444760" y="3206880"/>
              <a:ext cx="289080" cy="252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4"/>
            <p:cNvSpPr/>
            <p:nvPr/>
          </p:nvSpPr>
          <p:spPr>
            <a:xfrm>
              <a:off x="3749400" y="359568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24211d"/>
                  </a:solidFill>
                  <a:latin typeface="Arial"/>
                </a:rPr>
                <a:t>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5"/>
            <p:cNvSpPr/>
            <p:nvPr/>
          </p:nvSpPr>
          <p:spPr>
            <a:xfrm>
              <a:off x="2181240" y="1352520"/>
              <a:ext cx="1357560" cy="2350080"/>
            </a:xfrm>
            <a:prstGeom prst="pie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6"/>
            <p:cNvSpPr/>
            <p:nvPr/>
          </p:nvSpPr>
          <p:spPr>
            <a:xfrm>
              <a:off x="3229200" y="3343680"/>
              <a:ext cx="104760" cy="300240"/>
            </a:xfrm>
            <a:prstGeom prst="pie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4952880" y="838080"/>
                <a:ext cx="3924360" cy="571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авильный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стоя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O</m:t>
                            </m:r>
                          </m:e>
                        </m:d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C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Rectangle 5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5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3D3A-F144-4AEE-950F-C9B8F63D3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8000" y="3284640"/>
                <a:ext cx="266364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ый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7" name="Group 5"/>
          <p:cNvGrpSpPr/>
          <p:nvPr/>
        </p:nvGrpSpPr>
        <p:grpSpPr>
          <a:xfrm>
            <a:off x="108000" y="0"/>
            <a:ext cx="2687760" cy="3014280"/>
            <a:chOff x="108000" y="0"/>
            <a:chExt cx="2687760" cy="3014280"/>
          </a:xfrm>
        </p:grpSpPr>
        <p:sp>
          <p:nvSpPr>
            <p:cNvPr id="308" name="AutoShape 4"/>
            <p:cNvSpPr/>
            <p:nvPr/>
          </p:nvSpPr>
          <p:spPr>
            <a:xfrm>
              <a:off x="108000" y="38880"/>
              <a:ext cx="2611800" cy="27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384480" y="1737720"/>
              <a:ext cx="2026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691200" y="1737720"/>
              <a:ext cx="20592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997200" y="1737720"/>
              <a:ext cx="2070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1308600" y="1737720"/>
              <a:ext cx="2026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1615320" y="1737720"/>
              <a:ext cx="2026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922400" y="1737720"/>
              <a:ext cx="2070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2229480" y="1737720"/>
              <a:ext cx="17532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376560" y="234000"/>
              <a:ext cx="2040120" cy="256248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387360" y="234000"/>
              <a:ext cx="2017440" cy="25437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1488600" y="2428920"/>
              <a:ext cx="352440" cy="344880"/>
            </a:xfrm>
            <a:prstGeom prst="pie">
              <a:avLst/>
            </a:prstGeom>
            <a:noFill/>
            <a:ln w="0">
              <a:solidFill>
                <a:srgbClr val="0090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6"/>
            <p:cNvSpPr/>
            <p:nvPr/>
          </p:nvSpPr>
          <p:spPr>
            <a:xfrm>
              <a:off x="115200" y="15782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"/>
            <p:cNvSpPr/>
            <p:nvPr/>
          </p:nvSpPr>
          <p:spPr>
            <a:xfrm>
              <a:off x="2558880" y="15001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8"/>
            <p:cNvSpPr/>
            <p:nvPr/>
          </p:nvSpPr>
          <p:spPr>
            <a:xfrm>
              <a:off x="1866960" y="258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"/>
            <p:cNvSpPr/>
            <p:nvPr/>
          </p:nvSpPr>
          <p:spPr>
            <a:xfrm>
              <a:off x="180720" y="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0"/>
          <p:cNvGrpSpPr/>
          <p:nvPr/>
        </p:nvGrpSpPr>
        <p:grpSpPr>
          <a:xfrm>
            <a:off x="3273480" y="6480"/>
            <a:ext cx="2667240" cy="2990880"/>
            <a:chOff x="3273480" y="6480"/>
            <a:chExt cx="2667240" cy="2990880"/>
          </a:xfrm>
        </p:grpSpPr>
        <p:sp>
          <p:nvSpPr>
            <p:cNvPr id="324" name="AutoShape 21"/>
            <p:cNvSpPr/>
            <p:nvPr/>
          </p:nvSpPr>
          <p:spPr>
            <a:xfrm>
              <a:off x="3273480" y="45000"/>
              <a:ext cx="2589120" cy="27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2"/>
            <p:cNvSpPr/>
            <p:nvPr/>
          </p:nvSpPr>
          <p:spPr>
            <a:xfrm>
              <a:off x="3547440" y="1729080"/>
              <a:ext cx="200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3851640" y="1729080"/>
              <a:ext cx="20412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4"/>
            <p:cNvSpPr/>
            <p:nvPr/>
          </p:nvSpPr>
          <p:spPr>
            <a:xfrm>
              <a:off x="4155120" y="1729080"/>
              <a:ext cx="2052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"/>
            <p:cNvSpPr/>
            <p:nvPr/>
          </p:nvSpPr>
          <p:spPr>
            <a:xfrm>
              <a:off x="4463640" y="1729080"/>
              <a:ext cx="200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6"/>
            <p:cNvSpPr/>
            <p:nvPr/>
          </p:nvSpPr>
          <p:spPr>
            <a:xfrm>
              <a:off x="4767840" y="1729080"/>
              <a:ext cx="200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7"/>
            <p:cNvSpPr/>
            <p:nvPr/>
          </p:nvSpPr>
          <p:spPr>
            <a:xfrm>
              <a:off x="5072400" y="1729080"/>
              <a:ext cx="2052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8"/>
            <p:cNvSpPr/>
            <p:nvPr/>
          </p:nvSpPr>
          <p:spPr>
            <a:xfrm>
              <a:off x="5376600" y="1729080"/>
              <a:ext cx="173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3539880" y="238320"/>
              <a:ext cx="2022840" cy="254016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3550680" y="238320"/>
              <a:ext cx="2000160" cy="25221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1"/>
            <p:cNvSpPr/>
            <p:nvPr/>
          </p:nvSpPr>
          <p:spPr>
            <a:xfrm>
              <a:off x="3281040" y="15703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2"/>
            <p:cNvSpPr/>
            <p:nvPr/>
          </p:nvSpPr>
          <p:spPr>
            <a:xfrm>
              <a:off x="5703840" y="1493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3"/>
            <p:cNvSpPr/>
            <p:nvPr/>
          </p:nvSpPr>
          <p:spPr>
            <a:xfrm>
              <a:off x="5014440" y="25704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4"/>
            <p:cNvSpPr/>
            <p:nvPr/>
          </p:nvSpPr>
          <p:spPr>
            <a:xfrm>
              <a:off x="3344760" y="64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4520880" y="1634760"/>
              <a:ext cx="94320" cy="2008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4095000" y="2136960"/>
              <a:ext cx="113760" cy="1558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3543120" y="1573560"/>
              <a:ext cx="163080" cy="1717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3203640" y="3357720"/>
                <a:ext cx="2736720" cy="18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внобедренны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2" name="Group 39"/>
          <p:cNvGrpSpPr/>
          <p:nvPr/>
        </p:nvGrpSpPr>
        <p:grpSpPr>
          <a:xfrm>
            <a:off x="6324480" y="0"/>
            <a:ext cx="2738160" cy="3067560"/>
            <a:chOff x="6324480" y="0"/>
            <a:chExt cx="2738160" cy="3067560"/>
          </a:xfrm>
        </p:grpSpPr>
        <p:sp>
          <p:nvSpPr>
            <p:cNvPr id="343" name="AutoShape 40"/>
            <p:cNvSpPr/>
            <p:nvPr/>
          </p:nvSpPr>
          <p:spPr>
            <a:xfrm>
              <a:off x="6324480" y="39600"/>
              <a:ext cx="2667240" cy="28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1"/>
            <p:cNvSpPr/>
            <p:nvPr/>
          </p:nvSpPr>
          <p:spPr>
            <a:xfrm>
              <a:off x="6606720" y="1774080"/>
              <a:ext cx="20700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2"/>
            <p:cNvSpPr/>
            <p:nvPr/>
          </p:nvSpPr>
          <p:spPr>
            <a:xfrm>
              <a:off x="6920280" y="1774080"/>
              <a:ext cx="21024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3"/>
            <p:cNvSpPr/>
            <p:nvPr/>
          </p:nvSpPr>
          <p:spPr>
            <a:xfrm>
              <a:off x="7232760" y="1774080"/>
              <a:ext cx="21132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4"/>
            <p:cNvSpPr/>
            <p:nvPr/>
          </p:nvSpPr>
          <p:spPr>
            <a:xfrm>
              <a:off x="7550640" y="1774080"/>
              <a:ext cx="20700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5"/>
            <p:cNvSpPr/>
            <p:nvPr/>
          </p:nvSpPr>
          <p:spPr>
            <a:xfrm>
              <a:off x="7864200" y="1774080"/>
              <a:ext cx="20700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6"/>
            <p:cNvSpPr/>
            <p:nvPr/>
          </p:nvSpPr>
          <p:spPr>
            <a:xfrm>
              <a:off x="8177760" y="1774080"/>
              <a:ext cx="21132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7"/>
            <p:cNvSpPr/>
            <p:nvPr/>
          </p:nvSpPr>
          <p:spPr>
            <a:xfrm>
              <a:off x="8490960" y="1774080"/>
              <a:ext cx="17928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8"/>
            <p:cNvSpPr/>
            <p:nvPr/>
          </p:nvSpPr>
          <p:spPr>
            <a:xfrm>
              <a:off x="6598800" y="239040"/>
              <a:ext cx="2083680" cy="26161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"/>
            <p:cNvSpPr/>
            <p:nvPr/>
          </p:nvSpPr>
          <p:spPr>
            <a:xfrm>
              <a:off x="6609960" y="239040"/>
              <a:ext cx="2060640" cy="25970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0"/>
            <p:cNvSpPr/>
            <p:nvPr/>
          </p:nvSpPr>
          <p:spPr>
            <a:xfrm>
              <a:off x="6333840" y="160920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8825760" y="15307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52"/>
            <p:cNvSpPr/>
            <p:nvPr/>
          </p:nvSpPr>
          <p:spPr>
            <a:xfrm>
              <a:off x="8117640" y="26406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3"/>
            <p:cNvSpPr/>
            <p:nvPr/>
          </p:nvSpPr>
          <p:spPr>
            <a:xfrm>
              <a:off x="6398640" y="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4"/>
            <p:cNvSpPr/>
            <p:nvPr/>
          </p:nvSpPr>
          <p:spPr>
            <a:xfrm>
              <a:off x="6602400" y="1613880"/>
              <a:ext cx="168120" cy="1771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6443640" y="3357720"/>
                <a:ext cx="2484360" cy="18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упоугольный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упо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9" name="Line 56"/>
          <p:cNvSpPr/>
          <p:nvPr/>
        </p:nvSpPr>
        <p:spPr>
          <a:xfrm>
            <a:off x="2916360" y="260280"/>
            <a:ext cx="0" cy="6121440"/>
          </a:xfrm>
          <a:prstGeom prst="line">
            <a:avLst/>
          </a:prstGeom>
          <a:ln w="38160">
            <a:solidFill>
              <a:srgbClr val="f70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7"/>
          <p:cNvSpPr/>
          <p:nvPr/>
        </p:nvSpPr>
        <p:spPr>
          <a:xfrm>
            <a:off x="6227640" y="260280"/>
            <a:ext cx="0" cy="6121440"/>
          </a:xfrm>
          <a:prstGeom prst="line">
            <a:avLst/>
          </a:prstGeom>
          <a:ln w="38160">
            <a:solidFill>
              <a:srgbClr val="f70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правляющая кнопка: возврат 56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5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B75C-9170-44CA-AD59-1662BC7CC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НОСТЬ ПРЯМОЙ И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ОРЕМА О ТРЕХ ПЕРПЕНДИКУЛЯ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НОСТЬ ПЛОС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ГРАН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4499-E047-4D5D-AFAA-3EEA6D71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ЕРПЕНДИКУЛЯРНОСТЬ ПРЯМОЙ И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914400" y="1523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 называется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пендикулярной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скости,  если она перпендикулярна любой прямой, лежащей в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838080" y="22860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Теорема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знак перпендикулярности прямой и плоскости.) Если прямая перпендикулярна двум пересекающимся прямым плоскости, то она перпендикулярна и сам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2"/>
          <a:stretch/>
        </p:blipFill>
        <p:spPr>
          <a:xfrm>
            <a:off x="3094200" y="3352680"/>
            <a:ext cx="4051080" cy="321156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141-889B-467A-AF2F-A0B0371C1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66680" y="7621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 плоскость, проходящая через ребр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ви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траэд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очк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ередину ребр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пендикулярна ребр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541008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казательство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прямы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овательно, она перпендикулярна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06560" y="2514600"/>
            <a:ext cx="3218040" cy="297828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C1F-599E-41D7-BA4F-076C9995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85800"/>
            <a:ext cx="7848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 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ходящая через вер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пендикулярна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3520" y="5562720"/>
            <a:ext cx="8458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оказатель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прямы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овательно, она перпендикулярна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391140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возврат 5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2F1A-C675-4FCA-9F14-B3796D55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ЕРПЕНДИКУЛЯР И НАКЛ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66680" y="1295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а. Через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прям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перпендикулярн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чку пересечения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плоскос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означи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зыв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ртогональной прое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3429000" cy="1746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10666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пендикуля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опущенным 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плоск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77D3-8B98-4E15-A409-F438CF266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1523880" y="3049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ЕРПЕНДИКУЛЯР И НАКЛ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219320" y="1066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Наклонной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плоскости называется прямая, пересекающая эту плоскость и не перпендикулярная ей. Наклонной называют также отрезок, соединяющий точку, не принадлежащую плоскости, с точкой плоскости, и не являющийся перпендикуля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, при котором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а сопоставляется  ортогональная проекци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ртогональным проектирова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4027320" cy="205092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354-E28A-4525-9D92-BCF832DB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225360" y="4157640"/>
            <a:ext cx="4614840" cy="20541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"/>
          <p:cNvGrpSpPr/>
          <p:nvPr/>
        </p:nvGrpSpPr>
        <p:grpSpPr>
          <a:xfrm>
            <a:off x="1295280" y="2286000"/>
            <a:ext cx="429840" cy="2816280"/>
            <a:chOff x="1295280" y="2286000"/>
            <a:chExt cx="429840" cy="2816280"/>
          </a:xfrm>
        </p:grpSpPr>
        <p:sp>
          <p:nvSpPr>
            <p:cNvPr id="82" name="Line 3"/>
            <p:cNvSpPr/>
            <p:nvPr/>
          </p:nvSpPr>
          <p:spPr>
            <a:xfrm>
              <a:off x="1724040" y="2430000"/>
              <a:ext cx="1080" cy="251964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1295280" y="473400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1295280" y="228600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1752480" y="2438280"/>
            <a:ext cx="1582560" cy="2814840"/>
            <a:chOff x="1752480" y="2438280"/>
            <a:chExt cx="1582560" cy="2814840"/>
          </a:xfrm>
        </p:grpSpPr>
        <p:sp>
          <p:nvSpPr>
            <p:cNvPr id="86" name="Line 7"/>
            <p:cNvSpPr/>
            <p:nvPr/>
          </p:nvSpPr>
          <p:spPr>
            <a:xfrm>
              <a:off x="1752480" y="2438280"/>
              <a:ext cx="1151640" cy="251964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2975040" y="48848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9"/>
          <p:cNvSpPr/>
          <p:nvPr/>
        </p:nvSpPr>
        <p:spPr>
          <a:xfrm>
            <a:off x="1752480" y="4952880"/>
            <a:ext cx="1152720" cy="18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2057040" y="4267080"/>
            <a:ext cx="1366920" cy="1870200"/>
            <a:chOff x="2057040" y="4267080"/>
            <a:chExt cx="1366920" cy="1870200"/>
          </a:xfrm>
        </p:grpSpPr>
        <p:sp>
          <p:nvSpPr>
            <p:cNvPr id="90" name="Line 11"/>
            <p:cNvSpPr/>
            <p:nvPr/>
          </p:nvSpPr>
          <p:spPr>
            <a:xfrm flipH="1">
              <a:off x="2057040" y="4267080"/>
              <a:ext cx="1366920" cy="18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2427120" y="55486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3"/>
          <p:cNvSpPr/>
          <p:nvPr/>
        </p:nvSpPr>
        <p:spPr>
          <a:xfrm>
            <a:off x="6248520" y="1371600"/>
            <a:ext cx="9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516720" y="1600200"/>
            <a:ext cx="3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795280" y="1841400"/>
            <a:ext cx="19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 С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5804640" y="235116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 - накл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5798520" y="275580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 - про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6078600" y="3141720"/>
            <a:ext cx="8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6078600" y="3573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5948640" y="4076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6084000" y="4581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990720" y="228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37160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1066680" y="762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ямая, проведенная на плоскости через основание наклонной перпендикулярна  её проекции, то она перпендикулярна и к самой накл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6A0E-C4BB-4E7E-99D7-D2564C15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43000" y="68580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Установить взаимное положение прямых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и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о готовым чертеж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916280"/>
            <a:ext cx="3651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адача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4143240" y="3565440"/>
            <a:ext cx="1800" cy="11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143240" y="3567240"/>
            <a:ext cx="178128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143240" y="4718160"/>
            <a:ext cx="178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3428640" y="4718160"/>
            <a:ext cx="71604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5211360" y="4027320"/>
            <a:ext cx="1428840" cy="13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3428640" y="5410080"/>
            <a:ext cx="178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895480" y="5180040"/>
            <a:ext cx="357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281640" y="3567240"/>
            <a:ext cx="179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952880" y="3809880"/>
            <a:ext cx="355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103800" y="4718160"/>
            <a:ext cx="357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610080" y="4259160"/>
            <a:ext cx="35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376960" y="5259240"/>
            <a:ext cx="35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787920" y="3336840"/>
            <a:ext cx="17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3206880" y="15228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возврат 32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AE8B-C3A0-4F34-AB2D-65EB3B42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3b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3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DATOR</dc:creator>
  <dc:description/>
  <dc:language>en-US</dc:language>
  <cp:lastModifiedBy>DJ_Diesel</cp:lastModifiedBy>
  <dcterms:modified xsi:type="dcterms:W3CDTF">2012-03-28T09:16:4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