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507-C65B-46BA-81FE-27FCA777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A05-7765-4908-ADDB-49F5EAB7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284-5960-48EA-9590-72AA93D4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9D8-552C-41EB-8D64-20239011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1A4A-1C5D-478B-AEB2-0D1445CF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5DBE-F5A5-4B65-A8BF-529915FA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5DA0-360F-43E3-8042-28CB97BA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537C-398C-4CCA-91EC-FF50F594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2695-9BA0-4548-8751-56C09D48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B0A1-EF09-4DC7-BAE4-EA2F584B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9519-85D8-4465-913D-7372AE18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290-A73F-47B2-9EBC-B6294C13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D9B3-DC9D-455C-9AE6-155A031A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D1CC-F602-4FC0-812C-751BBFF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87DF-D704-47CE-BA04-43DFE8EF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90DB-F4D3-40D1-92E2-78264972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7107-741B-469B-AF17-68983DE5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FA3-E185-4FFF-8A1E-6E005EFC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105-71BB-4BF8-8F60-F867F8AE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929-A21B-423D-94F3-C8CF0562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080-909C-4AB0-9B5C-A97721D6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D11-CF9B-4D9E-AED9-3AAC80D3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CC1-99BE-44C0-B5A2-A5ACD7DD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856-C138-410A-B639-B51D5FC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ED31-7B05-4E76-BAA0-124FE08D811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7701-ECF4-450C-93F4-4759C06B05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2160" y="1249200"/>
            <a:ext cx="4392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.номер 56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м - одна сторона прямоугольника, (31-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)м – другая сторона прямоугольни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т. к. 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=210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м</a:t>
            </a:r>
            <a:r>
              <a:rPr b="1" i="1" lang="ru-RU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, то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x(31-x) =2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1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+31x-210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30000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1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-31x+210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=961-840=121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=21, x</a:t>
            </a:r>
            <a:r>
              <a:rPr b="1" i="1" lang="en-US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=10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Если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=21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– одна сторона прямоугольник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то 31-21=10м – другая сторона прямоугольни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Ответ: 21м и 10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0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Решите квадратное уравнение подбором корне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17x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-17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-11x+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7x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9x+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Решите квадратное уравнение подбором корне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17x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       -18;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-17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           18;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-11x+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         9;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7x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         -9;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9x+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         3;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=20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м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=18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3.</a:t>
            </a:r>
            <a:r>
              <a:rPr b="1" i="1" lang="en-US" sz="3600" spc="-1" strike="noStrike">
                <a:solidFill>
                  <a:srgbClr val="006666"/>
                </a:solidFill>
                <a:latin typeface="Times New Roman"/>
              </a:rPr>
              <a:t>Франсуа Виет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По праву достойна в стихах быть воспе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О свойствах корней теорема Вие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16640" y="2362320"/>
            <a:ext cx="28749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708280"/>
            <a:ext cx="762012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3x</a:t>
            </a:r>
            <a:r>
              <a:rPr b="1" i="1" lang="en-US" sz="32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-5x=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3Q+5N aequal 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5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708280"/>
            <a:ext cx="762012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п.23  номер 584, 58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номер 597 – по желани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296720"/>
            <a:ext cx="8001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38080" y="2362320"/>
          <a:ext cx="7925040" cy="4551120"/>
        </p:xfrm>
        <a:graphic>
          <a:graphicData uri="http://schemas.openxmlformats.org/drawingml/2006/table">
            <a:tbl>
              <a:tblPr/>
              <a:tblGrid>
                <a:gridCol w="3200400"/>
                <a:gridCol w="2262240"/>
                <a:gridCol w="1243080"/>
                <a:gridCol w="1219320"/>
              </a:tblGrid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равнени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рни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x-3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; -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5x-6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; 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7x+12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; -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x+15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; 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x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; 5    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; 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3</a:t>
            </a:r>
            <a:r>
              <a:rPr b="0" i="1" lang="en-US" sz="18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24382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16=0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3x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5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4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4x+1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3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x+4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6x+6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5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14400" y="2438280"/>
          <a:ext cx="7772400" cy="4114800"/>
        </p:xfrm>
        <a:graphic>
          <a:graphicData uri="http://schemas.openxmlformats.org/drawingml/2006/table">
            <a:tbl>
              <a:tblPr/>
              <a:tblGrid>
                <a:gridCol w="3138480"/>
                <a:gridCol w="2392560"/>
                <a:gridCol w="1046160"/>
                <a:gridCol w="1195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равнени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рни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x-3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; -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5x-6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; 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7x+12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; -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x+15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; 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x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; 5    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; 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6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px+q=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Если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, 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– корни квадратного уравнени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то              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*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q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7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Составить квадратное уравнение по его корня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1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= -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5,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то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                          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*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Значит уравнение примет вид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8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Если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*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q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,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то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ru-RU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– корни квадратного                     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уравнения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px+q=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б) найдите второй корень уравнения, есл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2x-3=0               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и     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=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7x+10=0           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 и     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9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9:59:41Z</dcterms:created>
  <dc:creator>РСВ</dc:creator>
  <dc:description/>
  <dc:language>en-US</dc:language>
  <cp:lastModifiedBy>Home</cp:lastModifiedBy>
  <dcterms:modified xsi:type="dcterms:W3CDTF">2011-01-11T19:36:53Z</dcterms:modified>
  <cp:revision>8</cp:revision>
  <dc:subject/>
  <dc:title>1</dc:title>
</cp:coreProperties>
</file>