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0B7-18B0-4057-B69E-A605E6BD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37B-9939-4952-AB58-F34DDC4C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705-26C4-4822-9083-034DB028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4FF-F948-41E6-A26B-742F48CA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5F6D-01D7-4A5D-B7DC-B8450F3C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84A7-2D04-4988-8018-CA6455F2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D041-5A7F-444E-98D7-F7DABEB8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793A-3CBC-4DF7-B932-9AACCE7E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B2CC-AF28-40AC-AA82-E4F3FE8E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ABFD-F7A4-4436-BC29-F45AF89A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6433-26A6-4084-9C52-1AD34DE3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3D6-4237-4E99-A82D-99D72F11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F75D-E883-4933-8FDB-199E05EF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7D40-3655-49A4-B682-25896753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73C7-D497-4DEE-862D-0FE97C38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7522-7B30-4CD4-92D6-3A6ECF2F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2A47-F48A-4079-A607-B98231FF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B67-D0D3-45CC-A9E7-7B54C721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544-C5B2-4072-B46D-9D97199A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4E0-005F-4132-8961-D2C886BF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57D-318C-4429-82FA-211BF894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135-D0BB-4912-BB3B-50E6C289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690-B800-4DAC-9F19-C06F5D33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25E-0AD1-45E7-87DF-7AAAEF63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940B-99D2-4E41-9D49-E8DF5AE0948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59DE-F340-4268-AD72-9F56CBCA317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2160" y="1249200"/>
            <a:ext cx="4392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.номер 56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м - одна сторона прямоугольника, (31-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)м – другая сторона прямоугольни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т. к. 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S=210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м</a:t>
            </a:r>
            <a:r>
              <a:rPr b="1" i="1" lang="ru-RU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, то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x(31-x) =2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1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+31x-210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30000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1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-31x+210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=961-840=121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=21, x</a:t>
            </a:r>
            <a:r>
              <a:rPr b="1" i="1" lang="en-US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=10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Если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=21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– одна сторона прямоугольник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то 31-21=10м – другая сторона прямоугольни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Ответ: 21м и 10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0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Решите квадратное уравнение подбором корне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17x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-17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-11x+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7x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9x+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1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Решите квадратное уравнение подбором корне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17x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       -18;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-17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           18;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-11x+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         9;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7x-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         -9;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9x+18=0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         3;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=20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м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=18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3.</a:t>
            </a:r>
            <a:r>
              <a:rPr b="1" i="1" lang="en-US" sz="3600" spc="-1" strike="noStrike">
                <a:solidFill>
                  <a:srgbClr val="006666"/>
                </a:solidFill>
                <a:latin typeface="Times New Roman"/>
              </a:rPr>
              <a:t>Франсуа Виет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По праву достойна в стихах быть воспе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О свойствах корней теорема Вие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16640" y="2362320"/>
            <a:ext cx="28749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708280"/>
            <a:ext cx="762012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3x</a:t>
            </a:r>
            <a:r>
              <a:rPr b="1" i="1" lang="en-US" sz="32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-5x=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3Q+5N aequal 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15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708280"/>
            <a:ext cx="762012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п.23  номер 584, 58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номер 597 – по желани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296720"/>
            <a:ext cx="8001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38080" y="2362320"/>
          <a:ext cx="7925040" cy="4551120"/>
        </p:xfrm>
        <a:graphic>
          <a:graphicData uri="http://schemas.openxmlformats.org/drawingml/2006/table">
            <a:tbl>
              <a:tblPr/>
              <a:tblGrid>
                <a:gridCol w="3200400"/>
                <a:gridCol w="2262240"/>
                <a:gridCol w="1243080"/>
                <a:gridCol w="1219320"/>
              </a:tblGrid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равнени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рни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x-3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; -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5x-6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; 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7x+12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; -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x+15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; 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x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; 5    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; 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3</a:t>
            </a:r>
            <a:r>
              <a:rPr b="0" i="1" lang="en-US" sz="18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24382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16=0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3x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5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4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4x+1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3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x+4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6x+6=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5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14400" y="2438280"/>
          <a:ext cx="7772400" cy="4114800"/>
        </p:xfrm>
        <a:graphic>
          <a:graphicData uri="http://schemas.openxmlformats.org/drawingml/2006/table">
            <a:tbl>
              <a:tblPr/>
              <a:tblGrid>
                <a:gridCol w="3138480"/>
                <a:gridCol w="2392560"/>
                <a:gridCol w="1046160"/>
                <a:gridCol w="1195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равнени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рни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*x</a:t>
                      </a:r>
                      <a:r>
                        <a:rPr b="0" i="1" lang="en-US" sz="24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x-3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; -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5x-6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; 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+7x+12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; -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x+15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; 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x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; 5    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400" spc="-1" strike="noStrike" baseline="30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=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; 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6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px+q=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Если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, 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– корни квадратного уравнени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то              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*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q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7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Составить квадратное уравнение по его корня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1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= -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5,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то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                          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*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Значит уравнение примет вид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8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Если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*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=q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,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то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ru-RU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– корни квадратного                     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уравнения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    x</a:t>
            </a:r>
            <a:r>
              <a:rPr b="1" i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+px+q=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б) найдите второй корень уравнения, есл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2x-3=0               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и     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=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-7x+10=0           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 и     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9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9:59:41Z</dcterms:created>
  <dc:creator>РСВ</dc:creator>
  <dc:description/>
  <dc:language>en-US</dc:language>
  <cp:lastModifiedBy>Home</cp:lastModifiedBy>
  <dcterms:modified xsi:type="dcterms:W3CDTF">2011-01-11T19:36:53Z</dcterms:modified>
  <cp:revision>8</cp:revision>
  <dc:subject/>
  <dc:title>1</dc:title>
</cp:coreProperties>
</file>