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C10C-9522-4974-AABE-323FEBF01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A0DD-36D9-4C9C-83DA-AF3AEA0DAE77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30.01.2012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70C-498F-41A8-B4B9-D379E72CB14E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ED1-20E2-443B-8952-BF90EB7D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E81-6055-41FE-8C92-23CA427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533-346E-49B2-9E3E-0E5E7196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0B6-3B28-4267-82D5-74DDC4DE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890-EE69-4F02-AD70-072737E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3CC-0210-4374-9870-56E9596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196-A5ED-4B93-860F-8C9B05C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898-C657-4709-902F-87DC205A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ED1-7A45-4F1D-8CF2-FAD1010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507-AC68-4B55-965E-67923F18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EC2-007D-4DEA-AA50-D48828E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D56-EC49-4350-8067-5CE1869D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357F-B192-42EC-93D0-7F2D0A869D52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anel"/>
          <p:cNvSpPr/>
          <p:nvPr/>
        </p:nvSpPr>
        <p:spPr>
          <a:xfrm>
            <a:off x="0" y="6235560"/>
            <a:ext cx="9144000" cy="62100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3" name="Out_Tim"/>
          <p:cNvSpPr/>
          <p:nvPr/>
        </p:nvSpPr>
        <p:spPr>
          <a:xfrm>
            <a:off x="8053560" y="6384960"/>
            <a:ext cx="50292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4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5" name="Tx_Tim"/>
          <p:cNvSpPr/>
          <p:nvPr/>
        </p:nvSpPr>
        <p:spPr>
          <a:xfrm>
            <a:off x="6227640" y="64404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6" name="Tx_min"/>
          <p:cNvSpPr/>
          <p:nvPr/>
        </p:nvSpPr>
        <p:spPr>
          <a:xfrm>
            <a:off x="8629560" y="64404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5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88569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по английскому языку,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по теме </a:t>
            </a: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Tag-questions.</a:t>
            </a: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71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72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grpSp>
          <p:nvGrpSpPr>
            <p:cNvPr id="79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80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87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88" name="Dalee"/>
          <p:cNvSpPr/>
          <p:nvPr/>
        </p:nvSpPr>
        <p:spPr>
          <a:xfrm>
            <a:off x="3492360" y="637704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1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My sister works very much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is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my sister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0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0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1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1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24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5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6" name="Prkl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7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8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9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30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31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2" name="Prkl"/>
            <p:cNvSpPr/>
            <p:nvPr/>
          </p:nvSpPr>
          <p:spPr>
            <a:xfrm>
              <a:off x="463320" y="45896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500040" y="462600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536400" y="466092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5" name="Metka" hidden="1"/>
            <p:cNvSpPr/>
            <p:nvPr/>
          </p:nvSpPr>
          <p:spPr>
            <a:xfrm>
              <a:off x="571320" y="469764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7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8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9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4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4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4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4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44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Your friends live in London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 they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aren’t your friends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n’t they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is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5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5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5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1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6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0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71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72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3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4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6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77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78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9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2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5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91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We will discuss this question next week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e will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on’t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it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not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9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00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1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2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5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06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07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8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1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12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13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4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7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18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19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0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3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24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225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6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9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2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38" name="Rectangle 47"/>
          <p:cNvSpPr/>
          <p:nvPr/>
        </p:nvSpPr>
        <p:spPr>
          <a:xfrm>
            <a:off x="900000" y="260280"/>
            <a:ext cx="7993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He read this article yesterday,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read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2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5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6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47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48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9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2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53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4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5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8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59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0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1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65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66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7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71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272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3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4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6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9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8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8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85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She did not decorate her room yesterday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6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7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8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9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she did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Итог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3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94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5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6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9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0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1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2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5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6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07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8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0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1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12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3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4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7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18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319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0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3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5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6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88569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78856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788569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2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e1dfc1"/>
          </a:solidFill>
          <a:ln w="69840">
            <a:solidFill>
              <a:srgbClr val="a5a7a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25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3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4" name="Out_ver"/>
          <p:cNvSpPr/>
          <p:nvPr/>
        </p:nvSpPr>
        <p:spPr>
          <a:xfrm>
            <a:off x="5075280" y="3102120"/>
            <a:ext cx="863640" cy="50292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5" name="Out_proc"/>
          <p:cNvSpPr/>
          <p:nvPr/>
        </p:nvSpPr>
        <p:spPr>
          <a:xfrm>
            <a:off x="6046920" y="310500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6" name="Out_oc"/>
          <p:cNvSpPr/>
          <p:nvPr/>
        </p:nvSpPr>
        <p:spPr>
          <a:xfrm>
            <a:off x="7020000" y="3102120"/>
            <a:ext cx="1582560" cy="122364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Набранных балл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6964200" y="244620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0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1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2" name="Out_bal"/>
          <p:cNvSpPr/>
          <p:nvPr/>
        </p:nvSpPr>
        <p:spPr>
          <a:xfrm>
            <a:off x="5075280" y="381636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3" name="Out_prb"/>
          <p:cNvSpPr/>
          <p:nvPr/>
        </p:nvSpPr>
        <p:spPr>
          <a:xfrm>
            <a:off x="6046920" y="381960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В  конструкторе использована идея перемещения объектов в режиме просмотра демонстрации, предложенная Гансом Хофманом (Hans Werner Hofmann hw@lemitec.de)</dc:description>
  <dc:language>en-US</dc:language>
  <cp:lastModifiedBy>Admin</cp:lastModifiedBy>
  <dcterms:modified xsi:type="dcterms:W3CDTF">2012-08-07T11:43:43Z</dcterms:modified>
  <cp:revision>118</cp:revision>
  <dc:subject/>
  <dc:title>Шаблон для создания тестов</dc:title>
</cp:coreProperties>
</file>