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88569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726CB-75CC-42DD-B4C8-D89DB272B6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00D2F-A60F-4F3E-9E0C-F66B1DC9D27B}" type="slidenum">
              <a:rPr b="0" lang="ru-RU" sz="1200" spc="-1" strike="noStrike">
                <a:solidFill>
                  <a:srgbClr val="4a25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сия от 30.01.2012 г. Последнюю версию конструктора смотрите на сайте «Тестирование 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 PowerPoin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 http://www.rosinka.vrn.ru/pp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B657A-C0D2-4305-A6BA-21C8601221C4}" type="slidenum">
              <a:rPr b="0" lang="ru-RU" sz="1200" spc="-1" strike="noStrike">
                <a:solidFill>
                  <a:srgbClr val="4a25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61BF-CBFC-49DE-81F0-2B3FB37A6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4153-831F-4B1D-AFF3-2E450E456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319E-D3A2-4AB1-85C9-CFBBA8063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D9B1-DE98-43B9-87A3-B68D46D72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8BE1-F88A-4E82-9033-35154DBDD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B560-ABCD-49B0-AD70-3AC353AB7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D6A5-5A17-4EF4-9CC1-CF03E4B9F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611A-3A13-4EB5-9C09-1EF1846F1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BEB1-02A6-4219-BC6C-D1AB50D84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8B08-95BF-4828-ABB9-927BF911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20A7-2950-497A-B95E-75A7FC7F5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4130-7D09-4DE9-8855-D96D3799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c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c2c0ba"/>
                </a:gs>
                <a:gs pos="100000">
                  <a:srgbClr val="f4f4e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2c0ba"/>
                </a:gs>
                <a:gs pos="100000">
                  <a:srgbClr val="f4f4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c0ba"/>
                  </a:gs>
                  <a:gs pos="100000">
                    <a:srgbClr val="f4f4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4f4ec"/>
                  </a:gs>
                  <a:gs pos="100000">
                    <a:srgbClr val="c2c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4f4ec"/>
                  </a:gs>
                  <a:gs pos="100000">
                    <a:srgbClr val="c2c0b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7af"/>
                  </a:gs>
                  <a:gs pos="100000">
                    <a:srgbClr val="f4f4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4f4ec"/>
                  </a:gs>
                  <a:gs pos="100000">
                    <a:srgbClr val="a5a7a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7af"/>
                  </a:gs>
                  <a:gs pos="50000">
                    <a:srgbClr val="9c9800"/>
                  </a:gs>
                  <a:gs pos="100000">
                    <a:srgbClr val="a5a7a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4f4ec"/>
                  </a:gs>
                  <a:gs pos="100000">
                    <a:srgbClr val="a5a7a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7af"/>
                  </a:gs>
                  <a:gs pos="100000">
                    <a:srgbClr val="f4f4e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7af"/>
                  </a:gs>
                  <a:gs pos="50000">
                    <a:srgbClr val="9c9800"/>
                  </a:gs>
                  <a:gs pos="100000">
                    <a:srgbClr val="a5a7a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8856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a25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a25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a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a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a25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A4758-C17D-4E10-89E4-7058DBC7CAB8}" type="slidenum">
              <a:rPr b="0" lang="en-US" sz="1000" spc="-1" strike="noStrike">
                <a:solidFill>
                  <a:srgbClr val="4a25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c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anel"/>
          <p:cNvSpPr/>
          <p:nvPr/>
        </p:nvSpPr>
        <p:spPr>
          <a:xfrm>
            <a:off x="0" y="6235560"/>
            <a:ext cx="9144000" cy="621000"/>
          </a:xfrm>
          <a:prstGeom prst="rect">
            <a:avLst/>
          </a:prstGeom>
          <a:gradFill rotWithShape="0">
            <a:gsLst>
              <a:gs pos="0">
                <a:srgbClr val="c2c0ba"/>
              </a:gs>
              <a:gs pos="50000">
                <a:srgbClr val="e1dfc1"/>
              </a:gs>
              <a:gs pos="100000">
                <a:srgbClr val="c2c0ba"/>
              </a:gs>
            </a:gsLst>
            <a:lin ang="5400000"/>
          </a:gradFill>
          <a:ln w="9360">
            <a:solidFill>
              <a:srgbClr val="4a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2" name="Out_Zd"/>
          <p:cNvSpPr/>
          <p:nvPr/>
        </p:nvSpPr>
        <p:spPr>
          <a:xfrm>
            <a:off x="1835280" y="6384960"/>
            <a:ext cx="503280" cy="323640"/>
          </a:xfrm>
          <a:prstGeom prst="rect">
            <a:avLst/>
          </a:prstGeom>
          <a:solidFill>
            <a:srgbClr val="c2c0ba"/>
          </a:solidFill>
          <a:ln w="38160">
            <a:solidFill>
              <a:srgbClr val="e1df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c98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3" name="Out_Tim"/>
          <p:cNvSpPr/>
          <p:nvPr/>
        </p:nvSpPr>
        <p:spPr>
          <a:xfrm>
            <a:off x="8053560" y="6384960"/>
            <a:ext cx="502920" cy="323640"/>
          </a:xfrm>
          <a:prstGeom prst="rect">
            <a:avLst/>
          </a:prstGeom>
          <a:solidFill>
            <a:srgbClr val="c2c0ba"/>
          </a:solidFill>
          <a:ln w="38160">
            <a:solidFill>
              <a:srgbClr val="e1df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c98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4" name="Tx_Zd"/>
          <p:cNvSpPr/>
          <p:nvPr/>
        </p:nvSpPr>
        <p:spPr>
          <a:xfrm>
            <a:off x="539640" y="6440400"/>
            <a:ext cx="1224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88569"/>
                </a:solidFill>
                <a:latin typeface="Arial"/>
              </a:rPr>
              <a:t>Всего заданий</a:t>
            </a:r>
            <a:endParaRPr b="0" lang="en-US" sz="1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5" name="Tx_Tim"/>
          <p:cNvSpPr/>
          <p:nvPr/>
        </p:nvSpPr>
        <p:spPr>
          <a:xfrm>
            <a:off x="6227640" y="6440400"/>
            <a:ext cx="172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88569"/>
                </a:solidFill>
                <a:latin typeface="Arial"/>
              </a:rPr>
              <a:t>Время тестирования</a:t>
            </a:r>
            <a:endParaRPr b="0" lang="en-US" sz="1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6" name="Tx_min"/>
          <p:cNvSpPr/>
          <p:nvPr/>
        </p:nvSpPr>
        <p:spPr>
          <a:xfrm>
            <a:off x="8629560" y="6440400"/>
            <a:ext cx="432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88569"/>
                </a:solidFill>
                <a:latin typeface="Arial"/>
              </a:rPr>
              <a:t>мин.</a:t>
            </a:r>
            <a:endParaRPr b="0" lang="en-US" sz="1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3300480" y="5156280"/>
            <a:ext cx="252072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2500"/>
                </a:solidFill>
                <a:latin typeface="Arial"/>
              </a:rPr>
              <a:t>Введите фамилию и имя</a:t>
            </a:r>
            <a:endParaRPr b="0" lang="en-US" sz="1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8" name="Rectangle 11"/>
          <p:cNvSpPr/>
          <p:nvPr/>
        </p:nvSpPr>
        <p:spPr>
          <a:xfrm>
            <a:off x="684360" y="17780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788569"/>
                </a:solidFill>
                <a:latin typeface="Arial"/>
              </a:rPr>
              <a:t>Тест</a:t>
            </a:r>
            <a:endParaRPr b="0" lang="en-US" sz="8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9" name="Rectangle 12"/>
          <p:cNvSpPr/>
          <p:nvPr/>
        </p:nvSpPr>
        <p:spPr>
          <a:xfrm>
            <a:off x="1363680" y="3208320"/>
            <a:ext cx="6400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2500"/>
                </a:solidFill>
                <a:latin typeface="Arial"/>
              </a:rPr>
              <a:t>по английскому языку,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2500"/>
                </a:solidFill>
                <a:latin typeface="Arial"/>
              </a:rPr>
              <a:t>по теме </a:t>
            </a:r>
            <a:r>
              <a:rPr b="0" lang="en-US" sz="3200" spc="-1" strike="noStrike">
                <a:solidFill>
                  <a:srgbClr val="4a2500"/>
                </a:solidFill>
                <a:latin typeface="Arial"/>
              </a:rPr>
              <a:t>Tag-questions.</a:t>
            </a:r>
            <a:r>
              <a:rPr b="0" lang="ru-RU" sz="3200" spc="-1" strike="noStrike">
                <a:solidFill>
                  <a:srgbClr val="4a25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grpSp>
        <p:nvGrpSpPr>
          <p:cNvPr id="70" name="Group 20"/>
          <p:cNvGrpSpPr/>
          <p:nvPr/>
        </p:nvGrpSpPr>
        <p:grpSpPr>
          <a:xfrm>
            <a:off x="226800" y="907560"/>
            <a:ext cx="463680" cy="370440"/>
            <a:chOff x="226800" y="907560"/>
            <a:chExt cx="463680" cy="370440"/>
          </a:xfrm>
        </p:grpSpPr>
        <p:grpSp>
          <p:nvGrpSpPr>
            <p:cNvPr id="71" name="Group 21"/>
            <p:cNvGrpSpPr/>
            <p:nvPr/>
          </p:nvGrpSpPr>
          <p:grpSpPr>
            <a:xfrm>
              <a:off x="228600" y="919080"/>
              <a:ext cx="461880" cy="357120"/>
              <a:chOff x="228600" y="919080"/>
              <a:chExt cx="461880" cy="357120"/>
            </a:xfrm>
          </p:grpSpPr>
          <p:sp>
            <p:nvSpPr>
              <p:cNvPr id="72" name="Freeform 22"/>
              <p:cNvSpPr/>
              <p:nvPr/>
            </p:nvSpPr>
            <p:spPr>
              <a:xfrm>
                <a:off x="228600" y="919080"/>
                <a:ext cx="461880" cy="357120"/>
              </a:xfrm>
              <a:custGeom>
                <a:avLst/>
                <a:gdLst>
                  <a:gd name="textAreaLeft" fmla="*/ 0 w 461880"/>
                  <a:gd name="textAreaRight" fmla="*/ 462240 w 461880"/>
                  <a:gd name="textAreaTop" fmla="*/ 0 h 357120"/>
                  <a:gd name="textAreaBottom" fmla="*/ 357480 h 357120"/>
                </a:gdLst>
                <a:ahLst/>
                <a:rect l="textAreaLeft" t="textAreaTop" r="textAreaRight" b="textAreaBottom"/>
                <a:pathLst>
                  <a:path w="3621" h="2813">
                    <a:moveTo>
                      <a:pt x="3612" y="2813"/>
                    </a:moveTo>
                    <a:cubicBezTo>
                      <a:pt x="1812" y="2811"/>
                      <a:pt x="12" y="2809"/>
                      <a:pt x="12" y="2809"/>
                    </a:cubicBezTo>
                    <a:cubicBezTo>
                      <a:pt x="12" y="2809"/>
                      <a:pt x="12" y="1404"/>
                      <a:pt x="12" y="0"/>
                    </a:cubicBezTo>
                    <a:cubicBezTo>
                      <a:pt x="0" y="1469"/>
                      <a:pt x="3621" y="1235"/>
                      <a:pt x="3612" y="2813"/>
                    </a:cubicBezTo>
                    <a:close/>
                  </a:path>
                </a:pathLst>
              </a:custGeom>
              <a:solidFill>
                <a:srgbClr val="66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73" name="Freeform 23"/>
              <p:cNvSpPr/>
              <p:nvPr/>
            </p:nvSpPr>
            <p:spPr>
              <a:xfrm>
                <a:off x="250920" y="995760"/>
                <a:ext cx="111600" cy="224640"/>
              </a:xfrm>
              <a:custGeom>
                <a:avLst/>
                <a:gdLst>
                  <a:gd name="textAreaLeft" fmla="*/ 0 w 111600"/>
                  <a:gd name="textAreaRight" fmla="*/ 111960 w 11160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876" h="1770">
                    <a:moveTo>
                      <a:pt x="0" y="0"/>
                    </a:moveTo>
                    <a:cubicBezTo>
                      <a:pt x="126" y="237"/>
                      <a:pt x="648" y="513"/>
                      <a:pt x="876" y="594"/>
                    </a:cubicBezTo>
                    <a:lnTo>
                      <a:pt x="538" y="1625"/>
                    </a:lnTo>
                    <a:cubicBezTo>
                      <a:pt x="258" y="1442"/>
                      <a:pt x="0" y="1635"/>
                      <a:pt x="0" y="177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2c0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74" name="Freeform 24"/>
              <p:cNvSpPr/>
              <p:nvPr/>
            </p:nvSpPr>
            <p:spPr>
              <a:xfrm>
                <a:off x="250920" y="1228680"/>
                <a:ext cx="36360" cy="2592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285" h="206">
                    <a:moveTo>
                      <a:pt x="0" y="0"/>
                    </a:moveTo>
                    <a:cubicBezTo>
                      <a:pt x="1" y="99"/>
                      <a:pt x="2" y="198"/>
                      <a:pt x="2" y="198"/>
                    </a:cubicBezTo>
                    <a:lnTo>
                      <a:pt x="285" y="206"/>
                    </a:lnTo>
                    <a:cubicBezTo>
                      <a:pt x="132" y="186"/>
                      <a:pt x="3" y="90"/>
                      <a:pt x="0" y="0"/>
                    </a:cubicBezTo>
                    <a:close/>
                  </a:path>
                </a:pathLst>
              </a:custGeom>
              <a:solidFill>
                <a:srgbClr val="c2c0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75" name="Freeform 25"/>
              <p:cNvSpPr/>
              <p:nvPr/>
            </p:nvSpPr>
            <p:spPr>
              <a:xfrm>
                <a:off x="302400" y="1078200"/>
                <a:ext cx="109800" cy="176400"/>
              </a:xfrm>
              <a:custGeom>
                <a:avLst/>
                <a:gdLst>
                  <a:gd name="textAreaLeft" fmla="*/ 0 w 109800"/>
                  <a:gd name="textAreaRight" fmla="*/ 110160 w 109800"/>
                  <a:gd name="textAreaTop" fmla="*/ 0 h 176400"/>
                  <a:gd name="textAreaBottom" fmla="*/ 176760 h 176400"/>
                </a:gdLst>
                <a:ahLst/>
                <a:rect l="textAreaLeft" t="textAreaTop" r="textAreaRight" b="textAreaBottom"/>
                <a:pathLst>
                  <a:path w="861" h="1391">
                    <a:moveTo>
                      <a:pt x="855" y="1382"/>
                    </a:moveTo>
                    <a:lnTo>
                      <a:pt x="861" y="96"/>
                    </a:lnTo>
                    <a:lnTo>
                      <a:pt x="609" y="0"/>
                    </a:lnTo>
                    <a:lnTo>
                      <a:pt x="228" y="1196"/>
                    </a:lnTo>
                    <a:cubicBezTo>
                      <a:pt x="228" y="1196"/>
                      <a:pt x="183" y="1349"/>
                      <a:pt x="0" y="1391"/>
                    </a:cubicBezTo>
                    <a:lnTo>
                      <a:pt x="855" y="1382"/>
                    </a:lnTo>
                    <a:close/>
                  </a:path>
                </a:pathLst>
              </a:custGeom>
              <a:solidFill>
                <a:srgbClr val="c2c0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76" name="Freeform 26"/>
              <p:cNvSpPr/>
              <p:nvPr/>
            </p:nvSpPr>
            <p:spPr>
              <a:xfrm>
                <a:off x="429480" y="1097640"/>
                <a:ext cx="56520" cy="15588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155880"/>
                  <a:gd name="textAreaBottom" fmla="*/ 156240 h 155880"/>
                </a:gdLst>
                <a:ahLst/>
                <a:rect l="textAreaLeft" t="textAreaTop" r="textAreaRight" b="textAreaBottom"/>
                <a:pathLst>
                  <a:path w="444" h="1229">
                    <a:moveTo>
                      <a:pt x="0" y="0"/>
                    </a:moveTo>
                    <a:lnTo>
                      <a:pt x="0" y="1229"/>
                    </a:lnTo>
                    <a:lnTo>
                      <a:pt x="444" y="1229"/>
                    </a:lnTo>
                    <a:lnTo>
                      <a:pt x="438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2c0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77" name="Freeform 27"/>
              <p:cNvSpPr/>
              <p:nvPr/>
            </p:nvSpPr>
            <p:spPr>
              <a:xfrm>
                <a:off x="504000" y="1123560"/>
                <a:ext cx="26280" cy="83520"/>
              </a:xfrm>
              <a:custGeom>
                <a:avLst/>
                <a:gdLst>
                  <a:gd name="textAreaLeft" fmla="*/ 0 w 26280"/>
                  <a:gd name="textAreaRight" fmla="*/ 26640 w 2628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207" h="659">
                    <a:moveTo>
                      <a:pt x="12" y="659"/>
                    </a:moveTo>
                    <a:lnTo>
                      <a:pt x="0" y="0"/>
                    </a:lnTo>
                    <a:lnTo>
                      <a:pt x="207" y="84"/>
                    </a:lnTo>
                    <a:lnTo>
                      <a:pt x="12" y="659"/>
                    </a:lnTo>
                    <a:close/>
                  </a:path>
                </a:pathLst>
              </a:custGeom>
              <a:solidFill>
                <a:srgbClr val="c2c0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78" name="Freeform 28"/>
              <p:cNvSpPr/>
              <p:nvPr/>
            </p:nvSpPr>
            <p:spPr>
              <a:xfrm>
                <a:off x="510120" y="1140840"/>
                <a:ext cx="173880" cy="112320"/>
              </a:xfrm>
              <a:custGeom>
                <a:avLst/>
                <a:gdLst>
                  <a:gd name="textAreaLeft" fmla="*/ 0 w 173880"/>
                  <a:gd name="textAreaRight" fmla="*/ 174240 w 173880"/>
                  <a:gd name="textAreaTop" fmla="*/ 0 h 112320"/>
                  <a:gd name="textAreaBottom" fmla="*/ 112680 h 112320"/>
                </a:gdLst>
                <a:ahLst/>
                <a:rect l="textAreaLeft" t="textAreaTop" r="textAreaRight" b="textAreaBottom"/>
                <a:pathLst>
                  <a:path w="1365" h="885">
                    <a:moveTo>
                      <a:pt x="294" y="0"/>
                    </a:moveTo>
                    <a:cubicBezTo>
                      <a:pt x="147" y="442"/>
                      <a:pt x="0" y="884"/>
                      <a:pt x="0" y="884"/>
                    </a:cubicBezTo>
                    <a:lnTo>
                      <a:pt x="1365" y="885"/>
                    </a:lnTo>
                    <a:cubicBezTo>
                      <a:pt x="1245" y="516"/>
                      <a:pt x="900" y="270"/>
                      <a:pt x="294" y="0"/>
                    </a:cubicBezTo>
                    <a:close/>
                  </a:path>
                </a:pathLst>
              </a:custGeom>
              <a:solidFill>
                <a:srgbClr val="c2c0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</p:grpSp>
        <p:grpSp>
          <p:nvGrpSpPr>
            <p:cNvPr id="79" name="Group 29"/>
            <p:cNvGrpSpPr/>
            <p:nvPr/>
          </p:nvGrpSpPr>
          <p:grpSpPr>
            <a:xfrm>
              <a:off x="226800" y="907560"/>
              <a:ext cx="461880" cy="357480"/>
              <a:chOff x="226800" y="907560"/>
              <a:chExt cx="461880" cy="357480"/>
            </a:xfrm>
          </p:grpSpPr>
          <p:sp>
            <p:nvSpPr>
              <p:cNvPr id="80" name="Freeform 30"/>
              <p:cNvSpPr/>
              <p:nvPr/>
            </p:nvSpPr>
            <p:spPr>
              <a:xfrm rot="10800000">
                <a:off x="226800" y="907560"/>
                <a:ext cx="461880" cy="357480"/>
              </a:xfrm>
              <a:custGeom>
                <a:avLst/>
                <a:gdLst>
                  <a:gd name="textAreaLeft" fmla="*/ 0 w 461880"/>
                  <a:gd name="textAreaRight" fmla="*/ 462240 w 461880"/>
                  <a:gd name="textAreaTop" fmla="*/ 0 h 357480"/>
                  <a:gd name="textAreaBottom" fmla="*/ 357840 h 357480"/>
                </a:gdLst>
                <a:ahLst/>
                <a:rect l="textAreaLeft" t="textAreaTop" r="textAreaRight" b="textAreaBottom"/>
                <a:pathLst>
                  <a:path w="3621" h="2813">
                    <a:moveTo>
                      <a:pt x="3612" y="2813"/>
                    </a:moveTo>
                    <a:cubicBezTo>
                      <a:pt x="1812" y="2811"/>
                      <a:pt x="12" y="2809"/>
                      <a:pt x="12" y="2809"/>
                    </a:cubicBezTo>
                    <a:cubicBezTo>
                      <a:pt x="12" y="2809"/>
                      <a:pt x="12" y="1404"/>
                      <a:pt x="12" y="0"/>
                    </a:cubicBezTo>
                    <a:cubicBezTo>
                      <a:pt x="0" y="1469"/>
                      <a:pt x="3621" y="1235"/>
                      <a:pt x="3612" y="2813"/>
                    </a:cubicBezTo>
                    <a:close/>
                  </a:path>
                </a:pathLst>
              </a:custGeom>
              <a:solidFill>
                <a:srgbClr val="c2c0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81" name="Freeform 31"/>
              <p:cNvSpPr/>
              <p:nvPr/>
            </p:nvSpPr>
            <p:spPr>
              <a:xfrm rot="10800000">
                <a:off x="554760" y="963360"/>
                <a:ext cx="111600" cy="225000"/>
              </a:xfrm>
              <a:custGeom>
                <a:avLst/>
                <a:gdLst>
                  <a:gd name="textAreaLeft" fmla="*/ 0 w 111600"/>
                  <a:gd name="textAreaRight" fmla="*/ 111960 w 111600"/>
                  <a:gd name="textAreaTop" fmla="*/ 0 h 225000"/>
                  <a:gd name="textAreaBottom" fmla="*/ 225360 h 225000"/>
                </a:gdLst>
                <a:ahLst/>
                <a:rect l="textAreaLeft" t="textAreaTop" r="textAreaRight" b="textAreaBottom"/>
                <a:pathLst>
                  <a:path w="876" h="1770">
                    <a:moveTo>
                      <a:pt x="0" y="0"/>
                    </a:moveTo>
                    <a:cubicBezTo>
                      <a:pt x="126" y="237"/>
                      <a:pt x="648" y="513"/>
                      <a:pt x="876" y="594"/>
                    </a:cubicBezTo>
                    <a:lnTo>
                      <a:pt x="538" y="1625"/>
                    </a:lnTo>
                    <a:cubicBezTo>
                      <a:pt x="258" y="1442"/>
                      <a:pt x="0" y="1635"/>
                      <a:pt x="0" y="177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82" name="Freeform 32"/>
              <p:cNvSpPr/>
              <p:nvPr/>
            </p:nvSpPr>
            <p:spPr>
              <a:xfrm rot="10800000">
                <a:off x="630000" y="929160"/>
                <a:ext cx="36360" cy="2592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285" h="206">
                    <a:moveTo>
                      <a:pt x="0" y="0"/>
                    </a:moveTo>
                    <a:cubicBezTo>
                      <a:pt x="1" y="99"/>
                      <a:pt x="2" y="198"/>
                      <a:pt x="2" y="198"/>
                    </a:cubicBezTo>
                    <a:lnTo>
                      <a:pt x="285" y="206"/>
                    </a:lnTo>
                    <a:cubicBezTo>
                      <a:pt x="132" y="186"/>
                      <a:pt x="3" y="90"/>
                      <a:pt x="0" y="0"/>
                    </a:cubicBezTo>
                    <a:close/>
                  </a:path>
                </a:pathLst>
              </a:custGeom>
              <a:solidFill>
                <a:srgbClr val="66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83" name="Freeform 33"/>
              <p:cNvSpPr/>
              <p:nvPr/>
            </p:nvSpPr>
            <p:spPr>
              <a:xfrm rot="10800000">
                <a:off x="505080" y="929160"/>
                <a:ext cx="109800" cy="176760"/>
              </a:xfrm>
              <a:custGeom>
                <a:avLst/>
                <a:gdLst>
                  <a:gd name="textAreaLeft" fmla="*/ 0 w 109800"/>
                  <a:gd name="textAreaRight" fmla="*/ 110160 w 109800"/>
                  <a:gd name="textAreaTop" fmla="*/ 0 h 176760"/>
                  <a:gd name="textAreaBottom" fmla="*/ 177120 h 176760"/>
                </a:gdLst>
                <a:ahLst/>
                <a:rect l="textAreaLeft" t="textAreaTop" r="textAreaRight" b="textAreaBottom"/>
                <a:pathLst>
                  <a:path w="861" h="1391">
                    <a:moveTo>
                      <a:pt x="855" y="1382"/>
                    </a:moveTo>
                    <a:lnTo>
                      <a:pt x="861" y="96"/>
                    </a:lnTo>
                    <a:lnTo>
                      <a:pt x="609" y="0"/>
                    </a:lnTo>
                    <a:lnTo>
                      <a:pt x="228" y="1196"/>
                    </a:lnTo>
                    <a:cubicBezTo>
                      <a:pt x="228" y="1196"/>
                      <a:pt x="183" y="1349"/>
                      <a:pt x="0" y="1391"/>
                    </a:cubicBezTo>
                    <a:lnTo>
                      <a:pt x="855" y="1382"/>
                    </a:lnTo>
                    <a:close/>
                  </a:path>
                </a:pathLst>
              </a:custGeom>
              <a:solidFill>
                <a:srgbClr val="66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84" name="Freeform 34"/>
              <p:cNvSpPr/>
              <p:nvPr/>
            </p:nvSpPr>
            <p:spPr>
              <a:xfrm rot="10800000">
                <a:off x="431280" y="930240"/>
                <a:ext cx="56520" cy="15624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156240"/>
                  <a:gd name="textAreaBottom" fmla="*/ 156600 h 156240"/>
                </a:gdLst>
                <a:ahLst/>
                <a:rect l="textAreaLeft" t="textAreaTop" r="textAreaRight" b="textAreaBottom"/>
                <a:pathLst>
                  <a:path w="444" h="1229">
                    <a:moveTo>
                      <a:pt x="0" y="0"/>
                    </a:moveTo>
                    <a:lnTo>
                      <a:pt x="0" y="1229"/>
                    </a:lnTo>
                    <a:lnTo>
                      <a:pt x="444" y="1229"/>
                    </a:lnTo>
                    <a:lnTo>
                      <a:pt x="438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85" name="Freeform 35"/>
              <p:cNvSpPr/>
              <p:nvPr/>
            </p:nvSpPr>
            <p:spPr>
              <a:xfrm rot="10800000">
                <a:off x="387000" y="977040"/>
                <a:ext cx="26280" cy="83520"/>
              </a:xfrm>
              <a:custGeom>
                <a:avLst/>
                <a:gdLst>
                  <a:gd name="textAreaLeft" fmla="*/ 0 w 26280"/>
                  <a:gd name="textAreaRight" fmla="*/ 26640 w 2628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207" h="659">
                    <a:moveTo>
                      <a:pt x="12" y="659"/>
                    </a:moveTo>
                    <a:lnTo>
                      <a:pt x="0" y="0"/>
                    </a:lnTo>
                    <a:lnTo>
                      <a:pt x="207" y="84"/>
                    </a:lnTo>
                    <a:lnTo>
                      <a:pt x="12" y="659"/>
                    </a:lnTo>
                    <a:close/>
                  </a:path>
                </a:pathLst>
              </a:custGeom>
              <a:solidFill>
                <a:srgbClr val="66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86" name="Freeform 36"/>
              <p:cNvSpPr/>
              <p:nvPr/>
            </p:nvSpPr>
            <p:spPr>
              <a:xfrm rot="10800000">
                <a:off x="233280" y="930600"/>
                <a:ext cx="173880" cy="112320"/>
              </a:xfrm>
              <a:custGeom>
                <a:avLst/>
                <a:gdLst>
                  <a:gd name="textAreaLeft" fmla="*/ 0 w 173880"/>
                  <a:gd name="textAreaRight" fmla="*/ 174240 w 173880"/>
                  <a:gd name="textAreaTop" fmla="*/ 0 h 112320"/>
                  <a:gd name="textAreaBottom" fmla="*/ 112680 h 112320"/>
                </a:gdLst>
                <a:ahLst/>
                <a:rect l="textAreaLeft" t="textAreaTop" r="textAreaRight" b="textAreaBottom"/>
                <a:pathLst>
                  <a:path w="1365" h="885">
                    <a:moveTo>
                      <a:pt x="294" y="0"/>
                    </a:moveTo>
                    <a:cubicBezTo>
                      <a:pt x="147" y="442"/>
                      <a:pt x="0" y="884"/>
                      <a:pt x="0" y="884"/>
                    </a:cubicBezTo>
                    <a:lnTo>
                      <a:pt x="1365" y="885"/>
                    </a:lnTo>
                    <a:cubicBezTo>
                      <a:pt x="1245" y="516"/>
                      <a:pt x="900" y="270"/>
                      <a:pt x="294" y="0"/>
                    </a:cubicBezTo>
                    <a:close/>
                  </a:path>
                </a:pathLst>
              </a:custGeom>
              <a:solidFill>
                <a:srgbClr val="66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</p:grpSp>
        <p:sp>
          <p:nvSpPr>
            <p:cNvPr id="87" name="Rectangle 37"/>
            <p:cNvSpPr/>
            <p:nvPr/>
          </p:nvSpPr>
          <p:spPr>
            <a:xfrm>
              <a:off x="230040" y="914400"/>
              <a:ext cx="457200" cy="363600"/>
            </a:xfrm>
            <a:prstGeom prst="rect">
              <a:avLst/>
            </a:prstGeom>
            <a:noFill/>
            <a:ln w="324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  <p:sp>
        <p:nvSpPr>
          <p:cNvPr id="88" name="Dalee"/>
          <p:cNvSpPr/>
          <p:nvPr/>
        </p:nvSpPr>
        <p:spPr>
          <a:xfrm>
            <a:off x="3492360" y="6377040"/>
            <a:ext cx="2159280" cy="338040"/>
          </a:xfrm>
          <a:custGeom>
            <a:avLst/>
            <a:gdLst>
              <a:gd name="textAreaLeft" fmla="*/ 21600 w 2159280"/>
              <a:gd name="textAreaRight" fmla="*/ 2137680 w 2159280"/>
              <a:gd name="textAreaTop" fmla="*/ 21600 h 338040"/>
              <a:gd name="textAreaBottom" fmla="*/ 316440 h 338040"/>
            </a:gdLst>
            <a:ahLst/>
            <a:rect l="textAreaLeft" t="textAreaTop" r="textAreaRight" b="textAreaBottom"/>
            <a:pathLst>
              <a:path w="137849" h="21600">
                <a:moveTo>
                  <a:pt x="0" y="0"/>
                </a:moveTo>
                <a:lnTo>
                  <a:pt x="137849" y="0"/>
                </a:lnTo>
                <a:lnTo>
                  <a:pt x="137849" y="21600"/>
                </a:lnTo>
                <a:lnTo>
                  <a:pt x="0" y="21600"/>
                </a:lnTo>
                <a:close/>
              </a:path>
              <a:path fill="lightenLess" w="137849" h="21600">
                <a:moveTo>
                  <a:pt x="0" y="0"/>
                </a:moveTo>
                <a:lnTo>
                  <a:pt x="137849" y="0"/>
                </a:lnTo>
                <a:lnTo>
                  <a:pt x="136449" y="1400"/>
                </a:lnTo>
                <a:lnTo>
                  <a:pt x="1400" y="1400"/>
                </a:lnTo>
                <a:close/>
              </a:path>
              <a:path fill="darken" w="137849" h="21600">
                <a:moveTo>
                  <a:pt x="137849" y="0"/>
                </a:moveTo>
                <a:lnTo>
                  <a:pt x="137849" y="21600"/>
                </a:lnTo>
                <a:lnTo>
                  <a:pt x="136449" y="20200"/>
                </a:lnTo>
                <a:lnTo>
                  <a:pt x="136449" y="1400"/>
                </a:lnTo>
                <a:close/>
              </a:path>
              <a:path fill="darkenLess" w="137849" h="21600">
                <a:moveTo>
                  <a:pt x="137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449" y="20200"/>
                </a:lnTo>
                <a:close/>
              </a:path>
              <a:path fill="lighten" w="137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1df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88569"/>
                </a:solidFill>
                <a:latin typeface="Arial"/>
                <a:ea typeface="Arial"/>
              </a:rPr>
              <a:t>Начать тестирование</a:t>
            </a:r>
            <a:endParaRPr b="0" lang="en-US" sz="14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c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anel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c2c0ba"/>
              </a:gs>
              <a:gs pos="50000">
                <a:srgbClr val="e1dfc1"/>
              </a:gs>
              <a:gs pos="100000">
                <a:srgbClr val="c2c0ba"/>
              </a:gs>
            </a:gsLst>
            <a:lin ang="5400000"/>
          </a:gradFill>
          <a:ln w="9360">
            <a:solidFill>
              <a:srgbClr val="4a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90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c2c0ba"/>
          </a:solidFill>
          <a:ln w="38160">
            <a:solidFill>
              <a:srgbClr val="e1df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c98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91" name="Out_Tim"/>
          <p:cNvSpPr/>
          <p:nvPr/>
        </p:nvSpPr>
        <p:spPr>
          <a:xfrm>
            <a:off x="8101080" y="6418440"/>
            <a:ext cx="647640" cy="258480"/>
          </a:xfrm>
          <a:prstGeom prst="rect">
            <a:avLst/>
          </a:prstGeom>
          <a:solidFill>
            <a:srgbClr val="c2c0ba"/>
          </a:solidFill>
          <a:ln w="38160">
            <a:solidFill>
              <a:srgbClr val="e1df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92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88569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93" name="Rectangle 47"/>
          <p:cNvSpPr/>
          <p:nvPr/>
        </p:nvSpPr>
        <p:spPr>
          <a:xfrm>
            <a:off x="1042920" y="274680"/>
            <a:ext cx="7643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569"/>
                </a:solidFill>
                <a:latin typeface="Arial"/>
              </a:rPr>
              <a:t>My sister works very much, … ?</a:t>
            </a:r>
            <a:endParaRPr b="0" lang="en-US" sz="40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94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25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4a2500"/>
                </a:solidFill>
                <a:latin typeface="Arial"/>
              </a:rPr>
              <a:t>, does she?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95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25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4a2500"/>
                </a:solidFill>
                <a:latin typeface="Arial"/>
              </a:rPr>
              <a:t>, don’t she?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96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25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4a2500"/>
                </a:solidFill>
                <a:latin typeface="Arial"/>
              </a:rPr>
              <a:t>, isn’t she?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97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25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4a2500"/>
                </a:solidFill>
                <a:latin typeface="Arial"/>
              </a:rPr>
              <a:t>, doesn’t my sister?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98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1df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88569"/>
                </a:solidFill>
                <a:latin typeface="Arial"/>
              </a:rPr>
              <a:t>Далее</a:t>
            </a:r>
            <a:endParaRPr b="0" lang="en-US" sz="1400" spc="-1" strike="noStrike">
              <a:solidFill>
                <a:srgbClr val="4a2500"/>
              </a:solidFill>
              <a:latin typeface="Tahoma"/>
            </a:endParaRPr>
          </a:p>
        </p:txBody>
      </p:sp>
      <p:grpSp>
        <p:nvGrpSpPr>
          <p:cNvPr id="99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100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01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02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e1d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  <p:sp>
        <p:nvSpPr>
          <p:cNvPr id="103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25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4a2500"/>
                </a:solidFill>
                <a:latin typeface="Arial"/>
              </a:rPr>
              <a:t>, doesn’t she?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04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05" name="Cena"/>
          <p:cNvSpPr/>
          <p:nvPr/>
        </p:nvSpPr>
        <p:spPr>
          <a:xfrm>
            <a:off x="1866960" y="6440400"/>
            <a:ext cx="433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88569"/>
                </a:solidFill>
                <a:latin typeface="Tahoma"/>
              </a:rPr>
              <a:t>1 бал.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  <p:grpSp>
        <p:nvGrpSpPr>
          <p:cNvPr id="106" name="KAN 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107" name="Fon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a25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08" name="Prkl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e1dfc1"/>
                </a:gs>
                <a:gs pos="100000">
                  <a:srgbClr val="3434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25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09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34342d"/>
                </a:gs>
                <a:gs pos="100000">
                  <a:srgbClr val="e1df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10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c2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11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9c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  <p:grpSp>
        <p:nvGrpSpPr>
          <p:cNvPr id="112" name="KAN 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113" name="Fon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a25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14" name="Prkl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e1dfc1"/>
                </a:gs>
                <a:gs pos="100000">
                  <a:srgbClr val="3434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25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15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34342d"/>
                </a:gs>
                <a:gs pos="100000">
                  <a:srgbClr val="e1df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16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c2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17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9c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  <p:grpSp>
        <p:nvGrpSpPr>
          <p:cNvPr id="118" name="KAN 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119" name="Fon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a25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20" name="Prkl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e1dfc1"/>
                </a:gs>
                <a:gs pos="100000">
                  <a:srgbClr val="3434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25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21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34342d"/>
                </a:gs>
                <a:gs pos="100000">
                  <a:srgbClr val="e1df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22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c2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23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9c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  <p:grpSp>
        <p:nvGrpSpPr>
          <p:cNvPr id="124" name="KAN 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125" name="Fon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a25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26" name="Prkl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e1dfc1"/>
                </a:gs>
                <a:gs pos="100000">
                  <a:srgbClr val="3434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25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27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34342d"/>
                </a:gs>
                <a:gs pos="100000">
                  <a:srgbClr val="e1df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28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c2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29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9c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  <p:grpSp>
        <p:nvGrpSpPr>
          <p:cNvPr id="130" name="KAN 5"/>
          <p:cNvGrpSpPr/>
          <p:nvPr/>
        </p:nvGrpSpPr>
        <p:grpSpPr>
          <a:xfrm>
            <a:off x="444600" y="4572000"/>
            <a:ext cx="647640" cy="395280"/>
            <a:chOff x="444600" y="4572000"/>
            <a:chExt cx="647640" cy="395280"/>
          </a:xfrm>
        </p:grpSpPr>
        <p:sp>
          <p:nvSpPr>
            <p:cNvPr id="131" name="Fon"/>
            <p:cNvSpPr/>
            <p:nvPr/>
          </p:nvSpPr>
          <p:spPr>
            <a:xfrm>
              <a:off x="444600" y="4572000"/>
              <a:ext cx="647640" cy="395280"/>
            </a:xfrm>
            <a:prstGeom prst="rect">
              <a:avLst/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a25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32" name="Prkl"/>
            <p:cNvSpPr/>
            <p:nvPr/>
          </p:nvSpPr>
          <p:spPr>
            <a:xfrm>
              <a:off x="463320" y="458964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e1dfc1"/>
                </a:gs>
                <a:gs pos="100000">
                  <a:srgbClr val="3434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25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33" name="Oval 9"/>
            <p:cNvSpPr/>
            <p:nvPr/>
          </p:nvSpPr>
          <p:spPr>
            <a:xfrm>
              <a:off x="500040" y="462600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34342d"/>
                </a:gs>
                <a:gs pos="100000">
                  <a:srgbClr val="e1df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34" name="Oval 10"/>
            <p:cNvSpPr/>
            <p:nvPr/>
          </p:nvSpPr>
          <p:spPr>
            <a:xfrm>
              <a:off x="536400" y="4660920"/>
              <a:ext cx="215640" cy="216000"/>
            </a:xfrm>
            <a:prstGeom prst="ellipse">
              <a:avLst/>
            </a:prstGeom>
            <a:solidFill>
              <a:srgbClr val="c2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35" name="Metka" hidden="1"/>
            <p:cNvSpPr/>
            <p:nvPr/>
          </p:nvSpPr>
          <p:spPr>
            <a:xfrm>
              <a:off x="571320" y="469764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9c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c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anel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c2c0ba"/>
              </a:gs>
              <a:gs pos="50000">
                <a:srgbClr val="e1dfc1"/>
              </a:gs>
              <a:gs pos="100000">
                <a:srgbClr val="c2c0ba"/>
              </a:gs>
            </a:gsLst>
            <a:lin ang="5400000"/>
          </a:gradFill>
          <a:ln w="9360">
            <a:solidFill>
              <a:srgbClr val="4a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37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c2c0ba"/>
          </a:solidFill>
          <a:ln w="38160">
            <a:solidFill>
              <a:srgbClr val="e1df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c98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38" name="Out_Tim"/>
          <p:cNvSpPr/>
          <p:nvPr/>
        </p:nvSpPr>
        <p:spPr>
          <a:xfrm>
            <a:off x="8101080" y="6418440"/>
            <a:ext cx="647640" cy="258480"/>
          </a:xfrm>
          <a:prstGeom prst="rect">
            <a:avLst/>
          </a:prstGeom>
          <a:solidFill>
            <a:srgbClr val="c2c0ba"/>
          </a:solidFill>
          <a:ln w="38160">
            <a:solidFill>
              <a:srgbClr val="e1df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39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88569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4a2500"/>
              </a:solidFill>
              <a:latin typeface="Tahoma"/>
            </a:endParaRPr>
          </a:p>
        </p:txBody>
      </p:sp>
      <p:grpSp>
        <p:nvGrpSpPr>
          <p:cNvPr id="140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141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42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43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e1d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  <p:sp>
        <p:nvSpPr>
          <p:cNvPr id="144" name="Rectangle 47"/>
          <p:cNvSpPr/>
          <p:nvPr/>
        </p:nvSpPr>
        <p:spPr>
          <a:xfrm>
            <a:off x="1042920" y="274680"/>
            <a:ext cx="7643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569"/>
                </a:solidFill>
                <a:latin typeface="Arial"/>
              </a:rPr>
              <a:t>Your friends live in London, … ?</a:t>
            </a:r>
            <a:endParaRPr b="0" lang="en-US" sz="40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45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25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4a2500"/>
                </a:solidFill>
                <a:latin typeface="Arial"/>
              </a:rPr>
              <a:t>, do they?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46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25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4a2500"/>
                </a:solidFill>
                <a:latin typeface="Arial"/>
              </a:rPr>
              <a:t>, aren’t your friends?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47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25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4a2500"/>
                </a:solidFill>
                <a:latin typeface="Arial"/>
              </a:rPr>
              <a:t>, don’t they?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48" name="Rectangle 51"/>
          <p:cNvSpPr/>
          <p:nvPr/>
        </p:nvSpPr>
        <p:spPr>
          <a:xfrm>
            <a:off x="1292400" y="391788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25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4a2500"/>
                </a:solidFill>
                <a:latin typeface="Arial"/>
              </a:rPr>
              <a:t>, doesn’t he?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49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25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4a2500"/>
                </a:solidFill>
                <a:latin typeface="Arial"/>
              </a:rPr>
              <a:t>, is he?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50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51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1df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88569"/>
                </a:solidFill>
                <a:latin typeface="Arial"/>
              </a:rPr>
              <a:t>Далее</a:t>
            </a:r>
            <a:endParaRPr b="0" lang="en-US" sz="1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52" name="Cena"/>
          <p:cNvSpPr/>
          <p:nvPr/>
        </p:nvSpPr>
        <p:spPr>
          <a:xfrm>
            <a:off x="1866960" y="6440400"/>
            <a:ext cx="433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88569"/>
                </a:solidFill>
                <a:latin typeface="Tahoma"/>
              </a:rPr>
              <a:t>1 бал.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  <p:grpSp>
        <p:nvGrpSpPr>
          <p:cNvPr id="153" name="KAN 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154" name="Fon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a25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55" name="Flag"/>
            <p:cNvSpPr/>
            <p:nvPr/>
          </p:nvSpPr>
          <p:spPr>
            <a:xfrm>
              <a:off x="463680" y="204948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e1dfc1"/>
                </a:gs>
                <a:gs pos="100000">
                  <a:srgbClr val="2f2e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25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56" name="Rectangle 15"/>
            <p:cNvSpPr/>
            <p:nvPr/>
          </p:nvSpPr>
          <p:spPr>
            <a:xfrm>
              <a:off x="500040" y="208584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92924"/>
                </a:gs>
                <a:gs pos="100000">
                  <a:srgbClr val="e1df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57" name="Rectangle 16"/>
            <p:cNvSpPr/>
            <p:nvPr/>
          </p:nvSpPr>
          <p:spPr>
            <a:xfrm>
              <a:off x="536760" y="2122560"/>
              <a:ext cx="215640" cy="215640"/>
            </a:xfrm>
            <a:prstGeom prst="rect">
              <a:avLst/>
            </a:prstGeom>
            <a:solidFill>
              <a:srgbClr val="c2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58" name="Metka" hidden="1"/>
            <p:cNvSpPr/>
            <p:nvPr/>
          </p:nvSpPr>
          <p:spPr>
            <a:xfrm>
              <a:off x="554040" y="213840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9c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  <p:grpSp>
        <p:nvGrpSpPr>
          <p:cNvPr id="159" name="KAN 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160" name="Fon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a25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61" name="Flag"/>
            <p:cNvSpPr/>
            <p:nvPr/>
          </p:nvSpPr>
          <p:spPr>
            <a:xfrm>
              <a:off x="463680" y="268452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e1dfc1"/>
                </a:gs>
                <a:gs pos="100000">
                  <a:srgbClr val="2f2e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25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62" name="Rectangle 15"/>
            <p:cNvSpPr/>
            <p:nvPr/>
          </p:nvSpPr>
          <p:spPr>
            <a:xfrm>
              <a:off x="500040" y="272088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92924"/>
                </a:gs>
                <a:gs pos="100000">
                  <a:srgbClr val="e1df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63" name="Rectangle 16"/>
            <p:cNvSpPr/>
            <p:nvPr/>
          </p:nvSpPr>
          <p:spPr>
            <a:xfrm>
              <a:off x="536760" y="2757600"/>
              <a:ext cx="215640" cy="215640"/>
            </a:xfrm>
            <a:prstGeom prst="rect">
              <a:avLst/>
            </a:prstGeom>
            <a:solidFill>
              <a:srgbClr val="c2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64" name="Metka" hidden="1"/>
            <p:cNvSpPr/>
            <p:nvPr/>
          </p:nvSpPr>
          <p:spPr>
            <a:xfrm>
              <a:off x="554040" y="277344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9c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  <p:grpSp>
        <p:nvGrpSpPr>
          <p:cNvPr id="165" name="KAN 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166" name="Fon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a25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67" name="Flag"/>
            <p:cNvSpPr/>
            <p:nvPr/>
          </p:nvSpPr>
          <p:spPr>
            <a:xfrm>
              <a:off x="463680" y="331956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e1dfc1"/>
                </a:gs>
                <a:gs pos="100000">
                  <a:srgbClr val="2f2e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25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68" name="Rectangle 15"/>
            <p:cNvSpPr/>
            <p:nvPr/>
          </p:nvSpPr>
          <p:spPr>
            <a:xfrm>
              <a:off x="500040" y="335592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92924"/>
                </a:gs>
                <a:gs pos="100000">
                  <a:srgbClr val="e1df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69" name="Rectangle 16"/>
            <p:cNvSpPr/>
            <p:nvPr/>
          </p:nvSpPr>
          <p:spPr>
            <a:xfrm>
              <a:off x="536760" y="3392640"/>
              <a:ext cx="215640" cy="215640"/>
            </a:xfrm>
            <a:prstGeom prst="rect">
              <a:avLst/>
            </a:prstGeom>
            <a:solidFill>
              <a:srgbClr val="c2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70" name="Metka" hidden="1"/>
            <p:cNvSpPr/>
            <p:nvPr/>
          </p:nvSpPr>
          <p:spPr>
            <a:xfrm>
              <a:off x="554040" y="340848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9c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  <p:grpSp>
        <p:nvGrpSpPr>
          <p:cNvPr id="171" name="KAN 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172" name="Fon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a25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73" name="Flag"/>
            <p:cNvSpPr/>
            <p:nvPr/>
          </p:nvSpPr>
          <p:spPr>
            <a:xfrm>
              <a:off x="463680" y="395460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e1dfc1"/>
                </a:gs>
                <a:gs pos="100000">
                  <a:srgbClr val="2f2e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25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74" name="Rectangle 15"/>
            <p:cNvSpPr/>
            <p:nvPr/>
          </p:nvSpPr>
          <p:spPr>
            <a:xfrm>
              <a:off x="500040" y="399096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92924"/>
                </a:gs>
                <a:gs pos="100000">
                  <a:srgbClr val="e1df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75" name="Rectangle 16"/>
            <p:cNvSpPr/>
            <p:nvPr/>
          </p:nvSpPr>
          <p:spPr>
            <a:xfrm>
              <a:off x="536760" y="4027680"/>
              <a:ext cx="215640" cy="215640"/>
            </a:xfrm>
            <a:prstGeom prst="rect">
              <a:avLst/>
            </a:prstGeom>
            <a:solidFill>
              <a:srgbClr val="c2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76" name="Metka" hidden="1"/>
            <p:cNvSpPr/>
            <p:nvPr/>
          </p:nvSpPr>
          <p:spPr>
            <a:xfrm>
              <a:off x="554040" y="404352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9c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  <p:grpSp>
        <p:nvGrpSpPr>
          <p:cNvPr id="177" name="KAN 5"/>
          <p:cNvGrpSpPr/>
          <p:nvPr/>
        </p:nvGrpSpPr>
        <p:grpSpPr>
          <a:xfrm>
            <a:off x="444600" y="4572000"/>
            <a:ext cx="647640" cy="395280"/>
            <a:chOff x="444600" y="4572000"/>
            <a:chExt cx="647640" cy="395280"/>
          </a:xfrm>
        </p:grpSpPr>
        <p:sp>
          <p:nvSpPr>
            <p:cNvPr id="178" name="Fon"/>
            <p:cNvSpPr/>
            <p:nvPr/>
          </p:nvSpPr>
          <p:spPr>
            <a:xfrm>
              <a:off x="444600" y="4572000"/>
              <a:ext cx="647640" cy="395280"/>
            </a:xfrm>
            <a:prstGeom prst="rect">
              <a:avLst/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a25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79" name="Flag"/>
            <p:cNvSpPr/>
            <p:nvPr/>
          </p:nvSpPr>
          <p:spPr>
            <a:xfrm>
              <a:off x="463680" y="458964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e1dfc1"/>
                </a:gs>
                <a:gs pos="100000">
                  <a:srgbClr val="2f2e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25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80" name="Rectangle 15"/>
            <p:cNvSpPr/>
            <p:nvPr/>
          </p:nvSpPr>
          <p:spPr>
            <a:xfrm>
              <a:off x="500040" y="462600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92924"/>
                </a:gs>
                <a:gs pos="100000">
                  <a:srgbClr val="e1df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81" name="Rectangle 16"/>
            <p:cNvSpPr/>
            <p:nvPr/>
          </p:nvSpPr>
          <p:spPr>
            <a:xfrm>
              <a:off x="536760" y="4662720"/>
              <a:ext cx="215640" cy="215640"/>
            </a:xfrm>
            <a:prstGeom prst="rect">
              <a:avLst/>
            </a:prstGeom>
            <a:solidFill>
              <a:srgbClr val="c2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82" name="Metka" hidden="1"/>
            <p:cNvSpPr/>
            <p:nvPr/>
          </p:nvSpPr>
          <p:spPr>
            <a:xfrm>
              <a:off x="554040" y="467856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9c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c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anel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c2c0ba"/>
              </a:gs>
              <a:gs pos="50000">
                <a:srgbClr val="e1dfc1"/>
              </a:gs>
              <a:gs pos="100000">
                <a:srgbClr val="c2c0ba"/>
              </a:gs>
            </a:gsLst>
            <a:lin ang="5400000"/>
          </a:gradFill>
          <a:ln w="9360">
            <a:solidFill>
              <a:srgbClr val="4a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84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c2c0ba"/>
          </a:solidFill>
          <a:ln w="38160">
            <a:solidFill>
              <a:srgbClr val="e1df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c98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85" name="Out_Tim"/>
          <p:cNvSpPr/>
          <p:nvPr/>
        </p:nvSpPr>
        <p:spPr>
          <a:xfrm>
            <a:off x="8101080" y="6418440"/>
            <a:ext cx="647640" cy="258480"/>
          </a:xfrm>
          <a:prstGeom prst="rect">
            <a:avLst/>
          </a:prstGeom>
          <a:solidFill>
            <a:srgbClr val="c2c0ba"/>
          </a:solidFill>
          <a:ln w="38160">
            <a:solidFill>
              <a:srgbClr val="e1df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86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88569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4a2500"/>
              </a:solidFill>
              <a:latin typeface="Tahoma"/>
            </a:endParaRPr>
          </a:p>
        </p:txBody>
      </p:sp>
      <p:grpSp>
        <p:nvGrpSpPr>
          <p:cNvPr id="187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188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89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90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e1d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  <p:sp>
        <p:nvSpPr>
          <p:cNvPr id="191" name="Rectangle 47"/>
          <p:cNvSpPr/>
          <p:nvPr/>
        </p:nvSpPr>
        <p:spPr>
          <a:xfrm>
            <a:off x="1042920" y="274680"/>
            <a:ext cx="7643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569"/>
                </a:solidFill>
                <a:latin typeface="Arial"/>
              </a:rPr>
              <a:t>We will discuss this question next week, … ?</a:t>
            </a:r>
            <a:endParaRPr b="0" lang="en-US" sz="40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92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25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4a2500"/>
                </a:solidFill>
                <a:latin typeface="Arial"/>
              </a:rPr>
              <a:t>, we will?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93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25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4a2500"/>
                </a:solidFill>
                <a:latin typeface="Arial"/>
              </a:rPr>
              <a:t>, won’t we?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94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25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4a2500"/>
                </a:solidFill>
                <a:latin typeface="Arial"/>
              </a:rPr>
              <a:t>, will we?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95" name="Rectangle 51"/>
          <p:cNvSpPr/>
          <p:nvPr/>
        </p:nvSpPr>
        <p:spPr>
          <a:xfrm>
            <a:off x="1292400" y="391788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25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4a2500"/>
                </a:solidFill>
                <a:latin typeface="Arial"/>
              </a:rPr>
              <a:t>, will it?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96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25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4a2500"/>
                </a:solidFill>
                <a:latin typeface="Arial"/>
              </a:rPr>
              <a:t>, will not we?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97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98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1df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88569"/>
                </a:solidFill>
                <a:latin typeface="Arial"/>
              </a:rPr>
              <a:t>Далее</a:t>
            </a:r>
            <a:endParaRPr b="0" lang="en-US" sz="1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99" name="Cena"/>
          <p:cNvSpPr/>
          <p:nvPr/>
        </p:nvSpPr>
        <p:spPr>
          <a:xfrm>
            <a:off x="1866960" y="6440400"/>
            <a:ext cx="433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88569"/>
                </a:solidFill>
                <a:latin typeface="Tahoma"/>
              </a:rPr>
              <a:t>1 бал.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  <p:grpSp>
        <p:nvGrpSpPr>
          <p:cNvPr id="200" name="KAN 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201" name="Fon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a25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02" name="Flag"/>
            <p:cNvSpPr/>
            <p:nvPr/>
          </p:nvSpPr>
          <p:spPr>
            <a:xfrm>
              <a:off x="463680" y="204948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e1dfc1"/>
                </a:gs>
                <a:gs pos="100000">
                  <a:srgbClr val="2f2e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25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03" name="Rectangle 15"/>
            <p:cNvSpPr/>
            <p:nvPr/>
          </p:nvSpPr>
          <p:spPr>
            <a:xfrm>
              <a:off x="500040" y="208584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92924"/>
                </a:gs>
                <a:gs pos="100000">
                  <a:srgbClr val="e1df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04" name="Rectangle 16"/>
            <p:cNvSpPr/>
            <p:nvPr/>
          </p:nvSpPr>
          <p:spPr>
            <a:xfrm>
              <a:off x="536760" y="2122560"/>
              <a:ext cx="215640" cy="215640"/>
            </a:xfrm>
            <a:prstGeom prst="rect">
              <a:avLst/>
            </a:prstGeom>
            <a:solidFill>
              <a:srgbClr val="c2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05" name="Metka" hidden="1"/>
            <p:cNvSpPr/>
            <p:nvPr/>
          </p:nvSpPr>
          <p:spPr>
            <a:xfrm>
              <a:off x="554040" y="213840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9c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  <p:grpSp>
        <p:nvGrpSpPr>
          <p:cNvPr id="206" name="KAN 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207" name="Fon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a25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08" name="Flag"/>
            <p:cNvSpPr/>
            <p:nvPr/>
          </p:nvSpPr>
          <p:spPr>
            <a:xfrm>
              <a:off x="463680" y="268452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e1dfc1"/>
                </a:gs>
                <a:gs pos="100000">
                  <a:srgbClr val="2f2e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25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09" name="Rectangle 15"/>
            <p:cNvSpPr/>
            <p:nvPr/>
          </p:nvSpPr>
          <p:spPr>
            <a:xfrm>
              <a:off x="500040" y="272088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92924"/>
                </a:gs>
                <a:gs pos="100000">
                  <a:srgbClr val="e1df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10" name="Rectangle 16"/>
            <p:cNvSpPr/>
            <p:nvPr/>
          </p:nvSpPr>
          <p:spPr>
            <a:xfrm>
              <a:off x="536760" y="2757600"/>
              <a:ext cx="215640" cy="215640"/>
            </a:xfrm>
            <a:prstGeom prst="rect">
              <a:avLst/>
            </a:prstGeom>
            <a:solidFill>
              <a:srgbClr val="c2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11" name="Metka" hidden="1"/>
            <p:cNvSpPr/>
            <p:nvPr/>
          </p:nvSpPr>
          <p:spPr>
            <a:xfrm>
              <a:off x="554040" y="277344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9c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  <p:grpSp>
        <p:nvGrpSpPr>
          <p:cNvPr id="212" name="KAN 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213" name="Fon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a25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14" name="Flag"/>
            <p:cNvSpPr/>
            <p:nvPr/>
          </p:nvSpPr>
          <p:spPr>
            <a:xfrm>
              <a:off x="463680" y="331956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e1dfc1"/>
                </a:gs>
                <a:gs pos="100000">
                  <a:srgbClr val="2f2e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25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15" name="Rectangle 15"/>
            <p:cNvSpPr/>
            <p:nvPr/>
          </p:nvSpPr>
          <p:spPr>
            <a:xfrm>
              <a:off x="500040" y="335592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92924"/>
                </a:gs>
                <a:gs pos="100000">
                  <a:srgbClr val="e1df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16" name="Rectangle 16"/>
            <p:cNvSpPr/>
            <p:nvPr/>
          </p:nvSpPr>
          <p:spPr>
            <a:xfrm>
              <a:off x="536760" y="3392640"/>
              <a:ext cx="215640" cy="215640"/>
            </a:xfrm>
            <a:prstGeom prst="rect">
              <a:avLst/>
            </a:prstGeom>
            <a:solidFill>
              <a:srgbClr val="c2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17" name="Metka" hidden="1"/>
            <p:cNvSpPr/>
            <p:nvPr/>
          </p:nvSpPr>
          <p:spPr>
            <a:xfrm>
              <a:off x="554040" y="340848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9c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  <p:grpSp>
        <p:nvGrpSpPr>
          <p:cNvPr id="218" name="KAN 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219" name="Fon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a25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20" name="Flag"/>
            <p:cNvSpPr/>
            <p:nvPr/>
          </p:nvSpPr>
          <p:spPr>
            <a:xfrm>
              <a:off x="463680" y="395460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e1dfc1"/>
                </a:gs>
                <a:gs pos="100000">
                  <a:srgbClr val="2f2e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25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21" name="Rectangle 15"/>
            <p:cNvSpPr/>
            <p:nvPr/>
          </p:nvSpPr>
          <p:spPr>
            <a:xfrm>
              <a:off x="500040" y="399096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92924"/>
                </a:gs>
                <a:gs pos="100000">
                  <a:srgbClr val="e1df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22" name="Rectangle 16"/>
            <p:cNvSpPr/>
            <p:nvPr/>
          </p:nvSpPr>
          <p:spPr>
            <a:xfrm>
              <a:off x="536760" y="4027680"/>
              <a:ext cx="215640" cy="215640"/>
            </a:xfrm>
            <a:prstGeom prst="rect">
              <a:avLst/>
            </a:prstGeom>
            <a:solidFill>
              <a:srgbClr val="c2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23" name="Metka" hidden="1"/>
            <p:cNvSpPr/>
            <p:nvPr/>
          </p:nvSpPr>
          <p:spPr>
            <a:xfrm>
              <a:off x="554040" y="404352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9c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  <p:grpSp>
        <p:nvGrpSpPr>
          <p:cNvPr id="224" name="KAN 5"/>
          <p:cNvGrpSpPr/>
          <p:nvPr/>
        </p:nvGrpSpPr>
        <p:grpSpPr>
          <a:xfrm>
            <a:off x="444600" y="4572000"/>
            <a:ext cx="647640" cy="395280"/>
            <a:chOff x="444600" y="4572000"/>
            <a:chExt cx="647640" cy="395280"/>
          </a:xfrm>
        </p:grpSpPr>
        <p:sp>
          <p:nvSpPr>
            <p:cNvPr id="225" name="Fon"/>
            <p:cNvSpPr/>
            <p:nvPr/>
          </p:nvSpPr>
          <p:spPr>
            <a:xfrm>
              <a:off x="444600" y="4572000"/>
              <a:ext cx="647640" cy="395280"/>
            </a:xfrm>
            <a:prstGeom prst="rect">
              <a:avLst/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a25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26" name="Flag"/>
            <p:cNvSpPr/>
            <p:nvPr/>
          </p:nvSpPr>
          <p:spPr>
            <a:xfrm>
              <a:off x="463680" y="458964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e1dfc1"/>
                </a:gs>
                <a:gs pos="100000">
                  <a:srgbClr val="2f2e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25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27" name="Rectangle 15"/>
            <p:cNvSpPr/>
            <p:nvPr/>
          </p:nvSpPr>
          <p:spPr>
            <a:xfrm>
              <a:off x="500040" y="462600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92924"/>
                </a:gs>
                <a:gs pos="100000">
                  <a:srgbClr val="e1df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28" name="Rectangle 16"/>
            <p:cNvSpPr/>
            <p:nvPr/>
          </p:nvSpPr>
          <p:spPr>
            <a:xfrm>
              <a:off x="536760" y="4662720"/>
              <a:ext cx="215640" cy="215640"/>
            </a:xfrm>
            <a:prstGeom prst="rect">
              <a:avLst/>
            </a:prstGeom>
            <a:solidFill>
              <a:srgbClr val="c2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29" name="Metka" hidden="1"/>
            <p:cNvSpPr/>
            <p:nvPr/>
          </p:nvSpPr>
          <p:spPr>
            <a:xfrm>
              <a:off x="554040" y="467856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9c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c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anel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c2c0ba"/>
              </a:gs>
              <a:gs pos="50000">
                <a:srgbClr val="e1dfc1"/>
              </a:gs>
              <a:gs pos="100000">
                <a:srgbClr val="c2c0ba"/>
              </a:gs>
            </a:gsLst>
            <a:lin ang="5400000"/>
          </a:gradFill>
          <a:ln w="9360">
            <a:solidFill>
              <a:srgbClr val="4a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31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c2c0ba"/>
          </a:solidFill>
          <a:ln w="38160">
            <a:solidFill>
              <a:srgbClr val="e1df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c98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32" name="Out_Tim"/>
          <p:cNvSpPr/>
          <p:nvPr/>
        </p:nvSpPr>
        <p:spPr>
          <a:xfrm>
            <a:off x="8101080" y="6418440"/>
            <a:ext cx="647640" cy="258480"/>
          </a:xfrm>
          <a:prstGeom prst="rect">
            <a:avLst/>
          </a:prstGeom>
          <a:solidFill>
            <a:srgbClr val="c2c0ba"/>
          </a:solidFill>
          <a:ln w="38160">
            <a:solidFill>
              <a:srgbClr val="e1df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33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88569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4a2500"/>
              </a:solidFill>
              <a:latin typeface="Tahoma"/>
            </a:endParaRPr>
          </a:p>
        </p:txBody>
      </p:sp>
      <p:grpSp>
        <p:nvGrpSpPr>
          <p:cNvPr id="234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235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36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37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e1d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  <p:sp>
        <p:nvSpPr>
          <p:cNvPr id="238" name="Rectangle 47"/>
          <p:cNvSpPr/>
          <p:nvPr/>
        </p:nvSpPr>
        <p:spPr>
          <a:xfrm>
            <a:off x="900000" y="260280"/>
            <a:ext cx="799308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569"/>
                </a:solidFill>
                <a:latin typeface="Arial"/>
              </a:rPr>
              <a:t>He read this article yesterday,… ?</a:t>
            </a:r>
            <a:endParaRPr b="0" lang="en-US" sz="40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39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25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4a2500"/>
                </a:solidFill>
                <a:latin typeface="Arial"/>
              </a:rPr>
              <a:t>, does he?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40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25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4a2500"/>
                </a:solidFill>
                <a:latin typeface="Arial"/>
              </a:rPr>
              <a:t>, read he?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41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25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4a2500"/>
                </a:solidFill>
                <a:latin typeface="Arial"/>
              </a:rPr>
              <a:t>, did he?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42" name="Rectangle 51"/>
          <p:cNvSpPr/>
          <p:nvPr/>
        </p:nvSpPr>
        <p:spPr>
          <a:xfrm>
            <a:off x="1292400" y="391788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25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4a2500"/>
                </a:solidFill>
                <a:latin typeface="Arial"/>
              </a:rPr>
              <a:t>, doesn’t he?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43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25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4a2500"/>
                </a:solidFill>
                <a:latin typeface="Arial"/>
              </a:rPr>
              <a:t>, didn’t he?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44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45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1df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88569"/>
                </a:solidFill>
                <a:latin typeface="Arial"/>
              </a:rPr>
              <a:t>Далее</a:t>
            </a:r>
            <a:endParaRPr b="0" lang="en-US" sz="1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46" name="Cena"/>
          <p:cNvSpPr/>
          <p:nvPr/>
        </p:nvSpPr>
        <p:spPr>
          <a:xfrm>
            <a:off x="1866960" y="6440400"/>
            <a:ext cx="433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88569"/>
                </a:solidFill>
                <a:latin typeface="Tahoma"/>
              </a:rPr>
              <a:t>1 бал.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  <p:grpSp>
        <p:nvGrpSpPr>
          <p:cNvPr id="247" name="KAN 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248" name="Fon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a25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49" name="Flag"/>
            <p:cNvSpPr/>
            <p:nvPr/>
          </p:nvSpPr>
          <p:spPr>
            <a:xfrm>
              <a:off x="463680" y="204948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e1dfc1"/>
                </a:gs>
                <a:gs pos="100000">
                  <a:srgbClr val="2f2e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25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50" name="Rectangle 15"/>
            <p:cNvSpPr/>
            <p:nvPr/>
          </p:nvSpPr>
          <p:spPr>
            <a:xfrm>
              <a:off x="500040" y="208584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92924"/>
                </a:gs>
                <a:gs pos="100000">
                  <a:srgbClr val="e1df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51" name="Rectangle 16"/>
            <p:cNvSpPr/>
            <p:nvPr/>
          </p:nvSpPr>
          <p:spPr>
            <a:xfrm>
              <a:off x="536760" y="2122560"/>
              <a:ext cx="215640" cy="215640"/>
            </a:xfrm>
            <a:prstGeom prst="rect">
              <a:avLst/>
            </a:prstGeom>
            <a:solidFill>
              <a:srgbClr val="c2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52" name="Metka" hidden="1"/>
            <p:cNvSpPr/>
            <p:nvPr/>
          </p:nvSpPr>
          <p:spPr>
            <a:xfrm>
              <a:off x="554040" y="213840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9c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  <p:grpSp>
        <p:nvGrpSpPr>
          <p:cNvPr id="253" name="KAN 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254" name="Fon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a25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55" name="Flag"/>
            <p:cNvSpPr/>
            <p:nvPr/>
          </p:nvSpPr>
          <p:spPr>
            <a:xfrm>
              <a:off x="463680" y="268452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e1dfc1"/>
                </a:gs>
                <a:gs pos="100000">
                  <a:srgbClr val="2f2e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25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56" name="Rectangle 15"/>
            <p:cNvSpPr/>
            <p:nvPr/>
          </p:nvSpPr>
          <p:spPr>
            <a:xfrm>
              <a:off x="500040" y="272088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92924"/>
                </a:gs>
                <a:gs pos="100000">
                  <a:srgbClr val="e1df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57" name="Rectangle 16"/>
            <p:cNvSpPr/>
            <p:nvPr/>
          </p:nvSpPr>
          <p:spPr>
            <a:xfrm>
              <a:off x="536760" y="2757600"/>
              <a:ext cx="215640" cy="215640"/>
            </a:xfrm>
            <a:prstGeom prst="rect">
              <a:avLst/>
            </a:prstGeom>
            <a:solidFill>
              <a:srgbClr val="c2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58" name="Metka" hidden="1"/>
            <p:cNvSpPr/>
            <p:nvPr/>
          </p:nvSpPr>
          <p:spPr>
            <a:xfrm>
              <a:off x="554040" y="277344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9c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  <p:grpSp>
        <p:nvGrpSpPr>
          <p:cNvPr id="259" name="KAN 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260" name="Fon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a25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61" name="Flag"/>
            <p:cNvSpPr/>
            <p:nvPr/>
          </p:nvSpPr>
          <p:spPr>
            <a:xfrm>
              <a:off x="463680" y="331956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e1dfc1"/>
                </a:gs>
                <a:gs pos="100000">
                  <a:srgbClr val="2f2e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25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62" name="Rectangle 15"/>
            <p:cNvSpPr/>
            <p:nvPr/>
          </p:nvSpPr>
          <p:spPr>
            <a:xfrm>
              <a:off x="500040" y="335592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92924"/>
                </a:gs>
                <a:gs pos="100000">
                  <a:srgbClr val="e1df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63" name="Rectangle 16"/>
            <p:cNvSpPr/>
            <p:nvPr/>
          </p:nvSpPr>
          <p:spPr>
            <a:xfrm>
              <a:off x="536760" y="3392640"/>
              <a:ext cx="215640" cy="215640"/>
            </a:xfrm>
            <a:prstGeom prst="rect">
              <a:avLst/>
            </a:prstGeom>
            <a:solidFill>
              <a:srgbClr val="c2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64" name="Metka" hidden="1"/>
            <p:cNvSpPr/>
            <p:nvPr/>
          </p:nvSpPr>
          <p:spPr>
            <a:xfrm>
              <a:off x="554040" y="340848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9c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  <p:grpSp>
        <p:nvGrpSpPr>
          <p:cNvPr id="265" name="KAN 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266" name="Fon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a25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67" name="Flag"/>
            <p:cNvSpPr/>
            <p:nvPr/>
          </p:nvSpPr>
          <p:spPr>
            <a:xfrm>
              <a:off x="463680" y="395460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e1dfc1"/>
                </a:gs>
                <a:gs pos="100000">
                  <a:srgbClr val="2f2e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25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68" name="Rectangle 15"/>
            <p:cNvSpPr/>
            <p:nvPr/>
          </p:nvSpPr>
          <p:spPr>
            <a:xfrm>
              <a:off x="500040" y="399096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92924"/>
                </a:gs>
                <a:gs pos="100000">
                  <a:srgbClr val="e1df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69" name="Rectangle 16"/>
            <p:cNvSpPr/>
            <p:nvPr/>
          </p:nvSpPr>
          <p:spPr>
            <a:xfrm>
              <a:off x="536760" y="4027680"/>
              <a:ext cx="215640" cy="215640"/>
            </a:xfrm>
            <a:prstGeom prst="rect">
              <a:avLst/>
            </a:prstGeom>
            <a:solidFill>
              <a:srgbClr val="c2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70" name="Metka" hidden="1"/>
            <p:cNvSpPr/>
            <p:nvPr/>
          </p:nvSpPr>
          <p:spPr>
            <a:xfrm>
              <a:off x="554040" y="404352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9c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  <p:grpSp>
        <p:nvGrpSpPr>
          <p:cNvPr id="271" name="KAN 5"/>
          <p:cNvGrpSpPr/>
          <p:nvPr/>
        </p:nvGrpSpPr>
        <p:grpSpPr>
          <a:xfrm>
            <a:off x="444600" y="4572000"/>
            <a:ext cx="647640" cy="395280"/>
            <a:chOff x="444600" y="4572000"/>
            <a:chExt cx="647640" cy="395280"/>
          </a:xfrm>
        </p:grpSpPr>
        <p:sp>
          <p:nvSpPr>
            <p:cNvPr id="272" name="Fon"/>
            <p:cNvSpPr/>
            <p:nvPr/>
          </p:nvSpPr>
          <p:spPr>
            <a:xfrm>
              <a:off x="444600" y="4572000"/>
              <a:ext cx="647640" cy="395280"/>
            </a:xfrm>
            <a:prstGeom prst="rect">
              <a:avLst/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a25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73" name="Flag"/>
            <p:cNvSpPr/>
            <p:nvPr/>
          </p:nvSpPr>
          <p:spPr>
            <a:xfrm>
              <a:off x="463680" y="458964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e1dfc1"/>
                </a:gs>
                <a:gs pos="100000">
                  <a:srgbClr val="2f2e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25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74" name="Rectangle 15"/>
            <p:cNvSpPr/>
            <p:nvPr/>
          </p:nvSpPr>
          <p:spPr>
            <a:xfrm>
              <a:off x="500040" y="462600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92924"/>
                </a:gs>
                <a:gs pos="100000">
                  <a:srgbClr val="e1df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75" name="Rectangle 16"/>
            <p:cNvSpPr/>
            <p:nvPr/>
          </p:nvSpPr>
          <p:spPr>
            <a:xfrm>
              <a:off x="536760" y="4662720"/>
              <a:ext cx="215640" cy="215640"/>
            </a:xfrm>
            <a:prstGeom prst="rect">
              <a:avLst/>
            </a:prstGeom>
            <a:solidFill>
              <a:srgbClr val="c2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76" name="Metka" hidden="1"/>
            <p:cNvSpPr/>
            <p:nvPr/>
          </p:nvSpPr>
          <p:spPr>
            <a:xfrm>
              <a:off x="554040" y="467856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9c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c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anel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c2c0ba"/>
              </a:gs>
              <a:gs pos="50000">
                <a:srgbClr val="e1dfc1"/>
              </a:gs>
              <a:gs pos="100000">
                <a:srgbClr val="c2c0ba"/>
              </a:gs>
            </a:gsLst>
            <a:lin ang="5400000"/>
          </a:gradFill>
          <a:ln w="9360">
            <a:solidFill>
              <a:srgbClr val="4a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78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c2c0ba"/>
          </a:solidFill>
          <a:ln w="38160">
            <a:solidFill>
              <a:srgbClr val="e1df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c98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79" name="Out_Tim"/>
          <p:cNvSpPr/>
          <p:nvPr/>
        </p:nvSpPr>
        <p:spPr>
          <a:xfrm>
            <a:off x="8101080" y="6418440"/>
            <a:ext cx="647640" cy="258480"/>
          </a:xfrm>
          <a:prstGeom prst="rect">
            <a:avLst/>
          </a:prstGeom>
          <a:solidFill>
            <a:srgbClr val="c2c0ba"/>
          </a:solidFill>
          <a:ln w="38160">
            <a:solidFill>
              <a:srgbClr val="e1df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80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88569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4a2500"/>
              </a:solidFill>
              <a:latin typeface="Tahoma"/>
            </a:endParaRPr>
          </a:p>
        </p:txBody>
      </p:sp>
      <p:grpSp>
        <p:nvGrpSpPr>
          <p:cNvPr id="281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282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83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84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e1d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  <p:sp>
        <p:nvSpPr>
          <p:cNvPr id="285" name="Rectangle 47"/>
          <p:cNvSpPr/>
          <p:nvPr/>
        </p:nvSpPr>
        <p:spPr>
          <a:xfrm>
            <a:off x="1042920" y="274680"/>
            <a:ext cx="7643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569"/>
                </a:solidFill>
                <a:latin typeface="Arial"/>
              </a:rPr>
              <a:t>She did not decorate her room yesterday, … ?</a:t>
            </a:r>
            <a:endParaRPr b="0" lang="en-US" sz="40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86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25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4a2500"/>
                </a:solidFill>
                <a:latin typeface="Arial"/>
              </a:rPr>
              <a:t>, did she?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87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25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4a2500"/>
                </a:solidFill>
                <a:latin typeface="Arial"/>
              </a:rPr>
              <a:t>, didn’t she?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88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25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4a2500"/>
                </a:solidFill>
                <a:latin typeface="Arial"/>
              </a:rPr>
              <a:t>, does she?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89" name="Rectangle 51"/>
          <p:cNvSpPr/>
          <p:nvPr/>
        </p:nvSpPr>
        <p:spPr>
          <a:xfrm>
            <a:off x="1292400" y="391788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25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4a2500"/>
                </a:solidFill>
                <a:latin typeface="Arial"/>
              </a:rPr>
              <a:t>, do she?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90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25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4a2500"/>
                </a:solidFill>
                <a:latin typeface="Arial"/>
              </a:rPr>
              <a:t>, she did?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91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92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1df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88569"/>
                </a:solidFill>
                <a:latin typeface="Arial"/>
              </a:rPr>
              <a:t>Итоги</a:t>
            </a:r>
            <a:endParaRPr b="0" lang="en-US" sz="1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93" name="Cena"/>
          <p:cNvSpPr/>
          <p:nvPr/>
        </p:nvSpPr>
        <p:spPr>
          <a:xfrm>
            <a:off x="1866960" y="6440400"/>
            <a:ext cx="433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88569"/>
                </a:solidFill>
                <a:latin typeface="Tahoma"/>
              </a:rPr>
              <a:t>1 бал.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  <p:grpSp>
        <p:nvGrpSpPr>
          <p:cNvPr id="294" name="KAN 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295" name="Fon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a25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96" name="Flag"/>
            <p:cNvSpPr/>
            <p:nvPr/>
          </p:nvSpPr>
          <p:spPr>
            <a:xfrm>
              <a:off x="463680" y="204948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e1dfc1"/>
                </a:gs>
                <a:gs pos="100000">
                  <a:srgbClr val="2f2e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25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97" name="Rectangle 15"/>
            <p:cNvSpPr/>
            <p:nvPr/>
          </p:nvSpPr>
          <p:spPr>
            <a:xfrm>
              <a:off x="500040" y="208584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92924"/>
                </a:gs>
                <a:gs pos="100000">
                  <a:srgbClr val="e1df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98" name="Rectangle 16"/>
            <p:cNvSpPr/>
            <p:nvPr/>
          </p:nvSpPr>
          <p:spPr>
            <a:xfrm>
              <a:off x="536760" y="2122560"/>
              <a:ext cx="215640" cy="215640"/>
            </a:xfrm>
            <a:prstGeom prst="rect">
              <a:avLst/>
            </a:prstGeom>
            <a:solidFill>
              <a:srgbClr val="c2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99" name="Metka" hidden="1"/>
            <p:cNvSpPr/>
            <p:nvPr/>
          </p:nvSpPr>
          <p:spPr>
            <a:xfrm>
              <a:off x="554040" y="213840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9c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  <p:grpSp>
        <p:nvGrpSpPr>
          <p:cNvPr id="300" name="KAN 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301" name="Fon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a25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302" name="Flag"/>
            <p:cNvSpPr/>
            <p:nvPr/>
          </p:nvSpPr>
          <p:spPr>
            <a:xfrm>
              <a:off x="463680" y="268452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e1dfc1"/>
                </a:gs>
                <a:gs pos="100000">
                  <a:srgbClr val="2f2e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25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303" name="Rectangle 15"/>
            <p:cNvSpPr/>
            <p:nvPr/>
          </p:nvSpPr>
          <p:spPr>
            <a:xfrm>
              <a:off x="500040" y="272088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92924"/>
                </a:gs>
                <a:gs pos="100000">
                  <a:srgbClr val="e1df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304" name="Rectangle 16"/>
            <p:cNvSpPr/>
            <p:nvPr/>
          </p:nvSpPr>
          <p:spPr>
            <a:xfrm>
              <a:off x="536760" y="2757600"/>
              <a:ext cx="215640" cy="215640"/>
            </a:xfrm>
            <a:prstGeom prst="rect">
              <a:avLst/>
            </a:prstGeom>
            <a:solidFill>
              <a:srgbClr val="c2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305" name="Metka" hidden="1"/>
            <p:cNvSpPr/>
            <p:nvPr/>
          </p:nvSpPr>
          <p:spPr>
            <a:xfrm>
              <a:off x="554040" y="277344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9c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  <p:grpSp>
        <p:nvGrpSpPr>
          <p:cNvPr id="306" name="KAN 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307" name="Fon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a25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308" name="Flag"/>
            <p:cNvSpPr/>
            <p:nvPr/>
          </p:nvSpPr>
          <p:spPr>
            <a:xfrm>
              <a:off x="463680" y="331956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e1dfc1"/>
                </a:gs>
                <a:gs pos="100000">
                  <a:srgbClr val="2f2e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25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309" name="Rectangle 15"/>
            <p:cNvSpPr/>
            <p:nvPr/>
          </p:nvSpPr>
          <p:spPr>
            <a:xfrm>
              <a:off x="500040" y="335592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92924"/>
                </a:gs>
                <a:gs pos="100000">
                  <a:srgbClr val="e1df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310" name="Rectangle 16"/>
            <p:cNvSpPr/>
            <p:nvPr/>
          </p:nvSpPr>
          <p:spPr>
            <a:xfrm>
              <a:off x="536760" y="3392640"/>
              <a:ext cx="215640" cy="215640"/>
            </a:xfrm>
            <a:prstGeom prst="rect">
              <a:avLst/>
            </a:prstGeom>
            <a:solidFill>
              <a:srgbClr val="c2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311" name="Metka" hidden="1"/>
            <p:cNvSpPr/>
            <p:nvPr/>
          </p:nvSpPr>
          <p:spPr>
            <a:xfrm>
              <a:off x="554040" y="340848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9c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  <p:grpSp>
        <p:nvGrpSpPr>
          <p:cNvPr id="312" name="KAN 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313" name="Fon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a25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314" name="Flag"/>
            <p:cNvSpPr/>
            <p:nvPr/>
          </p:nvSpPr>
          <p:spPr>
            <a:xfrm>
              <a:off x="463680" y="395460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e1dfc1"/>
                </a:gs>
                <a:gs pos="100000">
                  <a:srgbClr val="2f2e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25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315" name="Rectangle 15"/>
            <p:cNvSpPr/>
            <p:nvPr/>
          </p:nvSpPr>
          <p:spPr>
            <a:xfrm>
              <a:off x="500040" y="399096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92924"/>
                </a:gs>
                <a:gs pos="100000">
                  <a:srgbClr val="e1df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316" name="Rectangle 16"/>
            <p:cNvSpPr/>
            <p:nvPr/>
          </p:nvSpPr>
          <p:spPr>
            <a:xfrm>
              <a:off x="536760" y="4027680"/>
              <a:ext cx="215640" cy="215640"/>
            </a:xfrm>
            <a:prstGeom prst="rect">
              <a:avLst/>
            </a:prstGeom>
            <a:solidFill>
              <a:srgbClr val="c2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317" name="Metka" hidden="1"/>
            <p:cNvSpPr/>
            <p:nvPr/>
          </p:nvSpPr>
          <p:spPr>
            <a:xfrm>
              <a:off x="554040" y="404352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9c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  <p:grpSp>
        <p:nvGrpSpPr>
          <p:cNvPr id="318" name="KAN 5"/>
          <p:cNvGrpSpPr/>
          <p:nvPr/>
        </p:nvGrpSpPr>
        <p:grpSpPr>
          <a:xfrm>
            <a:off x="444600" y="4572000"/>
            <a:ext cx="647640" cy="395280"/>
            <a:chOff x="444600" y="4572000"/>
            <a:chExt cx="647640" cy="395280"/>
          </a:xfrm>
        </p:grpSpPr>
        <p:sp>
          <p:nvSpPr>
            <p:cNvPr id="319" name="Fon"/>
            <p:cNvSpPr/>
            <p:nvPr/>
          </p:nvSpPr>
          <p:spPr>
            <a:xfrm>
              <a:off x="444600" y="4572000"/>
              <a:ext cx="647640" cy="395280"/>
            </a:xfrm>
            <a:prstGeom prst="rect">
              <a:avLst/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a25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320" name="Flag"/>
            <p:cNvSpPr/>
            <p:nvPr/>
          </p:nvSpPr>
          <p:spPr>
            <a:xfrm>
              <a:off x="463680" y="458964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e1dfc1"/>
                </a:gs>
                <a:gs pos="100000">
                  <a:srgbClr val="2f2e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25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321" name="Rectangle 15"/>
            <p:cNvSpPr/>
            <p:nvPr/>
          </p:nvSpPr>
          <p:spPr>
            <a:xfrm>
              <a:off x="500040" y="462600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292924"/>
                </a:gs>
                <a:gs pos="100000">
                  <a:srgbClr val="e1df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322" name="Rectangle 16"/>
            <p:cNvSpPr/>
            <p:nvPr/>
          </p:nvSpPr>
          <p:spPr>
            <a:xfrm>
              <a:off x="536760" y="4662720"/>
              <a:ext cx="215640" cy="215640"/>
            </a:xfrm>
            <a:prstGeom prst="rect">
              <a:avLst/>
            </a:prstGeom>
            <a:solidFill>
              <a:srgbClr val="c2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323" name="Metka" hidden="1"/>
            <p:cNvSpPr/>
            <p:nvPr/>
          </p:nvSpPr>
          <p:spPr>
            <a:xfrm>
              <a:off x="554040" y="467856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9c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c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anel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c2c0ba"/>
              </a:gs>
              <a:gs pos="50000">
                <a:srgbClr val="e1dfc1"/>
              </a:gs>
              <a:gs pos="100000">
                <a:srgbClr val="c2c0ba"/>
              </a:gs>
            </a:gsLst>
            <a:lin ang="5400000"/>
          </a:gradFill>
          <a:ln w="9360">
            <a:solidFill>
              <a:srgbClr val="4a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25" name="Out_Zd"/>
          <p:cNvSpPr/>
          <p:nvPr/>
        </p:nvSpPr>
        <p:spPr>
          <a:xfrm>
            <a:off x="1835280" y="6384960"/>
            <a:ext cx="503280" cy="323640"/>
          </a:xfrm>
          <a:prstGeom prst="rect">
            <a:avLst/>
          </a:prstGeom>
          <a:solidFill>
            <a:srgbClr val="c2c0ba"/>
          </a:solidFill>
          <a:ln w="38160">
            <a:solidFill>
              <a:srgbClr val="e1df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26" name="Out_Tim"/>
          <p:cNvSpPr/>
          <p:nvPr/>
        </p:nvSpPr>
        <p:spPr>
          <a:xfrm>
            <a:off x="8101080" y="6418440"/>
            <a:ext cx="647640" cy="258480"/>
          </a:xfrm>
          <a:prstGeom prst="rect">
            <a:avLst/>
          </a:prstGeom>
          <a:solidFill>
            <a:srgbClr val="c2c0ba"/>
          </a:solidFill>
          <a:ln w="38160">
            <a:solidFill>
              <a:srgbClr val="e1df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27" name="Tx_Zd"/>
          <p:cNvSpPr/>
          <p:nvPr/>
        </p:nvSpPr>
        <p:spPr>
          <a:xfrm>
            <a:off x="539640" y="6440400"/>
            <a:ext cx="1224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88569"/>
                </a:solidFill>
                <a:latin typeface="Arial"/>
              </a:rPr>
              <a:t>Всего заданий</a:t>
            </a:r>
            <a:endParaRPr b="0" lang="en-US" sz="1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28" name="Tx_Tim"/>
          <p:cNvSpPr/>
          <p:nvPr/>
        </p:nvSpPr>
        <p:spPr>
          <a:xfrm>
            <a:off x="6307200" y="6440400"/>
            <a:ext cx="172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88569"/>
                </a:solidFill>
                <a:latin typeface="Arial"/>
              </a:rPr>
              <a:t>Затрачено времени</a:t>
            </a:r>
            <a:endParaRPr b="0" lang="en-US" sz="1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29" name="AutoShape 12">
            <a:hlinkClick r:id="" action="ppaction://hlinkshowjump?jump=firstslide"/>
          </p:cNvPr>
          <p:cNvSpPr/>
          <p:nvPr/>
        </p:nvSpPr>
        <p:spPr>
          <a:xfrm>
            <a:off x="3564000" y="6384960"/>
            <a:ext cx="863640" cy="323640"/>
          </a:xfrm>
          <a:custGeom>
            <a:avLst/>
            <a:gdLst>
              <a:gd name="textAreaLeft" fmla="*/ 20880 w 863640"/>
              <a:gd name="textAreaRight" fmla="*/ 842760 w 863640"/>
              <a:gd name="textAreaTop" fmla="*/ 20880 h 323640"/>
              <a:gd name="textAreaBottom" fmla="*/ 302760 h 323640"/>
            </a:gdLst>
            <a:ahLst/>
            <a:rect l="textAreaLeft" t="textAreaTop" r="textAreaRight" b="textAreaBottom"/>
            <a:pathLst>
              <a:path w="57600" h="21600">
                <a:moveTo>
                  <a:pt x="0" y="0"/>
                </a:moveTo>
                <a:lnTo>
                  <a:pt x="57600" y="0"/>
                </a:lnTo>
                <a:lnTo>
                  <a:pt x="57600" y="21600"/>
                </a:lnTo>
                <a:lnTo>
                  <a:pt x="0" y="21600"/>
                </a:lnTo>
                <a:close/>
              </a:path>
              <a:path fill="lightenLess" w="57600" h="21600">
                <a:moveTo>
                  <a:pt x="0" y="0"/>
                </a:moveTo>
                <a:lnTo>
                  <a:pt x="57600" y="0"/>
                </a:lnTo>
                <a:lnTo>
                  <a:pt x="56200" y="1400"/>
                </a:lnTo>
                <a:lnTo>
                  <a:pt x="1400" y="1400"/>
                </a:lnTo>
                <a:close/>
              </a:path>
              <a:path fill="darken" w="57600" h="21600">
                <a:moveTo>
                  <a:pt x="57600" y="0"/>
                </a:moveTo>
                <a:lnTo>
                  <a:pt x="57600" y="21600"/>
                </a:lnTo>
                <a:lnTo>
                  <a:pt x="56200" y="20200"/>
                </a:lnTo>
                <a:lnTo>
                  <a:pt x="56200" y="1400"/>
                </a:lnTo>
                <a:close/>
              </a:path>
              <a:path fill="darkenLess" w="57600" h="21600">
                <a:moveTo>
                  <a:pt x="57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00" y="20200"/>
                </a:lnTo>
                <a:close/>
              </a:path>
              <a:path fill="lighten" w="57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1df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88569"/>
                </a:solidFill>
                <a:latin typeface="Arial"/>
              </a:rPr>
              <a:t>Снова</a:t>
            </a:r>
            <a:endParaRPr b="0" lang="en-US" sz="1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30" name="AutoShape 13">
            <a:hlinkClick r:id="" action="ppaction://hlinkshowjump?jump=endshow"/>
          </p:cNvPr>
          <p:cNvSpPr/>
          <p:nvPr/>
        </p:nvSpPr>
        <p:spPr>
          <a:xfrm>
            <a:off x="4716360" y="6384960"/>
            <a:ext cx="863640" cy="323640"/>
          </a:xfrm>
          <a:custGeom>
            <a:avLst/>
            <a:gdLst>
              <a:gd name="textAreaLeft" fmla="*/ 20880 w 863640"/>
              <a:gd name="textAreaRight" fmla="*/ 842760 w 863640"/>
              <a:gd name="textAreaTop" fmla="*/ 20880 h 323640"/>
              <a:gd name="textAreaBottom" fmla="*/ 302760 h 323640"/>
            </a:gdLst>
            <a:ahLst/>
            <a:rect l="textAreaLeft" t="textAreaTop" r="textAreaRight" b="textAreaBottom"/>
            <a:pathLst>
              <a:path w="57600" h="21600">
                <a:moveTo>
                  <a:pt x="0" y="0"/>
                </a:moveTo>
                <a:lnTo>
                  <a:pt x="57600" y="0"/>
                </a:lnTo>
                <a:lnTo>
                  <a:pt x="57600" y="21600"/>
                </a:lnTo>
                <a:lnTo>
                  <a:pt x="0" y="21600"/>
                </a:lnTo>
                <a:close/>
              </a:path>
              <a:path fill="lightenLess" w="57600" h="21600">
                <a:moveTo>
                  <a:pt x="0" y="0"/>
                </a:moveTo>
                <a:lnTo>
                  <a:pt x="57600" y="0"/>
                </a:lnTo>
                <a:lnTo>
                  <a:pt x="56200" y="1400"/>
                </a:lnTo>
                <a:lnTo>
                  <a:pt x="1400" y="1400"/>
                </a:lnTo>
                <a:close/>
              </a:path>
              <a:path fill="darken" w="57600" h="21600">
                <a:moveTo>
                  <a:pt x="57600" y="0"/>
                </a:moveTo>
                <a:lnTo>
                  <a:pt x="57600" y="21600"/>
                </a:lnTo>
                <a:lnTo>
                  <a:pt x="56200" y="20200"/>
                </a:lnTo>
                <a:lnTo>
                  <a:pt x="56200" y="1400"/>
                </a:lnTo>
                <a:close/>
              </a:path>
              <a:path fill="darkenLess" w="57600" h="21600">
                <a:moveTo>
                  <a:pt x="57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00" y="20200"/>
                </a:lnTo>
                <a:close/>
              </a:path>
              <a:path fill="lighten" w="57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1df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88569"/>
                </a:solidFill>
                <a:latin typeface="Arial"/>
              </a:rPr>
              <a:t>Выход</a:t>
            </a:r>
            <a:endParaRPr b="0" lang="en-US" sz="1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31" name="Rectangle 17"/>
          <p:cNvSpPr/>
          <p:nvPr/>
        </p:nvSpPr>
        <p:spPr>
          <a:xfrm>
            <a:off x="68724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788569"/>
                </a:solidFill>
                <a:latin typeface="Arial"/>
              </a:rPr>
              <a:t>Результаты</a:t>
            </a:r>
            <a:br>
              <a:rPr sz="5400"/>
            </a:br>
            <a:r>
              <a:rPr b="1" lang="ru-RU" sz="5400" spc="-1" strike="noStrike">
                <a:solidFill>
                  <a:srgbClr val="788569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788569"/>
                </a:solidFill>
                <a:latin typeface="Arial"/>
              </a:rPr>
              <a:t>тестирования</a:t>
            </a:r>
            <a:endParaRPr b="0" lang="en-US" sz="40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32" name="Zhdi" hidden="1"/>
          <p:cNvSpPr/>
          <p:nvPr/>
        </p:nvSpPr>
        <p:spPr>
          <a:xfrm>
            <a:off x="2592360" y="1793880"/>
            <a:ext cx="3959280" cy="1143000"/>
          </a:xfrm>
          <a:prstGeom prst="roundRect">
            <a:avLst>
              <a:gd name="adj" fmla="val 16667"/>
            </a:avLst>
          </a:prstGeom>
          <a:solidFill>
            <a:srgbClr val="e1dfc1"/>
          </a:solidFill>
          <a:ln w="69840">
            <a:solidFill>
              <a:srgbClr val="a5a7a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a2500"/>
                </a:solidFill>
                <a:latin typeface="Tahoma"/>
              </a:rPr>
              <a:t>Подождите!</a:t>
            </a:r>
            <a:endParaRPr b="0" lang="en-US" sz="4000" spc="-1" strike="noStrike">
              <a:solidFill>
                <a:srgbClr val="4a25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a2500"/>
                </a:solidFill>
                <a:latin typeface="Tahoma"/>
              </a:rPr>
              <a:t>Идет обработка данных</a:t>
            </a: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33" name="Cena"/>
          <p:cNvSpPr/>
          <p:nvPr/>
        </p:nvSpPr>
        <p:spPr>
          <a:xfrm>
            <a:off x="2424240" y="6440400"/>
            <a:ext cx="5634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88569"/>
                </a:solidFill>
                <a:latin typeface="Tahoma"/>
              </a:rPr>
              <a:t> </a:t>
            </a:r>
            <a:r>
              <a:rPr b="0" lang="ru-RU" sz="1000" spc="-1" strike="noStrike">
                <a:solidFill>
                  <a:srgbClr val="788569"/>
                </a:solidFill>
                <a:latin typeface="Tahoma"/>
              </a:rPr>
              <a:t>бал.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34" name="Out_ver"/>
          <p:cNvSpPr/>
          <p:nvPr/>
        </p:nvSpPr>
        <p:spPr>
          <a:xfrm>
            <a:off x="5075280" y="3102120"/>
            <a:ext cx="863640" cy="502920"/>
          </a:xfrm>
          <a:prstGeom prst="rect">
            <a:avLst/>
          </a:prstGeom>
          <a:solidFill>
            <a:srgbClr val="c2c0ba"/>
          </a:solidFill>
          <a:ln w="9360">
            <a:solidFill>
              <a:srgbClr val="4a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35" name="Out_proc"/>
          <p:cNvSpPr/>
          <p:nvPr/>
        </p:nvSpPr>
        <p:spPr>
          <a:xfrm>
            <a:off x="6046920" y="3105000"/>
            <a:ext cx="863640" cy="503280"/>
          </a:xfrm>
          <a:prstGeom prst="rect">
            <a:avLst/>
          </a:prstGeom>
          <a:solidFill>
            <a:srgbClr val="c2c0ba"/>
          </a:solidFill>
          <a:ln w="9360">
            <a:solidFill>
              <a:srgbClr val="4a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36" name="Out_oc"/>
          <p:cNvSpPr/>
          <p:nvPr/>
        </p:nvSpPr>
        <p:spPr>
          <a:xfrm>
            <a:off x="7020000" y="3102120"/>
            <a:ext cx="1582560" cy="1223640"/>
          </a:xfrm>
          <a:prstGeom prst="rect">
            <a:avLst/>
          </a:prstGeom>
          <a:solidFill>
            <a:srgbClr val="c2c0ba"/>
          </a:solidFill>
          <a:ln w="9360">
            <a:solidFill>
              <a:srgbClr val="4a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37" name="Rectangle 14"/>
          <p:cNvSpPr/>
          <p:nvPr/>
        </p:nvSpPr>
        <p:spPr>
          <a:xfrm>
            <a:off x="789120" y="3052800"/>
            <a:ext cx="4208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Arial"/>
              </a:rPr>
              <a:t>Правильных ответов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38" name="Rectangle 15"/>
          <p:cNvSpPr/>
          <p:nvPr/>
        </p:nvSpPr>
        <p:spPr>
          <a:xfrm>
            <a:off x="789120" y="3773520"/>
            <a:ext cx="4208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Arial"/>
              </a:rPr>
              <a:t>Набранных баллов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39" name="Rectangle 16"/>
          <p:cNvSpPr/>
          <p:nvPr/>
        </p:nvSpPr>
        <p:spPr>
          <a:xfrm>
            <a:off x="6964200" y="2446200"/>
            <a:ext cx="1689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88569"/>
                </a:solidFill>
                <a:latin typeface="Arial"/>
              </a:rPr>
              <a:t>Оценка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40" name="Out_osh"/>
          <p:cNvSpPr/>
          <p:nvPr/>
        </p:nvSpPr>
        <p:spPr>
          <a:xfrm>
            <a:off x="2627280" y="4830840"/>
            <a:ext cx="5977080" cy="253800"/>
          </a:xfrm>
          <a:prstGeom prst="rect">
            <a:avLst/>
          </a:prstGeom>
          <a:noFill/>
          <a:ln w="9360">
            <a:solidFill>
              <a:srgbClr val="4a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41" name="T_osh"/>
          <p:cNvSpPr/>
          <p:nvPr/>
        </p:nvSpPr>
        <p:spPr>
          <a:xfrm>
            <a:off x="1330200" y="4678200"/>
            <a:ext cx="136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2500"/>
                </a:solidFill>
                <a:latin typeface="Arial"/>
              </a:rPr>
              <a:t>Ошибки в выборе ответов на задания: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42" name="Out_bal"/>
          <p:cNvSpPr/>
          <p:nvPr/>
        </p:nvSpPr>
        <p:spPr>
          <a:xfrm>
            <a:off x="5075280" y="3816360"/>
            <a:ext cx="863640" cy="503280"/>
          </a:xfrm>
          <a:prstGeom prst="rect">
            <a:avLst/>
          </a:prstGeom>
          <a:solidFill>
            <a:srgbClr val="c2c0ba"/>
          </a:solidFill>
          <a:ln w="9360">
            <a:solidFill>
              <a:srgbClr val="4a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43" name="Out_prb"/>
          <p:cNvSpPr/>
          <p:nvPr/>
        </p:nvSpPr>
        <p:spPr>
          <a:xfrm>
            <a:off x="6046920" y="3819600"/>
            <a:ext cx="863640" cy="503280"/>
          </a:xfrm>
          <a:prstGeom prst="rect">
            <a:avLst/>
          </a:prstGeom>
          <a:solidFill>
            <a:srgbClr val="c2c0ba"/>
          </a:solidFill>
          <a:ln w="9360">
            <a:solidFill>
              <a:srgbClr val="4a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10:01:00Z</dcterms:created>
  <dc:creator>Комаровский Анатолий Николаевич</dc:creator>
  <dc:description>В  конструкторе использована идея перемещения объектов в режиме просмотра демонстрации, предложенная Гансом Хофманом (Hans Werner Hofmann hw@lemitec.de)</dc:description>
  <dc:language>en-US</dc:language>
  <cp:lastModifiedBy>Admin</cp:lastModifiedBy>
  <dcterms:modified xsi:type="dcterms:W3CDTF">2012-08-07T11:43:43Z</dcterms:modified>
  <cp:revision>118</cp:revision>
  <dc:subject/>
  <dc:title>Шаблон для создания тестов</dc:title>
</cp:coreProperties>
</file>