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B19-8355-4091-860D-38AE046D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B88-D34B-407A-ADF5-7BF62F22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FA6-5841-4DAD-B4AF-1A464AEA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C06-946A-42C7-9E53-8A028D33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4CA5-81AC-4384-92DC-58611E45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044C-A50C-45F4-AEC5-2C5CAF74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CA0A-C0FE-41F5-A9AD-EEB13190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AECD-84EA-4188-A070-BEECAAC7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9949-8B52-442A-B801-3429D0A0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907E-CA37-4465-86B7-8D09ECED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78F0-8A82-4D7D-8568-BDB0ACA8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644-66C0-4554-8D5C-BFFEFBAA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5901-323F-4B42-9017-B869005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B973-32D9-48E5-973A-910F1688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8635-E88C-4132-AB73-082C5761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3DAD-6A65-4193-A3BF-52FCD473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7AE2-7A19-466A-A382-2E25E7A6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1C3-7FEE-4C5E-A2EB-1C30BD2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864-F39C-48D2-994F-0A19EF07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415-A962-4612-89D3-5E2A7F90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9A0-7F94-4036-8302-387F7A81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E8F-EE0D-4492-8312-3953BE44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270-8EE0-48C1-A5E0-9FFBCB6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EA0-EF3C-4591-BDC5-48DC598F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92D-0FAD-4300-A2EA-95ABBAB8A7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31CE-647D-449E-AA79-ADBA2D731C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43200" y="914400"/>
            <a:ext cx="601992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ahoma"/>
              </a:rPr>
              <a:t>Николай Теветкел пурнăçĕпе пултарулăхĕ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ahoma"/>
              </a:rPr>
              <a:t>(1937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Авторĕ: Димитриева А.Г., чăваш чĕлхипе литератури вĕрентекен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762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76520" y="304920"/>
            <a:ext cx="7086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пĕ акăлчан чĕлхине аван пĕлетĕп. Шекспир сонечĕсене Н.Петровский-Теветкел сонечĕсемпе танлаштарса пăхрăм. Икĕ авторне те оригиналсем урлă вуласа тĕпчерĕм теме юрать. У.Шекспир сонечĕсенчен пĕрре те кая мар Н. Петровский-Теветкел сонечĕсем. Хăшĕ-пĕри Шекспир сонечĕсенчен çӳлти пусăмра тăрать теме те май п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ван Вутл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олай Теветкел пултарулăхĕ пĕтĕм чăваш поэзийĕнче пуринчен те вăйлăрах палăрчĕ: вăл ытти поэтсен сăвви-юрринчен пач хăйне евĕрлĕ, пысăк талантлă, илемлĕ сăвă-баллада кĕвĕлерĕ. Унăн уçăмлă, янăравлă сасси вулакана тӳрех çавăрса илет, асра юлмалла кăтартса парать. Тăван поэзире палăрнă поэт кĕнекисем пурте питĕ актуаллă, çĕнĕ курăмлă, çивĕч туйăмл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ександр Артемье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ăваш халăх писател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1733400" cy="2381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704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.Теветкел çинчен статьясе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455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ртемьева, Н. Поэт, художник, тăлмач / Н. Артемьева // Хыпар. – 2000. – 1 çурл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Eлина, В. Теветкелĕн канлĕх çук / В. Eлина // Хресчен сасси. – 2004. – 30 ноябр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нет ĕмĕрĕ е Теветкел Микулай (Петровский) хăй сонечĕсен тĕнчи çинчен // Ялав. – 1997. – № 4–5. – С. 113–120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епанова, Н. Теветкел тени – хастар тени / Н. Степанова // Хресчен сасси. – 2005. – 19 июл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имаков, В. Таса шухăшсен ырă кĕввишĕн... / В. Тимаков //Хыпар. – 1997. – 5 ут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тмăл тăваттăра та ар! // Ар. – 2001. – 17 ут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Eфимов, Г. Ўсĕм çулĕн вĕçĕ ан пултăр... / Г. Eфимов // Тантăш. – 2002. – 11 утă (№ 28). – С. 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Эктел, В. Сонет вăрттăнлăхĕ тата вăл Николай Петровский–Теветкел пултарулăхĕнче // Эктел, В. П. Пĕчĕк тĕнче те аслă / В. П. Эктел. – Шупашкар, 2002. – С. 83–87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Эктел, В. Феникс : чун тĕпĕнче амаланан вучах // // Эктел, В. П. Пĕчĕк тĕнче те аслă / В. П. Эктел. – Шупашкар, 2002. – С. 87–97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Юмарт, Г. Тивлетлĕ кăмăл кĕввисем / Г. Юмарт // Хыпар. – 1999. – 1 юп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14240" y="214200"/>
            <a:ext cx="6429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иколай Теветкел çемй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90920" y="2017800"/>
            <a:ext cx="636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ăшăрĕ - Петровская (Кузьмина) Нелли Андреевна (1936-2001) – чăваш çыравçи, «Ахрăм», «Çил-тăманлă каç», «Хура ангел», «Чыс», «Шурă лили» кĕнекесен авторĕ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18828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иколай Теветкел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(Николай Александрович Петровски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937 çулхи утă уйăхĕн 11-мĕшĕнче Чăваш Республикин Йĕпреç районĕнчи Савка ялĕнче çуралн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лти шкулта, Сĕнтĕрвăрринчи профессипе техника шкулĕнче, Шупашкарти ӳнер училищинче пĕлӳ илнĕ. Мускавра А.М.Горький ячĕллĕ Литература институчĕ çумĕнчи аслă курсĕсене пĕтернĕ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ултарулăх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976 çултанпа СССР писателĕсен союзĕн членĕ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ртнĕ ĕмĕрти 60-мĕш çулсенче çырма пуçлан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вропа поэзийĕн классикĕсен — А.Рембо, В.Гюго, Р.Киплинг, А.Мицкевич тата ыттисен произведенийĕсене чăвашла куçарнă. Çавăн пекех вăл У.Шекспирăн пĕтĕм 154 сонетне чăваш вулаканĕсем патне çитернĕ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колай Теветкел çирĕме яхăн кĕнеке авторĕ. Унăн сăввисем Мускаври издательствăсемпе журналсенче те кун çути курн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унпа пĕрлех Н.Теветкел «Киремет» трагеди, «Хура сулă» роман авторĕ т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997 çулта ăна Чăваш Республикин искусствăсен тава тивĕçлĕ деятелĕ ятне пан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аллăрах кĕнекисе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455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Çамрăклăх сăввисем» (1964), «Çын чĕртнĕ çутăсем» (1966), «Шурă ката» (1974), «Хура сулă» (1978), «Сывлăмпи» (1982), «Асамлă хĕл» (1983), «Хĕвел кĕлти» (1987), «Марине вăййисем» (2009), «Пушă гильза» (2010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4417920"/>
            <a:ext cx="1533600" cy="2440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9880" y="4095720"/>
            <a:ext cx="190512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324480" y="4095720"/>
            <a:ext cx="1905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Хайлавĕсе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йхи сăвапĕ | Сăв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Ĕненӳ çитӳллĕ тӳсĕм терцинăсем | Куçар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Лирик тата кирĕк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итрĕ пирĕн май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урла | Сăвă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пан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Йĕтем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ăпачă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улталăкăн тăватă сăнĕ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лам сире, Йĕпреç вăрманĕсем!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ĕрлехи этюд | Сăвă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ура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Хура кĕркунне | Сăвă | 1957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лма-Ата пасарĕ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ĕнĕ пӳртре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урă Барс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ульям | Сăвă | 1984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ĕршыв | Сăвă | 1968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Эх, çамрăклăх сасси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ур хупă çын: сĕм-тĕттĕм тĕпсакайĕ... | Сăвă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ĕнче сăнне сăнатпăр пĕчĕкрен... | Сăвă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Ӳпкевĕм çук: хĕн курчĕ пирĕн ӳсĕм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ана чĕнен умри çулсем-йĕрсем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ыру сĕтелĕ хушшине ларсассăн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ухтанмăп сурчăк сирпĕтсе пĕрре те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7792920" y="-14619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304920"/>
            <a:ext cx="77724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Шур хут тăкакĕ кайĕ-ши усса?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Хăвăртлăхне чакармĕ пирĕн пуйăс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н биографи палăрмасть нимпе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ин çулçă сарнă вăрманта касс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Юхмасть шăнкăртатса, палка-палк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ĕр тытнă ĕç пымасть пулсан кал-кал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шкăнпа кашласа лармасассăн, пĕлетпĕр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Юрату-и? Вăл пур!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унçичĕ çултаччĕ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ăрман çинчен час-час эп асăнатăп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ăпка умне телейлĕн ӳпĕнетĕп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Ăс-кăмăлпа тирпейлĕ те йĕркеллĕ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рт тĕпеле!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ма тухать тăп-тăрă тарăн авăр | Сăвă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уху пухса шăпланчĕ учреждени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лас тени — ăшра капланнă туйăм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нмастăп темшĕн вăрманти ял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ăвап сана, серте-пултранлă çĕр!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зъезд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йри йĕтем çинче çапатчĕç авăн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Чыса Карачăм салтакпа виçетĕп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Çĕр-шыв типсен, ака-суха тум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ăван тавралăх умĕнче эпир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Хитре иккен колхоз утарĕсем!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эзишĕн тип йĕркесем кичем-тĕр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Хавхалану сӳнсен, çыракан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77b5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5229360"/>
            <a:ext cx="1523880" cy="1371600"/>
          </a:xfrm>
          <a:custGeom>
            <a:avLst/>
            <a:gdLst>
              <a:gd name="textAreaLeft" fmla="*/ 627840 w 1523880"/>
              <a:gd name="textAreaRight" fmla="*/ 896040 w 15238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2997360"/>
            <a:ext cx="935280" cy="939600"/>
          </a:xfrm>
          <a:custGeom>
            <a:avLst/>
            <a:gdLst>
              <a:gd name="textAreaLeft" fmla="*/ 385200 w 935280"/>
              <a:gd name="textAreaRight" fmla="*/ 550080 w 935280"/>
              <a:gd name="textAreaTop" fmla="*/ 387000 h 939600"/>
              <a:gd name="textAreaBottom" fmla="*/ 552600 h 939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54240" y="1755360"/>
            <a:ext cx="6261840" cy="4565880"/>
            <a:chOff x="1254240" y="1755360"/>
            <a:chExt cx="6261840" cy="4565880"/>
          </a:xfrm>
        </p:grpSpPr>
        <p:sp>
          <p:nvSpPr>
            <p:cNvPr id="120" name="_s15392"/>
            <p:cNvSpPr/>
            <p:nvPr/>
          </p:nvSpPr>
          <p:spPr>
            <a:xfrm flipV="1">
              <a:off x="4385880" y="2895120"/>
              <a:ext cx="0" cy="5742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391"/>
            <p:cNvSpPr/>
            <p:nvPr/>
          </p:nvSpPr>
          <p:spPr>
            <a:xfrm>
              <a:off x="3604680" y="1755360"/>
              <a:ext cx="1562040" cy="1140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</a:rPr>
                <a:t>Сонетис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368"/>
            <p:cNvSpPr/>
            <p:nvPr/>
          </p:nvSpPr>
          <p:spPr>
            <a:xfrm flipV="1">
              <a:off x="4936320" y="3229560"/>
              <a:ext cx="554760" cy="4050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369"/>
            <p:cNvSpPr/>
            <p:nvPr/>
          </p:nvSpPr>
          <p:spPr>
            <a:xfrm>
              <a:off x="5265000" y="2253960"/>
              <a:ext cx="1562040" cy="1140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f01"/>
                  </a:solidFill>
                  <a:latin typeface="Times New Roman"/>
                </a:rPr>
                <a:t>Поэт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5370"/>
            <p:cNvSpPr/>
            <p:nvPr/>
          </p:nvSpPr>
          <p:spPr>
            <a:xfrm>
              <a:off x="5167080" y="4036680"/>
              <a:ext cx="780840" cy="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5371"/>
            <p:cNvSpPr/>
            <p:nvPr/>
          </p:nvSpPr>
          <p:spPr>
            <a:xfrm>
              <a:off x="5954040" y="3466440"/>
              <a:ext cx="1562040" cy="1140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82ce8"/>
                  </a:solidFill>
                  <a:latin typeface="Times New Roman Chuv"/>
                </a:rPr>
                <a:t>Проза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5372"/>
            <p:cNvSpPr/>
            <p:nvPr/>
          </p:nvSpPr>
          <p:spPr>
            <a:xfrm>
              <a:off x="4941000" y="4438080"/>
              <a:ext cx="550080" cy="4050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5373"/>
            <p:cNvSpPr/>
            <p:nvPr/>
          </p:nvSpPr>
          <p:spPr>
            <a:xfrm>
              <a:off x="5265000" y="4678200"/>
              <a:ext cx="1562040" cy="1140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Times New Roman"/>
                </a:rPr>
                <a:t>Драматур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5374"/>
            <p:cNvSpPr/>
            <p:nvPr/>
          </p:nvSpPr>
          <p:spPr>
            <a:xfrm>
              <a:off x="4385880" y="4606560"/>
              <a:ext cx="4320" cy="5709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5375"/>
            <p:cNvSpPr/>
            <p:nvPr/>
          </p:nvSpPr>
          <p:spPr>
            <a:xfrm>
              <a:off x="3604680" y="5181120"/>
              <a:ext cx="1562040" cy="1140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r>
                <a:rPr b="1" lang="en-US" sz="2500" spc="-1" strike="noStrike">
                  <a:solidFill>
                    <a:srgbClr val="ff0066"/>
                  </a:solidFill>
                  <a:latin typeface="Times New Roman"/>
                </a:rPr>
                <a:t>Критик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5376"/>
            <p:cNvSpPr/>
            <p:nvPr/>
          </p:nvSpPr>
          <p:spPr>
            <a:xfrm flipH="1">
              <a:off x="3280320" y="4441680"/>
              <a:ext cx="554760" cy="4014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5377"/>
            <p:cNvSpPr/>
            <p:nvPr/>
          </p:nvSpPr>
          <p:spPr>
            <a:xfrm>
              <a:off x="1943280" y="4678200"/>
              <a:ext cx="1563480" cy="1140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Публици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5378"/>
            <p:cNvSpPr/>
            <p:nvPr/>
          </p:nvSpPr>
          <p:spPr>
            <a:xfrm flipH="1">
              <a:off x="2822040" y="4036680"/>
              <a:ext cx="782280" cy="324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5379"/>
            <p:cNvSpPr/>
            <p:nvPr/>
          </p:nvSpPr>
          <p:spPr>
            <a:xfrm>
              <a:off x="1254240" y="3466440"/>
              <a:ext cx="1563480" cy="11401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уçаруç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5380"/>
            <p:cNvSpPr/>
            <p:nvPr/>
          </p:nvSpPr>
          <p:spPr>
            <a:xfrm flipH="1" flipV="1">
              <a:off x="3280680" y="3229560"/>
              <a:ext cx="550080" cy="4050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5381"/>
            <p:cNvSpPr/>
            <p:nvPr/>
          </p:nvSpPr>
          <p:spPr>
            <a:xfrm>
              <a:off x="1943280" y="2253960"/>
              <a:ext cx="1563480" cy="11408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Художн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5382"/>
            <p:cNvSpPr/>
            <p:nvPr/>
          </p:nvSpPr>
          <p:spPr>
            <a:xfrm>
              <a:off x="3604680" y="3470040"/>
              <a:ext cx="1562040" cy="11408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0"/>
            <a:stretch/>
          </p:blipFill>
          <p:spPr>
            <a:xfrm>
              <a:off x="3429720" y="2817360"/>
              <a:ext cx="1937520" cy="251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755640" y="2060640"/>
            <a:ext cx="1297080" cy="122724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05800 h 1227240"/>
              <a:gd name="textAreaBottom" fmla="*/ 721440 h 12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653000"/>
            <a:ext cx="1524240" cy="1803240"/>
          </a:xfrm>
          <a:custGeom>
            <a:avLst/>
            <a:gdLst>
              <a:gd name="textAreaLeft" fmla="*/ 627840 w 1524240"/>
              <a:gd name="textAreaRight" fmla="*/ 896400 w 1524240"/>
              <a:gd name="textAreaTop" fmla="*/ 743040 h 1803240"/>
              <a:gd name="textAreaBottom" fmla="*/ 1060200 h 180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5950080"/>
            <a:ext cx="1297080" cy="90792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374040 h 907920"/>
              <a:gd name="textAreaBottom" fmla="*/ 5338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1341360"/>
            <a:ext cx="1523880" cy="1803600"/>
          </a:xfrm>
          <a:custGeom>
            <a:avLst/>
            <a:gdLst>
              <a:gd name="textAreaLeft" fmla="*/ 627840 w 1523880"/>
              <a:gd name="textAreaRight" fmla="*/ 896040 w 1523880"/>
              <a:gd name="textAreaTop" fmla="*/ 743040 h 1803600"/>
              <a:gd name="textAreaBottom" fmla="*/ 1060560 h 180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997360"/>
            <a:ext cx="504720" cy="650880"/>
          </a:xfrm>
          <a:custGeom>
            <a:avLst/>
            <a:gdLst>
              <a:gd name="textAreaLeft" fmla="*/ 208080 w 504720"/>
              <a:gd name="textAreaRight" fmla="*/ 296640 w 504720"/>
              <a:gd name="textAreaTop" fmla="*/ 268200 h 650880"/>
              <a:gd name="textAreaBottom" fmla="*/ 382680 h 65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42920" y="189000"/>
            <a:ext cx="70581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00cc00">
                    <a:alpha val="88000"/>
                  </a:srgbClr>
                </a:solidFill>
                <a:latin typeface="Times New Roman"/>
              </a:rPr>
              <a:t>Николай Теветкелĕн тĕрлĕ енлĕ  таланчĕ</a:t>
            </a:r>
            <a:endParaRPr b="0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00cc00">
                  <a:alpha val="88000"/>
                </a:srgbClr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иколай Теветкел пултарулăхĕ çинче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колай Петровский-Теветкелĕн истори туйăмĕ питĕ вăйлă. Пурнăçа вăл ывăс пек тӳремлĕх çинче кăна курмасть — хальхи уншăн яланах иртнипе те, пулассипе те çыхăнн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Юрий Айдаш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15620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81080" y="228600"/>
            <a:ext cx="6934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ăваш поэзийĕнчи хăйĕн вырăнне Николай Теветкел аван пĕлет. Унта вăл хăйне Петраркăпа, Рембопа, Шекспирпа, Байронпа пĕр тан туять, çавăнпа унăн вĕсен чапне ăмсанма сăлтав ç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ихаил Ста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тĕр Хусанкай хыççăн сонета вăйлă аталантараканĕ, ăна чĕрĕ сывлăш, чăвашлăх, тĕрлĕ енлĕх, шухăш пуянлăхĕ хушаканĕ — Николай Петровский-Теветк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асилий Эк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олай Теветкелĕн интеллигент ăс-халĕ те, хресчен нуши те, юрату тунсăхĕ те, çутçанталăк илемĕ те — пĕр пĕтĕм юрату кĕв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олай Марты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1676520" cy="2157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684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04-14T16:53:0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