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973-6EE9-4320-AAB3-96C53E3A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C6E-BE6E-419D-8E4D-D5901683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98E-1EF8-46F2-BA6A-78737E28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6C1-D928-4FFE-8CF3-1353B1FA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88A0-B806-46AA-ACD4-1B395144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6157-9AE1-4940-9F4F-D196A084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42A2-A8B6-430B-955F-4722B0FA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7598-CB37-4BDA-A63E-87ECB5E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E45-A668-4A03-8527-FE53B9F5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5CEB-0ADB-4403-BDD5-46C9187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3468-05B8-40DB-A318-01297641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F60-8BA8-4EA4-A96D-41B1C061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9C5-35B4-4691-AAEB-6BFB9F34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B415-71BC-4DEC-9839-EFFDDE7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122C-9FF8-4CB9-9F9E-ACF7F4E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8121-D711-4683-ACC7-A9284E4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DDCD-6A4D-4ECE-8DC8-D1C87CCE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836-F732-47FD-A465-8AA37E9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583-1E6F-4A8F-8ECC-A8592A08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DBE-C770-4B17-A5BD-BF634AD2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C6A-1334-4277-BD48-600A518E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E5A-3E2A-4806-8572-DF0FCB2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C86-D96C-4B2E-AFE1-CEE7CAA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BC0-051D-4C1D-B364-C5B2B601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D5A1-3292-47EF-A1E5-964753167E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83A6-B2FF-4D7C-8E0D-DFEB630C4D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43200" y="914400"/>
            <a:ext cx="601992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ahoma"/>
              </a:rPr>
              <a:t>Николай Теветкел пурнăçĕпе пултарулăхĕ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ahoma"/>
              </a:rPr>
              <a:t>(1937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Авторĕ: Димитриева А.Г., чăваш чĕлхипе литератури вĕрентекен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762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76520" y="304920"/>
            <a:ext cx="7086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пĕ акăлчан чĕлхине аван пĕлетĕп. Шекспир сонечĕсене Н.Петровский-Теветкел сонечĕсемпе танлаштарса пăхрăм. Икĕ авторне те оригиналсем урлă вуласа тĕпчерĕм теме юрать. У.Шекспир сонечĕсенчен пĕрре те кая мар Н. Петровский-Теветкел сонечĕсем. Хăшĕ-пĕри Шекспир сонечĕсенчен çӳлти пусăмра тăрать теме те май п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ван Вут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олай Теветкел пултарулăхĕ пĕтĕм чăваш поэзийĕнче пуринчен те вăйлăрах палăрчĕ: вăл ытти поэтсен сăвви-юрринчен пач хăйне евĕрлĕ, пысăк талантлă, илемлĕ сăвă-баллада кĕвĕлерĕ. Унăн уçăмлă, янăравлă сасси вулакана тӳрех çавăрса илет, асра юлмалла кăтартса парать. Тăван поэзире палăрнă поэт кĕнекисем пурте питĕ актуаллă, çĕнĕ курăмлă, çивĕч туйăмл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ександр Артемье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ăваш халăх писател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1733400" cy="2381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704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.Теветкел çинчен статьяс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455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ртемьева, Н. Поэт, художник, тăлмач / Н. Артемьева // Хыпар. – 2000. – 1 çур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Eлина, В. Теветкелĕн канлĕх çук / В. Eлина // Хресчен сасси. – 2004. – 30 ноябр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нет ĕмĕрĕ е Теветкел Микулай (Петровский) хăй сонечĕсен тĕнчи çинчен // Ялав. – 1997. – № 4–5. – С. 113–120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тепанова, Н. Теветкел тени – хастар тени / Н. Степанова // Хресчен сасси. – 2005. – 19 июл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имаков, В. Таса шухăшсен ырă кĕввишĕн... / В. Тимаков //Хыпар. – 1997. – 5 ут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тмăл тăваттăра та ар! // Ар. – 2001. – 17 ут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Eфимов, Г. Ўсĕм çулĕн вĕçĕ ан пултăр... / Г. Eфимов // Тантăш. – 2002. – 11 утă (№ 28). – С. 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Эктел, В. Сонет вăрттăнлăхĕ тата вăл Николай Петровский–Теветкел пултарулăхĕнче // Эктел, В. П. Пĕчĕк тĕнче те аслă / В. П. Эктел. – Шупашкар, 2002. – С. 83–87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Эктел, В. Феникс : чун тĕпĕнче амаланан вучах // // Эктел, В. П. Пĕчĕк тĕнче те аслă / В. П. Эктел. – Шупашкар, 2002. – С. 87–97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Юмарт, Г. Тивлетлĕ кăмăл кĕввисем / Г. Юмарт // Хыпар. – 1999. – 1 юп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14240" y="214200"/>
            <a:ext cx="6429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иколай Теветкел çемй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90920" y="2017800"/>
            <a:ext cx="636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ăшăрĕ - Петровская (Кузьмина) Нелли Андреевна (1936-2001) – чăваш çыравçи, «Ахрăм», «Çил-тăманлă каç», «Хура ангел», «Чыс», «Шурă лили» кĕнекесен авторĕ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18828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иколай Теветкел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(Николай Александрович Петровски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937 çулхи утă уйăхĕн 11-мĕшĕнче Чăваш Республикин Йĕпреç районĕнчи Савка ялĕнче çуралн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лти шкулта, Сĕнтĕрвăрринчи профессипе техника шкулĕнче, Шупашкарти ӳнер училищинче пĕлӳ илнĕ. Мускавра А.М.Горький ячĕллĕ Литература институчĕ çумĕнчи аслă курсĕсене пĕтернĕ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ултарулăх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976 çултанпа СССР писателĕсен союзĕн членĕ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ртнĕ ĕмĕрти 60-мĕш çулсенче çырма пуçлан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вропа поэзийĕн классикĕсен — А.Рембо, В.Гюго, Р.Киплинг, А.Мицкевич тата ыттисен произведенийĕсене чăвашла куçарнă. Çавăн пекех вăл У.Шекспирăн пĕтĕм 154 сонетне чăваш вулаканĕсем патне çитернĕ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колай Теветкел çирĕме яхăн кĕнеке авторĕ. Унăн сăввисем Мускаври издательствăсемпе журналсенче те кун çути курн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унпа пĕрлех Н.Теветкел «Киремет» трагеди, «Хура сулă» роман авторĕ т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997 çулта ăна Чăваш Республикин искусствăсен тава тивĕçлĕ деятелĕ ятне пан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аллăрах кĕнекис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455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Çамрăклăх сăввисем» (1964), «Çын чĕртнĕ çутăсем» (1966), «Шурă ката» (1974), «Хура сулă» (1978), «Сывлăмпи» (1982), «Асамлă хĕл» (1983), «Хĕвел кĕлти» (1987), «Марине вăййисем» (2009), «Пушă гильза» (2010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4417920"/>
            <a:ext cx="1533600" cy="2440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9880" y="409572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24480" y="4095720"/>
            <a:ext cx="1905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Хайлавĕсе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йхи сăвапĕ | Сăв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Ĕненӳ çитӳллĕ тӳсĕм терцинăсем | Куçар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Лирик тата кирĕк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итрĕ пирĕн май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урла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пан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Йĕтем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ăпачă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улталăкăн тăватă сăнĕ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лам сире, Йĕпреç вăрманĕсем!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ĕрлехи этюд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ура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Хура кĕркунне | Сăвă | 1957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Алма-Ата пасарĕ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ĕнĕ пӳртре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урă Барс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ульям | Сăвă | 1984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ĕршыв | Сăвă | 1968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Эх, çамрăклăх сасси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ур хупă çын: сĕм-тĕттĕм тĕпсакайĕ...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ĕнче сăнне сăнатпăр пĕчĕкрен... | Сăвă 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Ӳпкевĕм çук: хĕн курчĕ пирĕн ӳсĕм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на чĕнен умри çулсем-йĕрсем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Çыру сĕтелĕ хушшине ларсассăн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ухтанмăп сурчăк сирпĕтсе пĕрре те... | Сăвă |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7792920" y="-14619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304920"/>
            <a:ext cx="77724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Шур хут тăкакĕ кайĕ-ши усса?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ăвăртлăхне чакармĕ пирĕн пуйăс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н биографи палăрмасть нимпе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ин çулçă сарнă вăрманта касс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Юхмасть шăнкăртатса, палка-палк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ĕр тытнă ĕç пымасть пулсан кал-кал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шкăнпа кашласа лармасассăн, пĕлетпĕр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Юрату-и? Вăл пур!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унçичĕ çултаччĕ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ăрман çинчен час-час эп асăнатăп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ăпка умне телейлĕн ӳпĕнетĕп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Ăс-кăмăлпа тирпейлĕ те йĕркеллĕ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рт тĕпеле!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ма тухать тăп-тăрă тарăн авăр | Сăвă 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уху пухса шăпланчĕ учреждени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лас тени — ăшра капланнă туйăм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нмастăп темшĕн вăрманти ял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ăвап сана, серте-пултранлă çĕр!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зъезд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Уйри йĕтем çинче çапатчĕç авăн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Чыса Карачăм салтакпа виçетĕп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Çĕр-шыв типсен, ака-суха тум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ăван тавралăх умĕнче эпир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итре иккен колхоз утарĕсем!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эзишĕн тип йĕркесем кичем-тĕр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Хавхалану сӳнсен, çыракана... | Сăвă |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77b5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5229360"/>
            <a:ext cx="1523880" cy="1371600"/>
          </a:xfrm>
          <a:custGeom>
            <a:avLst/>
            <a:gdLst>
              <a:gd name="textAreaLeft" fmla="*/ 627840 w 1523880"/>
              <a:gd name="textAreaRight" fmla="*/ 896040 w 15238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2997360"/>
            <a:ext cx="935280" cy="939600"/>
          </a:xfrm>
          <a:custGeom>
            <a:avLst/>
            <a:gdLst>
              <a:gd name="textAreaLeft" fmla="*/ 385200 w 935280"/>
              <a:gd name="textAreaRight" fmla="*/ 550080 w 935280"/>
              <a:gd name="textAreaTop" fmla="*/ 387000 h 939600"/>
              <a:gd name="textAreaBottom" fmla="*/ 552600 h 939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54240" y="1755360"/>
            <a:ext cx="6261840" cy="4565880"/>
            <a:chOff x="1254240" y="1755360"/>
            <a:chExt cx="6261840" cy="4565880"/>
          </a:xfrm>
        </p:grpSpPr>
        <p:sp>
          <p:nvSpPr>
            <p:cNvPr id="120" name="_s15392"/>
            <p:cNvSpPr/>
            <p:nvPr/>
          </p:nvSpPr>
          <p:spPr>
            <a:xfrm flipV="1">
              <a:off x="4385880" y="2895120"/>
              <a:ext cx="0" cy="5742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391"/>
            <p:cNvSpPr/>
            <p:nvPr/>
          </p:nvSpPr>
          <p:spPr>
            <a:xfrm>
              <a:off x="3604680" y="1755360"/>
              <a:ext cx="1562040" cy="1140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ahoma"/>
                </a:rPr>
                <a:t>Сонетис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368"/>
            <p:cNvSpPr/>
            <p:nvPr/>
          </p:nvSpPr>
          <p:spPr>
            <a:xfrm flipV="1">
              <a:off x="4936320" y="3229560"/>
              <a:ext cx="554760" cy="405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369"/>
            <p:cNvSpPr/>
            <p:nvPr/>
          </p:nvSpPr>
          <p:spPr>
            <a:xfrm>
              <a:off x="5265000" y="2253960"/>
              <a:ext cx="1562040" cy="1140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f01"/>
                  </a:solidFill>
                  <a:latin typeface="Times New Roman"/>
                </a:rPr>
                <a:t>Поэт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Lucida Sans Unicode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5370"/>
            <p:cNvSpPr/>
            <p:nvPr/>
          </p:nvSpPr>
          <p:spPr>
            <a:xfrm>
              <a:off x="5167080" y="4036680"/>
              <a:ext cx="780840" cy="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5371"/>
            <p:cNvSpPr/>
            <p:nvPr/>
          </p:nvSpPr>
          <p:spPr>
            <a:xfrm>
              <a:off x="5954040" y="3466440"/>
              <a:ext cx="1562040" cy="1140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82ce8"/>
                  </a:solidFill>
                  <a:latin typeface="Times New Roman Chuv"/>
                </a:rPr>
                <a:t>Проза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5372"/>
            <p:cNvSpPr/>
            <p:nvPr/>
          </p:nvSpPr>
          <p:spPr>
            <a:xfrm>
              <a:off x="4941000" y="4438080"/>
              <a:ext cx="550080" cy="405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5373"/>
            <p:cNvSpPr/>
            <p:nvPr/>
          </p:nvSpPr>
          <p:spPr>
            <a:xfrm>
              <a:off x="5265000" y="4678200"/>
              <a:ext cx="1562040" cy="1140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Times New Roman"/>
                </a:rPr>
                <a:t>Драматур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5374"/>
            <p:cNvSpPr/>
            <p:nvPr/>
          </p:nvSpPr>
          <p:spPr>
            <a:xfrm>
              <a:off x="4385880" y="4606560"/>
              <a:ext cx="4320" cy="5709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5375"/>
            <p:cNvSpPr/>
            <p:nvPr/>
          </p:nvSpPr>
          <p:spPr>
            <a:xfrm>
              <a:off x="3604680" y="5181120"/>
              <a:ext cx="1562040" cy="1140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r>
                <a:rPr b="1" lang="en-US" sz="2500" spc="-1" strike="noStrike">
                  <a:solidFill>
                    <a:srgbClr val="ff0066"/>
                  </a:solidFill>
                  <a:latin typeface="Times New Roman"/>
                </a:rPr>
                <a:t>Критик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376"/>
            <p:cNvSpPr/>
            <p:nvPr/>
          </p:nvSpPr>
          <p:spPr>
            <a:xfrm flipH="1">
              <a:off x="3280320" y="4441680"/>
              <a:ext cx="554760" cy="401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5377"/>
            <p:cNvSpPr/>
            <p:nvPr/>
          </p:nvSpPr>
          <p:spPr>
            <a:xfrm>
              <a:off x="1943280" y="4678200"/>
              <a:ext cx="1563480" cy="1140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Публиц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5378"/>
            <p:cNvSpPr/>
            <p:nvPr/>
          </p:nvSpPr>
          <p:spPr>
            <a:xfrm flipH="1">
              <a:off x="2822040" y="4036680"/>
              <a:ext cx="782280" cy="324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5379"/>
            <p:cNvSpPr/>
            <p:nvPr/>
          </p:nvSpPr>
          <p:spPr>
            <a:xfrm>
              <a:off x="1254240" y="3466440"/>
              <a:ext cx="1563480" cy="11401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уçаруç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5380"/>
            <p:cNvSpPr/>
            <p:nvPr/>
          </p:nvSpPr>
          <p:spPr>
            <a:xfrm flipH="1" flipV="1">
              <a:off x="3280680" y="3229560"/>
              <a:ext cx="550080" cy="405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5381"/>
            <p:cNvSpPr/>
            <p:nvPr/>
          </p:nvSpPr>
          <p:spPr>
            <a:xfrm>
              <a:off x="1943280" y="2253960"/>
              <a:ext cx="1563480" cy="11408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Художн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5382"/>
            <p:cNvSpPr/>
            <p:nvPr/>
          </p:nvSpPr>
          <p:spPr>
            <a:xfrm>
              <a:off x="3604680" y="3470040"/>
              <a:ext cx="1562040" cy="1140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9120" rIns="159120" tIns="79560" bIns="79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0"/>
            <a:stretch/>
          </p:blipFill>
          <p:spPr>
            <a:xfrm>
              <a:off x="3429720" y="2817360"/>
              <a:ext cx="1937520" cy="251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755640" y="2060640"/>
            <a:ext cx="1297080" cy="122724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05800 h 1227240"/>
              <a:gd name="textAreaBottom" fmla="*/ 721440 h 122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653000"/>
            <a:ext cx="1524240" cy="1803240"/>
          </a:xfrm>
          <a:custGeom>
            <a:avLst/>
            <a:gdLst>
              <a:gd name="textAreaLeft" fmla="*/ 627840 w 1524240"/>
              <a:gd name="textAreaRight" fmla="*/ 896400 w 1524240"/>
              <a:gd name="textAreaTop" fmla="*/ 743040 h 1803240"/>
              <a:gd name="textAreaBottom" fmla="*/ 1060200 h 180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5950080"/>
            <a:ext cx="1297080" cy="90792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374040 h 907920"/>
              <a:gd name="textAreaBottom" fmla="*/ 5338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1341360"/>
            <a:ext cx="1523880" cy="1803600"/>
          </a:xfrm>
          <a:custGeom>
            <a:avLst/>
            <a:gdLst>
              <a:gd name="textAreaLeft" fmla="*/ 627840 w 1523880"/>
              <a:gd name="textAreaRight" fmla="*/ 896040 w 1523880"/>
              <a:gd name="textAreaTop" fmla="*/ 743040 h 1803600"/>
              <a:gd name="textAreaBottom" fmla="*/ 1060560 h 180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97360"/>
            <a:ext cx="504720" cy="650880"/>
          </a:xfrm>
          <a:custGeom>
            <a:avLst/>
            <a:gdLst>
              <a:gd name="textAreaLeft" fmla="*/ 208080 w 504720"/>
              <a:gd name="textAreaRight" fmla="*/ 296640 w 504720"/>
              <a:gd name="textAreaTop" fmla="*/ 268200 h 650880"/>
              <a:gd name="textAreaBottom" fmla="*/ 382680 h 65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42920" y="189000"/>
            <a:ext cx="70581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00cc00">
                    <a:alpha val="88000"/>
                  </a:srgbClr>
                </a:solidFill>
                <a:latin typeface="Times New Roman"/>
              </a:rPr>
              <a:t>Николай Теветкелĕн тĕрлĕ енлĕ  таланчĕ</a:t>
            </a:r>
            <a:endParaRPr b="0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00cc00">
                  <a:alpha val="88000"/>
                </a:srgbClr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иколай Теветкел пултарулăхĕ çинче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колай Петровский-Теветкелĕн истори туйăмĕ питĕ вăйлă. Пурнăçа вăл ывăс пек тӳремлĕх çинче кăна курмасть — хальхи уншăн яланах иртнипе те, пулассипе те çыхăнн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Юрий Айдаш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15620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81080" y="228600"/>
            <a:ext cx="6934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ăваш поэзийĕнчи хăйĕн вырăнне Николай Теветкел аван пĕлет. Унта вăл хăйне Петраркăпа, Рембопа, Шекспирпа, Байронпа пĕр тан туять, çавăнпа унăн вĕсен чапне ăмсанма сăлтав ç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ихаил Ста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тĕр Хусанкай хыççăн сонета вăйлă аталантараканĕ, ăна чĕрĕ сывлăш, чăвашлăх, тĕрлĕ енлĕх, шухăш пуянлăхĕ хушаканĕ — Николай Петровский-Теветк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силий Эк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*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олай Теветкелĕн интеллигент ăс-халĕ те, хресчен нуши те, юрату тунсăхĕ те, çутçанталăк илемĕ те — пĕр пĕтĕм юрату кĕв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олай Марты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1676520" cy="2157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684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04-14T16:53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