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91154-847B-4095-8096-2CE2A13FB2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80FD4-A72C-4E4B-B245-F1EC13D162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FEEA4-261A-4616-AB7D-DD1A4DA546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рл Рэнсом Роджерс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Carl Ransom Rogers) (1902–1987) — американский психолог, один из лидеров гуманистической психолог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жерс первым ввел в научный обиход понятие «клиент». И это была не просто игра слов. За терминологическим изменением лежал коренной пересмотр всей стратегии психотерапии. Ибо пациент — это тот, кто болен и нуждается в помощи, поэтому обращается за ней к профессионалу — психотерапевту. Последний руководит им, направляет его, указывает путь выхода из болезненного состояния. А клиент — это тот, кто нуждается в услуге и полагает, что мог бы сделать это сам, но предпочитает опереться на поддержку психотерапевта. Клиент, несмотря на беспокоящие его проблемы, все же рассматривается как человек, способный их понять. В представлении о клиенте содержалась идея равноправия, отсутствующая в отношениях врача и паци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2D4C1-237A-4DEE-B3EE-ED2D631774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5B953-6A8D-4FB4-8807-E4549E6919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1EDEB-96F5-4027-A93E-4951ABBF5F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 поведения медицинской сестры может оказывать влияние на течение болезни и состояние больного и тем самым профессиональное общение примыкает к таким факторам профессиональной деятельности, влияющим на пациента, как санитарно-противоэпидемический режим, лечебные и диагностические процедуры. Следовательно, медсестра должна быть компетентна не только в манипуляционной деятельности, но и в профессиональном общен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04EEB-D03A-41EF-8DF3-4E0FECB218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CC564-DF38-46EA-B56D-A664B019FD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ратная связь бывает прямая и косвенная. Медсестра выполняет обе роли: коммуникатора и реципи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F9327-C0E0-49CD-9833-79C0A2189D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мысловой барьер – вспомнить слэнговые выражения: флюшка, валежник, мышка, сексом заниматься, презервативы, монашка, штаниш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римеры барьеров, выстраиваемых человеком при нежелании бросить кури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70F9C-3B04-4853-A35F-B66665793D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тота – краткость, законченность, понятность. Тест на памя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Ясность – что, где, когда, сколько, как, поче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Уместность – место и врем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Доверительность – отношение государства, компетентность, умение признаваться в своих ошибках, конфиденциаль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F2AB3-6424-4F44-A555-A74156203D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КУ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крайней мере, на 2/3 зависит от обоняния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трофия вкусовых сосочков, потеря их эффективности при передаче вкуса и уменьшения их числа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ение может ускорить потерю вкусовых сосоч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е всего влиянию подвержены сосочки, воспринимающие сладкое и соле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убные протезы могут влиять на вкусовые ощущ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приятный вкус во рту может быть вызван заболеванием зуб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лия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&gt; увеличение потребления сахара и соли (вкл. потребление растительных приправ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&gt; снижение аппетита и потеря в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&gt; зубные протезы нужно носить, и они должны подходи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кл. ежедневный уход за полостью 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комендуется: прием пищи в компании, применение специй, клетчатки, жидкост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E321-135C-464D-AC5A-FB989C8F0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8640" y="277560"/>
            <a:ext cx="8226720" cy="113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8640" y="1601280"/>
            <a:ext cx="822672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8640" y="3965760"/>
            <a:ext cx="822672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BB72-91C0-41F0-9300-AB9F3D17F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8640" y="277560"/>
            <a:ext cx="8226720" cy="113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8640" y="1601280"/>
            <a:ext cx="401436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1280"/>
            <a:ext cx="401436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8640" y="3965760"/>
            <a:ext cx="401436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5760"/>
            <a:ext cx="401436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F71F-1D2F-4E51-9ADD-5EBE1D749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8640" y="277560"/>
            <a:ext cx="8226720" cy="113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8640" y="1601280"/>
            <a:ext cx="264888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601280"/>
            <a:ext cx="264888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1280"/>
            <a:ext cx="264888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8640" y="3965760"/>
            <a:ext cx="264888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760"/>
            <a:ext cx="264888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5760"/>
            <a:ext cx="264888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FE76-4589-4ECC-9BEA-F303100A8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8640" y="277560"/>
            <a:ext cx="8226720" cy="113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8640" y="1601280"/>
            <a:ext cx="82267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EEF6-3109-4421-A844-BA2065E09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8640" y="277560"/>
            <a:ext cx="8226720" cy="113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8640" y="1601280"/>
            <a:ext cx="8226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2A76-412F-49AE-ABB7-B85DD5E99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8640" y="277560"/>
            <a:ext cx="8226720" cy="113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8640" y="1601280"/>
            <a:ext cx="40143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1280"/>
            <a:ext cx="40143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9DF9-6B0D-4CCD-B567-2232A8AA2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640" y="277560"/>
            <a:ext cx="8226720" cy="113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8CE1-3993-4966-ABD0-3F2ED6ADE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8640" y="277560"/>
            <a:ext cx="822672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6422-875F-4A85-8AC6-B756671F8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8640" y="277560"/>
            <a:ext cx="8226720" cy="113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8640" y="1601280"/>
            <a:ext cx="401436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1280"/>
            <a:ext cx="40143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8640" y="3965760"/>
            <a:ext cx="401436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A708-953D-4EA6-A1D1-4AE28607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8640" y="277560"/>
            <a:ext cx="8226720" cy="113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8640" y="1601280"/>
            <a:ext cx="40143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1280"/>
            <a:ext cx="401436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5760"/>
            <a:ext cx="401436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02C3-358A-4464-8B7C-35AE5564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8640" y="277560"/>
            <a:ext cx="8226720" cy="113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8640" y="1601280"/>
            <a:ext cx="401436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1280"/>
            <a:ext cx="401436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8640" y="3965760"/>
            <a:ext cx="822672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6289-7B87-4698-9271-2665AEB2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8640" y="277560"/>
            <a:ext cx="8226720" cy="113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8640" y="1601280"/>
            <a:ext cx="8226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31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69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8280" y="6243480"/>
            <a:ext cx="2132280" cy="4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5880" y="6243480"/>
            <a:ext cx="2892240" cy="4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2280" cy="4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7C3EE-C290-498D-9197-E714163FB510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0920" y="3612960"/>
            <a:ext cx="7848360" cy="16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СОБЕННОСТИ   ПРОФЕССИОНАЛЬНОГО ОБЩЕНИЯ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i="1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4883400" y="6772320"/>
            <a:ext cx="315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12600" y="0"/>
            <a:ext cx="9124920" cy="5354640"/>
          </a:xfrm>
          <a:prstGeom prst="rect">
            <a:avLst/>
          </a:prstGeom>
          <a:ln w="0">
            <a:noFill/>
          </a:ln>
        </p:spPr>
      </p:pic>
      <p:sp>
        <p:nvSpPr>
          <p:cNvPr id="52" name="TextBox 1"/>
          <p:cNvSpPr/>
          <p:nvPr/>
        </p:nvSpPr>
        <p:spPr>
          <a:xfrm>
            <a:off x="1297080" y="3994200"/>
            <a:ext cx="7488000" cy="2531880"/>
          </a:xfrm>
          <a:prstGeom prst="rect">
            <a:avLst/>
          </a:prstGeom>
          <a:solidFill>
            <a:srgbClr val="2d18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ПРОФЕССИОНАЛЬНОЕ ОБЩЕНИЕ КАК ЗДОРОВЬЕСБЕРЕГАЮЩАЯ ТЕХНОЛОГ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33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8640" y="277560"/>
            <a:ext cx="8226720" cy="113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На восприятие влияю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8280" y="3070080"/>
            <a:ext cx="4977000" cy="3057840"/>
          </a:xfrm>
          <a:prstGeom prst="rect">
            <a:avLst/>
          </a:prstGeom>
          <a:noFill/>
          <a:ln w="0">
            <a:noFill/>
          </a:ln>
        </p:spPr>
        <p:txBody>
          <a:bodyPr tIns="118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50000"/>
              <a:buFont typeface="Wingdings" charset="2"/>
              <a:buChar char="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предыдущий опы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50000"/>
              <a:buFont typeface="Wingdings" charset="2"/>
              <a:buChar char="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состояние созн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50000"/>
              <a:buFont typeface="Wingdings" charset="2"/>
              <a:buChar char="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менталит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rcRect l="8692" t="0" r="0" b="0"/>
          <a:stretch/>
        </p:blipFill>
        <p:spPr>
          <a:xfrm>
            <a:off x="5219640" y="3789360"/>
            <a:ext cx="3673440" cy="269388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89" name="Rectangle 5"/>
          <p:cNvSpPr/>
          <p:nvPr/>
        </p:nvSpPr>
        <p:spPr>
          <a:xfrm>
            <a:off x="468360" y="1916280"/>
            <a:ext cx="822960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ffcc00"/>
              </a:buClr>
              <a:buSzPct val="150000"/>
              <a:buFont typeface="Wingdings" charset="2"/>
              <a:buChar char="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ограничения, связанные с органами чувст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На что способен наш мозг!</a:t>
            </a:r>
            <a:br>
              <a:rPr sz="2800"/>
            </a:b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Читайте текст до конца, не обращая внимание на то,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то он как-то не так выглядит..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Из исслднеовиай агнлйксиих унёычх селудет, что сошвнерено вёс-рнаво в ккаом пкоярде сотят бвкуы в совле, смаое гавлоне,что перавя и псоленядя бквуы длжоны соттяь на свиох мсеатх. 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Оталсьное мжеот бтыь ернуодй и ты смжоешь эот порчтиать.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Птомоу-что мы чтаием солво цлекиом, а не бквуа за бквуой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8640" y="277560"/>
            <a:ext cx="8226720" cy="113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Триада Карла Рождер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8640" y="2350800"/>
            <a:ext cx="461808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безусловное положительное отношение к клиенту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эмпати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конгруэнтнос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5724360" y="1700280"/>
            <a:ext cx="2978280" cy="44654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00"/>
            </a:gs>
            <a:gs pos="100000">
              <a:srgbClr val="cc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8640" y="277560"/>
            <a:ext cx="8226720" cy="113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Мотивы взаимодейств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8640" y="1341360"/>
            <a:ext cx="822672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мотив максимизации выигрыша другого (альтруизм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мотив минимизации выигрыша другого (агрессия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мотив минимизации различий в выигрышах (равенство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мотив максимизации собственного выигрыша (индивидуализм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мотив максимизации общего выигрыша (мотив коопераци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300720" y="549000"/>
            <a:ext cx="2384640" cy="86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надо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4"/>
          <p:cNvGrpSpPr/>
          <p:nvPr/>
        </p:nvGrpSpPr>
        <p:grpSpPr>
          <a:xfrm>
            <a:off x="900000" y="549360"/>
            <a:ext cx="5535720" cy="5111640"/>
            <a:chOff x="900000" y="549360"/>
            <a:chExt cx="5535720" cy="5111640"/>
          </a:xfrm>
        </p:grpSpPr>
        <p:grpSp>
          <p:nvGrpSpPr>
            <p:cNvPr id="98" name="Group 5"/>
            <p:cNvGrpSpPr/>
            <p:nvPr/>
          </p:nvGrpSpPr>
          <p:grpSpPr>
            <a:xfrm>
              <a:off x="1349280" y="549360"/>
              <a:ext cx="1239840" cy="3905280"/>
              <a:chOff x="1349280" y="549360"/>
              <a:chExt cx="1239840" cy="3905280"/>
            </a:xfrm>
          </p:grpSpPr>
          <p:sp>
            <p:nvSpPr>
              <p:cNvPr id="99" name="Oval 6"/>
              <p:cNvSpPr/>
              <p:nvPr/>
            </p:nvSpPr>
            <p:spPr>
              <a:xfrm>
                <a:off x="1349280" y="549360"/>
                <a:ext cx="1239840" cy="1289520"/>
              </a:xfrm>
              <a:prstGeom prst="ellipse">
                <a:avLst/>
              </a:prstGeom>
              <a:solidFill>
                <a:srgbClr val="ff0000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Times New Roman"/>
                  </a:rPr>
                  <a:t>Род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Oval 7"/>
              <p:cNvSpPr/>
              <p:nvPr/>
            </p:nvSpPr>
            <p:spPr>
              <a:xfrm>
                <a:off x="1349280" y="1855800"/>
                <a:ext cx="1239840" cy="1289520"/>
              </a:xfrm>
              <a:prstGeom prst="ellipse">
                <a:avLst/>
              </a:prstGeom>
              <a:solidFill>
                <a:srgbClr val="ffff00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Times New Roman"/>
                  </a:rPr>
                  <a:t>Взр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Oval 8"/>
              <p:cNvSpPr/>
              <p:nvPr/>
            </p:nvSpPr>
            <p:spPr>
              <a:xfrm>
                <a:off x="1349280" y="3164760"/>
                <a:ext cx="1239840" cy="1289880"/>
              </a:xfrm>
              <a:prstGeom prst="ellipse">
                <a:avLst/>
              </a:prstGeom>
              <a:solidFill>
                <a:srgbClr val="00ff00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Times New Roman"/>
                  </a:rPr>
                  <a:t>Реб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9"/>
            <p:cNvGrpSpPr/>
            <p:nvPr/>
          </p:nvGrpSpPr>
          <p:grpSpPr>
            <a:xfrm>
              <a:off x="4106880" y="568800"/>
              <a:ext cx="1240200" cy="3905280"/>
              <a:chOff x="4106880" y="568800"/>
              <a:chExt cx="1240200" cy="3905280"/>
            </a:xfrm>
          </p:grpSpPr>
          <p:sp>
            <p:nvSpPr>
              <p:cNvPr id="103" name="Oval 10"/>
              <p:cNvSpPr/>
              <p:nvPr/>
            </p:nvSpPr>
            <p:spPr>
              <a:xfrm>
                <a:off x="4106880" y="568800"/>
                <a:ext cx="1240200" cy="1289520"/>
              </a:xfrm>
              <a:prstGeom prst="ellipse">
                <a:avLst/>
              </a:prstGeom>
              <a:solidFill>
                <a:srgbClr val="ff0000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Times New Roman"/>
                  </a:rPr>
                  <a:t>Род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Oval 11"/>
              <p:cNvSpPr/>
              <p:nvPr/>
            </p:nvSpPr>
            <p:spPr>
              <a:xfrm>
                <a:off x="4106880" y="1875240"/>
                <a:ext cx="1240200" cy="1289520"/>
              </a:xfrm>
              <a:prstGeom prst="ellipse">
                <a:avLst/>
              </a:prstGeom>
              <a:solidFill>
                <a:srgbClr val="ffff00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Times New Roman"/>
                  </a:rPr>
                  <a:t>Взр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Oval 12"/>
              <p:cNvSpPr/>
              <p:nvPr/>
            </p:nvSpPr>
            <p:spPr>
              <a:xfrm>
                <a:off x="4106880" y="3184200"/>
                <a:ext cx="1240200" cy="1289880"/>
              </a:xfrm>
              <a:prstGeom prst="ellipse">
                <a:avLst/>
              </a:prstGeom>
              <a:solidFill>
                <a:srgbClr val="00ff00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Times New Roman"/>
                  </a:rPr>
                  <a:t>Реб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Line 13"/>
            <p:cNvSpPr/>
            <p:nvPr/>
          </p:nvSpPr>
          <p:spPr>
            <a:xfrm>
              <a:off x="2569320" y="2559600"/>
              <a:ext cx="1544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4"/>
            <p:cNvSpPr/>
            <p:nvPr/>
          </p:nvSpPr>
          <p:spPr>
            <a:xfrm flipH="1" flipV="1">
              <a:off x="2593800" y="1192680"/>
              <a:ext cx="1512720" cy="2714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5"/>
            <p:cNvSpPr/>
            <p:nvPr/>
          </p:nvSpPr>
          <p:spPr>
            <a:xfrm>
              <a:off x="900000" y="4743000"/>
              <a:ext cx="5535720" cy="9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Times New Roman"/>
                </a:rPr>
                <a:t>ПЕРЕСЕКАЮЩИЕСЯ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Times New Roman"/>
                </a:rPr>
                <a:t>ТРАНСАКЦИ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Rectangle 16"/>
          <p:cNvSpPr/>
          <p:nvPr/>
        </p:nvSpPr>
        <p:spPr>
          <a:xfrm>
            <a:off x="6227640" y="3500280"/>
            <a:ext cx="238464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Arial"/>
              </a:rPr>
              <a:t>хоч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7"/>
          <p:cNvSpPr/>
          <p:nvPr/>
        </p:nvSpPr>
        <p:spPr>
          <a:xfrm>
            <a:off x="6227640" y="2133720"/>
            <a:ext cx="23846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и хочу, и над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5"/>
          <p:cNvSpPr/>
          <p:nvPr/>
        </p:nvSpPr>
        <p:spPr>
          <a:xfrm rot="627000">
            <a:off x="1326960" y="803160"/>
            <a:ext cx="6335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ffff"/>
                </a:solidFill>
                <a:latin typeface="Arial Black"/>
              </a:rPr>
              <a:t>Спасибо дорогим учетилям от ваших учинеков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0000"/>
            </a:gs>
            <a:gs pos="100000">
              <a:srgbClr val="33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8640" y="277560"/>
            <a:ext cx="8226720" cy="113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ОБЩ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8640" y="1601280"/>
            <a:ext cx="8226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цесс установления и развития контактов между людьми, порождаемый потребностями в совместной деятельности и включающий в себя: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 обмен информацией,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 восприятие и понимание другого человека,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 выработку единой стратегии взаимодейств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9"/>
          <p:cNvGrpSpPr/>
          <p:nvPr/>
        </p:nvGrpSpPr>
        <p:grpSpPr>
          <a:xfrm>
            <a:off x="609480" y="690480"/>
            <a:ext cx="8282160" cy="5330880"/>
            <a:chOff x="609480" y="690480"/>
            <a:chExt cx="8282160" cy="5330880"/>
          </a:xfrm>
        </p:grpSpPr>
        <p:sp>
          <p:nvSpPr>
            <p:cNvPr id="56" name="Oval 10"/>
            <p:cNvSpPr/>
            <p:nvPr/>
          </p:nvSpPr>
          <p:spPr>
            <a:xfrm>
              <a:off x="609480" y="690480"/>
              <a:ext cx="8282160" cy="5330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1"/>
            <p:cNvSpPr/>
            <p:nvPr/>
          </p:nvSpPr>
          <p:spPr>
            <a:xfrm>
              <a:off x="1107000" y="1838520"/>
              <a:ext cx="3791160" cy="140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2900" spc="-1" strike="noStrike">
                  <a:solidFill>
                    <a:srgbClr val="000000"/>
                  </a:solidFill>
                  <a:latin typeface="Arial"/>
                </a:rPr>
                <a:t>педагогическая деятельность 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12"/>
            <p:cNvSpPr/>
            <p:nvPr/>
          </p:nvSpPr>
          <p:spPr>
            <a:xfrm>
              <a:off x="4750560" y="2877840"/>
              <a:ext cx="3949200" cy="21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2900" spc="-1" strike="noStrike">
                  <a:solidFill>
                    <a:srgbClr val="000000"/>
                  </a:solidFill>
                  <a:latin typeface="Arial"/>
                </a:rPr>
                <a:t>профессиональное общение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3"/>
            <p:cNvSpPr/>
            <p:nvPr/>
          </p:nvSpPr>
          <p:spPr>
            <a:xfrm>
              <a:off x="4068000" y="803880"/>
              <a:ext cx="1209960" cy="5203440"/>
            </a:xfrm>
            <a:prstGeom prst="pie">
              <a:avLst/>
            </a:prstGeom>
            <a:noFill/>
            <a:ln cap="rnd" w="5724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8640" y="277560"/>
            <a:ext cx="8226720" cy="113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ОБЩ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8640" y="1601280"/>
            <a:ext cx="8226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цесс установления и развития контактов между людьми, порождаемый потребностями в совместной деятельности и включающий в себя: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 обмен информацией,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 восприятие и понимание другого человека,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 выработку единой стратегии взаимодейств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690120"/>
            <a:ext cx="823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3500" spc="-1" strike="noStrike">
                <a:solidFill>
                  <a:srgbClr val="ffffff"/>
                </a:solidFill>
                <a:latin typeface="Arial"/>
              </a:rPr>
              <a:t>ОБМЕН ИНФОРМАЦИИ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4920" y="2204640"/>
            <a:ext cx="822636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наличие обратной связ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наличие коммуникативных барьеров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уществование вербального и невербального уровней передачи информац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8640" y="479520"/>
            <a:ext cx="822672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коммуникативные барье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8640" y="1601280"/>
            <a:ext cx="2959200" cy="605160"/>
          </a:xfrm>
          <a:prstGeom prst="rect">
            <a:avLst/>
          </a:prstGeom>
          <a:noFill/>
          <a:ln w="38160">
            <a:solidFill>
              <a:srgbClr val="00cc66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900" spc="-1" strike="noStrike">
                <a:solidFill>
                  <a:srgbClr val="ffcc00"/>
                </a:solidFill>
                <a:latin typeface="Arial"/>
              </a:rPr>
              <a:t>фонетический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1189080" y="2706840"/>
            <a:ext cx="2959200" cy="579240"/>
          </a:xfrm>
          <a:prstGeom prst="rect">
            <a:avLst/>
          </a:prstGeom>
          <a:noFill/>
          <a:ln w="381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 algn="ctr">
              <a:spcBef>
                <a:spcPts val="7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900" spc="-1" strike="noStrike">
                <a:solidFill>
                  <a:srgbClr val="ffcc00"/>
                </a:solidFill>
                <a:latin typeface="Arial"/>
              </a:rPr>
              <a:t>смысловой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4789440" y="1557360"/>
            <a:ext cx="3311640" cy="604800"/>
          </a:xfrm>
          <a:prstGeom prst="rect">
            <a:avLst/>
          </a:prstGeom>
          <a:noFill/>
          <a:ln w="381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 algn="ctr">
              <a:spcBef>
                <a:spcPts val="7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900" spc="-1" strike="noStrike">
                <a:solidFill>
                  <a:srgbClr val="ffcc00"/>
                </a:solidFill>
                <a:latin typeface="Arial"/>
              </a:rPr>
              <a:t>стилистический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5364000" y="2635200"/>
            <a:ext cx="3165480" cy="1084320"/>
          </a:xfrm>
          <a:prstGeom prst="rect">
            <a:avLst/>
          </a:prstGeom>
          <a:noFill/>
          <a:ln w="381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 algn="ctr">
              <a:spcBef>
                <a:spcPts val="7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900" spc="-1" strike="noStrike">
                <a:solidFill>
                  <a:srgbClr val="ffcc00"/>
                </a:solidFill>
                <a:latin typeface="Arial"/>
              </a:rPr>
              <a:t>логического непонимания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393840" y="3643200"/>
            <a:ext cx="3240000" cy="1441440"/>
          </a:xfrm>
          <a:prstGeom prst="rect">
            <a:avLst/>
          </a:prstGeom>
          <a:noFill/>
          <a:ln w="381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 algn="ctr">
              <a:spcBef>
                <a:spcPts val="7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900" spc="-1" strike="noStrike">
                <a:solidFill>
                  <a:srgbClr val="ffcc00"/>
                </a:solidFill>
                <a:latin typeface="Arial"/>
              </a:rPr>
              <a:t>социо- культурных различий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4425840" y="4076640"/>
            <a:ext cx="2808360" cy="574560"/>
          </a:xfrm>
          <a:prstGeom prst="rect">
            <a:avLst/>
          </a:prstGeom>
          <a:noFill/>
          <a:ln w="381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 algn="ctr">
              <a:spcBef>
                <a:spcPts val="7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900" spc="-1" strike="noStrike">
                <a:solidFill>
                  <a:srgbClr val="ffcc00"/>
                </a:solidFill>
                <a:latin typeface="Arial"/>
              </a:rPr>
              <a:t>отношений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5938920" y="5084640"/>
            <a:ext cx="2811240" cy="574920"/>
          </a:xfrm>
          <a:prstGeom prst="rect">
            <a:avLst/>
          </a:prstGeom>
          <a:noFill/>
          <a:ln w="381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 algn="ctr">
              <a:spcBef>
                <a:spcPts val="7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900" spc="-1" strike="noStrike">
                <a:solidFill>
                  <a:srgbClr val="ffcc00"/>
                </a:solidFill>
                <a:latin typeface="Arial"/>
              </a:rPr>
              <a:t>авторитетов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0"/>
          <p:cNvSpPr/>
          <p:nvPr/>
        </p:nvSpPr>
        <p:spPr>
          <a:xfrm>
            <a:off x="539640" y="5875200"/>
            <a:ext cx="82314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психологическая защи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8640" y="277920"/>
            <a:ext cx="8226720" cy="18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Критерии эффективности</a:t>
            </a:r>
            <a:br>
              <a:rPr sz="4400"/>
            </a:b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вербальной коммуник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000" y="2635200"/>
            <a:ext cx="2878200" cy="1154160"/>
          </a:xfrm>
          <a:prstGeom prst="rect">
            <a:avLst/>
          </a:prstGeom>
          <a:noFill/>
          <a:ln w="76320">
            <a:solidFill>
              <a:srgbClr val="00ff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026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Arial"/>
              </a:rPr>
              <a:t>простота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1909800" y="3571920"/>
            <a:ext cx="2879640" cy="1154160"/>
          </a:xfrm>
          <a:prstGeom prst="rect">
            <a:avLst/>
          </a:pr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 algn="ctr">
              <a:spcBef>
                <a:spcPts val="10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Arial"/>
              </a:rPr>
              <a:t>ясность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3205080" y="4510080"/>
            <a:ext cx="3382920" cy="1149480"/>
          </a:xfrm>
          <a:prstGeom prst="rect">
            <a:avLst/>
          </a:pr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 algn="ctr">
              <a:spcBef>
                <a:spcPts val="10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Arial"/>
              </a:rPr>
              <a:t>уместность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4138560" y="5446800"/>
            <a:ext cx="4718160" cy="1149120"/>
          </a:xfrm>
          <a:prstGeom prst="rect">
            <a:avLst/>
          </a:pr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 algn="ctr">
              <a:spcBef>
                <a:spcPts val="2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87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доверительность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7"/>
          <p:cNvSpPr/>
          <p:nvPr/>
        </p:nvSpPr>
        <p:spPr>
          <a:xfrm>
            <a:off x="5219640" y="2205000"/>
            <a:ext cx="3672000" cy="2016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6154560" y="313848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5364000" y="2419200"/>
            <a:ext cx="3457800" cy="14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учет индивидуальных особенностей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cc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8640" y="277560"/>
            <a:ext cx="8226720" cy="113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Проксемика: 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дистанции общ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424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Интимная дистанция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(0 – 45 см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Arial"/>
              </a:rPr>
              <a:t>Личная дистанция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(45 – 120 см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Arial"/>
              </a:rPr>
              <a:t>Социальная дистанция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(120 – 360 см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Arial"/>
              </a:rPr>
              <a:t>Публичная дистанция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360 см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4211640" y="189000"/>
            <a:ext cx="4657680" cy="6453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84" name="Text Box 3"/>
          <p:cNvSpPr/>
          <p:nvPr/>
        </p:nvSpPr>
        <p:spPr>
          <a:xfrm>
            <a:off x="539640" y="62064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324000" y="404640"/>
            <a:ext cx="36003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кус на 2/3 зависит от обоняния;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 возрастом чувст-вительность сосоч-ков снижается, умень-шается их количест-во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ольше всего влия-нию подвержены со-сочки, воспринима-ющие сладкое и со-ле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урение и зубные протезы могут влиять на вкусовые ощуще-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1T16:40:01Z</dcterms:created>
  <dc:creator>Ирина</dc:creator>
  <dc:description/>
  <dc:language>en-US</dc:language>
  <cp:lastModifiedBy>игорь</cp:lastModifiedBy>
  <dcterms:modified xsi:type="dcterms:W3CDTF">2012-08-12T12:18:57Z</dcterms:modified>
  <cp:revision>81</cp:revision>
  <dc:subject/>
  <dc:title>Специфика профессионального общения медсестры с пациентом</dc:title>
</cp:coreProperties>
</file>