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wmf" ContentType="image/x-wmf"/>
  <Override PartName="/ppt/media/image7.png" ContentType="image/png"/>
  <Override PartName="/ppt/media/image8.wmf" ContentType="image/x-wmf"/>
  <Override PartName="/ppt/media/image10.gif" ContentType="image/gi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26A-6CB8-4E94-BF50-F4AD443B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93B8-4641-4E51-AE19-F80092F4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AB824-EB40-4959-86CE-DE3A05AF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AFE10-E32F-4734-99BD-87117291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243D0-20E6-48B0-824E-DEEC9F9E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E2CD5-55D5-4227-8813-0E552746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19801-F7D9-4C35-AD24-DBB65296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0031D-780A-448E-815C-CD49E868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0FA85-E852-4A45-849D-471EF377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947DA-31F3-40C4-A666-56182B8E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C8FA3-39C7-4F5E-899F-F06ED916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2AA6B-F665-43D5-B36C-B501F8A1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D84-5677-42B3-AF81-EB54B4E6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ADEF5-33B3-4D97-B9AD-5CF06BFF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4A8DF-F14F-4ABC-AE5D-BB229004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9D52D-865A-4EC5-A571-6F485C3A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3C8C9-5623-454A-92A9-65E9EAEA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E375A-6BB6-4D68-B020-6541A013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BE9CC-78FB-42DC-8598-04DA83E1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7A960-3531-409D-B58E-F5855DF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CA517-4853-43F5-88D7-CFF0B4DE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84489-AB9D-4CFA-B979-6B882140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3F12D-0780-4F66-BAD5-EA450013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80E-A312-440E-AC63-5037064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84551-1BA8-4C27-BC5E-C7FAC87E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22366-648C-4EF0-B0B1-BCCA51E0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7ABED-CBFA-45BE-A4AF-0932EC3D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1E01A-CA3F-4700-936D-D8E5EDBB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A698C-F1AB-4E96-A368-9B8E95FA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7520F-2C85-47BE-9A28-B04128C6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00C26-C976-4476-8C0C-FB06C744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66477-ED8C-40AE-B04B-950A646D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9255D-8F59-47A4-8E7A-5BE2D20F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1E347-5E0D-48D4-988E-01E90810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B3BF-17AD-4B20-8856-B1CB8A68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E0814-338C-4E22-9CC2-B93C58F1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089FD-1394-40B1-92FA-091A7F5B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D3E54-A180-4A5A-80B7-177C1714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37E09-2028-431C-8350-9F5840A1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EC176-6156-4FB8-A002-178C51BD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23901-CCC3-4C58-AB43-18FBD65E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42F4F-5AD6-40F9-B556-6AE396CA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775E2-8E75-4466-82E5-88D7D02B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3DA8E-A4F7-4DDC-8A68-C5ED527F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47314-98F6-4F04-BFF7-25F874F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B171-515B-4C0F-BF33-4029AD55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33D09-81B1-4D21-B2B5-CF89736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CED14-E01F-456D-A99E-7C91C34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78C9D-DBDC-4864-903A-B6008CC3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A9914-757A-43B8-B29A-BDF84D0D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D3569-AA37-4516-86D3-3DC2E2BE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73FFD-EF66-4DB2-82F0-0353A8BF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908CD-D226-48C1-9AA5-A83E7BF9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24F86-4D66-4CA4-9A05-80BECEA9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15D5C-404C-40BF-8A1A-DC93267D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09ABE-918C-4E62-9810-DE6D4F95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294A-7FFC-4EC7-8F91-CBE91AC1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64726-1693-4273-91B9-564185D8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FDAC9-3C20-40A0-A028-3745A912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9B236-9587-4C2D-8D2D-D688628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2EF77-72F7-4269-9C68-DB8C08C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64CBF-81CA-49E5-AE2D-66A919A9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60B38-A997-4AAE-93E5-12D1383A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8F11F-7765-4299-8880-E7957F2D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B1F64-35BD-4961-85A1-C2681671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E18B9-E91D-46E2-9A5B-CC7A10C6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170B4-E25F-4677-9420-D41A5C4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614E-BB96-47B6-BB0F-1A788370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1DCF8-1C9B-45BC-93B0-9A49D291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D2168-4D89-49D8-A978-DEEA0AFB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9B7C7-69C0-4383-A2F4-5FF11DA6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BFCAD-C6E1-46B6-88F9-992B4752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6F492-D0D0-4D95-95B3-CDDA9B02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44413-A97A-4AD6-BC27-323795B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52A69-9178-4AEB-B111-452A49BC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BB22A-4A69-425D-8BB1-D06B8253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A3DDD-C208-4ED4-985B-268F9D8C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D217-45F9-47DF-8352-A783404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2B2F-EBDF-4543-B42C-6E754802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0996-A2C6-40D1-AC23-99F73413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781-08AD-4770-A058-E7913BDA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C51F-87D0-4285-924E-55F84480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AB20-0BEA-4B08-B12B-A0857DE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F2B1-F587-46C7-902B-3BC49256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A395-7BE3-442C-A00C-4A506AB3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72CE-203F-4E9D-A321-8C163B7B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E12D-8D39-4E73-8139-FA0BD90E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E578-8BB3-4ABC-9AB4-C7E5D3B9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8D55-5F53-4B2E-8235-27C3E86F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BCAF-B4C8-4124-A15B-C01DA75F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17B2-52EF-499D-A0D6-C91133FE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819-6E08-4B55-B873-2980BC64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582F-47C8-4CED-99FB-4A1EEC56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427A-0DFE-4386-9A32-4080BFD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2B6D-49ED-4DB4-860B-59DB356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0360B-95CA-4B4B-9A7A-0E93D0E3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64EC-8558-4900-B701-F4A3D1F3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AFB3-5AC7-454B-A1DD-2533187B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E966-2A87-490B-BECD-B442A418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0AFAB2-8379-48C0-8DC3-9AA1ECC6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5F52F-B8AD-4BF8-9E29-A8A8E1D4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E970F-948B-43E9-9DC2-B329B845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2C3-42A8-4978-9A80-F4E4D394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3FCF0-6EB0-44E7-9ABA-74F96074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8B648-9C0A-4C62-85E2-23039E81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8DC10-D120-4135-9BA2-AE69406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D3E13-A045-4637-9239-D9743CAB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73B91-1365-454F-B408-A5736CBD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26340-E13F-47AD-AA2D-21594FBD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5801E-6ADD-488E-9B95-B082CE1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65B18-E554-4F5C-9187-23133022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A01DB-85DA-40FE-89EE-1A16E8F5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70C79-7684-4C0F-821F-3B252495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F54-19AE-40AF-A4B1-78382779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F1401-A914-4A78-B3B2-91C310D1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A18C-AE1D-44D4-9ADD-28C34B07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C023D-0FCF-4596-8C72-8710D8D0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38885-F2E2-429D-A0F1-2ED06EC6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686C-A4E8-4A7F-9B28-5B1CDC5D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BFE5-D786-41EE-9641-B208C55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46591-2898-4457-9555-F0E58F1C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B2C0-0657-4308-B54E-269F3032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9F7F9-073F-473B-ABCC-0150B943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8684-9544-4222-992C-AAFBA172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145-3182-4C4A-BDA7-2313EB3F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68AA6-5ACC-40FB-9C3D-E3015895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6717D-0C14-4AA2-B884-98BE2B29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B8192-4104-463D-9BD6-5FFFEEFF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FA37-1FB5-40DA-88F7-CB00FFB3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1FB87-69D5-4C39-B771-24BA9014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A6B79-B187-4D63-B96E-5CA1E313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141D-4953-41C5-8DCB-CB7CCE29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8D2C4-DAB9-4426-BE24-9E9DC69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1248-F2A2-4D9D-9D29-43C9F91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83B86-0CDA-452F-ACAF-C7EF52C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E8B-3461-4594-A646-A77E016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DBDC-A2C3-496D-9012-28B2480C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CFA6E-E41C-4099-9665-3B10F21B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19B7-DA25-4975-8391-B13BF4B3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6F5E2-12F5-40C2-938B-24A0BC97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10E3-5697-4632-8FA8-9C16D68B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4E92-24B5-4008-9A15-EDA0198D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7BF39-129B-4876-B60D-051A3067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59AC-788B-4BEF-A7BA-58AF8D2A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9524A-D90C-4695-8209-9B708156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4BA7B-77A7-4B6B-833E-5BFADE68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B261-2D16-4C93-8140-8C75125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0984B-3A69-4D4C-B812-4D84192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50E8-5F2C-4ECC-9D53-63FDABAD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91CE5-40CF-4670-A3AE-3CF75AE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76F38-A630-4E91-BAEE-7DD59480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88C0A-9803-473A-B4C6-EDF1D2A9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FF342-DB8A-43F5-A51E-E5C66C16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F4422-3DB8-4762-90C7-A83237BB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D9E66-C00E-4141-8023-D51994A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419CF-7463-47CC-8AC9-E6725BBB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1B3FD-8171-4F47-9348-4F9AB4E6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770-BEAF-4807-89ED-DA367437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E724E-3A25-4668-B075-C0A8B89B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3B76F-F52F-4F6A-AD74-BF81213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4B41-F86D-42C5-8B7A-E3AD207F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FE64-20C4-4E21-A53E-D233A17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F1B5C-F7C5-4BCC-803D-ED465CA4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DB125-69D3-448E-AEEF-FD10067B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79522-93DB-4A05-970B-B9BD4077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B80DA-6D0E-4C1C-B2AE-ABB43E31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E8ACB-1B3E-41C2-B569-60D6175D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24D24-6ACE-4BE7-9CCD-FEBCCDCA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9FF7-A242-4369-9693-DFCBFD06F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315D-6BAF-4EA0-8DD6-D84C47044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grpSp>
          <p:nvGrpSpPr>
            <p:cNvPr id="4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5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16A3-0BA8-4BE0-B903-F8C68152D2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3761-E862-47B1-9051-1EF5885FE16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2C9E-AF2C-4953-8D75-E0E9DC911C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3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3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3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DC1C-7BA1-4983-990D-1C1538D2DADA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5090-26E3-4065-894F-C3DDB54C58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61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62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3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4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5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6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7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8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69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  <p:sp>
          <p:nvSpPr>
            <p:cNvPr id="70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72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22D-344B-4CC6-8177-79B411167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1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AEE2-DF23-4226-9835-47182CF5A1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16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7B67-8757-45BA-9D2A-9DEE72C9C38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237F-802B-4B52-B0D6-456824B154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4F60-DA63-4BA7-AAE2-8DC1E28DE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336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37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38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39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40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grpSp>
          <p:nvGrpSpPr>
            <p:cNvPr id="341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342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343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344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  <p:sp>
            <p:nvSpPr>
              <p:cNvPr id="345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  <p:sp>
          <p:nvSpPr>
            <p:cNvPr id="346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grpSp>
        <p:nvGrpSpPr>
          <p:cNvPr id="347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348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49" name="Freeform 17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892160"/>
                <a:gd name="textAreaBottom" fmla="*/ 1892520 h 1892160"/>
              </a:gdLst>
              <a:ahLst/>
              <a:rect l="textAreaLeft" t="textAreaTop" r="textAreaRight" b="textAreaBottom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0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1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2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3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354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355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BB85-7399-4516-B697-3FAB7BC1B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398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399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400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1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2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3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4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5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6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  <p:sp>
              <p:nvSpPr>
                <p:cNvPr id="407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Rage Italic"/>
                  </a:endParaRPr>
                </a:p>
              </p:txBody>
            </p:sp>
          </p:grpSp>
          <p:sp>
            <p:nvSpPr>
              <p:cNvPr id="408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Rage Italic"/>
                </a:endParaRPr>
              </a:p>
            </p:txBody>
          </p:sp>
        </p:grpSp>
        <p:sp>
          <p:nvSpPr>
            <p:cNvPr id="409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0F03-FAEC-432C-A882-277D10B9C3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b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3448080" cy="38876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4134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Bookman Old Style"/>
              </a:rPr>
              <a:t>АКСИОМЫ</a:t>
            </a:r>
            <a:br>
              <a:rPr sz="6000"/>
            </a:br>
            <a:r>
              <a:rPr b="1" lang="ru-RU" sz="6000" spc="-1" strike="noStrike">
                <a:solidFill>
                  <a:srgbClr val="cc0099"/>
                </a:solidFill>
                <a:latin typeface="Bookman Old Style"/>
              </a:rPr>
              <a:t>СТЕРЕОМЕТРИИ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5076360" y="2781360"/>
            <a:ext cx="3961080" cy="743040"/>
          </a:xfrm>
          <a:prstGeom prst="rect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ометрия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4140360" y="5300640"/>
            <a:ext cx="4572000" cy="13136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Rage Italic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Яковлева Любовь Викторовна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МОУ «Самосдельская СОШ им.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Шитова В. А.»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36666"/>
                </a:solidFill>
                <a:latin typeface="Monotype Corsiva"/>
              </a:rPr>
              <a:t>       </a:t>
            </a:r>
            <a:r>
              <a:rPr b="1" lang="ru-RU" sz="6000" spc="-1" strike="noStrike">
                <a:solidFill>
                  <a:srgbClr val="cc0099"/>
                </a:solidFill>
                <a:latin typeface="Monotype Corsiva"/>
              </a:rPr>
              <a:t>Аксиомы группы С.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ru-RU" sz="27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700" spc="-1" strike="noStrike">
                <a:solidFill>
                  <a:srgbClr val="a50021"/>
                </a:solidFill>
                <a:latin typeface="Times New Roman"/>
              </a:rPr>
              <a:t>Если две различные прямые имеют общую точку, то через них можно провести плоскость, и притом только одн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1835280" y="4149720"/>
            <a:ext cx="5761080" cy="1655640"/>
          </a:xfrm>
          <a:prstGeom prst="parallelogram">
            <a:avLst>
              <a:gd name="adj" fmla="val 86992"/>
            </a:avLst>
          </a:prstGeom>
          <a:solidFill>
            <a:srgbClr val="ffd1f0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39" name="Line 8"/>
          <p:cNvSpPr/>
          <p:nvPr/>
        </p:nvSpPr>
        <p:spPr>
          <a:xfrm flipV="1">
            <a:off x="3059280" y="4292640"/>
            <a:ext cx="3168360" cy="122400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3780000" y="4292640"/>
            <a:ext cx="2232000" cy="1224000"/>
          </a:xfrm>
          <a:prstGeom prst="line">
            <a:avLst/>
          </a:prstGeom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12"/>
              <p:cNvSpPr txBox="1"/>
              <p:nvPr/>
            </p:nvSpPr>
            <p:spPr>
              <a:xfrm>
                <a:off x="2268360" y="5373720"/>
                <a:ext cx="274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Rectangle 14"/>
          <p:cNvSpPr/>
          <p:nvPr/>
        </p:nvSpPr>
        <p:spPr>
          <a:xfrm>
            <a:off x="2919240" y="509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6157800" y="5229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4" name="Rectangle 16"/>
          <p:cNvSpPr/>
          <p:nvPr/>
        </p:nvSpPr>
        <p:spPr>
          <a:xfrm>
            <a:off x="4716360" y="407664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5" name="Oval 17"/>
          <p:cNvSpPr/>
          <p:nvPr/>
        </p:nvSpPr>
        <p:spPr>
          <a:xfrm>
            <a:off x="4716360" y="479736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4" descr="i2[1]"/>
          <p:cNvPicPr/>
          <p:nvPr/>
        </p:nvPicPr>
        <p:blipFill>
          <a:blip r:embed="rId1"/>
          <a:stretch/>
        </p:blipFill>
        <p:spPr>
          <a:xfrm>
            <a:off x="179280" y="549360"/>
            <a:ext cx="2665440" cy="266364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835280" y="549000"/>
            <a:ext cx="698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Аксиомы выражают интуитивно ясные свойства плоскостей, их связь с двумя другими основными фигурами стереометрии – с прямыми и точ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        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Рассмотренные аксиомы С</a:t>
            </a:r>
            <a:r>
              <a:rPr b="1" i="1" lang="ru-RU" sz="3200" spc="-1" strike="noStrike" baseline="-25000">
                <a:solidFill>
                  <a:srgbClr val="cc3399"/>
                </a:solidFill>
                <a:latin typeface="Monotype Corsiva"/>
              </a:rPr>
              <a:t>1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- С</a:t>
            </a:r>
            <a:r>
              <a:rPr b="1" i="1" lang="ru-RU" sz="3200" spc="-1" strike="noStrike" baseline="-25000">
                <a:solidFill>
                  <a:srgbClr val="cc3399"/>
                </a:solidFill>
                <a:latin typeface="Monotype Corsiva"/>
              </a:rPr>
              <a:t>3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относятся только к плоскостям, и к ним необходимо добавить аксиомы о прямых, аналогичные соответствующим планиметрическим аксио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cc3399"/>
                </a:solidFill>
                <a:latin typeface="Monotype Corsiva"/>
              </a:rPr>
              <a:t>Таким образом, система аксиом стереометрии состоит из аксиом планиметрии и аксиом группы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Line 15"/>
          <p:cNvSpPr/>
          <p:nvPr/>
        </p:nvSpPr>
        <p:spPr>
          <a:xfrm>
            <a:off x="5076720" y="4941720"/>
            <a:ext cx="3240360" cy="1008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700000" y="620640"/>
            <a:ext cx="54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 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8137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ru-RU" sz="21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акова бы ни была прямая, существуют точки, принадлежащие этой   прямой, и точки, не принадлежащие 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ерез любые две точки можно провести прямую, и только од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7" descr="COBJ042"/>
          <p:cNvPicPr/>
          <p:nvPr/>
        </p:nvPicPr>
        <p:blipFill>
          <a:blip r:embed="rId1"/>
          <a:stretch/>
        </p:blipFill>
        <p:spPr>
          <a:xfrm>
            <a:off x="250920" y="189000"/>
            <a:ext cx="1481040" cy="2376360"/>
          </a:xfrm>
          <a:prstGeom prst="rect">
            <a:avLst/>
          </a:prstGeom>
          <a:ln w="0">
            <a:noFill/>
          </a:ln>
        </p:spPr>
      </p:pic>
      <p:sp>
        <p:nvSpPr>
          <p:cNvPr id="752" name="Line 8"/>
          <p:cNvSpPr/>
          <p:nvPr/>
        </p:nvSpPr>
        <p:spPr>
          <a:xfrm flipV="1">
            <a:off x="1258920" y="4508280"/>
            <a:ext cx="2592360" cy="143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3" name="Oval 9"/>
          <p:cNvSpPr/>
          <p:nvPr/>
        </p:nvSpPr>
        <p:spPr>
          <a:xfrm>
            <a:off x="2987640" y="5589720"/>
            <a:ext cx="71640" cy="7128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4" name="Oval 10"/>
          <p:cNvSpPr/>
          <p:nvPr/>
        </p:nvSpPr>
        <p:spPr>
          <a:xfrm>
            <a:off x="3132000" y="4869000"/>
            <a:ext cx="71640" cy="7128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5" name="Oval 11"/>
          <p:cNvSpPr/>
          <p:nvPr/>
        </p:nvSpPr>
        <p:spPr>
          <a:xfrm>
            <a:off x="1116000" y="5300640"/>
            <a:ext cx="71280" cy="7164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6" name="Oval 12"/>
          <p:cNvSpPr/>
          <p:nvPr/>
        </p:nvSpPr>
        <p:spPr>
          <a:xfrm>
            <a:off x="1979640" y="5516640"/>
            <a:ext cx="71280" cy="7128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7" name="Oval 13"/>
          <p:cNvSpPr/>
          <p:nvPr/>
        </p:nvSpPr>
        <p:spPr>
          <a:xfrm>
            <a:off x="7380360" y="5661000"/>
            <a:ext cx="71280" cy="7164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58" name="Oval 14"/>
          <p:cNvSpPr/>
          <p:nvPr/>
        </p:nvSpPr>
        <p:spPr>
          <a:xfrm>
            <a:off x="5867280" y="5157720"/>
            <a:ext cx="71640" cy="71640"/>
          </a:xfrm>
          <a:prstGeom prst="ellipse">
            <a:avLst/>
          </a:prstGeom>
          <a:solidFill>
            <a:srgbClr val="ff0000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000"/>
                            </p:stCondLst>
                            <p:childTnLst>
                              <p:par>
                                <p:cTn id="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842920" y="836640"/>
            <a:ext cx="52578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39280" y="2637000"/>
            <a:ext cx="82090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з трёх точек на прямой одна и только одна лежит между двумя другими</a:t>
            </a:r>
            <a:r>
              <a:rPr b="1" i="1" lang="ru-RU" sz="24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аждый отрезок имеет определённую длину, большую нуля. Длина отрезка равна сумме длин частей, на которые он разбивается любой его точ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1" name="Picture 4" descr="COBJ042"/>
          <p:cNvPicPr/>
          <p:nvPr/>
        </p:nvPicPr>
        <p:blipFill>
          <a:blip r:embed="rId1"/>
          <a:stretch/>
        </p:blipFill>
        <p:spPr>
          <a:xfrm>
            <a:off x="324000" y="115920"/>
            <a:ext cx="1569960" cy="2521080"/>
          </a:xfrm>
          <a:prstGeom prst="rect">
            <a:avLst/>
          </a:prstGeom>
          <a:ln w="0">
            <a:noFill/>
          </a:ln>
        </p:spPr>
      </p:pic>
      <p:sp>
        <p:nvSpPr>
          <p:cNvPr id="762" name="Line 5"/>
          <p:cNvSpPr/>
          <p:nvPr/>
        </p:nvSpPr>
        <p:spPr>
          <a:xfrm flipV="1">
            <a:off x="755640" y="4941720"/>
            <a:ext cx="3097080" cy="115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1258920" y="5877000"/>
            <a:ext cx="71280" cy="7128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2987640" y="5229360"/>
            <a:ext cx="71640" cy="7128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2195640" y="5516640"/>
            <a:ext cx="71280" cy="7128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6" name="Line 12"/>
          <p:cNvSpPr/>
          <p:nvPr/>
        </p:nvSpPr>
        <p:spPr>
          <a:xfrm>
            <a:off x="4859280" y="5300640"/>
            <a:ext cx="3384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7" name="Line 13"/>
          <p:cNvSpPr/>
          <p:nvPr/>
        </p:nvSpPr>
        <p:spPr>
          <a:xfrm>
            <a:off x="4859280" y="5229360"/>
            <a:ext cx="0" cy="144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8" name="Line 18"/>
          <p:cNvSpPr/>
          <p:nvPr/>
        </p:nvSpPr>
        <p:spPr>
          <a:xfrm>
            <a:off x="8244000" y="5229360"/>
            <a:ext cx="0" cy="144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69" name="Line 20"/>
          <p:cNvSpPr/>
          <p:nvPr/>
        </p:nvSpPr>
        <p:spPr>
          <a:xfrm flipV="1">
            <a:off x="7020000" y="5229000"/>
            <a:ext cx="0" cy="144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0" name="Rectangle 21"/>
          <p:cNvSpPr/>
          <p:nvPr/>
        </p:nvSpPr>
        <p:spPr>
          <a:xfrm>
            <a:off x="5224320" y="57340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В 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0 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1" name="Rectangle 22"/>
          <p:cNvSpPr/>
          <p:nvPr/>
        </p:nvSpPr>
        <p:spPr>
          <a:xfrm>
            <a:off x="464508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2" name="Rectangle 23"/>
          <p:cNvSpPr/>
          <p:nvPr/>
        </p:nvSpPr>
        <p:spPr>
          <a:xfrm>
            <a:off x="8029800" y="47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3" name="Rectangle 24"/>
          <p:cNvSpPr/>
          <p:nvPr/>
        </p:nvSpPr>
        <p:spPr>
          <a:xfrm>
            <a:off x="680580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4" name="Rectangle 21"/>
          <p:cNvSpPr/>
          <p:nvPr/>
        </p:nvSpPr>
        <p:spPr>
          <a:xfrm>
            <a:off x="6593040" y="573264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В = АС + СВ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5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7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59280" y="907920"/>
            <a:ext cx="5256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5802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V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1" lang="ru-RU" sz="17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ямая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надлежаща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плоскости, разбивает эту плоскость на две полуплоск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7" name="Picture 4" descr="COBJ042"/>
          <p:cNvPicPr/>
          <p:nvPr/>
        </p:nvPicPr>
        <p:blipFill>
          <a:blip r:embed="rId1"/>
          <a:stretch/>
        </p:blipFill>
        <p:spPr>
          <a:xfrm>
            <a:off x="395280" y="260280"/>
            <a:ext cx="1371600" cy="2203560"/>
          </a:xfrm>
          <a:prstGeom prst="rect">
            <a:avLst/>
          </a:prstGeom>
          <a:ln w="0">
            <a:noFill/>
          </a:ln>
        </p:spPr>
      </p:pic>
      <p:sp>
        <p:nvSpPr>
          <p:cNvPr id="778" name="AutoShape 5"/>
          <p:cNvSpPr/>
          <p:nvPr/>
        </p:nvSpPr>
        <p:spPr>
          <a:xfrm>
            <a:off x="2411280" y="4365720"/>
            <a:ext cx="3240360" cy="1224000"/>
          </a:xfrm>
          <a:prstGeom prst="parallelogram">
            <a:avLst>
              <a:gd name="adj" fmla="val 62556"/>
            </a:avLst>
          </a:prstGeom>
          <a:gradFill rotWithShape="0">
            <a:gsLst>
              <a:gs pos="0">
                <a:srgbClr val="ffe1ff"/>
              </a:gs>
              <a:gs pos="100000">
                <a:srgbClr val="ffea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79" name="Равнобедренный треугольник 10"/>
          <p:cNvSpPr/>
          <p:nvPr/>
        </p:nvSpPr>
        <p:spPr>
          <a:xfrm rot="9601800">
            <a:off x="2453760" y="4995360"/>
            <a:ext cx="3427560" cy="855720"/>
          </a:xfrm>
          <a:prstGeom prst="triangle">
            <a:avLst>
              <a:gd name="adj" fmla="val 33153"/>
            </a:avLst>
          </a:prstGeom>
          <a:solidFill>
            <a:srgbClr val="d60093">
              <a:alpha val="52000"/>
            </a:srgbClr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0" name="Line 8"/>
          <p:cNvSpPr/>
          <p:nvPr/>
        </p:nvSpPr>
        <p:spPr>
          <a:xfrm flipV="1">
            <a:off x="2411280" y="4437000"/>
            <a:ext cx="3168720" cy="1152720"/>
          </a:xfrm>
          <a:prstGeom prst="line">
            <a:avLst/>
          </a:prstGeom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1" name="Равнобедренный треугольник 11"/>
          <p:cNvSpPr/>
          <p:nvPr/>
        </p:nvSpPr>
        <p:spPr>
          <a:xfrm rot="20401800">
            <a:off x="2166480" y="4132080"/>
            <a:ext cx="3425760" cy="853920"/>
          </a:xfrm>
          <a:prstGeom prst="triangle">
            <a:avLst>
              <a:gd name="adj" fmla="val 33153"/>
            </a:avLst>
          </a:prstGeom>
          <a:solidFill>
            <a:srgbClr val="00ff00">
              <a:alpha val="52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0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Прямая соединительная линия 26"/>
          <p:cNvSpPr/>
          <p:nvPr/>
        </p:nvSpPr>
        <p:spPr>
          <a:xfrm>
            <a:off x="6659640" y="4724280"/>
            <a:ext cx="1657440" cy="0"/>
          </a:xfrm>
          <a:prstGeom prst="line">
            <a:avLst/>
          </a:prstGeom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3924360" y="5229360"/>
            <a:ext cx="12952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ВС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0     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ar-AE" sz="20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ے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ВС =    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59280" y="836640"/>
            <a:ext cx="5256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5802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lang="ru-RU" sz="22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аждый угол имеет определённую градусную меру, большую нуля. Развёрнутый угол равен 180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º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Градусная мера угла равна сумме градусных мер углов, на которые он разбивается любым лучом, проходящим между его сторон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6" descr="COBJ042"/>
          <p:cNvPicPr/>
          <p:nvPr/>
        </p:nvPicPr>
        <p:blipFill>
          <a:blip r:embed="rId1"/>
          <a:stretch/>
        </p:blipFill>
        <p:spPr>
          <a:xfrm>
            <a:off x="250920" y="189000"/>
            <a:ext cx="1371600" cy="2203200"/>
          </a:xfrm>
          <a:prstGeom prst="rect">
            <a:avLst/>
          </a:prstGeom>
          <a:ln w="0">
            <a:noFill/>
          </a:ln>
        </p:spPr>
      </p:pic>
      <p:sp>
        <p:nvSpPr>
          <p:cNvPr id="787" name="Line 9"/>
          <p:cNvSpPr/>
          <p:nvPr/>
        </p:nvSpPr>
        <p:spPr>
          <a:xfrm flipV="1">
            <a:off x="1476360" y="4220640"/>
            <a:ext cx="1800360" cy="129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1476360" y="5516640"/>
            <a:ext cx="194472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89" name="Freeform 11"/>
          <p:cNvSpPr/>
          <p:nvPr/>
        </p:nvSpPr>
        <p:spPr>
          <a:xfrm>
            <a:off x="1979640" y="5157720"/>
            <a:ext cx="227160" cy="479520"/>
          </a:xfrm>
          <a:custGeom>
            <a:avLst/>
            <a:gdLst>
              <a:gd name="textAreaLeft" fmla="*/ 0 w 227160"/>
              <a:gd name="textAreaRight" fmla="*/ 227520 w 2271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76" h="144">
                <a:moveTo>
                  <a:pt x="0" y="0"/>
                </a:moveTo>
                <a:cubicBezTo>
                  <a:pt x="30" y="10"/>
                  <a:pt x="44" y="30"/>
                  <a:pt x="62" y="55"/>
                </a:cubicBezTo>
                <a:cubicBezTo>
                  <a:pt x="76" y="98"/>
                  <a:pt x="69" y="69"/>
                  <a:pt x="69" y="144"/>
                </a:cubicBez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0" name="Line 12"/>
          <p:cNvSpPr/>
          <p:nvPr/>
        </p:nvSpPr>
        <p:spPr>
          <a:xfrm flipV="1">
            <a:off x="1476360" y="4797360"/>
            <a:ext cx="2160720" cy="720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1" name="Freeform 13"/>
          <p:cNvSpPr/>
          <p:nvPr/>
        </p:nvSpPr>
        <p:spPr>
          <a:xfrm>
            <a:off x="2050920" y="5300640"/>
            <a:ext cx="42840" cy="271440"/>
          </a:xfrm>
          <a:custGeom>
            <a:avLst/>
            <a:gdLst>
              <a:gd name="textAreaLeft" fmla="*/ 0 w 42840"/>
              <a:gd name="textAreaRight" fmla="*/ 43200 w 428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7" h="171">
                <a:moveTo>
                  <a:pt x="0" y="0"/>
                </a:moveTo>
                <a:cubicBezTo>
                  <a:pt x="16" y="24"/>
                  <a:pt x="17" y="48"/>
                  <a:pt x="27" y="75"/>
                </a:cubicBezTo>
                <a:cubicBezTo>
                  <a:pt x="20" y="162"/>
                  <a:pt x="20" y="130"/>
                  <a:pt x="20" y="171"/>
                </a:cubicBez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3354120" y="400536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А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1117080" y="522936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В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3432600" y="56610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С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5" name="Rectangle 19"/>
          <p:cNvSpPr/>
          <p:nvPr/>
        </p:nvSpPr>
        <p:spPr>
          <a:xfrm>
            <a:off x="3723120" y="45813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Е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6" name="Прямая соединительная линия 20"/>
          <p:cNvSpPr/>
          <p:nvPr/>
        </p:nvSpPr>
        <p:spPr>
          <a:xfrm>
            <a:off x="5003640" y="4724280"/>
            <a:ext cx="1656000" cy="0"/>
          </a:xfrm>
          <a:prstGeom prst="line">
            <a:avLst/>
          </a:prstGeom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7" name="Овал 24"/>
          <p:cNvSpPr/>
          <p:nvPr/>
        </p:nvSpPr>
        <p:spPr>
          <a:xfrm>
            <a:off x="6588000" y="4653000"/>
            <a:ext cx="144720" cy="1443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8" name="Дуга 27"/>
          <p:cNvSpPr/>
          <p:nvPr/>
        </p:nvSpPr>
        <p:spPr>
          <a:xfrm rot="18960600">
            <a:off x="6173640" y="4544640"/>
            <a:ext cx="1103400" cy="1120680"/>
          </a:xfrm>
          <a:custGeom>
            <a:avLst/>
            <a:gdLst>
              <a:gd name="textAreaLeft" fmla="*/ 551880 w 1103400"/>
              <a:gd name="textAreaRight" fmla="*/ 1103760 w 1103400"/>
              <a:gd name="textAreaTop" fmla="*/ 0 h 1120680"/>
              <a:gd name="textAreaBottom" fmla="*/ 560520 h 1120680"/>
            </a:gdLst>
            <a:ahLst/>
            <a:rect l="textAreaLeft" t="textAreaTop" r="textAreaRight" b="textAreaBottom"/>
            <a:pathLst>
              <a:path stroke="0" w="1103312" h="1120775">
                <a:moveTo>
                  <a:pt x="551657" y="0"/>
                </a:moveTo>
                <a:lnTo>
                  <a:pt x="551657" y="0"/>
                </a:lnTo>
                <a:arcTo wR="551656" hR="560388" stAng="-5399994" swAng="5400000"/>
                <a:lnTo>
                  <a:pt x="551656" y="560388"/>
                </a:lnTo>
                <a:close/>
              </a:path>
              <a:path fill="none" w="1103312" h="1120775">
                <a:moveTo>
                  <a:pt x="551657" y="0"/>
                </a:moveTo>
                <a:lnTo>
                  <a:pt x="551657" y="0"/>
                </a:lnTo>
                <a:arcTo wR="551656" hR="560388" stAng="-5399994" swAng="5400000"/>
              </a:path>
            </a:pathLst>
          </a:custGeom>
          <a:noFill/>
          <a:ln w="255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99" name="Rectangle 19"/>
          <p:cNvSpPr/>
          <p:nvPr/>
        </p:nvSpPr>
        <p:spPr>
          <a:xfrm>
            <a:off x="6349680" y="414972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Rage Italic"/>
              </a:rPr>
              <a:t>180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°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5076720" y="5661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ے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ВЕ +   </a:t>
            </a:r>
            <a:r>
              <a:rPr b="1" lang="ar-AE" sz="20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ے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Е</a:t>
            </a:r>
            <a:endParaRPr b="0" lang="en-US" sz="20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6000"/>
                            </p:stCondLst>
                            <p:childTnLst>
                              <p:par>
                                <p:cTn id="7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7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9500"/>
                            </p:stCondLst>
                            <p:childTnLst>
                              <p:par>
                                <p:cTn id="7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3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Параллелограмм 20"/>
          <p:cNvSpPr/>
          <p:nvPr/>
        </p:nvSpPr>
        <p:spPr>
          <a:xfrm>
            <a:off x="4643280" y="4653000"/>
            <a:ext cx="3529080" cy="1490760"/>
          </a:xfrm>
          <a:prstGeom prst="parallelogram">
            <a:avLst>
              <a:gd name="adj" fmla="val 24999"/>
            </a:avLst>
          </a:prstGeom>
          <a:solidFill>
            <a:srgbClr val="ff99ff">
              <a:alpha val="41000"/>
            </a:srgbClr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532764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11280" y="2593800"/>
            <a:ext cx="7827840" cy="22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I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</a:t>
            </a:r>
            <a:r>
              <a:rPr b="0" i="1" lang="ru-RU" sz="17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любой полупрямой от её начальной точки можно отложить отрезок заданной длины, и только од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II</a:t>
            </a:r>
            <a:r>
              <a:rPr b="1" lang="ru-RU" sz="19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 полупрямой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а содержащей её плоскост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заданную полуплоскость можно отложить угол с заданной градусной мерой, меньшей 180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º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и только од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4" name="Picture 4" descr="COBJ042"/>
          <p:cNvPicPr/>
          <p:nvPr/>
        </p:nvPicPr>
        <p:blipFill>
          <a:blip r:embed="rId1"/>
          <a:stretch/>
        </p:blipFill>
        <p:spPr>
          <a:xfrm>
            <a:off x="324000" y="115920"/>
            <a:ext cx="1523880" cy="2448000"/>
          </a:xfrm>
          <a:prstGeom prst="rect">
            <a:avLst/>
          </a:prstGeom>
          <a:ln w="0">
            <a:noFill/>
          </a:ln>
        </p:spPr>
      </p:pic>
      <p:sp>
        <p:nvSpPr>
          <p:cNvPr id="805" name="Line 5"/>
          <p:cNvSpPr/>
          <p:nvPr/>
        </p:nvSpPr>
        <p:spPr>
          <a:xfrm>
            <a:off x="971640" y="5445000"/>
            <a:ext cx="251928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6" name="Oval 7"/>
          <p:cNvSpPr/>
          <p:nvPr/>
        </p:nvSpPr>
        <p:spPr>
          <a:xfrm>
            <a:off x="900000" y="5373720"/>
            <a:ext cx="73080" cy="69840"/>
          </a:xfrm>
          <a:prstGeom prst="ellipse">
            <a:avLst/>
          </a:prstGeom>
          <a:solidFill>
            <a:srgbClr val="000080"/>
          </a:solidFill>
          <a:ln w="41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7" name="Line 8"/>
          <p:cNvSpPr/>
          <p:nvPr/>
        </p:nvSpPr>
        <p:spPr>
          <a:xfrm flipV="1">
            <a:off x="5076720" y="5805360"/>
            <a:ext cx="2519640" cy="217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8" name="Oval 9"/>
          <p:cNvSpPr/>
          <p:nvPr/>
        </p:nvSpPr>
        <p:spPr>
          <a:xfrm>
            <a:off x="5076720" y="5950080"/>
            <a:ext cx="73080" cy="69840"/>
          </a:xfrm>
          <a:prstGeom prst="ellipse">
            <a:avLst/>
          </a:prstGeom>
          <a:solidFill>
            <a:srgbClr val="0000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09" name="Line 10"/>
          <p:cNvSpPr/>
          <p:nvPr/>
        </p:nvSpPr>
        <p:spPr>
          <a:xfrm flipV="1">
            <a:off x="5148360" y="4797360"/>
            <a:ext cx="1871640" cy="1152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0" name="Freeform 11"/>
          <p:cNvSpPr/>
          <p:nvPr/>
        </p:nvSpPr>
        <p:spPr>
          <a:xfrm>
            <a:off x="5580000" y="5661000"/>
            <a:ext cx="228600" cy="308160"/>
          </a:xfrm>
          <a:custGeom>
            <a:avLst/>
            <a:gdLst>
              <a:gd name="textAreaLeft" fmla="*/ 0 w 228600"/>
              <a:gd name="textAreaRight" fmla="*/ 228960 w 228600"/>
              <a:gd name="textAreaTop" fmla="*/ 0 h 308160"/>
              <a:gd name="textAreaBottom" fmla="*/ 308160 h 308160"/>
            </a:gdLst>
            <a:ahLst/>
            <a:rect l="textAreaLeft" t="textAreaTop" r="textAreaRight" b="textAreaBottom"/>
            <a:pathLst>
              <a:path w="144" h="103">
                <a:moveTo>
                  <a:pt x="0" y="0"/>
                </a:moveTo>
                <a:cubicBezTo>
                  <a:pt x="35" y="14"/>
                  <a:pt x="71" y="20"/>
                  <a:pt x="103" y="41"/>
                </a:cubicBezTo>
                <a:cubicBezTo>
                  <a:pt x="119" y="63"/>
                  <a:pt x="126" y="85"/>
                  <a:pt x="144" y="103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1" name="Line 13"/>
          <p:cNvSpPr/>
          <p:nvPr/>
        </p:nvSpPr>
        <p:spPr>
          <a:xfrm flipV="1">
            <a:off x="2268360" y="5300280"/>
            <a:ext cx="0" cy="28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2" name="Rectangle 14"/>
          <p:cNvSpPr/>
          <p:nvPr/>
        </p:nvSpPr>
        <p:spPr>
          <a:xfrm>
            <a:off x="541080" y="49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3" name="Rectangle 15"/>
          <p:cNvSpPr/>
          <p:nvPr/>
        </p:nvSpPr>
        <p:spPr>
          <a:xfrm>
            <a:off x="320544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4" name="Rectangle 16"/>
          <p:cNvSpPr/>
          <p:nvPr/>
        </p:nvSpPr>
        <p:spPr>
          <a:xfrm>
            <a:off x="2053080" y="4797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5" name="Rectangle 17"/>
          <p:cNvSpPr/>
          <p:nvPr/>
        </p:nvSpPr>
        <p:spPr>
          <a:xfrm>
            <a:off x="133200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К = 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6" name="Rectangle 18"/>
          <p:cNvSpPr/>
          <p:nvPr/>
        </p:nvSpPr>
        <p:spPr>
          <a:xfrm>
            <a:off x="7524720" y="551664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7" name="Rectangle 19"/>
          <p:cNvSpPr/>
          <p:nvPr/>
        </p:nvSpPr>
        <p:spPr>
          <a:xfrm>
            <a:off x="4789440" y="551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8" name="Rectangle 20"/>
          <p:cNvSpPr/>
          <p:nvPr/>
        </p:nvSpPr>
        <p:spPr>
          <a:xfrm>
            <a:off x="709524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19" name="Line 21"/>
          <p:cNvSpPr/>
          <p:nvPr/>
        </p:nvSpPr>
        <p:spPr>
          <a:xfrm>
            <a:off x="971640" y="5445000"/>
            <a:ext cx="129672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0" name="Rectangle 17"/>
          <p:cNvSpPr/>
          <p:nvPr/>
        </p:nvSpPr>
        <p:spPr>
          <a:xfrm>
            <a:off x="1258920" y="501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000"/>
                            </p:stCondLst>
                            <p:childTnLst>
                              <p:par>
                                <p:cTn id="8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8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75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араллелограмм 8"/>
          <p:cNvSpPr/>
          <p:nvPr/>
        </p:nvSpPr>
        <p:spPr>
          <a:xfrm>
            <a:off x="4932360" y="4149720"/>
            <a:ext cx="3600360" cy="1849320"/>
          </a:xfrm>
          <a:prstGeom prst="parallelogram">
            <a:avLst>
              <a:gd name="adj" fmla="val 25003"/>
            </a:avLst>
          </a:prstGeom>
          <a:solidFill>
            <a:srgbClr val="00ff00">
              <a:alpha val="21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771640" y="764640"/>
            <a:ext cx="55548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III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ов бы ни был треугольник, существует равный ему треугольник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 данной плоскост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заданном расположении относительно данной полупрямой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 этой плоскост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4" name="Picture 5" descr="COBJ042"/>
          <p:cNvPicPr/>
          <p:nvPr/>
        </p:nvPicPr>
        <p:blipFill>
          <a:blip r:embed="rId1"/>
          <a:stretch/>
        </p:blipFill>
        <p:spPr>
          <a:xfrm>
            <a:off x="179280" y="0"/>
            <a:ext cx="1508400" cy="242100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6"/>
          <p:cNvSpPr/>
          <p:nvPr/>
        </p:nvSpPr>
        <p:spPr>
          <a:xfrm>
            <a:off x="1332000" y="4724280"/>
            <a:ext cx="1657440" cy="1057320"/>
          </a:xfrm>
          <a:prstGeom prst="triangle">
            <a:avLst>
              <a:gd name="adj" fmla="val 50000"/>
            </a:avLst>
          </a:prstGeom>
          <a:solidFill>
            <a:srgbClr val="ff00ff">
              <a:alpha val="42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6" name="Line 7"/>
          <p:cNvSpPr/>
          <p:nvPr/>
        </p:nvSpPr>
        <p:spPr>
          <a:xfrm flipV="1">
            <a:off x="5292720" y="4723920"/>
            <a:ext cx="2951280" cy="1081080"/>
          </a:xfrm>
          <a:prstGeom prst="line">
            <a:avLst/>
          </a:prstGeom>
          <a:ln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7" name="Oval 8"/>
          <p:cNvSpPr/>
          <p:nvPr/>
        </p:nvSpPr>
        <p:spPr>
          <a:xfrm>
            <a:off x="5292720" y="5732640"/>
            <a:ext cx="69840" cy="792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28" name="AutoShape 9"/>
          <p:cNvSpPr/>
          <p:nvPr/>
        </p:nvSpPr>
        <p:spPr>
          <a:xfrm rot="20370600">
            <a:off x="5713560" y="4260600"/>
            <a:ext cx="1657080" cy="10573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500"/>
                            </p:stCondLst>
                            <p:childTnLst>
                              <p:par>
                                <p:cTn id="9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627280" y="1052280"/>
            <a:ext cx="540072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109000" cy="18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X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а плоскост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через данную точку, не лежащую на данной прямой, можно провести не более одной прямой, параллельной данн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Picture 4" descr="COBJ042"/>
          <p:cNvPicPr/>
          <p:nvPr/>
        </p:nvPicPr>
        <p:blipFill>
          <a:blip r:embed="rId1"/>
          <a:stretch/>
        </p:blipFill>
        <p:spPr>
          <a:xfrm>
            <a:off x="179280" y="0"/>
            <a:ext cx="1508400" cy="2421000"/>
          </a:xfrm>
          <a:prstGeom prst="rect">
            <a:avLst/>
          </a:prstGeom>
          <a:ln w="0">
            <a:noFill/>
          </a:ln>
        </p:spPr>
      </p:pic>
      <p:sp>
        <p:nvSpPr>
          <p:cNvPr id="832" name="AutoShape 5"/>
          <p:cNvSpPr/>
          <p:nvPr/>
        </p:nvSpPr>
        <p:spPr>
          <a:xfrm>
            <a:off x="2195640" y="4221000"/>
            <a:ext cx="4392360" cy="1584360"/>
          </a:xfrm>
          <a:prstGeom prst="parallelogram">
            <a:avLst>
              <a:gd name="adj" fmla="val 69308"/>
            </a:avLst>
          </a:prstGeom>
          <a:solidFill>
            <a:srgbClr val="cce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6"/>
              <p:cNvSpPr txBox="1"/>
              <p:nvPr/>
            </p:nvSpPr>
            <p:spPr>
              <a:xfrm>
                <a:off x="2411280" y="5445000"/>
                <a:ext cx="34776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4" name="Oval 8"/>
          <p:cNvSpPr/>
          <p:nvPr/>
        </p:nvSpPr>
        <p:spPr>
          <a:xfrm>
            <a:off x="4284720" y="5300640"/>
            <a:ext cx="69840" cy="795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35" name="Line 9"/>
          <p:cNvSpPr/>
          <p:nvPr/>
        </p:nvSpPr>
        <p:spPr>
          <a:xfrm>
            <a:off x="3419640" y="4653000"/>
            <a:ext cx="2376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36" name="Line 10"/>
          <p:cNvSpPr/>
          <p:nvPr/>
        </p:nvSpPr>
        <p:spPr>
          <a:xfrm>
            <a:off x="3203640" y="5373720"/>
            <a:ext cx="2376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000"/>
                            </p:stCondLst>
                            <p:childTnLst>
                              <p:par>
                                <p:cTn id="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0"/>
                            </p:stCondLst>
                            <p:childTnLst>
                              <p:par>
                                <p:cTn id="9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7000"/>
                            </p:stCondLst>
                            <p:childTnLst>
                              <p:par>
                                <p:cTn id="9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771640" y="1052280"/>
            <a:ext cx="540072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истема аксиом </a:t>
            </a:r>
            <a:br>
              <a:rPr sz="4800"/>
            </a:br>
            <a:r>
              <a:rPr b="0" lang="ru-RU" sz="4800" spc="-1" strike="noStrike">
                <a:solidFill>
                  <a:srgbClr val="cc3300"/>
                </a:solidFill>
                <a:latin typeface="Comic Sans MS"/>
              </a:rPr>
              <a:t>стереометри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56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13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кова бы ни была плоскость, существуют точки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инадлежащие этой плоскости, и точки, 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ринадлежащие 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</a:t>
            </a:r>
            <a:r>
              <a:rPr b="1" lang="ru-RU" sz="20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Если две различные плоскости имеют общую точку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то они пересекаются по прямой, проходящей через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33cc"/>
                </a:solidFill>
                <a:latin typeface="Times New Roman"/>
              </a:rPr>
              <a:t>эту точк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Если две различные прямые имеют общую точку, т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через них можно провести плоскость, и прит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2200" spc="-1" strike="noStrike">
                <a:solidFill>
                  <a:srgbClr val="a50021"/>
                </a:solidFill>
                <a:latin typeface="Times New Roman"/>
              </a:rPr>
              <a:t>только одну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9" name="Picture 4" descr="COBJ042"/>
          <p:cNvPicPr/>
          <p:nvPr/>
        </p:nvPicPr>
        <p:blipFill>
          <a:blip r:embed="rId1"/>
          <a:stretch/>
        </p:blipFill>
        <p:spPr>
          <a:xfrm>
            <a:off x="179280" y="0"/>
            <a:ext cx="150840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"/>
                            </p:stCondLst>
                            <p:childTnLst>
                              <p:par>
                                <p:cTn id="9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4850"/>
                            </p:stCondLst>
                            <p:childTnLst>
                              <p:par>
                                <p:cTn id="9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650"/>
                            </p:stCondLst>
                            <p:childTnLst>
                              <p:par>
                                <p:cTn id="9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150"/>
                            </p:stCondLst>
                            <p:childTnLst>
                              <p:par>
                                <p:cTn id="10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600"/>
                            </p:stCondLst>
                            <p:childTnLst>
                              <p:par>
                                <p:cTn id="10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950"/>
                            </p:stCondLst>
                            <p:childTnLst>
                              <p:par>
                                <p:cTn id="10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8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Стереометрия – это раздел геометрии, в котором изучаются фигуры в пространств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В стереометрии, также как и в планиметрии, свойства геометрических фигур устанавливаются путём доказательства соответствующих теоре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При этом отправными являются свойства основных геометрических фигур, сформулированных в виде аксио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85" name="Picture 6" descr="AG00135_"/>
          <p:cNvPicPr/>
          <p:nvPr/>
        </p:nvPicPr>
        <p:blipFill>
          <a:blip r:embed="rId1"/>
          <a:stretch/>
        </p:blipFill>
        <p:spPr>
          <a:xfrm>
            <a:off x="1187280" y="476280"/>
            <a:ext cx="3095640" cy="10047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AG00135_"/>
          <p:cNvPicPr/>
          <p:nvPr/>
        </p:nvPicPr>
        <p:blipFill>
          <a:blip r:embed="rId2"/>
          <a:stretch/>
        </p:blipFill>
        <p:spPr>
          <a:xfrm>
            <a:off x="4932360" y="449280"/>
            <a:ext cx="324000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20072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рисунку ответьте на вопросы: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Rage Italic"/>
              </a:rPr>
              <a:t>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Rage Italic"/>
              </a:rPr>
              <a:t> 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Какие точки принадлежат плоскости </a:t>
            </a:r>
            <a:r>
              <a:rPr b="1" i="1" lang="el-GR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Какие точки не принадлежат плоскости </a:t>
            </a:r>
            <a:r>
              <a:rPr b="1" i="1" lang="el-GR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α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13"/>
          <p:cNvSpPr/>
          <p:nvPr/>
        </p:nvSpPr>
        <p:spPr>
          <a:xfrm>
            <a:off x="3419640" y="2276640"/>
            <a:ext cx="4681440" cy="1439640"/>
          </a:xfrm>
          <a:prstGeom prst="parallelogram">
            <a:avLst>
              <a:gd name="adj" fmla="val 81295"/>
            </a:avLst>
          </a:prstGeom>
          <a:solidFill>
            <a:srgbClr val="00ff00">
              <a:alpha val="17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3" name="Line 14"/>
          <p:cNvSpPr/>
          <p:nvPr/>
        </p:nvSpPr>
        <p:spPr>
          <a:xfrm flipH="1">
            <a:off x="5364000" y="1197000"/>
            <a:ext cx="936720" cy="1655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4" name="Line 15"/>
          <p:cNvSpPr/>
          <p:nvPr/>
        </p:nvSpPr>
        <p:spPr>
          <a:xfrm>
            <a:off x="5940360" y="1197000"/>
            <a:ext cx="360360" cy="18716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5" name="Line 16"/>
          <p:cNvSpPr/>
          <p:nvPr/>
        </p:nvSpPr>
        <p:spPr>
          <a:xfrm flipH="1">
            <a:off x="4858920" y="2852640"/>
            <a:ext cx="506520" cy="86364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6" name="Line 17"/>
          <p:cNvSpPr/>
          <p:nvPr/>
        </p:nvSpPr>
        <p:spPr>
          <a:xfrm flipH="1">
            <a:off x="4211640" y="3716280"/>
            <a:ext cx="649440" cy="1152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7" name="Line 19"/>
          <p:cNvSpPr/>
          <p:nvPr/>
        </p:nvSpPr>
        <p:spPr>
          <a:xfrm>
            <a:off x="6300720" y="3068640"/>
            <a:ext cx="142920" cy="64764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8" name="Line 20"/>
          <p:cNvSpPr/>
          <p:nvPr/>
        </p:nvSpPr>
        <p:spPr>
          <a:xfrm>
            <a:off x="6443640" y="3716280"/>
            <a:ext cx="360360" cy="1728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49" name="Oval 24"/>
          <p:cNvSpPr/>
          <p:nvPr/>
        </p:nvSpPr>
        <p:spPr>
          <a:xfrm>
            <a:off x="5292720" y="2852640"/>
            <a:ext cx="73080" cy="7164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0" name="Oval 25"/>
          <p:cNvSpPr/>
          <p:nvPr/>
        </p:nvSpPr>
        <p:spPr>
          <a:xfrm>
            <a:off x="5292720" y="2852640"/>
            <a:ext cx="73080" cy="7164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1" name="Oval 27"/>
          <p:cNvSpPr/>
          <p:nvPr/>
        </p:nvSpPr>
        <p:spPr>
          <a:xfrm>
            <a:off x="6300720" y="3141720"/>
            <a:ext cx="73080" cy="7128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2" name="Oval 28"/>
          <p:cNvSpPr/>
          <p:nvPr/>
        </p:nvSpPr>
        <p:spPr>
          <a:xfrm>
            <a:off x="4500720" y="4221000"/>
            <a:ext cx="72720" cy="7164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3" name="Oval 29"/>
          <p:cNvSpPr/>
          <p:nvPr/>
        </p:nvSpPr>
        <p:spPr>
          <a:xfrm>
            <a:off x="6588000" y="4508640"/>
            <a:ext cx="73080" cy="7128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4" name="Oval 30"/>
          <p:cNvSpPr/>
          <p:nvPr/>
        </p:nvSpPr>
        <p:spPr>
          <a:xfrm>
            <a:off x="6012000" y="1628640"/>
            <a:ext cx="72720" cy="71640"/>
          </a:xfrm>
          <a:prstGeom prst="ellipse">
            <a:avLst/>
          </a:prstGeom>
          <a:solidFill>
            <a:srgbClr val="cc3300"/>
          </a:solidFill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31"/>
              <p:cNvSpPr txBox="1"/>
              <p:nvPr/>
            </p:nvSpPr>
            <p:spPr>
              <a:xfrm>
                <a:off x="3780000" y="3359160"/>
                <a:ext cx="358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Rectangle 32"/>
          <p:cNvSpPr/>
          <p:nvPr/>
        </p:nvSpPr>
        <p:spPr>
          <a:xfrm>
            <a:off x="4790160" y="24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7" name="Rectangle 33"/>
          <p:cNvSpPr/>
          <p:nvPr/>
        </p:nvSpPr>
        <p:spPr>
          <a:xfrm>
            <a:off x="6374520" y="270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8" name="Rectangle 34"/>
          <p:cNvSpPr/>
          <p:nvPr/>
        </p:nvSpPr>
        <p:spPr>
          <a:xfrm>
            <a:off x="6158520" y="1411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59" name="Rectangle 35"/>
          <p:cNvSpPr/>
          <p:nvPr/>
        </p:nvSpPr>
        <p:spPr>
          <a:xfrm>
            <a:off x="4069440" y="393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60" name="Rectangle 36"/>
          <p:cNvSpPr/>
          <p:nvPr/>
        </p:nvSpPr>
        <p:spPr>
          <a:xfrm>
            <a:off x="6734160" y="4219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pic>
        <p:nvPicPr>
          <p:cNvPr id="861" name="Picture 37" descr="FAQ"/>
          <p:cNvPicPr/>
          <p:nvPr/>
        </p:nvPicPr>
        <p:blipFill>
          <a:blip r:embed="rId1"/>
          <a:stretch/>
        </p:blipFill>
        <p:spPr>
          <a:xfrm>
            <a:off x="7149960" y="4221000"/>
            <a:ext cx="180036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8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7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8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8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4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32" descr="OWL"/>
          <p:cNvPicPr/>
          <p:nvPr/>
        </p:nvPicPr>
        <p:blipFill>
          <a:blip r:embed="rId1"/>
          <a:stretch/>
        </p:blipFill>
        <p:spPr>
          <a:xfrm>
            <a:off x="395280" y="260280"/>
            <a:ext cx="15858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863" name="Group 9"/>
          <p:cNvGrpSpPr/>
          <p:nvPr/>
        </p:nvGrpSpPr>
        <p:grpSpPr>
          <a:xfrm>
            <a:off x="395280" y="2708280"/>
            <a:ext cx="3239280" cy="2787120"/>
            <a:chOff x="395280" y="2708280"/>
            <a:chExt cx="3239280" cy="2787120"/>
          </a:xfrm>
        </p:grpSpPr>
        <p:sp>
          <p:nvSpPr>
            <p:cNvPr id="864" name="Line 10"/>
            <p:cNvSpPr/>
            <p:nvPr/>
          </p:nvSpPr>
          <p:spPr>
            <a:xfrm flipV="1">
              <a:off x="480240" y="4537080"/>
              <a:ext cx="3069360" cy="1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65" name="Freeform 11"/>
            <p:cNvSpPr/>
            <p:nvPr/>
          </p:nvSpPr>
          <p:spPr>
            <a:xfrm>
              <a:off x="395280" y="2708280"/>
              <a:ext cx="1619640" cy="2787120"/>
            </a:xfrm>
            <a:custGeom>
              <a:avLst/>
              <a:gdLst>
                <a:gd name="textAreaLeft" fmla="*/ 0 w 1619640"/>
                <a:gd name="textAreaRight" fmla="*/ 1620000 w 16196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48" h="1824">
                  <a:moveTo>
                    <a:pt x="0" y="1200"/>
                  </a:moveTo>
                  <a:lnTo>
                    <a:pt x="720" y="1824"/>
                  </a:lnTo>
                  <a:lnTo>
                    <a:pt x="1248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66" name="Freeform 12"/>
            <p:cNvSpPr/>
            <p:nvPr/>
          </p:nvSpPr>
          <p:spPr>
            <a:xfrm>
              <a:off x="1332720" y="2708280"/>
              <a:ext cx="2301840" cy="2787120"/>
            </a:xfrm>
            <a:custGeom>
              <a:avLst/>
              <a:gdLst>
                <a:gd name="textAreaLeft" fmla="*/ 0 w 2301840"/>
                <a:gd name="textAreaRight" fmla="*/ 2302200 w 23018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96" h="1536">
                  <a:moveTo>
                    <a:pt x="0" y="1536"/>
                  </a:moveTo>
                  <a:lnTo>
                    <a:pt x="384" y="0"/>
                  </a:lnTo>
                  <a:lnTo>
                    <a:pt x="1296" y="1008"/>
                  </a:lnTo>
                  <a:lnTo>
                    <a:pt x="0" y="15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867" name="Text Box 13"/>
          <p:cNvSpPr/>
          <p:nvPr/>
        </p:nvSpPr>
        <p:spPr>
          <a:xfrm>
            <a:off x="111816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68" name="Text Box 14"/>
          <p:cNvSpPr/>
          <p:nvPr/>
        </p:nvSpPr>
        <p:spPr>
          <a:xfrm>
            <a:off x="179280" y="400536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69" name="Text Box 15"/>
          <p:cNvSpPr/>
          <p:nvPr/>
        </p:nvSpPr>
        <p:spPr>
          <a:xfrm>
            <a:off x="3566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0" name="Text Box 17"/>
          <p:cNvSpPr/>
          <p:nvPr/>
        </p:nvSpPr>
        <p:spPr>
          <a:xfrm>
            <a:off x="3278160" y="36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1" name="Text Box 18"/>
          <p:cNvSpPr/>
          <p:nvPr/>
        </p:nvSpPr>
        <p:spPr>
          <a:xfrm>
            <a:off x="18000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2" name="Oval 19"/>
          <p:cNvSpPr/>
          <p:nvPr/>
        </p:nvSpPr>
        <p:spPr>
          <a:xfrm>
            <a:off x="684360" y="4869000"/>
            <a:ext cx="9828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3" name="Oval 20"/>
          <p:cNvSpPr/>
          <p:nvPr/>
        </p:nvSpPr>
        <p:spPr>
          <a:xfrm>
            <a:off x="3203640" y="4076640"/>
            <a:ext cx="9684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4" name="Oval 21"/>
          <p:cNvSpPr/>
          <p:nvPr/>
        </p:nvSpPr>
        <p:spPr>
          <a:xfrm>
            <a:off x="2411280" y="4941720"/>
            <a:ext cx="9684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5" name="Text Box 7"/>
          <p:cNvSpPr/>
          <p:nvPr/>
        </p:nvSpPr>
        <p:spPr>
          <a:xfrm>
            <a:off x="183708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6" name="Text Box 26"/>
          <p:cNvSpPr/>
          <p:nvPr/>
        </p:nvSpPr>
        <p:spPr>
          <a:xfrm>
            <a:off x="2412720" y="5084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7" name="Line 27"/>
          <p:cNvSpPr/>
          <p:nvPr/>
        </p:nvSpPr>
        <p:spPr>
          <a:xfrm flipH="1">
            <a:off x="684360" y="2781360"/>
            <a:ext cx="129528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8" name="Line 28"/>
          <p:cNvSpPr/>
          <p:nvPr/>
        </p:nvSpPr>
        <p:spPr>
          <a:xfrm>
            <a:off x="1979640" y="2708280"/>
            <a:ext cx="504720" cy="23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79" name="Line 29"/>
          <p:cNvSpPr/>
          <p:nvPr/>
        </p:nvSpPr>
        <p:spPr>
          <a:xfrm flipV="1">
            <a:off x="468360" y="4508280"/>
            <a:ext cx="3166920" cy="4330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6346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211280" y="2133720"/>
            <a:ext cx="4753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7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По рисунку ответьте на </a:t>
            </a:r>
            <a:r>
              <a:rPr b="1" lang="en-US" sz="32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Monotype Corsiva"/>
              </a:rPr>
              <a:t>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Каким плоскостям </a:t>
            </a: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надлежит 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21"/>
          <p:cNvSpPr/>
          <p:nvPr/>
        </p:nvSpPr>
        <p:spPr>
          <a:xfrm>
            <a:off x="4633560" y="4292640"/>
            <a:ext cx="69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А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3" name="Прямоугольник 22"/>
          <p:cNvSpPr/>
          <p:nvPr/>
        </p:nvSpPr>
        <p:spPr>
          <a:xfrm>
            <a:off x="5705640" y="429264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М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4" name="Прямоугольник 23"/>
          <p:cNvSpPr/>
          <p:nvPr/>
        </p:nvSpPr>
        <p:spPr>
          <a:xfrm>
            <a:off x="7031160" y="4221000"/>
            <a:ext cx="67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К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5" name="Прямоугольник 24"/>
          <p:cNvSpPr/>
          <p:nvPr/>
        </p:nvSpPr>
        <p:spPr>
          <a:xfrm>
            <a:off x="5263560" y="5013360"/>
            <a:ext cx="63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Monotype Corsiva"/>
              </a:rPr>
              <a:t>S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86" name="Прямоугольник 25"/>
          <p:cNvSpPr/>
          <p:nvPr/>
        </p:nvSpPr>
        <p:spPr>
          <a:xfrm>
            <a:off x="6500160" y="50133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Monotype Corsiva"/>
              </a:rPr>
              <a:t>P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OWL"/>
          <p:cNvPicPr/>
          <p:nvPr/>
        </p:nvPicPr>
        <p:blipFill>
          <a:blip r:embed="rId1"/>
          <a:stretch/>
        </p:blipFill>
        <p:spPr>
          <a:xfrm>
            <a:off x="395280" y="260280"/>
            <a:ext cx="15858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888" name="Group 3"/>
          <p:cNvGrpSpPr/>
          <p:nvPr/>
        </p:nvGrpSpPr>
        <p:grpSpPr>
          <a:xfrm>
            <a:off x="395280" y="2708280"/>
            <a:ext cx="3239280" cy="2787120"/>
            <a:chOff x="395280" y="2708280"/>
            <a:chExt cx="3239280" cy="2787120"/>
          </a:xfrm>
        </p:grpSpPr>
        <p:sp>
          <p:nvSpPr>
            <p:cNvPr id="889" name="Line 4"/>
            <p:cNvSpPr/>
            <p:nvPr/>
          </p:nvSpPr>
          <p:spPr>
            <a:xfrm flipV="1">
              <a:off x="480240" y="4537080"/>
              <a:ext cx="3069360" cy="1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90" name="Freeform 5"/>
            <p:cNvSpPr/>
            <p:nvPr/>
          </p:nvSpPr>
          <p:spPr>
            <a:xfrm>
              <a:off x="395280" y="2708280"/>
              <a:ext cx="1619640" cy="2787120"/>
            </a:xfrm>
            <a:custGeom>
              <a:avLst/>
              <a:gdLst>
                <a:gd name="textAreaLeft" fmla="*/ 0 w 1619640"/>
                <a:gd name="textAreaRight" fmla="*/ 1620000 w 16196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48" h="1824">
                  <a:moveTo>
                    <a:pt x="0" y="1200"/>
                  </a:moveTo>
                  <a:lnTo>
                    <a:pt x="720" y="1824"/>
                  </a:lnTo>
                  <a:lnTo>
                    <a:pt x="1248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891" name="Freeform 6"/>
            <p:cNvSpPr/>
            <p:nvPr/>
          </p:nvSpPr>
          <p:spPr>
            <a:xfrm>
              <a:off x="1332720" y="2708280"/>
              <a:ext cx="2301840" cy="2787120"/>
            </a:xfrm>
            <a:custGeom>
              <a:avLst/>
              <a:gdLst>
                <a:gd name="textAreaLeft" fmla="*/ 0 w 2301840"/>
                <a:gd name="textAreaRight" fmla="*/ 2302200 w 23018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96" h="1536">
                  <a:moveTo>
                    <a:pt x="0" y="1536"/>
                  </a:moveTo>
                  <a:lnTo>
                    <a:pt x="384" y="0"/>
                  </a:lnTo>
                  <a:lnTo>
                    <a:pt x="1296" y="1008"/>
                  </a:lnTo>
                  <a:lnTo>
                    <a:pt x="0" y="15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892" name="Text Box 7"/>
          <p:cNvSpPr/>
          <p:nvPr/>
        </p:nvSpPr>
        <p:spPr>
          <a:xfrm>
            <a:off x="111816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3" name="Text Box 8"/>
          <p:cNvSpPr/>
          <p:nvPr/>
        </p:nvSpPr>
        <p:spPr>
          <a:xfrm>
            <a:off x="179280" y="400536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4" name="Text Box 9"/>
          <p:cNvSpPr/>
          <p:nvPr/>
        </p:nvSpPr>
        <p:spPr>
          <a:xfrm>
            <a:off x="3566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5" name="Text Box 10"/>
          <p:cNvSpPr/>
          <p:nvPr/>
        </p:nvSpPr>
        <p:spPr>
          <a:xfrm>
            <a:off x="3278160" y="36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6" name="Text Box 11"/>
          <p:cNvSpPr/>
          <p:nvPr/>
        </p:nvSpPr>
        <p:spPr>
          <a:xfrm>
            <a:off x="18000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7" name="Oval 12"/>
          <p:cNvSpPr/>
          <p:nvPr/>
        </p:nvSpPr>
        <p:spPr>
          <a:xfrm>
            <a:off x="684360" y="4869000"/>
            <a:ext cx="9828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8" name="Oval 13"/>
          <p:cNvSpPr/>
          <p:nvPr/>
        </p:nvSpPr>
        <p:spPr>
          <a:xfrm>
            <a:off x="3203640" y="4076640"/>
            <a:ext cx="9684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899" name="Oval 14"/>
          <p:cNvSpPr/>
          <p:nvPr/>
        </p:nvSpPr>
        <p:spPr>
          <a:xfrm>
            <a:off x="2411280" y="4941720"/>
            <a:ext cx="9684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0" name="Text Box 15"/>
          <p:cNvSpPr/>
          <p:nvPr/>
        </p:nvSpPr>
        <p:spPr>
          <a:xfrm>
            <a:off x="183708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1" name="Text Box 16"/>
          <p:cNvSpPr/>
          <p:nvPr/>
        </p:nvSpPr>
        <p:spPr>
          <a:xfrm>
            <a:off x="2412720" y="5084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2" name="Line 17"/>
          <p:cNvSpPr/>
          <p:nvPr/>
        </p:nvSpPr>
        <p:spPr>
          <a:xfrm flipH="1">
            <a:off x="684360" y="2781360"/>
            <a:ext cx="129528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3" name="Line 18"/>
          <p:cNvSpPr/>
          <p:nvPr/>
        </p:nvSpPr>
        <p:spPr>
          <a:xfrm>
            <a:off x="1979640" y="2781360"/>
            <a:ext cx="5047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4" name="Line 19"/>
          <p:cNvSpPr/>
          <p:nvPr/>
        </p:nvSpPr>
        <p:spPr>
          <a:xfrm flipV="1">
            <a:off x="468360" y="4508280"/>
            <a:ext cx="3166920" cy="4330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6346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211280" y="2133720"/>
            <a:ext cx="4753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По рисунку ответьте на </a:t>
            </a:r>
            <a:r>
              <a:rPr b="1" lang="en-US" sz="3200" spc="-1" strike="noStrike">
                <a:solidFill>
                  <a:srgbClr val="008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    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ru-RU" sz="3200" spc="-1" strike="noStrike">
                <a:solidFill>
                  <a:srgbClr val="008000"/>
                </a:solidFill>
                <a:latin typeface="Monotype Corsiva"/>
              </a:rPr>
              <a:t>Вне каких плос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Monotype Corsiva"/>
              </a:rPr>
              <a:t>          </a:t>
            </a:r>
            <a:r>
              <a:rPr b="1" i="1" lang="ru-RU" sz="3200" spc="-1" strike="noStrike">
                <a:solidFill>
                  <a:srgbClr val="008000"/>
                </a:solidFill>
                <a:latin typeface="Monotype Corsiva"/>
              </a:rPr>
              <a:t>лежит 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21"/>
          <p:cNvSpPr/>
          <p:nvPr/>
        </p:nvSpPr>
        <p:spPr>
          <a:xfrm>
            <a:off x="4049280" y="472428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М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8" name="Прямоугольник 22"/>
          <p:cNvSpPr/>
          <p:nvPr/>
        </p:nvSpPr>
        <p:spPr>
          <a:xfrm>
            <a:off x="5087160" y="4724280"/>
            <a:ext cx="67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К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09" name="Прямоугольник 23"/>
          <p:cNvSpPr/>
          <p:nvPr/>
        </p:nvSpPr>
        <p:spPr>
          <a:xfrm>
            <a:off x="6074280" y="4724280"/>
            <a:ext cx="69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А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10" name="Прямоугольник 24"/>
          <p:cNvSpPr/>
          <p:nvPr/>
        </p:nvSpPr>
        <p:spPr>
          <a:xfrm>
            <a:off x="6875640" y="4724280"/>
            <a:ext cx="64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Monotype Corsiva"/>
              </a:rPr>
              <a:t>P</a:t>
            </a:r>
            <a:r>
              <a:rPr b="1" i="1" lang="ru-RU" sz="4400" spc="-1" strike="noStrike">
                <a:solidFill>
                  <a:srgbClr val="cc3300"/>
                </a:solidFill>
                <a:latin typeface="Monotype Corsiva"/>
              </a:rPr>
              <a:t>;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11" name="Прямоугольник 25"/>
          <p:cNvSpPr/>
          <p:nvPr/>
        </p:nvSpPr>
        <p:spPr>
          <a:xfrm>
            <a:off x="7795440" y="4653000"/>
            <a:ext cx="47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Monotype Corsiva"/>
              </a:rPr>
              <a:t>S</a:t>
            </a:r>
            <a:endParaRPr b="0" lang="en-US" sz="44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350"/>
                            </p:stCondLst>
                            <p:childTnLst>
                              <p:par>
                                <p:cTn id="12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OWL"/>
          <p:cNvPicPr/>
          <p:nvPr/>
        </p:nvPicPr>
        <p:blipFill>
          <a:blip r:embed="rId1"/>
          <a:stretch/>
        </p:blipFill>
        <p:spPr>
          <a:xfrm>
            <a:off x="395280" y="260280"/>
            <a:ext cx="15858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913" name="Group 3"/>
          <p:cNvGrpSpPr/>
          <p:nvPr/>
        </p:nvGrpSpPr>
        <p:grpSpPr>
          <a:xfrm>
            <a:off x="395280" y="2708280"/>
            <a:ext cx="3239280" cy="2787120"/>
            <a:chOff x="395280" y="2708280"/>
            <a:chExt cx="3239280" cy="2787120"/>
          </a:xfrm>
        </p:grpSpPr>
        <p:sp>
          <p:nvSpPr>
            <p:cNvPr id="914" name="Line 4"/>
            <p:cNvSpPr/>
            <p:nvPr/>
          </p:nvSpPr>
          <p:spPr>
            <a:xfrm flipV="1">
              <a:off x="480240" y="4537080"/>
              <a:ext cx="3069360" cy="1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915" name="Freeform 5"/>
            <p:cNvSpPr/>
            <p:nvPr/>
          </p:nvSpPr>
          <p:spPr>
            <a:xfrm>
              <a:off x="395280" y="2708280"/>
              <a:ext cx="1619640" cy="2787120"/>
            </a:xfrm>
            <a:custGeom>
              <a:avLst/>
              <a:gdLst>
                <a:gd name="textAreaLeft" fmla="*/ 0 w 1619640"/>
                <a:gd name="textAreaRight" fmla="*/ 1620000 w 16196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48" h="1824">
                  <a:moveTo>
                    <a:pt x="0" y="1200"/>
                  </a:moveTo>
                  <a:lnTo>
                    <a:pt x="720" y="1824"/>
                  </a:lnTo>
                  <a:lnTo>
                    <a:pt x="1248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  <p:sp>
          <p:nvSpPr>
            <p:cNvPr id="916" name="Freeform 6"/>
            <p:cNvSpPr/>
            <p:nvPr/>
          </p:nvSpPr>
          <p:spPr>
            <a:xfrm>
              <a:off x="1332720" y="2708280"/>
              <a:ext cx="2301840" cy="2787120"/>
            </a:xfrm>
            <a:custGeom>
              <a:avLst/>
              <a:gdLst>
                <a:gd name="textAreaLeft" fmla="*/ 0 w 2301840"/>
                <a:gd name="textAreaRight" fmla="*/ 2302200 w 2301840"/>
                <a:gd name="textAreaTop" fmla="*/ 0 h 2787120"/>
                <a:gd name="textAreaBottom" fmla="*/ 2787480 h 2787120"/>
              </a:gdLst>
              <a:ahLst/>
              <a:rect l="textAreaLeft" t="textAreaTop" r="textAreaRight" b="textAreaBottom"/>
              <a:pathLst>
                <a:path w="1296" h="1536">
                  <a:moveTo>
                    <a:pt x="0" y="1536"/>
                  </a:moveTo>
                  <a:lnTo>
                    <a:pt x="384" y="0"/>
                  </a:lnTo>
                  <a:lnTo>
                    <a:pt x="1296" y="1008"/>
                  </a:lnTo>
                  <a:lnTo>
                    <a:pt x="0" y="15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Rage Italic"/>
              </a:endParaRPr>
            </a:p>
          </p:txBody>
        </p:sp>
      </p:grpSp>
      <p:sp>
        <p:nvSpPr>
          <p:cNvPr id="917" name="Text Box 7"/>
          <p:cNvSpPr/>
          <p:nvPr/>
        </p:nvSpPr>
        <p:spPr>
          <a:xfrm>
            <a:off x="111816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18" name="Text Box 8"/>
          <p:cNvSpPr/>
          <p:nvPr/>
        </p:nvSpPr>
        <p:spPr>
          <a:xfrm>
            <a:off x="179280" y="4005360"/>
            <a:ext cx="4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19" name="Text Box 9"/>
          <p:cNvSpPr/>
          <p:nvPr/>
        </p:nvSpPr>
        <p:spPr>
          <a:xfrm>
            <a:off x="3566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0" name="Text Box 10"/>
          <p:cNvSpPr/>
          <p:nvPr/>
        </p:nvSpPr>
        <p:spPr>
          <a:xfrm>
            <a:off x="3278160" y="3645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1" name="Text Box 11"/>
          <p:cNvSpPr/>
          <p:nvPr/>
        </p:nvSpPr>
        <p:spPr>
          <a:xfrm>
            <a:off x="18000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2" name="Oval 12"/>
          <p:cNvSpPr/>
          <p:nvPr/>
        </p:nvSpPr>
        <p:spPr>
          <a:xfrm>
            <a:off x="684360" y="4869000"/>
            <a:ext cx="9828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3" name="Oval 13"/>
          <p:cNvSpPr/>
          <p:nvPr/>
        </p:nvSpPr>
        <p:spPr>
          <a:xfrm>
            <a:off x="3203640" y="4076640"/>
            <a:ext cx="96840" cy="93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4" name="Oval 14"/>
          <p:cNvSpPr/>
          <p:nvPr/>
        </p:nvSpPr>
        <p:spPr>
          <a:xfrm>
            <a:off x="2411280" y="4941720"/>
            <a:ext cx="9684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5" name="Text Box 15"/>
          <p:cNvSpPr/>
          <p:nvPr/>
        </p:nvSpPr>
        <p:spPr>
          <a:xfrm>
            <a:off x="183708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6" name="Text Box 16"/>
          <p:cNvSpPr/>
          <p:nvPr/>
        </p:nvSpPr>
        <p:spPr>
          <a:xfrm>
            <a:off x="2412720" y="5084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7" name="Line 17"/>
          <p:cNvSpPr/>
          <p:nvPr/>
        </p:nvSpPr>
        <p:spPr>
          <a:xfrm flipH="1">
            <a:off x="684360" y="2781360"/>
            <a:ext cx="129528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8" name="Line 18"/>
          <p:cNvSpPr/>
          <p:nvPr/>
        </p:nvSpPr>
        <p:spPr>
          <a:xfrm>
            <a:off x="1979640" y="2781360"/>
            <a:ext cx="5047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29" name="Line 19"/>
          <p:cNvSpPr/>
          <p:nvPr/>
        </p:nvSpPr>
        <p:spPr>
          <a:xfrm flipV="1">
            <a:off x="468360" y="4508280"/>
            <a:ext cx="3166920" cy="4330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6346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7530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8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По рисунку ответьте на 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Monotype Corsiva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По какой прямой пересекаются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21"/>
          <p:cNvSpPr/>
          <p:nvPr/>
        </p:nvSpPr>
        <p:spPr>
          <a:xfrm>
            <a:off x="4788000" y="393372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S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и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BSC;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C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и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SC;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3.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C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и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S; 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4.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BS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и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SC;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5. 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PSC</a:t>
            </a: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  и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  ABC.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3" name="Прямая соединительная линия 24"/>
          <p:cNvSpPr/>
          <p:nvPr/>
        </p:nvSpPr>
        <p:spPr>
          <a:xfrm flipV="1">
            <a:off x="1332000" y="2781000"/>
            <a:ext cx="647640" cy="2663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4" name="Прямая соединительная линия 26"/>
          <p:cNvSpPr/>
          <p:nvPr/>
        </p:nvSpPr>
        <p:spPr>
          <a:xfrm flipV="1">
            <a:off x="395280" y="4508640"/>
            <a:ext cx="3240000" cy="727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5" name="Прямая соединительная линия 28"/>
          <p:cNvSpPr/>
          <p:nvPr/>
        </p:nvSpPr>
        <p:spPr>
          <a:xfrm>
            <a:off x="395280" y="4581360"/>
            <a:ext cx="936720" cy="93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6" name="Прямая соединительная линия 30"/>
          <p:cNvSpPr/>
          <p:nvPr/>
        </p:nvSpPr>
        <p:spPr>
          <a:xfrm flipV="1">
            <a:off x="395280" y="2707920"/>
            <a:ext cx="1620720" cy="187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937" name="Прямая соединительная линия 35"/>
          <p:cNvSpPr/>
          <p:nvPr/>
        </p:nvSpPr>
        <p:spPr>
          <a:xfrm flipV="1">
            <a:off x="755640" y="4508280"/>
            <a:ext cx="2879640" cy="36036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96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7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8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6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7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8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6" dur="5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7" dur="5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8" dur="5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6" dur="5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7" dur="5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8" dur="5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59" dur="5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6" dur="5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7" dur="5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8" dur="5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79" dur="500" fill="hold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700360" y="620640"/>
            <a:ext cx="5781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7634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огут ли две различные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иметь только одну общую точ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ково взаимное расположение двух пря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ранстве, если они имеют две общие т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огут ли две различные прямые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меть более одной общей т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4" descr="FAQ"/>
          <p:cNvPicPr/>
          <p:nvPr/>
        </p:nvPicPr>
        <p:blipFill>
          <a:blip r:embed="rId1"/>
          <a:stretch/>
        </p:blipFill>
        <p:spPr>
          <a:xfrm>
            <a:off x="7535880" y="3933720"/>
            <a:ext cx="1608120" cy="21877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5" descr="OWL"/>
          <p:cNvPicPr/>
          <p:nvPr/>
        </p:nvPicPr>
        <p:blipFill>
          <a:blip r:embed="rId2"/>
          <a:stretch/>
        </p:blipFill>
        <p:spPr>
          <a:xfrm>
            <a:off x="758880" y="115920"/>
            <a:ext cx="155736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5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350"/>
                            </p:stCondLst>
                            <p:childTnLst>
                              <p:par>
                                <p:cTn id="14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56000" y="836640"/>
            <a:ext cx="5975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4000" y="335772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00"/>
                </a:solidFill>
                <a:latin typeface="Comic Sans MS"/>
              </a:rPr>
              <a:t>Столяр проверяет, лежат ли ножки стула в одной плоскости, при помощи двух нитей. Объясните, как он это дела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4" descr="OWL"/>
          <p:cNvPicPr/>
          <p:nvPr/>
        </p:nvPicPr>
        <p:blipFill>
          <a:blip r:embed="rId1"/>
          <a:stretch/>
        </p:blipFill>
        <p:spPr>
          <a:xfrm>
            <a:off x="611280" y="476280"/>
            <a:ext cx="167940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5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700360" y="1125360"/>
            <a:ext cx="590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755280" y="2924280"/>
            <a:ext cx="78469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99"/>
                </a:solidFill>
                <a:latin typeface="Comic Sans MS"/>
              </a:rPr>
              <a:t>Докажите, что все вершины четырёхугольника принадлежат одной плоскости, если его диагонали пересек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Picture 4" descr="OWL"/>
          <p:cNvPicPr/>
          <p:nvPr/>
        </p:nvPicPr>
        <p:blipFill>
          <a:blip r:embed="rId1"/>
          <a:stretch/>
        </p:blipFill>
        <p:spPr>
          <a:xfrm>
            <a:off x="539640" y="404640"/>
            <a:ext cx="172584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700360" y="1125360"/>
            <a:ext cx="590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Comic Sans MS"/>
              </a:rPr>
              <a:t>Решение задач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02920" y="306828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Comic Sans MS"/>
              </a:rPr>
              <a:t>Выполните:</a:t>
            </a:r>
            <a:r>
              <a:rPr b="0" lang="ru-RU" sz="3600" spc="-1" strike="noStrike">
                <a:solidFill>
                  <a:srgbClr val="990099"/>
                </a:solidFill>
                <a:latin typeface="Comic Sans MS"/>
              </a:rPr>
              <a:t>      Упр.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Comic Sans MS"/>
              </a:rPr>
              <a:t>                            </a:t>
            </a:r>
            <a:r>
              <a:rPr b="0" lang="ru-RU" sz="3600" spc="-1" strike="noStrike">
                <a:solidFill>
                  <a:srgbClr val="990099"/>
                </a:solidFill>
                <a:latin typeface="Comic Sans MS"/>
              </a:rPr>
              <a:t>Упр.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Comic Sans MS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Picture 5" descr="ANTN069"/>
          <p:cNvPicPr/>
          <p:nvPr/>
        </p:nvPicPr>
        <p:blipFill>
          <a:blip r:embed="rId1"/>
          <a:stretch/>
        </p:blipFill>
        <p:spPr>
          <a:xfrm>
            <a:off x="250920" y="404640"/>
            <a:ext cx="2520720" cy="2337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0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00"/>
                            </p:stCondLst>
                            <p:childTnLst>
                              <p:par>
                                <p:cTn id="14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7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cc3300"/>
                </a:solidFill>
                <a:latin typeface="Comic Sans MS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496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Comic Sans MS"/>
              </a:rPr>
              <a:t>Изучить п.1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Comic Sans MS"/>
              </a:rPr>
              <a:t>Повторить аксиомы </a:t>
            </a:r>
            <a:r>
              <a:rPr b="1" lang="en-US" sz="3500" spc="-1" strike="noStrike">
                <a:solidFill>
                  <a:srgbClr val="800080"/>
                </a:solidFill>
                <a:latin typeface="Comic Sans MS"/>
              </a:rPr>
              <a:t>I – IX</a:t>
            </a:r>
            <a:r>
              <a:rPr b="1" lang="ru-RU" sz="3500" spc="-1" strike="noStrike">
                <a:solidFill>
                  <a:srgbClr val="800080"/>
                </a:solidFill>
                <a:latin typeface="Comic Sans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Comic Sans MS"/>
              </a:rPr>
              <a:t>Выполнить упр. 2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7" descr="Ychenik"/>
          <p:cNvPicPr/>
          <p:nvPr/>
        </p:nvPicPr>
        <p:blipFill>
          <a:blip r:embed="rId1"/>
          <a:stretch/>
        </p:blipFill>
        <p:spPr>
          <a:xfrm>
            <a:off x="5724360" y="3068640"/>
            <a:ext cx="3087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0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920"/>
                            </p:stCondLst>
                            <p:childTnLst>
                              <p:par>
                                <p:cTn id="15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3920"/>
                            </p:stCondLst>
                            <p:childTnLst>
                              <p:par>
                                <p:cTn id="15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9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6920"/>
                            </p:stCondLst>
                            <p:childTnLst>
                              <p:par>
                                <p:cTn id="15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9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9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010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тератур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А.В.Погорелов Геометрия 10-11 ,Москва, Просвещение,2009 год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Геометрия 10 класс (поурочные планы). Составители Т. Л. Афанасьева, Л. А. Тапилина. Изд.  «Учитель», Волгоград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Зив Б. Г. Геометрия: дидактические материалы для 10 класса. — М.: Просвещение, 2007—2008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Саакян С. М. Изучение геометрии в 10—11 классах /С. М. Саакян, В. Ф. Бутузов. — М.:  Просвещение, 2008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Земляков А. Н. Геометрия в 10 классе: методические рекомендации. — М.: Просвещение, 2002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. Геометрия 10-11 классы. Тесты для текущего и обобщающего контроля. Авторы-составители:    Г.И. Ковалёва,  Н.И. Мазур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. Евстафьева Л. П. Геометрия: дидактические материалы для 10—11 класса. — М.: Просвещение, 2004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. Геометрия, 10—11: Кн. для учителя / А. Д. Александров, А. Л. Вернер, В. И. Рыжик, Л. П.Евстафьева. — М.: Просвещение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9. Зив Б. Г. Задачи по геометрии для 7—11 классов/ Б. Г. Зив, В. М. Мейлер, А. Г. Баханский. —   М.: Просвещение, 2003—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>
            <a:alpha val="4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Monotype Corsiva"/>
              </a:rPr>
              <a:t>Аксиомы </a:t>
            </a: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– это первоначальные факты геометрии, которые принимаются без доказательств и позволяют вывести из них дальнейшие факты этой нау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</a:rPr>
              <a:t>«Аксиомы обладают наивысшей степенью общности и представляют начала всего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АРИСТОТЕЛ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88" name="Picture 4" descr="AG00135_"/>
          <p:cNvPicPr/>
          <p:nvPr/>
        </p:nvPicPr>
        <p:blipFill>
          <a:blip r:embed="rId1"/>
          <a:stretch/>
        </p:blipFill>
        <p:spPr>
          <a:xfrm>
            <a:off x="1403280" y="333360"/>
            <a:ext cx="3095640" cy="10047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AG00135_"/>
          <p:cNvPicPr/>
          <p:nvPr/>
        </p:nvPicPr>
        <p:blipFill>
          <a:blip r:embed="rId2"/>
          <a:stretch/>
        </p:blipFill>
        <p:spPr>
          <a:xfrm>
            <a:off x="5003640" y="333360"/>
            <a:ext cx="324036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1294920" y="19051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Monotype Corsiva"/>
              </a:rPr>
              <a:t>«Так называемые аксиомы математики – это те немногие мыслительные определения, которые необходимы в математике в качестве исходного пункта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        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Ф. Энгельс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91" name="Picture 4" descr="AG00135_"/>
          <p:cNvPicPr/>
          <p:nvPr/>
        </p:nvPicPr>
        <p:blipFill>
          <a:blip r:embed="rId1"/>
          <a:stretch/>
        </p:blipFill>
        <p:spPr>
          <a:xfrm>
            <a:off x="1403280" y="282600"/>
            <a:ext cx="3097440" cy="10796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5" descr="AG00135_"/>
          <p:cNvPicPr/>
          <p:nvPr/>
        </p:nvPicPr>
        <p:blipFill>
          <a:blip r:embed="rId2"/>
          <a:stretch/>
        </p:blipFill>
        <p:spPr>
          <a:xfrm>
            <a:off x="5003640" y="243000"/>
            <a:ext cx="3529080" cy="109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6600"/>
                </a:solidFill>
                <a:latin typeface="Centaur"/>
              </a:rPr>
              <a:t>     </a:t>
            </a:r>
            <a:r>
              <a:rPr b="1" i="1" lang="ru-RU" sz="3600" spc="-1" strike="noStrike">
                <a:solidFill>
                  <a:srgbClr val="ff0000"/>
                </a:solidFill>
                <a:latin typeface="Centaur"/>
              </a:rPr>
              <a:t>Основные фигуры в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entaur"/>
              </a:rPr>
              <a:t>                    пространстве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1871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7"/>
          <p:cNvSpPr/>
          <p:nvPr/>
        </p:nvSpPr>
        <p:spPr>
          <a:xfrm>
            <a:off x="5292720" y="3716280"/>
            <a:ext cx="3097080" cy="1295280"/>
          </a:xfrm>
          <a:prstGeom prst="parallelogram">
            <a:avLst>
              <a:gd name="adj" fmla="val 59776"/>
            </a:avLst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96" name="AutoShape 9"/>
          <p:cNvSpPr/>
          <p:nvPr/>
        </p:nvSpPr>
        <p:spPr>
          <a:xfrm>
            <a:off x="1187280" y="3860640"/>
            <a:ext cx="216000" cy="216000"/>
          </a:xfrm>
          <a:prstGeom prst="flowChartConnector">
            <a:avLst/>
          </a:prstGeom>
          <a:solidFill>
            <a:srgbClr val="0000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97" name="Line 10"/>
          <p:cNvSpPr/>
          <p:nvPr/>
        </p:nvSpPr>
        <p:spPr>
          <a:xfrm flipV="1">
            <a:off x="2411280" y="3500280"/>
            <a:ext cx="2448000" cy="1657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2843280" y="2276640"/>
            <a:ext cx="187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Прямая</a:t>
            </a:r>
            <a:endParaRPr b="0" lang="en-US" sz="40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699" name="Rectangle 5"/>
          <p:cNvSpPr/>
          <p:nvPr/>
        </p:nvSpPr>
        <p:spPr>
          <a:xfrm>
            <a:off x="5867280" y="2276640"/>
            <a:ext cx="2665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Плоскость</a:t>
            </a:r>
            <a:endParaRPr b="0" lang="en-US" sz="40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5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Изображать плоскость мы будем в виде параллелограмм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    </a:t>
            </a: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или в виде произвольн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auhaus 93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Плоскость, как и прямая, бесконечна. На рисунке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изображаем только часть плоскости, но представляем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неограниченно продолженной во все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Bauhaus 93"/>
              </a:rPr>
              <a:t>Плоскости обозначают греческими буквами</a:t>
            </a:r>
            <a:r>
              <a:rPr b="1" i="1" lang="ru-RU" sz="3200" spc="-1" strike="noStrike">
                <a:solidFill>
                  <a:srgbClr val="000000"/>
                </a:solidFill>
                <a:latin typeface="Bauhaus 93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611280" y="2349360"/>
            <a:ext cx="3240000" cy="1224000"/>
          </a:xfrm>
          <a:prstGeom prst="parallelogram">
            <a:avLst>
              <a:gd name="adj" fmla="val 66176"/>
            </a:avLst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02" name="Freeform 16"/>
          <p:cNvSpPr/>
          <p:nvPr/>
        </p:nvSpPr>
        <p:spPr>
          <a:xfrm>
            <a:off x="4932360" y="2276640"/>
            <a:ext cx="2879640" cy="136836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731" h="981">
                <a:moveTo>
                  <a:pt x="338" y="776"/>
                </a:moveTo>
                <a:cubicBezTo>
                  <a:pt x="290" y="793"/>
                  <a:pt x="238" y="779"/>
                  <a:pt x="189" y="770"/>
                </a:cubicBezTo>
                <a:cubicBezTo>
                  <a:pt x="182" y="765"/>
                  <a:pt x="176" y="760"/>
                  <a:pt x="169" y="756"/>
                </a:cubicBezTo>
                <a:cubicBezTo>
                  <a:pt x="163" y="753"/>
                  <a:pt x="155" y="753"/>
                  <a:pt x="149" y="749"/>
                </a:cubicBezTo>
                <a:cubicBezTo>
                  <a:pt x="124" y="733"/>
                  <a:pt x="113" y="705"/>
                  <a:pt x="88" y="688"/>
                </a:cubicBezTo>
                <a:cubicBezTo>
                  <a:pt x="75" y="655"/>
                  <a:pt x="53" y="639"/>
                  <a:pt x="40" y="607"/>
                </a:cubicBezTo>
                <a:cubicBezTo>
                  <a:pt x="33" y="589"/>
                  <a:pt x="20" y="553"/>
                  <a:pt x="20" y="553"/>
                </a:cubicBezTo>
                <a:cubicBezTo>
                  <a:pt x="15" y="511"/>
                  <a:pt x="0" y="381"/>
                  <a:pt x="0" y="363"/>
                </a:cubicBezTo>
                <a:cubicBezTo>
                  <a:pt x="0" y="311"/>
                  <a:pt x="7" y="259"/>
                  <a:pt x="13" y="207"/>
                </a:cubicBezTo>
                <a:cubicBezTo>
                  <a:pt x="22" y="129"/>
                  <a:pt x="195" y="101"/>
                  <a:pt x="257" y="92"/>
                </a:cubicBezTo>
                <a:cubicBezTo>
                  <a:pt x="342" y="57"/>
                  <a:pt x="458" y="71"/>
                  <a:pt x="555" y="58"/>
                </a:cubicBezTo>
                <a:cubicBezTo>
                  <a:pt x="635" y="36"/>
                  <a:pt x="717" y="43"/>
                  <a:pt x="799" y="31"/>
                </a:cubicBezTo>
                <a:cubicBezTo>
                  <a:pt x="875" y="0"/>
                  <a:pt x="936" y="13"/>
                  <a:pt x="1023" y="17"/>
                </a:cubicBezTo>
                <a:cubicBezTo>
                  <a:pt x="1073" y="32"/>
                  <a:pt x="1122" y="45"/>
                  <a:pt x="1172" y="58"/>
                </a:cubicBezTo>
                <a:cubicBezTo>
                  <a:pt x="1195" y="74"/>
                  <a:pt x="1215" y="75"/>
                  <a:pt x="1240" y="85"/>
                </a:cubicBezTo>
                <a:cubicBezTo>
                  <a:pt x="1284" y="102"/>
                  <a:pt x="1330" y="129"/>
                  <a:pt x="1375" y="139"/>
                </a:cubicBezTo>
                <a:cubicBezTo>
                  <a:pt x="1398" y="173"/>
                  <a:pt x="1414" y="163"/>
                  <a:pt x="1450" y="173"/>
                </a:cubicBezTo>
                <a:cubicBezTo>
                  <a:pt x="1475" y="192"/>
                  <a:pt x="1488" y="197"/>
                  <a:pt x="1517" y="207"/>
                </a:cubicBezTo>
                <a:cubicBezTo>
                  <a:pt x="1519" y="214"/>
                  <a:pt x="1519" y="223"/>
                  <a:pt x="1524" y="228"/>
                </a:cubicBezTo>
                <a:cubicBezTo>
                  <a:pt x="1529" y="233"/>
                  <a:pt x="1538" y="231"/>
                  <a:pt x="1545" y="234"/>
                </a:cubicBezTo>
                <a:cubicBezTo>
                  <a:pt x="1579" y="251"/>
                  <a:pt x="1584" y="272"/>
                  <a:pt x="1626" y="289"/>
                </a:cubicBezTo>
                <a:cubicBezTo>
                  <a:pt x="1648" y="311"/>
                  <a:pt x="1669" y="317"/>
                  <a:pt x="1694" y="336"/>
                </a:cubicBezTo>
                <a:cubicBezTo>
                  <a:pt x="1703" y="380"/>
                  <a:pt x="1717" y="421"/>
                  <a:pt x="1728" y="465"/>
                </a:cubicBezTo>
                <a:cubicBezTo>
                  <a:pt x="1722" y="596"/>
                  <a:pt x="1731" y="578"/>
                  <a:pt x="1714" y="654"/>
                </a:cubicBezTo>
                <a:cubicBezTo>
                  <a:pt x="1708" y="679"/>
                  <a:pt x="1680" y="722"/>
                  <a:pt x="1680" y="722"/>
                </a:cubicBezTo>
                <a:cubicBezTo>
                  <a:pt x="1670" y="751"/>
                  <a:pt x="1614" y="817"/>
                  <a:pt x="1585" y="831"/>
                </a:cubicBezTo>
                <a:cubicBezTo>
                  <a:pt x="1575" y="836"/>
                  <a:pt x="1562" y="835"/>
                  <a:pt x="1551" y="837"/>
                </a:cubicBezTo>
                <a:cubicBezTo>
                  <a:pt x="1526" y="856"/>
                  <a:pt x="1513" y="862"/>
                  <a:pt x="1484" y="871"/>
                </a:cubicBezTo>
                <a:cubicBezTo>
                  <a:pt x="1432" y="905"/>
                  <a:pt x="1382" y="921"/>
                  <a:pt x="1321" y="932"/>
                </a:cubicBezTo>
                <a:cubicBezTo>
                  <a:pt x="1274" y="981"/>
                  <a:pt x="1175" y="973"/>
                  <a:pt x="1111" y="980"/>
                </a:cubicBezTo>
                <a:cubicBezTo>
                  <a:pt x="1037" y="976"/>
                  <a:pt x="965" y="977"/>
                  <a:pt x="894" y="959"/>
                </a:cubicBezTo>
                <a:cubicBezTo>
                  <a:pt x="866" y="931"/>
                  <a:pt x="798" y="906"/>
                  <a:pt x="759" y="898"/>
                </a:cubicBezTo>
                <a:cubicBezTo>
                  <a:pt x="709" y="868"/>
                  <a:pt x="666" y="841"/>
                  <a:pt x="609" y="831"/>
                </a:cubicBezTo>
                <a:cubicBezTo>
                  <a:pt x="561" y="798"/>
                  <a:pt x="479" y="803"/>
                  <a:pt x="420" y="797"/>
                </a:cubicBezTo>
                <a:cubicBezTo>
                  <a:pt x="397" y="789"/>
                  <a:pt x="376" y="774"/>
                  <a:pt x="352" y="770"/>
                </a:cubicBezTo>
                <a:cubicBezTo>
                  <a:pt x="347" y="769"/>
                  <a:pt x="343" y="774"/>
                  <a:pt x="338" y="776"/>
                </a:cubicBezTo>
                <a:close/>
              </a:path>
            </a:pathLst>
          </a:custGeom>
          <a:solidFill>
            <a:srgbClr val="00ff00">
              <a:alpha val="45000"/>
            </a:srgbClr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0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17"/>
              <p:cNvSpPr txBox="1"/>
              <p:nvPr/>
            </p:nvSpPr>
            <p:spPr>
              <a:xfrm>
                <a:off x="6516720" y="5732640"/>
                <a:ext cx="1152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06" name="Rectangle 22"/>
          <p:cNvSpPr/>
          <p:nvPr/>
        </p:nvSpPr>
        <p:spPr>
          <a:xfrm>
            <a:off x="25092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21"/>
              <p:cNvSpPr txBox="1"/>
              <p:nvPr/>
            </p:nvSpPr>
            <p:spPr>
              <a:xfrm>
                <a:off x="7164360" y="3068640"/>
                <a:ext cx="3268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23"/>
              <p:cNvSpPr txBox="1"/>
              <p:nvPr/>
            </p:nvSpPr>
            <p:spPr>
              <a:xfrm>
                <a:off x="2700360" y="3213000"/>
                <a:ext cx="28728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75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6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6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600"/>
                            </p:stCondLst>
                            <p:childTnLst>
                              <p:par>
                                <p:cTn id="1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40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25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75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75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i2[1]"/>
          <p:cNvPicPr/>
          <p:nvPr/>
        </p:nvPicPr>
        <p:blipFill>
          <a:blip r:embed="rId1"/>
          <a:stretch/>
        </p:blipFill>
        <p:spPr>
          <a:xfrm>
            <a:off x="324000" y="476280"/>
            <a:ext cx="3095640" cy="300348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275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cc0000"/>
                </a:solidFill>
                <a:latin typeface="Monotype Corsiva"/>
              </a:rPr>
              <a:t>Введение нового геометрического образа (плоскости) заставляет расширить известную нам в планиметрии систему аксиом. Поэтому вводится группа аксиом  С, которая выражает основные свойства плоскости в пространстве. Эта группа состоит из трёх акси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Monotype Corsiva"/>
              </a:rPr>
              <a:t>            </a:t>
            </a: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Аксиомы группы С.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7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27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Tempus Sans ITC"/>
              </a:rPr>
              <a:t>Какова бы ни была плоскость, существуют точки,  принадлежащие этой плоскости, и точки, не принадлежащие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1835280" y="4221000"/>
            <a:ext cx="4608360" cy="1368720"/>
          </a:xfrm>
          <a:prstGeom prst="parallelogram">
            <a:avLst>
              <a:gd name="adj" fmla="val 84173"/>
            </a:avLst>
          </a:prstGeom>
          <a:solidFill>
            <a:srgbClr val="ffdd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7"/>
              <p:cNvSpPr txBox="1"/>
              <p:nvPr/>
            </p:nvSpPr>
            <p:spPr>
              <a:xfrm>
                <a:off x="2320920" y="5013360"/>
                <a:ext cx="3348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Oval 9"/>
          <p:cNvSpPr/>
          <p:nvPr/>
        </p:nvSpPr>
        <p:spPr>
          <a:xfrm>
            <a:off x="3635280" y="4581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16" name="Oval 10"/>
          <p:cNvSpPr/>
          <p:nvPr/>
        </p:nvSpPr>
        <p:spPr>
          <a:xfrm>
            <a:off x="5148360" y="458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17" name="Oval 11"/>
          <p:cNvSpPr/>
          <p:nvPr/>
        </p:nvSpPr>
        <p:spPr>
          <a:xfrm>
            <a:off x="7093080" y="5300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18" name="Oval 12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19" name="Oval 13"/>
          <p:cNvSpPr/>
          <p:nvPr/>
        </p:nvSpPr>
        <p:spPr>
          <a:xfrm>
            <a:off x="3995640" y="58770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0" name="Rectangle 14"/>
          <p:cNvSpPr/>
          <p:nvPr/>
        </p:nvSpPr>
        <p:spPr>
          <a:xfrm>
            <a:off x="3132000" y="4365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1" name="Rectangle 17"/>
          <p:cNvSpPr/>
          <p:nvPr/>
        </p:nvSpPr>
        <p:spPr>
          <a:xfrm>
            <a:off x="7413840" y="498636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2" name="Rectangle 19"/>
          <p:cNvSpPr/>
          <p:nvPr/>
        </p:nvSpPr>
        <p:spPr>
          <a:xfrm>
            <a:off x="1118160" y="4341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4213800" y="556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536616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AutoShape 8"/>
          <p:cNvSpPr/>
          <p:nvPr/>
        </p:nvSpPr>
        <p:spPr>
          <a:xfrm rot="1533000">
            <a:off x="3068280" y="4605480"/>
            <a:ext cx="2376360" cy="1368360"/>
          </a:xfrm>
          <a:prstGeom prst="parallelogram">
            <a:avLst>
              <a:gd name="adj" fmla="val 43416"/>
            </a:avLst>
          </a:prstGeom>
          <a:solidFill>
            <a:srgbClr val="e1e1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Monotype Corsiva"/>
              </a:rPr>
              <a:t>               </a:t>
            </a: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ксиомы группы С.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2700" spc="-1" strike="noStrike">
                <a:solidFill>
                  <a:srgbClr val="006666"/>
                </a:solidFill>
                <a:latin typeface="Times New Roman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Если две различные плоскости имеют общу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точку, то они пересекаются по прямой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i="1" lang="ru-RU" sz="2700" spc="-1" strike="noStrike">
                <a:solidFill>
                  <a:srgbClr val="0033cc"/>
                </a:solidFill>
                <a:latin typeface="Times New Roman"/>
              </a:rPr>
              <a:t>проходящей через эту точк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4"/>
          <p:cNvSpPr/>
          <p:nvPr/>
        </p:nvSpPr>
        <p:spPr>
          <a:xfrm>
            <a:off x="1763640" y="4508640"/>
            <a:ext cx="5040360" cy="1152360"/>
          </a:xfrm>
          <a:prstGeom prst="parallelogram">
            <a:avLst>
              <a:gd name="adj" fmla="val 109349"/>
            </a:avLst>
          </a:prstGeom>
          <a:solidFill>
            <a:srgbClr val="ccecff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29" name="AutoShape 5"/>
          <p:cNvSpPr/>
          <p:nvPr/>
        </p:nvSpPr>
        <p:spPr>
          <a:xfrm flipH="1" rot="19050600">
            <a:off x="2131200" y="3852360"/>
            <a:ext cx="2247840" cy="1661760"/>
          </a:xfrm>
          <a:prstGeom prst="parallelogram">
            <a:avLst>
              <a:gd name="adj" fmla="val 36917"/>
            </a:avLst>
          </a:prstGeom>
          <a:solidFill>
            <a:srgbClr val="e1e1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30" name="Line 9"/>
          <p:cNvSpPr/>
          <p:nvPr/>
        </p:nvSpPr>
        <p:spPr>
          <a:xfrm flipV="1">
            <a:off x="3419640" y="4508280"/>
            <a:ext cx="1223640" cy="115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3564000" y="537372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14"/>
              <p:cNvSpPr txBox="1"/>
              <p:nvPr/>
            </p:nvSpPr>
            <p:spPr>
              <a:xfrm>
                <a:off x="5238720" y="5076720"/>
                <a:ext cx="293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12"/>
              <p:cNvSpPr txBox="1"/>
              <p:nvPr/>
            </p:nvSpPr>
            <p:spPr>
              <a:xfrm>
                <a:off x="2814480" y="3919680"/>
                <a:ext cx="335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Rectangle 16"/>
          <p:cNvSpPr/>
          <p:nvPr/>
        </p:nvSpPr>
        <p:spPr>
          <a:xfrm>
            <a:off x="3276720" y="4797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8f8f8"/>
              </a:solidFill>
              <a:latin typeface="Rage Italic"/>
            </a:endParaRPr>
          </a:p>
        </p:txBody>
      </p:sp>
      <p:sp>
        <p:nvSpPr>
          <p:cNvPr id="735" name="Rectangle 17"/>
          <p:cNvSpPr/>
          <p:nvPr/>
        </p:nvSpPr>
        <p:spPr>
          <a:xfrm>
            <a:off x="45025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8f8f8"/>
              </a:solidFill>
              <a:latin typeface="Rage Italic"/>
            </a:endParaRPr>
          </a:p>
        </p:txBody>
      </p:sp>
    </p:spTree>
  </p:cSld>
  <p:transition spd="med">
    <p:dissolv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700"/>
                            </p:stCondLst>
                            <p:childTnLst>
                              <p:par>
                                <p:cTn id="3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800"/>
                            </p:stCondLst>
                            <p:childTnLst>
                              <p:par>
                                <p:cTn id="3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0:41:16Z</dcterms:created>
  <dc:creator>Людмила</dc:creator>
  <dc:description/>
  <dc:language>en-US</dc:language>
  <cp:lastModifiedBy>1</cp:lastModifiedBy>
  <dcterms:modified xsi:type="dcterms:W3CDTF">2012-08-12T21:14:48Z</dcterms:modified>
  <cp:revision>102</cp:revision>
  <dc:subject/>
  <dc:title>Слайд 1</dc:title>
</cp:coreProperties>
</file>