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wmf" ContentType="image/x-wmf"/>
  <Override PartName="/ppt/media/image7.png" ContentType="image/pn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303-9D4D-43D9-8473-4F15BDAD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CA0-948B-4251-B433-44877FA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CE5E-A140-47BB-BF5C-8B514EFC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B1BC0-4FBE-4383-A295-A5564A3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372D4-46B9-47BD-BF25-EB813E2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5EC2D-BE26-4D37-8B9B-7065994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C3F9-80A0-4BC7-883E-1B3A81E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C8A6E-3A4E-4AF3-A448-FBEA55D1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60121-823D-4C29-BDA0-683A235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6B827-94D7-408E-8067-3B0122C6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445F5-87CF-4990-8710-E4821235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469D6-A550-4231-8A76-569CE93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124-583C-4C45-9106-343A6FE7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89ED3-02FD-47D9-9C05-26EC9438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FFD81-8ED6-4AA5-9945-DB001C2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6E47-7D03-4EBE-A840-5B85304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E67F1-E46C-467D-9BC9-FF0C54C8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312D-27E5-4BEB-9BAC-996A2EA1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CFAC9-B3B6-46E8-B15D-A82F87F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0129-3652-46AE-899E-4BB7CED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A7FB9-4537-413E-8046-271F569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740C2-E56E-4F7E-A8F4-5F35D9D8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020F2-29E1-48AF-8CB6-B3A38A89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065-2F1D-480D-87E8-01172A1A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0ACE-9B74-4996-8AE6-FCF7F23F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A8EC-1380-43D5-8CDB-B00DECD3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C01D-580F-47A7-9C8F-B2036763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6905A-6F0C-4242-8356-5F34A9B9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13CCB-8C47-4CCC-BEF5-76143D6F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9ED97-ABE9-4264-BA99-D148C8C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FB06F-AB5A-49B4-A2A3-9FBF0D42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EC780-D139-43BD-9539-465A6B8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0C499-635B-454F-80DF-9BB83F6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5573-479E-4875-8451-5EAE146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AE7-11FC-4100-A85B-72EFA1E2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384E0-E675-40CE-A61C-72765A9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7AD3-42C6-4803-8752-C57F7FB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51C80-338C-40D7-885D-4D5AC171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A7DB2-71AF-4DB6-BF58-D27A47BA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A591C-C5F3-4EB1-BCBF-C56DD1A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16F19-E4E0-4E20-BA95-0793AE0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C322D-4F5D-4327-90E2-1798FDF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2379F-1F1F-490A-9F82-47924CB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CC774-EB30-4035-881F-BCF6882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5B0D2-0736-4BA7-8ABA-0ADC736C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A1C-9A6B-4EF4-A714-28E2D2F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87F87-377C-4B7B-9084-1F56740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D125C-9B6A-45DF-95B0-CB65F32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BD534-84C1-47FA-9480-ED74AE75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CB9E0-0D88-426D-BCC8-E9A6E4CA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7C0B-3790-4575-A334-6E92B93B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427EA-EC26-4A14-946E-0C81974F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2859A-0D5A-4A4B-A209-3F90848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0DD16-D478-49DE-AAF3-20C4804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FB582-6E89-4BFD-8135-E8B5F518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B4933-C548-49D8-93E9-A650DC2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2A01-05FD-41E2-AF10-586DCAA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D8D7D-914F-4378-A1CE-A9E3BBB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25A07-D91A-4AB9-8DDF-D439549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677F5-694C-48DF-9013-C332948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451E1-04CB-4DF0-A643-0FF6C4E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DA33B-94DD-4387-AE16-E9145887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15937-0C8D-4891-8390-AE0AB18F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16AD5-7697-4850-929F-C9144421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0832F-6FDB-43A6-BE62-D90466D7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2C2B9-E5DF-4FFC-86BC-A2EB7911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DA9E2-25CF-4F26-A5CA-2B3FC061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5FBA-7661-428F-9EE2-098648E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CBC6C-02D3-4391-A902-3298543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023E5-4568-4C98-AC36-802CBB14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1CB5E-5B20-4A39-AE93-933BD19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8C31B-B53B-4AA6-81FD-561DDDC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B3833-FD80-4693-9E60-402ED8A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AAF76-DD64-4086-9112-5610837A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30126-37BE-4A7F-8A31-E51E2B3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A09FE-0527-43A6-99E9-9B78251F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F05BE-FF73-4E0B-861E-B770F1F8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32AB-0D79-4EED-8C20-C96B4891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A7B7-1262-46AC-A302-A310CF3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020D-5199-4FD1-9FCC-AECD06A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94A-2EF0-4ABD-B5D0-A128223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C699-CF4A-4469-8915-D560A44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6C9A-41D8-441E-8537-F5E48C3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B421-E0F4-4E44-A807-6BC32FA3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27C-E07C-4329-9AED-0352B334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D3C-969F-403B-9F1E-003AB0D2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45B2-0368-4CC8-8A5A-6572F1E7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450F-A2EC-451E-A002-93555E9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37D5-DF58-459A-A744-6B41607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07C9-68F6-4E99-ACCB-A81C336A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6968-C260-4789-B715-69FFE6E9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E4D-ED82-4AE6-A899-021978F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35AC-C3E4-46F8-AA57-7D9E96F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3003-4CF7-4FB8-AFA6-E304E6E4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C4EE-E40A-47B4-BB4F-68AEACB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AD94-3221-47A0-9AF3-3F6CF62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6187-A904-42C9-A058-82F5131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79AF-2F5D-46A3-9F62-ED206704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BD9A-4E27-48D4-9377-94B8C6C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88B1F-DA21-4C99-A13E-965097C8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5BEDA-AC3D-4B1C-8D23-B304148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6E995-1D0B-437A-845C-C876FF74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569-CCC5-4F7C-9F72-2FA0BEC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DFBA3-0A4F-4D37-8019-F46A85A9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F0ADC-D68F-420F-A84B-3DBE01C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C8650-5EA1-4465-A8BF-65861B7C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D790C-6659-4EAB-BD24-4D5CF56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24394-2B0B-4553-9C41-FB5D478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3D9AB-7CD3-49C0-8DB0-9C9450A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97115-4E77-4E9D-9468-0DCF176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7CCC7-2DBF-4679-8F1A-62B67A20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F9163-10ED-4698-A40C-C5819F9F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A867-801F-47DD-A70E-3E08628F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CB4-AA4B-4262-816F-CE4581C1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4570-5732-4AFC-9D95-C8B7D53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4C4E-C6A7-4A8F-96D9-C9EADF7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652A-87E2-469E-8E4B-49B829E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53AD-5310-4770-AC4D-9D3E3E4B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C40D-A2BF-4E23-AD5C-8709D0E0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88DC4-30C9-4A5C-A4D5-B9CAFD7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2304-49EB-4A89-AA02-4E688CB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5BAE-800B-4619-9565-69F80F43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9C3F-46DE-41F9-A8EC-A01313C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09F7-85FA-46C9-AB44-A666E147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4A3-9DA8-4E97-A743-0127107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FDC5-54C5-4CB4-9B05-D79FBD5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2FD9-D32E-4211-B419-63AC601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2F71-1DA7-4A67-AED0-024F4C9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1189-6D3A-4896-9E47-938A705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F3353-FBEA-404E-8FB9-F357CD04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A837-8758-4EA0-823E-2C43A9F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FDDA-2D03-484A-92D3-A6A3FC3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816E-C628-4653-B327-E6D6623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4883-5484-4BDC-A1D5-A34B831E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B50AA-74B9-44DD-8460-6777A79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45B-448C-49AC-9A71-AE28CF9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3781-803B-4759-861D-1AE014A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B4188-68E9-4F2A-8A88-611344BF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C9BE-7C31-433F-B578-799F299F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D514-E954-4703-9187-B5EEBDE3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24150-F748-4C26-97F7-1BFAEF65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3730-B6AA-436F-B715-D2C9ECE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7DB8-1399-48FF-93D9-8340C05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1E3E-FCAB-4358-86D0-9E94FC1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A830-2CC0-4C71-A2B6-0B1F6CA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4189-AE6C-44C6-8D1E-598F927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07F-BC64-493C-82E5-62D3793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B861-5BFD-4C7E-A489-6B260B1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F0DE-60D2-435C-9401-A68F8D9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C6AE-6FE8-4964-8509-09C9AC6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B690-E0D0-4BCF-BB81-15FF497B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21D1-915E-4D43-9691-AB4F7724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E8049-BA30-49E0-A449-5EFCF04B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0D2A8-0FBB-435D-A801-BA249523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0F6C0-2126-4821-842B-CFD3040C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02E0-4C9B-494A-B036-967C70A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351C-5212-4B0E-BC7B-01B0948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A0D-3A50-4714-8208-61DF454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B21E7-62CF-4C6E-AB12-DA659BB6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659C-18CE-4E09-A148-4CDCBB3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5807-25AC-426C-B934-5A3389C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2451-53B8-4168-9A20-16D69A3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A466-FD45-41EF-8FBA-CF5F299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F5DC-1B2F-44ED-973E-EC1186A7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C055-4A19-4556-B7B8-58A4D2AD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E1FD4-1D4B-446A-A80C-319CA664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59C2-D733-4CB3-92A0-5CE72AE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7D68A-D596-4B2E-A48E-8FFE7EB6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8F03-0131-4B21-8625-69149D4A1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F54-403C-45B6-AE52-8D7549B68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4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3E6-60A0-40EF-8CDB-93F9B49707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552-CBB0-4C7E-A2A2-A930EB1408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FA0-2106-449B-8C43-183AC8B8E6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6587-B6B2-4712-B1C8-FEEBE743241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3C4-1156-4485-9C70-45A63E23F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61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62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5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6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7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8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9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70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72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E1F-C3E0-42B8-804E-5B79486B0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1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79B-2B36-48DB-9B06-A49483CC2C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BA41-63BB-4922-BCC0-A9DED7589B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690-76AA-4289-B706-7AC54DAABE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6AE-BA68-4B0D-B402-2731B31CE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336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7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341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342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4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5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346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348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49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0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1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2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3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4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355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6E2B-BF8E-4540-B596-5D59BB7F1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398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399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400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1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2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3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4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5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6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</p:grpSp>
          <p:sp>
            <p:nvSpPr>
              <p:cNvPr id="408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409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342-15FC-495A-B611-0660FD7C8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b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3448080" cy="38876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13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Bookman Old Style"/>
              </a:rPr>
              <a:t>АКСИОМЫ</a:t>
            </a:r>
            <a:br>
              <a:rPr sz="6000"/>
            </a:br>
            <a:r>
              <a:rPr b="1" lang="ru-RU" sz="6000" spc="-1" strike="noStrike">
                <a:solidFill>
                  <a:srgbClr val="cc0099"/>
                </a:solidFill>
                <a:latin typeface="Bookman Old Style"/>
              </a:rPr>
              <a:t>СТЕРЕОМЕТРИИ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5076360" y="2781360"/>
            <a:ext cx="3961080" cy="743040"/>
          </a:xfrm>
          <a:prstGeom prst="rect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ометри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4140360" y="5300640"/>
            <a:ext cx="4572000" cy="1313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Rage Italic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Яковлева Любовь Викторовн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МОУ «Самосдельская СОШ им.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Шитова В. А.»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6666"/>
                </a:solidFill>
                <a:latin typeface="Monotype Corsiva"/>
              </a:rPr>
              <a:t>       </a:t>
            </a:r>
            <a:r>
              <a:rPr b="1" lang="ru-RU" sz="6000" spc="-1" strike="noStrike">
                <a:solidFill>
                  <a:srgbClr val="cc0099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a50021"/>
                </a:solidFill>
                <a:latin typeface="Times New Roman"/>
              </a:rPr>
              <a:t>Если две различные прямые имеют общую точку, то через них можно провести плоскость, и притом только одн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1835280" y="4149720"/>
            <a:ext cx="5761080" cy="1655640"/>
          </a:xfrm>
          <a:prstGeom prst="parallelogram">
            <a:avLst>
              <a:gd name="adj" fmla="val 86992"/>
            </a:avLst>
          </a:prstGeom>
          <a:solidFill>
            <a:srgbClr val="ffd1f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3059280" y="4292640"/>
            <a:ext cx="3168360" cy="12240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3780000" y="4292640"/>
            <a:ext cx="2232000" cy="12240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2268360" y="5373720"/>
                <a:ext cx="274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Rectangle 14"/>
          <p:cNvSpPr/>
          <p:nvPr/>
        </p:nvSpPr>
        <p:spPr>
          <a:xfrm>
            <a:off x="291924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6157800" y="522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4" name="Rectangle 16"/>
          <p:cNvSpPr/>
          <p:nvPr/>
        </p:nvSpPr>
        <p:spPr>
          <a:xfrm>
            <a:off x="4716360" y="4076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5" name="Oval 17"/>
          <p:cNvSpPr/>
          <p:nvPr/>
        </p:nvSpPr>
        <p:spPr>
          <a:xfrm>
            <a:off x="4716360" y="479736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4" descr="i2[1]"/>
          <p:cNvPicPr/>
          <p:nvPr/>
        </p:nvPicPr>
        <p:blipFill>
          <a:blip r:embed="rId1"/>
          <a:stretch/>
        </p:blipFill>
        <p:spPr>
          <a:xfrm>
            <a:off x="179280" y="549360"/>
            <a:ext cx="2665440" cy="26636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835280" y="549000"/>
            <a:ext cx="698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Аксиомы выражают интуитивно ясные свойства плоскостей, их связь с двумя другими основными фигурами стереометрии – с прямыми и т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    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Рассмотренные аксиомы С</a:t>
            </a:r>
            <a:r>
              <a:rPr b="1" i="1" lang="ru-RU" sz="3200" spc="-1" strike="noStrike" baseline="-25000">
                <a:solidFill>
                  <a:srgbClr val="cc3399"/>
                </a:solidFill>
                <a:latin typeface="Monotype Corsiva"/>
              </a:rPr>
              <a:t>1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- С</a:t>
            </a:r>
            <a:r>
              <a:rPr b="1" i="1" lang="ru-RU" sz="3200" spc="-1" strike="noStrike" baseline="-25000">
                <a:solidFill>
                  <a:srgbClr val="cc3399"/>
                </a:solidFill>
                <a:latin typeface="Monotype Corsiva"/>
              </a:rPr>
              <a:t>3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относятся только к плоскостям, и к ним необходимо добавить аксиомы о прямых, аналогичные соответствующим планиметрическим аксио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Таким образом, система аксиом стереометрии состоит из аксиом планиметрии и аксиом группы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15"/>
          <p:cNvSpPr/>
          <p:nvPr/>
        </p:nvSpPr>
        <p:spPr>
          <a:xfrm>
            <a:off x="5076720" y="4941720"/>
            <a:ext cx="3240360" cy="10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00000" y="620640"/>
            <a:ext cx="54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 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кова бы ни была прямая, существуют точки, принадлежащие этой   прямой, и точки, не принадлежащие 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ерез любые две точки можно провести прямую, и только од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7" descr="COBJ042"/>
          <p:cNvPicPr/>
          <p:nvPr/>
        </p:nvPicPr>
        <p:blipFill>
          <a:blip r:embed="rId1"/>
          <a:stretch/>
        </p:blipFill>
        <p:spPr>
          <a:xfrm>
            <a:off x="250920" y="189000"/>
            <a:ext cx="1481040" cy="2376360"/>
          </a:xfrm>
          <a:prstGeom prst="rect">
            <a:avLst/>
          </a:prstGeom>
          <a:ln w="0">
            <a:noFill/>
          </a:ln>
        </p:spPr>
      </p:pic>
      <p:sp>
        <p:nvSpPr>
          <p:cNvPr id="752" name="Line 8"/>
          <p:cNvSpPr/>
          <p:nvPr/>
        </p:nvSpPr>
        <p:spPr>
          <a:xfrm flipV="1">
            <a:off x="1258920" y="4508280"/>
            <a:ext cx="2592360" cy="143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3" name="Oval 9"/>
          <p:cNvSpPr/>
          <p:nvPr/>
        </p:nvSpPr>
        <p:spPr>
          <a:xfrm>
            <a:off x="2987640" y="5589720"/>
            <a:ext cx="7164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4" name="Oval 10"/>
          <p:cNvSpPr/>
          <p:nvPr/>
        </p:nvSpPr>
        <p:spPr>
          <a:xfrm>
            <a:off x="3132000" y="4869000"/>
            <a:ext cx="7164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5" name="Oval 11"/>
          <p:cNvSpPr/>
          <p:nvPr/>
        </p:nvSpPr>
        <p:spPr>
          <a:xfrm>
            <a:off x="1116000" y="5300640"/>
            <a:ext cx="7128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6" name="Oval 12"/>
          <p:cNvSpPr/>
          <p:nvPr/>
        </p:nvSpPr>
        <p:spPr>
          <a:xfrm>
            <a:off x="1979640" y="5516640"/>
            <a:ext cx="7128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7" name="Oval 13"/>
          <p:cNvSpPr/>
          <p:nvPr/>
        </p:nvSpPr>
        <p:spPr>
          <a:xfrm>
            <a:off x="7380360" y="5661000"/>
            <a:ext cx="7128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8" name="Oval 14"/>
          <p:cNvSpPr/>
          <p:nvPr/>
        </p:nvSpPr>
        <p:spPr>
          <a:xfrm>
            <a:off x="5867280" y="5157720"/>
            <a:ext cx="7164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000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842920" y="836640"/>
            <a:ext cx="5257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8209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з трёх точек на прямой одна и только одна лежит между двумя другими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отрезок имеет определённую длину, большую нуля. Длина отрезка равна сумме длин частей, на которые он разбивается любой его точ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4" descr="COBJ042"/>
          <p:cNvPicPr/>
          <p:nvPr/>
        </p:nvPicPr>
        <p:blipFill>
          <a:blip r:embed="rId1"/>
          <a:stretch/>
        </p:blipFill>
        <p:spPr>
          <a:xfrm>
            <a:off x="324000" y="115920"/>
            <a:ext cx="15699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5"/>
          <p:cNvSpPr/>
          <p:nvPr/>
        </p:nvSpPr>
        <p:spPr>
          <a:xfrm flipV="1">
            <a:off x="755640" y="4941720"/>
            <a:ext cx="3097080" cy="115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258920" y="5877000"/>
            <a:ext cx="7128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2987640" y="5229360"/>
            <a:ext cx="7164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2195640" y="5516640"/>
            <a:ext cx="7128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6" name="Line 12"/>
          <p:cNvSpPr/>
          <p:nvPr/>
        </p:nvSpPr>
        <p:spPr>
          <a:xfrm>
            <a:off x="4859280" y="5300640"/>
            <a:ext cx="338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7" name="Line 13"/>
          <p:cNvSpPr/>
          <p:nvPr/>
        </p:nvSpPr>
        <p:spPr>
          <a:xfrm>
            <a:off x="4859280" y="522936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8" name="Line 18"/>
          <p:cNvSpPr/>
          <p:nvPr/>
        </p:nvSpPr>
        <p:spPr>
          <a:xfrm>
            <a:off x="8244000" y="522936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9" name="Line 20"/>
          <p:cNvSpPr/>
          <p:nvPr/>
        </p:nvSpPr>
        <p:spPr>
          <a:xfrm flipV="1">
            <a:off x="7020000" y="522900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5224320" y="57340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В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0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1" name="Rectangle 22"/>
          <p:cNvSpPr/>
          <p:nvPr/>
        </p:nvSpPr>
        <p:spPr>
          <a:xfrm>
            <a:off x="464508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2" name="Rectangle 23"/>
          <p:cNvSpPr/>
          <p:nvPr/>
        </p:nvSpPr>
        <p:spPr>
          <a:xfrm>
            <a:off x="8029800" y="47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3" name="Rectangle 24"/>
          <p:cNvSpPr/>
          <p:nvPr/>
        </p:nvSpPr>
        <p:spPr>
          <a:xfrm>
            <a:off x="6805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6593040" y="573264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В = АС + СВ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59280" y="907920"/>
            <a:ext cx="5256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802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1" lang="ru-RU" sz="17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ямая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надлежаща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плоскости, разбивает эту плоскость на две полуплоск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Picture 4" descr="COBJ042"/>
          <p:cNvPicPr/>
          <p:nvPr/>
        </p:nvPicPr>
        <p:blipFill>
          <a:blip r:embed="rId1"/>
          <a:stretch/>
        </p:blipFill>
        <p:spPr>
          <a:xfrm>
            <a:off x="395280" y="260280"/>
            <a:ext cx="1371600" cy="220356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5"/>
          <p:cNvSpPr/>
          <p:nvPr/>
        </p:nvSpPr>
        <p:spPr>
          <a:xfrm>
            <a:off x="2411280" y="4365720"/>
            <a:ext cx="3240360" cy="1224000"/>
          </a:xfrm>
          <a:prstGeom prst="parallelogram">
            <a:avLst>
              <a:gd name="adj" fmla="val 62556"/>
            </a:avLst>
          </a:prstGeom>
          <a:gradFill rotWithShape="0">
            <a:gsLst>
              <a:gs pos="0">
                <a:srgbClr val="ffe1ff"/>
              </a:gs>
              <a:gs pos="100000">
                <a:srgbClr val="ffea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9" name="Равнобедренный треугольник 10"/>
          <p:cNvSpPr/>
          <p:nvPr/>
        </p:nvSpPr>
        <p:spPr>
          <a:xfrm rot="9601800">
            <a:off x="2453760" y="4995360"/>
            <a:ext cx="3427560" cy="855720"/>
          </a:xfrm>
          <a:prstGeom prst="triangle">
            <a:avLst>
              <a:gd name="adj" fmla="val 33153"/>
            </a:avLst>
          </a:prstGeom>
          <a:solidFill>
            <a:srgbClr val="d60093">
              <a:alpha val="52000"/>
            </a:srgbClr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0" name="Line 8"/>
          <p:cNvSpPr/>
          <p:nvPr/>
        </p:nvSpPr>
        <p:spPr>
          <a:xfrm flipV="1">
            <a:off x="2411280" y="4437000"/>
            <a:ext cx="3168720" cy="115272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1" name="Равнобедренный треугольник 11"/>
          <p:cNvSpPr/>
          <p:nvPr/>
        </p:nvSpPr>
        <p:spPr>
          <a:xfrm rot="20401800">
            <a:off x="2166480" y="4132080"/>
            <a:ext cx="3425760" cy="853920"/>
          </a:xfrm>
          <a:prstGeom prst="triangle">
            <a:avLst>
              <a:gd name="adj" fmla="val 33153"/>
            </a:avLst>
          </a:prstGeom>
          <a:solidFill>
            <a:srgbClr val="00ff00">
              <a:alpha val="52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Прямая соединительная линия 26"/>
          <p:cNvSpPr/>
          <p:nvPr/>
        </p:nvSpPr>
        <p:spPr>
          <a:xfrm>
            <a:off x="6659640" y="4724280"/>
            <a:ext cx="1657440" cy="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3924360" y="5229360"/>
            <a:ext cx="12952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С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0     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С =    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59280" y="836640"/>
            <a:ext cx="5256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5802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угол имеет определённую градусную меру, большую нуля. Развёрнутый угол равен 18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Градусная мера угла равна сумме градусных мер углов, на которые он разбивается любым лучом, проходящим между его сторо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6" descr="COBJ042"/>
          <p:cNvPicPr/>
          <p:nvPr/>
        </p:nvPicPr>
        <p:blipFill>
          <a:blip r:embed="rId1"/>
          <a:stretch/>
        </p:blipFill>
        <p:spPr>
          <a:xfrm>
            <a:off x="250920" y="189000"/>
            <a:ext cx="1371600" cy="2203200"/>
          </a:xfrm>
          <a:prstGeom prst="rect">
            <a:avLst/>
          </a:prstGeom>
          <a:ln w="0">
            <a:noFill/>
          </a:ln>
        </p:spPr>
      </p:pic>
      <p:sp>
        <p:nvSpPr>
          <p:cNvPr id="787" name="Line 9"/>
          <p:cNvSpPr/>
          <p:nvPr/>
        </p:nvSpPr>
        <p:spPr>
          <a:xfrm flipV="1">
            <a:off x="1476360" y="4220640"/>
            <a:ext cx="180036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476360" y="5516640"/>
            <a:ext cx="194472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9" name="Freeform 11"/>
          <p:cNvSpPr/>
          <p:nvPr/>
        </p:nvSpPr>
        <p:spPr>
          <a:xfrm>
            <a:off x="1979640" y="5157720"/>
            <a:ext cx="227160" cy="479520"/>
          </a:xfrm>
          <a:custGeom>
            <a:avLst/>
            <a:gdLst>
              <a:gd name="textAreaLeft" fmla="*/ 0 w 227160"/>
              <a:gd name="textAreaRight" fmla="*/ 227520 w 227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76" h="144">
                <a:moveTo>
                  <a:pt x="0" y="0"/>
                </a:moveTo>
                <a:cubicBezTo>
                  <a:pt x="30" y="10"/>
                  <a:pt x="44" y="30"/>
                  <a:pt x="62" y="55"/>
                </a:cubicBezTo>
                <a:cubicBezTo>
                  <a:pt x="76" y="98"/>
                  <a:pt x="69" y="69"/>
                  <a:pt x="69" y="144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0" name="Line 12"/>
          <p:cNvSpPr/>
          <p:nvPr/>
        </p:nvSpPr>
        <p:spPr>
          <a:xfrm flipV="1">
            <a:off x="1476360" y="4797360"/>
            <a:ext cx="216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1" name="Freeform 13"/>
          <p:cNvSpPr/>
          <p:nvPr/>
        </p:nvSpPr>
        <p:spPr>
          <a:xfrm>
            <a:off x="2050920" y="5300640"/>
            <a:ext cx="42840" cy="271440"/>
          </a:xfrm>
          <a:custGeom>
            <a:avLst/>
            <a:gdLst>
              <a:gd name="textAreaLeft" fmla="*/ 0 w 42840"/>
              <a:gd name="textAreaRight" fmla="*/ 43200 w 428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7" h="171">
                <a:moveTo>
                  <a:pt x="0" y="0"/>
                </a:moveTo>
                <a:cubicBezTo>
                  <a:pt x="16" y="24"/>
                  <a:pt x="17" y="48"/>
                  <a:pt x="27" y="75"/>
                </a:cubicBezTo>
                <a:cubicBezTo>
                  <a:pt x="20" y="162"/>
                  <a:pt x="20" y="130"/>
                  <a:pt x="20" y="171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3354120" y="400536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1117080" y="522936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В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3432600" y="5661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С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3723120" y="4581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Е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6" name="Прямая соединительная линия 20"/>
          <p:cNvSpPr/>
          <p:nvPr/>
        </p:nvSpPr>
        <p:spPr>
          <a:xfrm>
            <a:off x="5003640" y="4724280"/>
            <a:ext cx="1656000" cy="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7" name="Овал 24"/>
          <p:cNvSpPr/>
          <p:nvPr/>
        </p:nvSpPr>
        <p:spPr>
          <a:xfrm>
            <a:off x="6588000" y="4653000"/>
            <a:ext cx="144720" cy="1443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8" name="Дуга 27"/>
          <p:cNvSpPr/>
          <p:nvPr/>
        </p:nvSpPr>
        <p:spPr>
          <a:xfrm rot="18960600">
            <a:off x="6173640" y="4544640"/>
            <a:ext cx="1103400" cy="1120680"/>
          </a:xfrm>
          <a:custGeom>
            <a:avLst/>
            <a:gdLst>
              <a:gd name="textAreaLeft" fmla="*/ 551880 w 1103400"/>
              <a:gd name="textAreaRight" fmla="*/ 1103760 w 1103400"/>
              <a:gd name="textAreaTop" fmla="*/ 0 h 1120680"/>
              <a:gd name="textAreaBottom" fmla="*/ 560520 h 1120680"/>
            </a:gdLst>
            <a:ahLst/>
            <a:rect l="textAreaLeft" t="textAreaTop" r="textAreaRight" b="textAreaBottom"/>
            <a:pathLst>
              <a:path stroke="0" w="1103312" h="1120775">
                <a:moveTo>
                  <a:pt x="551657" y="0"/>
                </a:moveTo>
                <a:lnTo>
                  <a:pt x="551657" y="0"/>
                </a:lnTo>
                <a:arcTo wR="551656" hR="560388" stAng="-5399994" swAng="5400000"/>
                <a:lnTo>
                  <a:pt x="551656" y="560388"/>
                </a:lnTo>
                <a:close/>
              </a:path>
              <a:path fill="none" w="1103312" h="1120775">
                <a:moveTo>
                  <a:pt x="551657" y="0"/>
                </a:moveTo>
                <a:lnTo>
                  <a:pt x="551657" y="0"/>
                </a:lnTo>
                <a:arcTo wR="551656" hR="560388" stAng="-5399994" swAng="5400000"/>
              </a:path>
            </a:pathLst>
          </a:custGeom>
          <a:noFill/>
          <a:ln w="255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6349680" y="41497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180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507672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Е +   </a:t>
            </a: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Е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600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500"/>
                            </p:stCondLst>
                            <p:childTnLst>
                              <p:par>
                                <p:cTn id="7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3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араллелограмм 20"/>
          <p:cNvSpPr/>
          <p:nvPr/>
        </p:nvSpPr>
        <p:spPr>
          <a:xfrm>
            <a:off x="4643280" y="4653000"/>
            <a:ext cx="3529080" cy="1490760"/>
          </a:xfrm>
          <a:prstGeom prst="parallelogram">
            <a:avLst>
              <a:gd name="adj" fmla="val 24999"/>
            </a:avLst>
          </a:prstGeom>
          <a:solidFill>
            <a:srgbClr val="ff99ff">
              <a:alpha val="41000"/>
            </a:srgbClr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532764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11280" y="2593800"/>
            <a:ext cx="7827840" cy="22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i="1" lang="ru-RU" sz="17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любой полупрямой от её начальной точки можно отложить отрезок заданной длины, и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I</a:t>
            </a:r>
            <a:r>
              <a:rPr b="1" lang="ru-RU" sz="19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 полупрямой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 содержащей её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заданную полуплоскость можно отложить угол с заданной градусной мерой, меньшей 18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и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4" name="Picture 4" descr="COBJ042"/>
          <p:cNvPicPr/>
          <p:nvPr/>
        </p:nvPicPr>
        <p:blipFill>
          <a:blip r:embed="rId1"/>
          <a:stretch/>
        </p:blipFill>
        <p:spPr>
          <a:xfrm>
            <a:off x="324000" y="115920"/>
            <a:ext cx="1523880" cy="2448000"/>
          </a:xfrm>
          <a:prstGeom prst="rect">
            <a:avLst/>
          </a:prstGeom>
          <a:ln w="0">
            <a:noFill/>
          </a:ln>
        </p:spPr>
      </p:pic>
      <p:sp>
        <p:nvSpPr>
          <p:cNvPr id="805" name="Line 5"/>
          <p:cNvSpPr/>
          <p:nvPr/>
        </p:nvSpPr>
        <p:spPr>
          <a:xfrm>
            <a:off x="971640" y="5445000"/>
            <a:ext cx="251928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900000" y="5373720"/>
            <a:ext cx="73080" cy="69840"/>
          </a:xfrm>
          <a:prstGeom prst="ellipse">
            <a:avLst/>
          </a:prstGeom>
          <a:solidFill>
            <a:srgbClr val="000080"/>
          </a:solidFill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7" name="Line 8"/>
          <p:cNvSpPr/>
          <p:nvPr/>
        </p:nvSpPr>
        <p:spPr>
          <a:xfrm flipV="1">
            <a:off x="5076720" y="5805360"/>
            <a:ext cx="2519640" cy="217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5076720" y="5950080"/>
            <a:ext cx="73080" cy="69840"/>
          </a:xfrm>
          <a:prstGeom prst="ellipse">
            <a:avLst/>
          </a:prstGeom>
          <a:solidFill>
            <a:srgbClr val="0000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9" name="Line 10"/>
          <p:cNvSpPr/>
          <p:nvPr/>
        </p:nvSpPr>
        <p:spPr>
          <a:xfrm flipV="1">
            <a:off x="5148360" y="4797360"/>
            <a:ext cx="1871640" cy="115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0" name="Freeform 11"/>
          <p:cNvSpPr/>
          <p:nvPr/>
        </p:nvSpPr>
        <p:spPr>
          <a:xfrm>
            <a:off x="5580000" y="5661000"/>
            <a:ext cx="228600" cy="30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44" h="103">
                <a:moveTo>
                  <a:pt x="0" y="0"/>
                </a:moveTo>
                <a:cubicBezTo>
                  <a:pt x="35" y="14"/>
                  <a:pt x="71" y="20"/>
                  <a:pt x="103" y="41"/>
                </a:cubicBezTo>
                <a:cubicBezTo>
                  <a:pt x="119" y="63"/>
                  <a:pt x="126" y="85"/>
                  <a:pt x="144" y="10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1" name="Line 13"/>
          <p:cNvSpPr/>
          <p:nvPr/>
        </p:nvSpPr>
        <p:spPr>
          <a:xfrm flipV="1">
            <a:off x="2268360" y="530028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2" name="Rectangle 14"/>
          <p:cNvSpPr/>
          <p:nvPr/>
        </p:nvSpPr>
        <p:spPr>
          <a:xfrm>
            <a:off x="541080" y="49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3" name="Rectangle 15"/>
          <p:cNvSpPr/>
          <p:nvPr/>
        </p:nvSpPr>
        <p:spPr>
          <a:xfrm>
            <a:off x="32054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2053080" y="479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133200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К = 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7524720" y="5516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7" name="Rectangle 19"/>
          <p:cNvSpPr/>
          <p:nvPr/>
        </p:nvSpPr>
        <p:spPr>
          <a:xfrm>
            <a:off x="478944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709524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9" name="Line 21"/>
          <p:cNvSpPr/>
          <p:nvPr/>
        </p:nvSpPr>
        <p:spPr>
          <a:xfrm>
            <a:off x="971640" y="5445000"/>
            <a:ext cx="129672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1258920" y="501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араллелограмм 8"/>
          <p:cNvSpPr/>
          <p:nvPr/>
        </p:nvSpPr>
        <p:spPr>
          <a:xfrm>
            <a:off x="4932360" y="4149720"/>
            <a:ext cx="3600360" cy="1849320"/>
          </a:xfrm>
          <a:prstGeom prst="parallelogram">
            <a:avLst>
              <a:gd name="adj" fmla="val 25003"/>
            </a:avLst>
          </a:prstGeom>
          <a:solidFill>
            <a:srgbClr val="00ff00">
              <a:alpha val="21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771640" y="764640"/>
            <a:ext cx="55548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III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 бы ни был треугольник, существует равный ему треугольник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 данной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заданном расположении относительно данной полупрямой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 этой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Picture 5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6"/>
          <p:cNvSpPr/>
          <p:nvPr/>
        </p:nvSpPr>
        <p:spPr>
          <a:xfrm>
            <a:off x="1332000" y="4724280"/>
            <a:ext cx="1657440" cy="1057320"/>
          </a:xfrm>
          <a:prstGeom prst="triangle">
            <a:avLst>
              <a:gd name="adj" fmla="val 50000"/>
            </a:avLst>
          </a:prstGeom>
          <a:solidFill>
            <a:srgbClr val="ff00ff">
              <a:alpha val="42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6" name="Line 7"/>
          <p:cNvSpPr/>
          <p:nvPr/>
        </p:nvSpPr>
        <p:spPr>
          <a:xfrm flipV="1">
            <a:off x="5292720" y="4723920"/>
            <a:ext cx="2951280" cy="108108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7" name="Oval 8"/>
          <p:cNvSpPr/>
          <p:nvPr/>
        </p:nvSpPr>
        <p:spPr>
          <a:xfrm>
            <a:off x="5292720" y="5732640"/>
            <a:ext cx="69840" cy="79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8" name="AutoShape 9"/>
          <p:cNvSpPr/>
          <p:nvPr/>
        </p:nvSpPr>
        <p:spPr>
          <a:xfrm rot="20370600">
            <a:off x="5713560" y="4260600"/>
            <a:ext cx="1657080" cy="10573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5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627280" y="1052280"/>
            <a:ext cx="540072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109000" cy="18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X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через данную точку, не лежащую на данной прямой, можно провести не более одной прямой, параллельной дан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Picture 4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5"/>
          <p:cNvSpPr/>
          <p:nvPr/>
        </p:nvSpPr>
        <p:spPr>
          <a:xfrm>
            <a:off x="2195640" y="4221000"/>
            <a:ext cx="4392360" cy="1584360"/>
          </a:xfrm>
          <a:prstGeom prst="parallelogram">
            <a:avLst>
              <a:gd name="adj" fmla="val 69308"/>
            </a:avLst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6"/>
              <p:cNvSpPr txBox="1"/>
              <p:nvPr/>
            </p:nvSpPr>
            <p:spPr>
              <a:xfrm>
                <a:off x="2411280" y="5445000"/>
                <a:ext cx="3477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4" name="Oval 8"/>
          <p:cNvSpPr/>
          <p:nvPr/>
        </p:nvSpPr>
        <p:spPr>
          <a:xfrm>
            <a:off x="4284720" y="5300640"/>
            <a:ext cx="69840" cy="79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35" name="Line 9"/>
          <p:cNvSpPr/>
          <p:nvPr/>
        </p:nvSpPr>
        <p:spPr>
          <a:xfrm>
            <a:off x="3419640" y="4653000"/>
            <a:ext cx="2376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36" name="Line 10"/>
          <p:cNvSpPr/>
          <p:nvPr/>
        </p:nvSpPr>
        <p:spPr>
          <a:xfrm>
            <a:off x="3203640" y="5373720"/>
            <a:ext cx="2376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0"/>
                            </p:stCondLst>
                            <p:childTnLst>
                              <p:par>
                                <p:cTn id="9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7000"/>
                            </p:stCondLst>
                            <p:childTnLst>
                              <p:par>
                                <p:cTn id="9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771640" y="1052280"/>
            <a:ext cx="540072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56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кова бы ни была плоскость, существуют точки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инадлежащие этой плоскости, и точки, 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инадлежащие 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</a:t>
            </a:r>
            <a:r>
              <a:rPr b="1" lang="ru-RU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Если две различные плоскости имеют общую точку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то они пересекаются по прямой, проходящей через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эту точк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Если две различные прямые имеют общую точку, 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через них можно провести плоскость, и прит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только одн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9" name="Picture 4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"/>
                            </p:stCondLst>
                            <p:childTnLst>
                              <p:par>
                                <p:cTn id="9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850"/>
                            </p:stCondLst>
                            <p:childTnLst>
                              <p:par>
                                <p:cTn id="9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650"/>
                            </p:stCondLst>
                            <p:childTnLst>
                              <p:par>
                                <p:cTn id="9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150"/>
                            </p:stCondLst>
                            <p:childTnLst>
                              <p:par>
                                <p:cTn id="10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950"/>
                            </p:stCondLst>
                            <p:childTnLst>
                              <p:par>
                                <p:cTn id="10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Стереометрия – это раздел геометрии, в котором изучаются фигуры в пространст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В стереометрии, также как и в планиметрии, свойства геометрических фигур устанавливаются путём доказательства соответствующих теор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При этом отправными являются свойства основных геометрических фигур, сформулированных в виде акси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85" name="Picture 6" descr="AG00135_"/>
          <p:cNvPicPr/>
          <p:nvPr/>
        </p:nvPicPr>
        <p:blipFill>
          <a:blip r:embed="rId1"/>
          <a:stretch/>
        </p:blipFill>
        <p:spPr>
          <a:xfrm>
            <a:off x="1187280" y="476280"/>
            <a:ext cx="3095640" cy="10047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AG00135_"/>
          <p:cNvPicPr/>
          <p:nvPr/>
        </p:nvPicPr>
        <p:blipFill>
          <a:blip r:embed="rId2"/>
          <a:stretch/>
        </p:blipFill>
        <p:spPr>
          <a:xfrm>
            <a:off x="4932360" y="449280"/>
            <a:ext cx="324000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20072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рисунку ответьте на вопросы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Rage Italic"/>
              </a:rPr>
              <a:t>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Rage Italic"/>
              </a:rPr>
              <a:t>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Какие точки принадлежат плоскости </a:t>
            </a:r>
            <a:r>
              <a:rPr b="1" i="1" lang="el-GR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Какие точки не принадлежат плоскости </a:t>
            </a:r>
            <a:r>
              <a:rPr b="1" i="1" lang="el-GR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13"/>
          <p:cNvSpPr/>
          <p:nvPr/>
        </p:nvSpPr>
        <p:spPr>
          <a:xfrm>
            <a:off x="3419640" y="2276640"/>
            <a:ext cx="4681440" cy="1439640"/>
          </a:xfrm>
          <a:prstGeom prst="parallelogram">
            <a:avLst>
              <a:gd name="adj" fmla="val 81295"/>
            </a:avLst>
          </a:prstGeom>
          <a:solidFill>
            <a:srgbClr val="00ff00">
              <a:alpha val="17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3" name="Line 14"/>
          <p:cNvSpPr/>
          <p:nvPr/>
        </p:nvSpPr>
        <p:spPr>
          <a:xfrm flipH="1">
            <a:off x="5364000" y="1197000"/>
            <a:ext cx="93672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4" name="Line 15"/>
          <p:cNvSpPr/>
          <p:nvPr/>
        </p:nvSpPr>
        <p:spPr>
          <a:xfrm>
            <a:off x="5940360" y="1197000"/>
            <a:ext cx="360360" cy="1871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5" name="Line 16"/>
          <p:cNvSpPr/>
          <p:nvPr/>
        </p:nvSpPr>
        <p:spPr>
          <a:xfrm flipH="1">
            <a:off x="4858920" y="2852640"/>
            <a:ext cx="506520" cy="86364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6" name="Line 17"/>
          <p:cNvSpPr/>
          <p:nvPr/>
        </p:nvSpPr>
        <p:spPr>
          <a:xfrm flipH="1">
            <a:off x="4211640" y="3716280"/>
            <a:ext cx="649440" cy="1152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7" name="Line 19"/>
          <p:cNvSpPr/>
          <p:nvPr/>
        </p:nvSpPr>
        <p:spPr>
          <a:xfrm>
            <a:off x="6300720" y="3068640"/>
            <a:ext cx="142920" cy="64764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8" name="Line 20"/>
          <p:cNvSpPr/>
          <p:nvPr/>
        </p:nvSpPr>
        <p:spPr>
          <a:xfrm>
            <a:off x="6443640" y="3716280"/>
            <a:ext cx="360360" cy="1728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9" name="Oval 24"/>
          <p:cNvSpPr/>
          <p:nvPr/>
        </p:nvSpPr>
        <p:spPr>
          <a:xfrm>
            <a:off x="5292720" y="2852640"/>
            <a:ext cx="7308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0" name="Oval 25"/>
          <p:cNvSpPr/>
          <p:nvPr/>
        </p:nvSpPr>
        <p:spPr>
          <a:xfrm>
            <a:off x="5292720" y="2852640"/>
            <a:ext cx="7308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1" name="Oval 27"/>
          <p:cNvSpPr/>
          <p:nvPr/>
        </p:nvSpPr>
        <p:spPr>
          <a:xfrm>
            <a:off x="6300720" y="3141720"/>
            <a:ext cx="73080" cy="7128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2" name="Oval 28"/>
          <p:cNvSpPr/>
          <p:nvPr/>
        </p:nvSpPr>
        <p:spPr>
          <a:xfrm>
            <a:off x="4500720" y="4221000"/>
            <a:ext cx="7272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3" name="Oval 29"/>
          <p:cNvSpPr/>
          <p:nvPr/>
        </p:nvSpPr>
        <p:spPr>
          <a:xfrm>
            <a:off x="6588000" y="4508640"/>
            <a:ext cx="73080" cy="7128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4" name="Oval 30"/>
          <p:cNvSpPr/>
          <p:nvPr/>
        </p:nvSpPr>
        <p:spPr>
          <a:xfrm>
            <a:off x="6012000" y="1628640"/>
            <a:ext cx="7272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31"/>
              <p:cNvSpPr txBox="1"/>
              <p:nvPr/>
            </p:nvSpPr>
            <p:spPr>
              <a:xfrm>
                <a:off x="3780000" y="3359160"/>
                <a:ext cx="358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Rectangle 32"/>
          <p:cNvSpPr/>
          <p:nvPr/>
        </p:nvSpPr>
        <p:spPr>
          <a:xfrm>
            <a:off x="479016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7" name="Rectangle 33"/>
          <p:cNvSpPr/>
          <p:nvPr/>
        </p:nvSpPr>
        <p:spPr>
          <a:xfrm>
            <a:off x="63745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8" name="Rectangle 34"/>
          <p:cNvSpPr/>
          <p:nvPr/>
        </p:nvSpPr>
        <p:spPr>
          <a:xfrm>
            <a:off x="6158520" y="141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9" name="Rectangle 35"/>
          <p:cNvSpPr/>
          <p:nvPr/>
        </p:nvSpPr>
        <p:spPr>
          <a:xfrm>
            <a:off x="4069440" y="393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0" name="Rectangle 36"/>
          <p:cNvSpPr/>
          <p:nvPr/>
        </p:nvSpPr>
        <p:spPr>
          <a:xfrm>
            <a:off x="6734160" y="4219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pic>
        <p:nvPicPr>
          <p:cNvPr id="861" name="Picture 37" descr="FAQ"/>
          <p:cNvPicPr/>
          <p:nvPr/>
        </p:nvPicPr>
        <p:blipFill>
          <a:blip r:embed="rId1"/>
          <a:stretch/>
        </p:blipFill>
        <p:spPr>
          <a:xfrm>
            <a:off x="7149960" y="4221000"/>
            <a:ext cx="18003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3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63" name="Group 9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864" name="Line 10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65" name="Freeform 11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66" name="Freeform 12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867" name="Text Box 13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0" name="Text Box 17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1" name="Text Box 18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2" name="Oval 19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3" name="Oval 20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6" name="Text Box 2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7" name="Line 2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8" name="Line 28"/>
          <p:cNvSpPr/>
          <p:nvPr/>
        </p:nvSpPr>
        <p:spPr>
          <a:xfrm>
            <a:off x="1979640" y="2708280"/>
            <a:ext cx="504720" cy="23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9" name="Line 2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4753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По рисунку ответьте на </a:t>
            </a:r>
            <a:r>
              <a:rPr b="1" lang="en-US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Каким плоскостям </a:t>
            </a: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надлежит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21"/>
          <p:cNvSpPr/>
          <p:nvPr/>
        </p:nvSpPr>
        <p:spPr>
          <a:xfrm>
            <a:off x="4633560" y="4292640"/>
            <a:ext cx="6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А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3" name="Прямоугольник 22"/>
          <p:cNvSpPr/>
          <p:nvPr/>
        </p:nvSpPr>
        <p:spPr>
          <a:xfrm>
            <a:off x="5705640" y="429264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М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4" name="Прямоугольник 23"/>
          <p:cNvSpPr/>
          <p:nvPr/>
        </p:nvSpPr>
        <p:spPr>
          <a:xfrm>
            <a:off x="7031160" y="422100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К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5" name="Прямоугольник 24"/>
          <p:cNvSpPr/>
          <p:nvPr/>
        </p:nvSpPr>
        <p:spPr>
          <a:xfrm>
            <a:off x="5263560" y="5013360"/>
            <a:ext cx="63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S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6" name="Прямоугольник 25"/>
          <p:cNvSpPr/>
          <p:nvPr/>
        </p:nvSpPr>
        <p:spPr>
          <a:xfrm>
            <a:off x="6500160" y="50133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P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88" name="Group 3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889" name="Line 4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90" name="Freeform 5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91" name="Freeform 6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892" name="Text Box 7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7" name="Oval 12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8" name="Oval 13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9" name="Oval 14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2" name="Line 1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1979640" y="2781360"/>
            <a:ext cx="504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4" name="Line 1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4753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По рисунку ответьте на </a:t>
            </a: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    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Вне каких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          </a:t>
            </a: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лежит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21"/>
          <p:cNvSpPr/>
          <p:nvPr/>
        </p:nvSpPr>
        <p:spPr>
          <a:xfrm>
            <a:off x="4049280" y="47242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М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8" name="Прямоугольник 22"/>
          <p:cNvSpPr/>
          <p:nvPr/>
        </p:nvSpPr>
        <p:spPr>
          <a:xfrm>
            <a:off x="5087160" y="472428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К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9" name="Прямоугольник 23"/>
          <p:cNvSpPr/>
          <p:nvPr/>
        </p:nvSpPr>
        <p:spPr>
          <a:xfrm>
            <a:off x="6074280" y="4724280"/>
            <a:ext cx="6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А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0" name="Прямоугольник 24"/>
          <p:cNvSpPr/>
          <p:nvPr/>
        </p:nvSpPr>
        <p:spPr>
          <a:xfrm>
            <a:off x="6875640" y="4724280"/>
            <a:ext cx="64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P</a:t>
            </a: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1" name="Прямоугольник 25"/>
          <p:cNvSpPr/>
          <p:nvPr/>
        </p:nvSpPr>
        <p:spPr>
          <a:xfrm>
            <a:off x="7795440" y="4653000"/>
            <a:ext cx="4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S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350"/>
                            </p:stCondLst>
                            <p:childTnLst>
                              <p:par>
                                <p:cTn id="1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3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914" name="Line 4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15" name="Freeform 5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16" name="Freeform 6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917" name="Text Box 7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8" name="Text Box 8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9" name="Text Box 9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1" name="Text Box 11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2" name="Oval 12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3" name="Oval 13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4" name="Oval 14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5" name="Text Box 15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6" name="Text Box 1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7" name="Line 1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8" name="Line 18"/>
          <p:cNvSpPr/>
          <p:nvPr/>
        </p:nvSpPr>
        <p:spPr>
          <a:xfrm>
            <a:off x="1979640" y="2781360"/>
            <a:ext cx="504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9" name="Line 1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753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По рисунку ответьте на 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По какой прямой пересекаются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4788000" y="393372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B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C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3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C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; 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4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5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PSC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  ABC.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3" name="Прямая соединительная линия 24"/>
          <p:cNvSpPr/>
          <p:nvPr/>
        </p:nvSpPr>
        <p:spPr>
          <a:xfrm flipV="1">
            <a:off x="1332000" y="2781000"/>
            <a:ext cx="647640" cy="2663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4" name="Прямая соединительная линия 26"/>
          <p:cNvSpPr/>
          <p:nvPr/>
        </p:nvSpPr>
        <p:spPr>
          <a:xfrm flipV="1">
            <a:off x="395280" y="4508640"/>
            <a:ext cx="3240000" cy="727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5" name="Прямая соединительная линия 28"/>
          <p:cNvSpPr/>
          <p:nvPr/>
        </p:nvSpPr>
        <p:spPr>
          <a:xfrm>
            <a:off x="395280" y="4581360"/>
            <a:ext cx="936720" cy="93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6" name="Прямая соединительная линия 30"/>
          <p:cNvSpPr/>
          <p:nvPr/>
        </p:nvSpPr>
        <p:spPr>
          <a:xfrm flipV="1">
            <a:off x="395280" y="2707920"/>
            <a:ext cx="1620720" cy="187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7" name="Прямая соединительная линия 35"/>
          <p:cNvSpPr/>
          <p:nvPr/>
        </p:nvSpPr>
        <p:spPr>
          <a:xfrm flipV="1">
            <a:off x="755640" y="4508280"/>
            <a:ext cx="2879640" cy="360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6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7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8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7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6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7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8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6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7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8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59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6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7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8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79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5781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7634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огут ли две различ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меть только одну общую т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ово взаимное расположение двух пря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ранстве, если они имеют две общие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гут ли две различные прямые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меть более одной общей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4" descr="FAQ"/>
          <p:cNvPicPr/>
          <p:nvPr/>
        </p:nvPicPr>
        <p:blipFill>
          <a:blip r:embed="rId1"/>
          <a:stretch/>
        </p:blipFill>
        <p:spPr>
          <a:xfrm>
            <a:off x="7535880" y="3933720"/>
            <a:ext cx="1608120" cy="2187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5" descr="OWL"/>
          <p:cNvPicPr/>
          <p:nvPr/>
        </p:nvPicPr>
        <p:blipFill>
          <a:blip r:embed="rId2"/>
          <a:stretch/>
        </p:blipFill>
        <p:spPr>
          <a:xfrm>
            <a:off x="758880" y="115920"/>
            <a:ext cx="155736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350"/>
                            </p:stCondLst>
                            <p:childTnLst>
                              <p:par>
                                <p:cTn id="1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56000" y="836640"/>
            <a:ext cx="5975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4000" y="335772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00"/>
                </a:solidFill>
                <a:latin typeface="Comic Sans MS"/>
              </a:rPr>
              <a:t>Столяр проверяет, лежат ли ножки стула в одной плоскости, при помощи двух нитей. Объясните, как он это дел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4" descr="OWL"/>
          <p:cNvPicPr/>
          <p:nvPr/>
        </p:nvPicPr>
        <p:blipFill>
          <a:blip r:embed="rId1"/>
          <a:stretch/>
        </p:blipFill>
        <p:spPr>
          <a:xfrm>
            <a:off x="611280" y="476280"/>
            <a:ext cx="16794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700360" y="1125360"/>
            <a:ext cx="590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55280" y="2924280"/>
            <a:ext cx="7846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99"/>
                </a:solidFill>
                <a:latin typeface="Comic Sans MS"/>
              </a:rPr>
              <a:t>Докажите, что все вершины четырёхугольника принадлежат одной плоскости, если его диагонали пересек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4" descr="OWL"/>
          <p:cNvPicPr/>
          <p:nvPr/>
        </p:nvPicPr>
        <p:blipFill>
          <a:blip r:embed="rId1"/>
          <a:stretch/>
        </p:blipFill>
        <p:spPr>
          <a:xfrm>
            <a:off x="539640" y="404640"/>
            <a:ext cx="17258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700360" y="1125360"/>
            <a:ext cx="590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02920" y="306828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Comic Sans MS"/>
              </a:rPr>
              <a:t>Выполните:</a:t>
            </a: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Упр.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                      </a:t>
            </a: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Упр.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5" descr="ANTN069"/>
          <p:cNvPicPr/>
          <p:nvPr/>
        </p:nvPicPr>
        <p:blipFill>
          <a:blip r:embed="rId1"/>
          <a:stretch/>
        </p:blipFill>
        <p:spPr>
          <a:xfrm>
            <a:off x="250920" y="404640"/>
            <a:ext cx="2520720" cy="233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0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00"/>
                            </p:stCondLst>
                            <p:childTnLst>
                              <p:par>
                                <p:cTn id="1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cc3300"/>
                </a:solidFill>
                <a:latin typeface="Comic Sans MS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496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Изучить п.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Повторить аксиомы </a:t>
            </a:r>
            <a:r>
              <a:rPr b="1" lang="en-US" sz="3500" spc="-1" strike="noStrike">
                <a:solidFill>
                  <a:srgbClr val="800080"/>
                </a:solidFill>
                <a:latin typeface="Comic Sans MS"/>
              </a:rPr>
              <a:t>I – IX</a:t>
            </a: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Выполнить упр. 2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7" descr="Ychenik"/>
          <p:cNvPicPr/>
          <p:nvPr/>
        </p:nvPicPr>
        <p:blipFill>
          <a:blip r:embed="rId1"/>
          <a:stretch/>
        </p:blipFill>
        <p:spPr>
          <a:xfrm>
            <a:off x="5724360" y="3068640"/>
            <a:ext cx="3087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0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920"/>
                            </p:stCondLst>
                            <p:childTnLst>
                              <p:par>
                                <p:cTn id="1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920"/>
                            </p:stCondLst>
                            <p:childTnLst>
                              <p:par>
                                <p:cTn id="15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920"/>
                            </p:stCondLst>
                            <p:childTnLst>
                              <p:par>
                                <p:cTn id="15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010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тератур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А.В.Погорелов Геометрия 10-11 ,Москва, Просвещение,2009 год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Геометрия 10 класс (поурочные планы). Составители Т. Л. Афанасьева, Л. А. Тапилина. Изд.  «Учитель», Волгоград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Зив Б. Г. Геометрия: дидактические материалы для 10 класса. — М.: Просвещение, 2007—2008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Саакян С. М. Изучение геометрии в 10—11 классах /С. М. Саакян, В. Ф. Бутузов. — М.:  Просвещение, 2008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Земляков А. Н. Геометрия в 10 классе: методические рекомендации. — М.: Просвещение, 2002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 Геометрия 10-11 классы. Тесты для текущего и обобщающего контроля. Авторы-составители:    Г.И. Ковалёва,  Н.И. Мазу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. Евстафьева Л. П. Геометрия: дидактические материалы для 10—11 класса. — М.: Просвещение, 2004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. Геометрия, 10—11: Кн. для учителя / А. Д. Александров, А. Л. Вернер, В. И. Рыжик, Л. П.Евстафьева. — М.: Просвещение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9. Зив Б. Г. Задачи по геометрии для 7—11 классов/ Б. Г. Зив, В. М. Мейлер, А. Г. Баханский. —   М.: Просвещение, 2003—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Monotype Corsiva"/>
              </a:rPr>
              <a:t>Аксиомы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– это первоначальные факты геометрии, которые принимаются без доказательств и позволяют вывести из них дальнейшие факты этой нау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«Аксиомы обладают наивысшей степенью общности и представляют начала всег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АРИСТОТ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88" name="Picture 4" descr="AG00135_"/>
          <p:cNvPicPr/>
          <p:nvPr/>
        </p:nvPicPr>
        <p:blipFill>
          <a:blip r:embed="rId1"/>
          <a:stretch/>
        </p:blipFill>
        <p:spPr>
          <a:xfrm>
            <a:off x="1403280" y="333360"/>
            <a:ext cx="3095640" cy="1004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AG00135_"/>
          <p:cNvPicPr/>
          <p:nvPr/>
        </p:nvPicPr>
        <p:blipFill>
          <a:blip r:embed="rId2"/>
          <a:stretch/>
        </p:blipFill>
        <p:spPr>
          <a:xfrm>
            <a:off x="5003640" y="333360"/>
            <a:ext cx="324036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1294920" y="19051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«Так называемые аксиомы математики – это те немногие мыслительные определения, которые необходимы в математике в качестве исходного пункт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        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Ф. Энгельс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91" name="Picture 4" descr="AG00135_"/>
          <p:cNvPicPr/>
          <p:nvPr/>
        </p:nvPicPr>
        <p:blipFill>
          <a:blip r:embed="rId1"/>
          <a:stretch/>
        </p:blipFill>
        <p:spPr>
          <a:xfrm>
            <a:off x="1403280" y="282600"/>
            <a:ext cx="3097440" cy="10796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AG00135_"/>
          <p:cNvPicPr/>
          <p:nvPr/>
        </p:nvPicPr>
        <p:blipFill>
          <a:blip r:embed="rId2"/>
          <a:stretch/>
        </p:blipFill>
        <p:spPr>
          <a:xfrm>
            <a:off x="5003640" y="243000"/>
            <a:ext cx="3529080" cy="109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6600"/>
                </a:solidFill>
                <a:latin typeface="Centaur"/>
              </a:rPr>
              <a:t>     </a:t>
            </a:r>
            <a:r>
              <a:rPr b="1" i="1" lang="ru-RU" sz="3600" spc="-1" strike="noStrike">
                <a:solidFill>
                  <a:srgbClr val="ff0000"/>
                </a:solidFill>
                <a:latin typeface="Centaur"/>
              </a:rPr>
              <a:t>Основные фигуры в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entaur"/>
              </a:rPr>
              <a:t>                    пространстве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187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5292720" y="3716280"/>
            <a:ext cx="3097080" cy="1295280"/>
          </a:xfrm>
          <a:prstGeom prst="parallelogram">
            <a:avLst>
              <a:gd name="adj" fmla="val 59776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6" name="AutoShape 9"/>
          <p:cNvSpPr/>
          <p:nvPr/>
        </p:nvSpPr>
        <p:spPr>
          <a:xfrm>
            <a:off x="1187280" y="3860640"/>
            <a:ext cx="216000" cy="216000"/>
          </a:xfrm>
          <a:prstGeom prst="flowChartConnector">
            <a:avLst/>
          </a:prstGeom>
          <a:solidFill>
            <a:srgbClr val="0000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7" name="Line 10"/>
          <p:cNvSpPr/>
          <p:nvPr/>
        </p:nvSpPr>
        <p:spPr>
          <a:xfrm flipV="1">
            <a:off x="2411280" y="3500280"/>
            <a:ext cx="2448000" cy="165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2843280" y="2276640"/>
            <a:ext cx="187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рямая</a:t>
            </a:r>
            <a:endParaRPr b="0" lang="en-US" sz="4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5867280" y="2276640"/>
            <a:ext cx="266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лоскость</a:t>
            </a:r>
            <a:endParaRPr b="0" lang="en-US" sz="4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5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зображать плоскость мы будем в виде параллелограмм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    </a:t>
            </a: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ли в виде произвольн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auhaus 93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Плоскость, как и прямая, бесконечна. На рисунке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зображаем только часть плоскости, но представляем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неограниченно продолженной во вс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Плоскости обозначают греческими буквами</a:t>
            </a:r>
            <a:r>
              <a:rPr b="1" i="1" lang="ru-RU" sz="3200" spc="-1" strike="noStrike">
                <a:solidFill>
                  <a:srgbClr val="000000"/>
                </a:solidFill>
                <a:latin typeface="Bauhaus 93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611280" y="2349360"/>
            <a:ext cx="3240000" cy="1224000"/>
          </a:xfrm>
          <a:prstGeom prst="parallelogram">
            <a:avLst>
              <a:gd name="adj" fmla="val 66176"/>
            </a:avLst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2" name="Freeform 16"/>
          <p:cNvSpPr/>
          <p:nvPr/>
        </p:nvSpPr>
        <p:spPr>
          <a:xfrm>
            <a:off x="4932360" y="2276640"/>
            <a:ext cx="2879640" cy="136836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731" h="981">
                <a:moveTo>
                  <a:pt x="338" y="776"/>
                </a:moveTo>
                <a:cubicBezTo>
                  <a:pt x="290" y="793"/>
                  <a:pt x="238" y="779"/>
                  <a:pt x="189" y="770"/>
                </a:cubicBezTo>
                <a:cubicBezTo>
                  <a:pt x="182" y="765"/>
                  <a:pt x="176" y="760"/>
                  <a:pt x="169" y="756"/>
                </a:cubicBezTo>
                <a:cubicBezTo>
                  <a:pt x="163" y="753"/>
                  <a:pt x="155" y="753"/>
                  <a:pt x="149" y="749"/>
                </a:cubicBezTo>
                <a:cubicBezTo>
                  <a:pt x="124" y="733"/>
                  <a:pt x="113" y="705"/>
                  <a:pt x="88" y="688"/>
                </a:cubicBezTo>
                <a:cubicBezTo>
                  <a:pt x="75" y="655"/>
                  <a:pt x="53" y="639"/>
                  <a:pt x="40" y="607"/>
                </a:cubicBezTo>
                <a:cubicBezTo>
                  <a:pt x="33" y="589"/>
                  <a:pt x="20" y="553"/>
                  <a:pt x="20" y="553"/>
                </a:cubicBezTo>
                <a:cubicBezTo>
                  <a:pt x="15" y="511"/>
                  <a:pt x="0" y="381"/>
                  <a:pt x="0" y="363"/>
                </a:cubicBezTo>
                <a:cubicBezTo>
                  <a:pt x="0" y="311"/>
                  <a:pt x="7" y="259"/>
                  <a:pt x="13" y="207"/>
                </a:cubicBezTo>
                <a:cubicBezTo>
                  <a:pt x="22" y="129"/>
                  <a:pt x="195" y="101"/>
                  <a:pt x="257" y="92"/>
                </a:cubicBezTo>
                <a:cubicBezTo>
                  <a:pt x="342" y="57"/>
                  <a:pt x="458" y="71"/>
                  <a:pt x="555" y="58"/>
                </a:cubicBezTo>
                <a:cubicBezTo>
                  <a:pt x="635" y="36"/>
                  <a:pt x="717" y="43"/>
                  <a:pt x="799" y="31"/>
                </a:cubicBezTo>
                <a:cubicBezTo>
                  <a:pt x="875" y="0"/>
                  <a:pt x="936" y="13"/>
                  <a:pt x="1023" y="17"/>
                </a:cubicBezTo>
                <a:cubicBezTo>
                  <a:pt x="1073" y="32"/>
                  <a:pt x="1122" y="45"/>
                  <a:pt x="1172" y="58"/>
                </a:cubicBezTo>
                <a:cubicBezTo>
                  <a:pt x="1195" y="74"/>
                  <a:pt x="1215" y="75"/>
                  <a:pt x="1240" y="85"/>
                </a:cubicBezTo>
                <a:cubicBezTo>
                  <a:pt x="1284" y="102"/>
                  <a:pt x="1330" y="129"/>
                  <a:pt x="1375" y="139"/>
                </a:cubicBezTo>
                <a:cubicBezTo>
                  <a:pt x="1398" y="173"/>
                  <a:pt x="1414" y="163"/>
                  <a:pt x="1450" y="173"/>
                </a:cubicBezTo>
                <a:cubicBezTo>
                  <a:pt x="1475" y="192"/>
                  <a:pt x="1488" y="197"/>
                  <a:pt x="1517" y="207"/>
                </a:cubicBezTo>
                <a:cubicBezTo>
                  <a:pt x="1519" y="214"/>
                  <a:pt x="1519" y="223"/>
                  <a:pt x="1524" y="228"/>
                </a:cubicBezTo>
                <a:cubicBezTo>
                  <a:pt x="1529" y="233"/>
                  <a:pt x="1538" y="231"/>
                  <a:pt x="1545" y="234"/>
                </a:cubicBezTo>
                <a:cubicBezTo>
                  <a:pt x="1579" y="251"/>
                  <a:pt x="1584" y="272"/>
                  <a:pt x="1626" y="289"/>
                </a:cubicBezTo>
                <a:cubicBezTo>
                  <a:pt x="1648" y="311"/>
                  <a:pt x="1669" y="317"/>
                  <a:pt x="1694" y="336"/>
                </a:cubicBezTo>
                <a:cubicBezTo>
                  <a:pt x="1703" y="380"/>
                  <a:pt x="1717" y="421"/>
                  <a:pt x="1728" y="465"/>
                </a:cubicBezTo>
                <a:cubicBezTo>
                  <a:pt x="1722" y="596"/>
                  <a:pt x="1731" y="578"/>
                  <a:pt x="1714" y="654"/>
                </a:cubicBezTo>
                <a:cubicBezTo>
                  <a:pt x="1708" y="679"/>
                  <a:pt x="1680" y="722"/>
                  <a:pt x="1680" y="722"/>
                </a:cubicBezTo>
                <a:cubicBezTo>
                  <a:pt x="1670" y="751"/>
                  <a:pt x="1614" y="817"/>
                  <a:pt x="1585" y="831"/>
                </a:cubicBezTo>
                <a:cubicBezTo>
                  <a:pt x="1575" y="836"/>
                  <a:pt x="1562" y="835"/>
                  <a:pt x="1551" y="837"/>
                </a:cubicBezTo>
                <a:cubicBezTo>
                  <a:pt x="1526" y="856"/>
                  <a:pt x="1513" y="862"/>
                  <a:pt x="1484" y="871"/>
                </a:cubicBezTo>
                <a:cubicBezTo>
                  <a:pt x="1432" y="905"/>
                  <a:pt x="1382" y="921"/>
                  <a:pt x="1321" y="932"/>
                </a:cubicBezTo>
                <a:cubicBezTo>
                  <a:pt x="1274" y="981"/>
                  <a:pt x="1175" y="973"/>
                  <a:pt x="1111" y="980"/>
                </a:cubicBezTo>
                <a:cubicBezTo>
                  <a:pt x="1037" y="976"/>
                  <a:pt x="965" y="977"/>
                  <a:pt x="894" y="959"/>
                </a:cubicBezTo>
                <a:cubicBezTo>
                  <a:pt x="866" y="931"/>
                  <a:pt x="798" y="906"/>
                  <a:pt x="759" y="898"/>
                </a:cubicBezTo>
                <a:cubicBezTo>
                  <a:pt x="709" y="868"/>
                  <a:pt x="666" y="841"/>
                  <a:pt x="609" y="831"/>
                </a:cubicBezTo>
                <a:cubicBezTo>
                  <a:pt x="561" y="798"/>
                  <a:pt x="479" y="803"/>
                  <a:pt x="420" y="797"/>
                </a:cubicBezTo>
                <a:cubicBezTo>
                  <a:pt x="397" y="789"/>
                  <a:pt x="376" y="774"/>
                  <a:pt x="352" y="770"/>
                </a:cubicBezTo>
                <a:cubicBezTo>
                  <a:pt x="347" y="769"/>
                  <a:pt x="343" y="774"/>
                  <a:pt x="338" y="776"/>
                </a:cubicBezTo>
                <a:close/>
              </a:path>
            </a:pathLst>
          </a:custGeom>
          <a:solidFill>
            <a:srgbClr val="00ff00">
              <a:alpha val="45000"/>
            </a:srgbClr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17"/>
              <p:cNvSpPr txBox="1"/>
              <p:nvPr/>
            </p:nvSpPr>
            <p:spPr>
              <a:xfrm>
                <a:off x="6516720" y="5732640"/>
                <a:ext cx="1152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6" name="Rectangle 22"/>
          <p:cNvSpPr/>
          <p:nvPr/>
        </p:nvSpPr>
        <p:spPr>
          <a:xfrm>
            <a:off x="25092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7164360" y="3068640"/>
                <a:ext cx="326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3"/>
              <p:cNvSpPr txBox="1"/>
              <p:nvPr/>
            </p:nvSpPr>
            <p:spPr>
              <a:xfrm>
                <a:off x="2700360" y="3213000"/>
                <a:ext cx="28728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7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6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6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0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5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75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75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i2[1]"/>
          <p:cNvPicPr/>
          <p:nvPr/>
        </p:nvPicPr>
        <p:blipFill>
          <a:blip r:embed="rId1"/>
          <a:stretch/>
        </p:blipFill>
        <p:spPr>
          <a:xfrm>
            <a:off x="324000" y="476280"/>
            <a:ext cx="3095640" cy="300348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275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cc0000"/>
                </a:solidFill>
                <a:latin typeface="Monotype Corsiva"/>
              </a:rPr>
              <a:t>Введение нового геометрического образа (плоскости) заставляет расширить известную нам в планиметрии систему аксиом. Поэтому вводится группа аксиом  С, которая выражает основные свойства плоскости в пространстве. Эта группа состоит из трёх акси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Monotype Corsiva"/>
              </a:rPr>
              <a:t>            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7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Tempus Sans ITC"/>
              </a:rPr>
              <a:t>Какова бы ни была плоскость, существуют точки,  принадлежащие этой плоскости, и точки, не принадлежащие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1835280" y="4221000"/>
            <a:ext cx="4608360" cy="1368720"/>
          </a:xfrm>
          <a:prstGeom prst="parallelogram">
            <a:avLst>
              <a:gd name="adj" fmla="val 84173"/>
            </a:avLst>
          </a:prstGeom>
          <a:solidFill>
            <a:srgbClr val="ffdd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7"/>
              <p:cNvSpPr txBox="1"/>
              <p:nvPr/>
            </p:nvSpPr>
            <p:spPr>
              <a:xfrm>
                <a:off x="2320920" y="5013360"/>
                <a:ext cx="3348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Oval 9"/>
          <p:cNvSpPr/>
          <p:nvPr/>
        </p:nvSpPr>
        <p:spPr>
          <a:xfrm>
            <a:off x="3635280" y="4581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6" name="Oval 10"/>
          <p:cNvSpPr/>
          <p:nvPr/>
        </p:nvSpPr>
        <p:spPr>
          <a:xfrm>
            <a:off x="5148360" y="458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7093080" y="5300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8" name="Oval 12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9" name="Oval 13"/>
          <p:cNvSpPr/>
          <p:nvPr/>
        </p:nvSpPr>
        <p:spPr>
          <a:xfrm>
            <a:off x="3995640" y="58770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0" name="Rectangle 14"/>
          <p:cNvSpPr/>
          <p:nvPr/>
        </p:nvSpPr>
        <p:spPr>
          <a:xfrm>
            <a:off x="3132000" y="4365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7413840" y="498636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2" name="Rectangle 19"/>
          <p:cNvSpPr/>
          <p:nvPr/>
        </p:nvSpPr>
        <p:spPr>
          <a:xfrm>
            <a:off x="1118160" y="4341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4213800" y="556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5366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AutoShape 8"/>
          <p:cNvSpPr/>
          <p:nvPr/>
        </p:nvSpPr>
        <p:spPr>
          <a:xfrm rot="1533000">
            <a:off x="3068280" y="4605480"/>
            <a:ext cx="2376360" cy="1368360"/>
          </a:xfrm>
          <a:prstGeom prst="parallelogram">
            <a:avLst>
              <a:gd name="adj" fmla="val 43416"/>
            </a:avLst>
          </a:prstGeom>
          <a:solidFill>
            <a:srgbClr val="e1e1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Monotype Corsiva"/>
              </a:rPr>
              <a:t>          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2700" spc="-1" strike="noStrike">
                <a:solidFill>
                  <a:srgbClr val="006666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Если две различные плоскости имеют общу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точку, то они пересекаются по прямой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проходящей через эту точк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4"/>
          <p:cNvSpPr/>
          <p:nvPr/>
        </p:nvSpPr>
        <p:spPr>
          <a:xfrm>
            <a:off x="1763640" y="4508640"/>
            <a:ext cx="5040360" cy="1152360"/>
          </a:xfrm>
          <a:prstGeom prst="parallelogram">
            <a:avLst>
              <a:gd name="adj" fmla="val 109349"/>
            </a:avLst>
          </a:prstGeom>
          <a:solidFill>
            <a:srgbClr val="ccecff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9" name="AutoShape 5"/>
          <p:cNvSpPr/>
          <p:nvPr/>
        </p:nvSpPr>
        <p:spPr>
          <a:xfrm flipH="1" rot="19050600">
            <a:off x="2131200" y="3852360"/>
            <a:ext cx="2247840" cy="1661760"/>
          </a:xfrm>
          <a:prstGeom prst="parallelogram">
            <a:avLst>
              <a:gd name="adj" fmla="val 36917"/>
            </a:avLst>
          </a:prstGeom>
          <a:solidFill>
            <a:srgbClr val="e1e1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0" name="Line 9"/>
          <p:cNvSpPr/>
          <p:nvPr/>
        </p:nvSpPr>
        <p:spPr>
          <a:xfrm flipV="1">
            <a:off x="3419640" y="4508280"/>
            <a:ext cx="122364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3564000" y="53737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14"/>
              <p:cNvSpPr txBox="1"/>
              <p:nvPr/>
            </p:nvSpPr>
            <p:spPr>
              <a:xfrm>
                <a:off x="5238720" y="5076720"/>
                <a:ext cx="293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12"/>
              <p:cNvSpPr txBox="1"/>
              <p:nvPr/>
            </p:nvSpPr>
            <p:spPr>
              <a:xfrm>
                <a:off x="2814480" y="3919680"/>
                <a:ext cx="335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Rectangle 16"/>
          <p:cNvSpPr/>
          <p:nvPr/>
        </p:nvSpPr>
        <p:spPr>
          <a:xfrm>
            <a:off x="3276720" y="4797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4502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7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80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41:16Z</dcterms:created>
  <dc:creator>Людмила</dc:creator>
  <dc:description/>
  <dc:language>en-US</dc:language>
  <cp:lastModifiedBy>1</cp:lastModifiedBy>
  <dcterms:modified xsi:type="dcterms:W3CDTF">2012-08-12T21:14:48Z</dcterms:modified>
  <cp:revision>102</cp:revision>
  <dc:subject/>
  <dc:title>Слайд 1</dc:title>
</cp:coreProperties>
</file>