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40.jpeg" ContentType="image/jpeg"/>
  <Override PartName="/ppt/media/image13.jpeg" ContentType="image/jpeg"/>
  <Override PartName="/ppt/media/image49.png" ContentType="image/png"/>
  <Override PartName="/ppt/media/image12.png" ContentType="image/pn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15.jpeg" ContentType="image/jpeg"/>
  <Override PartName="/ppt/media/image64.jpeg" ContentType="image/jpeg"/>
  <Override PartName="/ppt/media/image38.jpeg" ContentType="image/jpeg"/>
  <Override PartName="/ppt/media/image46.jpeg" ContentType="image/jpeg"/>
  <Override PartName="/ppt/media/image56.jpeg" ContentType="image/jpeg"/>
  <Override PartName="/ppt/media/image3.png" ContentType="image/pn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50.jpeg" ContentType="image/jpeg"/>
  <Override PartName="/ppt/media/image25.png" ContentType="image/png"/>
  <Override PartName="/ppt/media/image19.jpeg" ContentType="image/jpeg"/>
  <Override PartName="/ppt/media/image36.jpeg" ContentType="image/jpeg"/>
  <Override PartName="/ppt/media/image11.jpeg" ContentType="image/jpeg"/>
  <Override PartName="/ppt/media/image24.png" ContentType="image/png"/>
  <Override PartName="/ppt/media/image63.jpeg" ContentType="image/jpeg"/>
  <Override PartName="/ppt/media/image65.png" ContentType="image/pn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9.jpeg" ContentType="image/jpeg"/>
  <Override PartName="/ppt/media/image52.jpeg" ContentType="image/jpeg"/>
  <Override PartName="/ppt/media/image7.jpeg" ContentType="image/jpeg"/>
  <Override PartName="/ppt/media/image4.png" ContentType="image/png"/>
  <Override PartName="/ppt/media/image26.png" ContentType="image/png"/>
  <Override PartName="/ppt/media/image8.jpeg" ContentType="image/jpe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20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4.jpeg" ContentType="image/jpe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51.jpeg" ContentType="image/jpeg"/>
  <Override PartName="/ppt/media/image53.jpeg" ContentType="image/jpeg"/>
  <Override PartName="/ppt/media/image33.png" ContentType="image/png"/>
  <Override PartName="/ppt/media/image5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901E-72FC-428E-960A-3AD3A46973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12123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7AE6-6BE2-40A0-B6BF-A3707CC078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12123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89F9-71C3-44FD-B9F8-682485F75A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108B-D485-47AE-98AB-373FA94A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314-0AD6-45A9-914F-6D5BA231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A58-44F5-4367-803C-7F3257F6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EE35-5F47-4A0A-9F6D-B6B874F5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9D8B-98BC-4E51-9BA6-5C84134C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8B76-BF57-48B2-877F-838C0462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72F-30B0-4574-867F-CD88E8F1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C2E8-929E-4609-8FC2-D7CEDAA7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38A-B14D-431A-984B-E8EE5F2B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782-F64D-4B60-B0CE-5D2F8281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2245-A43F-47ED-B057-F6CF55E2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409-FFAD-4F85-A29B-A57D30AE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42C9-9CE8-41C6-8899-08A7A2E788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59.jpeg"/><Relationship Id="rId5" Type="http://schemas.openxmlformats.org/officeDocument/2006/relationships/image" Target="../media/image59.jpeg"/><Relationship Id="rId6" Type="http://schemas.openxmlformats.org/officeDocument/2006/relationships/image" Target="../media/image59.jpeg"/><Relationship Id="rId7" Type="http://schemas.openxmlformats.org/officeDocument/2006/relationships/image" Target="../media/image59.jpeg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одержимое 2" descr=""/>
          <p:cNvPicPr/>
          <p:nvPr/>
        </p:nvPicPr>
        <p:blipFill>
          <a:blip r:embed="rId2"/>
          <a:stretch/>
        </p:blipFill>
        <p:spPr>
          <a:xfrm>
            <a:off x="36360" y="500040"/>
            <a:ext cx="4900680" cy="5784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357440" y="500040"/>
            <a:ext cx="4329000" cy="57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 для растений и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 ягод, грибов, лекарственных раст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00b0f0"/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4" descr="береза лекарственная.jpg"/>
          <p:cNvPicPr/>
          <p:nvPr/>
        </p:nvPicPr>
        <p:blipFill>
          <a:blip r:embed="rId1"/>
          <a:stretch/>
        </p:blipFill>
        <p:spPr>
          <a:xfrm>
            <a:off x="6643800" y="1214280"/>
            <a:ext cx="2357280" cy="25718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19" name="Рисунок 7" descr="липа.jpg"/>
          <p:cNvPicPr/>
          <p:nvPr/>
        </p:nvPicPr>
        <p:blipFill>
          <a:blip r:embed="rId2"/>
          <a:stretch/>
        </p:blipFill>
        <p:spPr>
          <a:xfrm>
            <a:off x="142920" y="4214880"/>
            <a:ext cx="2357280" cy="25718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20" name="i-main-pic" descr="Картинка 13 из 3033"/>
          <p:cNvPicPr/>
          <p:nvPr/>
        </p:nvPicPr>
        <p:blipFill>
          <a:blip r:embed="rId3"/>
          <a:srcRect l="1403" t="995" r="2350" b="1323"/>
          <a:stretch/>
        </p:blipFill>
        <p:spPr>
          <a:xfrm>
            <a:off x="6643800" y="4214880"/>
            <a:ext cx="2357280" cy="25718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21" name="Рисунок 17" descr="шиповник.jpg"/>
          <p:cNvPicPr/>
          <p:nvPr/>
        </p:nvPicPr>
        <p:blipFill>
          <a:blip r:embed="rId4"/>
          <a:stretch/>
        </p:blipFill>
        <p:spPr>
          <a:xfrm>
            <a:off x="142920" y="1214280"/>
            <a:ext cx="2357280" cy="25718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122" name="TextBox 9"/>
          <p:cNvSpPr/>
          <p:nvPr/>
        </p:nvSpPr>
        <p:spPr>
          <a:xfrm>
            <a:off x="785880" y="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Лекарственные</a:t>
            </a:r>
            <a:r>
              <a:rPr b="0" lang="ru-RU" sz="5400" spc="-1" strike="noStrike" u="sng">
                <a:solidFill>
                  <a:srgbClr val="0070c0"/>
                </a:solidFill>
                <a:uFillTx/>
                <a:latin typeface="Calibri"/>
              </a:rPr>
              <a:t> </a:t>
            </a:r>
            <a:r>
              <a:rPr b="0" lang="ru-RU" sz="5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раст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Группа 29"/>
          <p:cNvGrpSpPr/>
          <p:nvPr/>
        </p:nvGrpSpPr>
        <p:grpSpPr>
          <a:xfrm>
            <a:off x="2643120" y="1071720"/>
            <a:ext cx="2214720" cy="714240"/>
            <a:chOff x="2643120" y="1071720"/>
            <a:chExt cx="2214720" cy="714240"/>
          </a:xfrm>
        </p:grpSpPr>
        <p:sp>
          <p:nvSpPr>
            <p:cNvPr id="124" name="Прямоугольник 11"/>
            <p:cNvSpPr/>
            <p:nvPr/>
          </p:nvSpPr>
          <p:spPr>
            <a:xfrm>
              <a:off x="2714400" y="1071720"/>
              <a:ext cx="214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при грипп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Стрелка влево 15"/>
            <p:cNvSpPr/>
            <p:nvPr/>
          </p:nvSpPr>
          <p:spPr>
            <a:xfrm>
              <a:off x="2643120" y="1571760"/>
              <a:ext cx="1929240" cy="214200"/>
            </a:xfrm>
            <a:prstGeom prst="leftArrow">
              <a:avLst>
                <a:gd name="adj1" fmla="val 50000"/>
                <a:gd name="adj2" fmla="val 5003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Группа 30"/>
          <p:cNvGrpSpPr/>
          <p:nvPr/>
        </p:nvGrpSpPr>
        <p:grpSpPr>
          <a:xfrm>
            <a:off x="2643120" y="3000240"/>
            <a:ext cx="4071960" cy="714600"/>
            <a:chOff x="2643120" y="3000240"/>
            <a:chExt cx="4071960" cy="714600"/>
          </a:xfrm>
        </p:grpSpPr>
        <p:sp>
          <p:nvSpPr>
            <p:cNvPr id="127" name="Прямоугольник 14"/>
            <p:cNvSpPr/>
            <p:nvPr/>
          </p:nvSpPr>
          <p:spPr>
            <a:xfrm>
              <a:off x="2643120" y="3000240"/>
              <a:ext cx="40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при заболеваниях легки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Стрелка вправо 16"/>
            <p:cNvSpPr/>
            <p:nvPr/>
          </p:nvSpPr>
          <p:spPr>
            <a:xfrm>
              <a:off x="3357360" y="3500640"/>
              <a:ext cx="3143520" cy="214200"/>
            </a:xfrm>
            <a:prstGeom prst="rightArrow">
              <a:avLst>
                <a:gd name="adj1" fmla="val 50000"/>
                <a:gd name="adj2" fmla="val 5000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31"/>
          <p:cNvGrpSpPr/>
          <p:nvPr/>
        </p:nvGrpSpPr>
        <p:grpSpPr>
          <a:xfrm>
            <a:off x="2643120" y="4214880"/>
            <a:ext cx="2500560" cy="714240"/>
            <a:chOff x="2643120" y="4214880"/>
            <a:chExt cx="2500560" cy="714240"/>
          </a:xfrm>
        </p:grpSpPr>
        <p:sp>
          <p:nvSpPr>
            <p:cNvPr id="130" name="Прямоугольник 13"/>
            <p:cNvSpPr/>
            <p:nvPr/>
          </p:nvSpPr>
          <p:spPr>
            <a:xfrm>
              <a:off x="2643120" y="4214880"/>
              <a:ext cx="25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при простуд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Стрелка влево 18"/>
            <p:cNvSpPr/>
            <p:nvPr/>
          </p:nvSpPr>
          <p:spPr>
            <a:xfrm>
              <a:off x="2643120" y="4714920"/>
              <a:ext cx="1929240" cy="214200"/>
            </a:xfrm>
            <a:prstGeom prst="leftArrow">
              <a:avLst>
                <a:gd name="adj1" fmla="val 50000"/>
                <a:gd name="adj2" fmla="val 5003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Группа 32"/>
          <p:cNvGrpSpPr/>
          <p:nvPr/>
        </p:nvGrpSpPr>
        <p:grpSpPr>
          <a:xfrm>
            <a:off x="3214800" y="6000840"/>
            <a:ext cx="3500280" cy="713880"/>
            <a:chOff x="3214800" y="6000840"/>
            <a:chExt cx="3500280" cy="713880"/>
          </a:xfrm>
        </p:grpSpPr>
        <p:sp>
          <p:nvSpPr>
            <p:cNvPr id="133" name="Прямоугольник 12"/>
            <p:cNvSpPr/>
            <p:nvPr/>
          </p:nvSpPr>
          <p:spPr>
            <a:xfrm>
              <a:off x="3214800" y="6000840"/>
              <a:ext cx="350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ранозаживляюще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Стрелка вправо 19"/>
            <p:cNvSpPr/>
            <p:nvPr/>
          </p:nvSpPr>
          <p:spPr>
            <a:xfrm flipV="1">
              <a:off x="3357360" y="6500160"/>
              <a:ext cx="3143160" cy="21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Скругленный прямоугольник 21"/>
          <p:cNvSpPr/>
          <p:nvPr/>
        </p:nvSpPr>
        <p:spPr>
          <a:xfrm>
            <a:off x="142920" y="928800"/>
            <a:ext cx="2357280" cy="285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пов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25"/>
          <p:cNvSpPr/>
          <p:nvPr/>
        </p:nvSpPr>
        <p:spPr>
          <a:xfrm>
            <a:off x="142920" y="3929040"/>
            <a:ext cx="2357280" cy="285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27"/>
          <p:cNvSpPr/>
          <p:nvPr/>
        </p:nvSpPr>
        <p:spPr>
          <a:xfrm>
            <a:off x="6643800" y="928800"/>
            <a:ext cx="2357280" cy="285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р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28"/>
          <p:cNvSpPr/>
          <p:nvPr/>
        </p:nvSpPr>
        <p:spPr>
          <a:xfrm>
            <a:off x="6643800" y="3929040"/>
            <a:ext cx="2357280" cy="285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орож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Содержимое 2" descr=""/>
          <p:cNvPicPr/>
          <p:nvPr/>
        </p:nvPicPr>
        <p:blipFill>
          <a:blip r:embed="rId2"/>
          <a:stretch/>
        </p:blipFill>
        <p:spPr>
          <a:xfrm>
            <a:off x="36360" y="500040"/>
            <a:ext cx="4900680" cy="5784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357440" y="500040"/>
            <a:ext cx="4329000" cy="57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 для растений и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 ягод, грибов, лекарственных раст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 древеси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одержимое 2" descr=""/>
          <p:cNvPicPr/>
          <p:nvPr/>
        </p:nvPicPr>
        <p:blipFill>
          <a:blip r:embed="rId2"/>
          <a:stretch/>
        </p:blipFill>
        <p:spPr>
          <a:xfrm>
            <a:off x="36360" y="500040"/>
            <a:ext cx="4900680" cy="5784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357440" y="500040"/>
            <a:ext cx="4329000" cy="57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 для растений и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 ягод, грибов, лекарственных раст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 древеси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щитник воздуха, водоемов и поч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Содержимое 2" descr=""/>
          <p:cNvPicPr/>
          <p:nvPr/>
        </p:nvPicPr>
        <p:blipFill>
          <a:blip r:embed="rId2"/>
          <a:stretch/>
        </p:blipFill>
        <p:spPr>
          <a:xfrm>
            <a:off x="36360" y="500040"/>
            <a:ext cx="4900680" cy="5784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357440" y="500040"/>
            <a:ext cx="4329000" cy="57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 для растений и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 ягод, грибов, лекарственных раст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 древеси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щитник воздуха, водоемов и поч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сто отдыха для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Solovei.mp3" descr=""/>
          <p:cNvPicPr/>
          <p:nvPr/>
        </p:nvPicPr>
        <p:blipFill>
          <a:blip r:embed="rId3"/>
          <a:stretch/>
        </p:blipFill>
        <p:spPr>
          <a:xfrm>
            <a:off x="21420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88353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Содержимое 2" descr=""/>
          <p:cNvPicPr/>
          <p:nvPr/>
        </p:nvPicPr>
        <p:blipFill>
          <a:blip r:embed="rId2"/>
          <a:stretch/>
        </p:blipFill>
        <p:spPr>
          <a:xfrm>
            <a:off x="36360" y="500040"/>
            <a:ext cx="4900680" cy="5784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357440" y="500040"/>
            <a:ext cx="4329000" cy="57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 для растений и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 ягод, грибов, лекарственных раст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 древеси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щитник воздуха, водоемов и поч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сто отдыха для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Экологические проблемы лес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Экологические проблемы лес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Рисунок 7" descr="вырубка1.jpg"/>
          <p:cNvPicPr/>
          <p:nvPr/>
        </p:nvPicPr>
        <p:blipFill>
          <a:blip r:embed="rId2"/>
          <a:stretch/>
        </p:blipFill>
        <p:spPr>
          <a:xfrm>
            <a:off x="142920" y="2349360"/>
            <a:ext cx="4429080" cy="36435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8" descr="вырубка2.jpg"/>
          <p:cNvPicPr/>
          <p:nvPr/>
        </p:nvPicPr>
        <p:blipFill>
          <a:blip r:embed="rId3"/>
          <a:stretch/>
        </p:blipFill>
        <p:spPr>
          <a:xfrm>
            <a:off x="4572000" y="2357280"/>
            <a:ext cx="4429080" cy="3643560"/>
          </a:xfrm>
          <a:prstGeom prst="rect">
            <a:avLst/>
          </a:prstGeom>
          <a:ln w="0">
            <a:noFill/>
          </a:ln>
        </p:spPr>
      </p:pic>
      <p:sp>
        <p:nvSpPr>
          <p:cNvPr id="152" name="Пятно 2 5"/>
          <p:cNvSpPr/>
          <p:nvPr/>
        </p:nvSpPr>
        <p:spPr>
          <a:xfrm>
            <a:off x="571680" y="5586480"/>
            <a:ext cx="8572320" cy="1271520"/>
          </a:xfrm>
          <a:prstGeom prst="irregularSeal2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2786040" y="5786280"/>
            <a:ext cx="37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убка л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Экологические проблемы лес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7" descr="охота1.jpg"/>
          <p:cNvPicPr/>
          <p:nvPr/>
        </p:nvPicPr>
        <p:blipFill>
          <a:blip r:embed="rId2"/>
          <a:stretch/>
        </p:blipFill>
        <p:spPr>
          <a:xfrm>
            <a:off x="142920" y="2357280"/>
            <a:ext cx="4429080" cy="36435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" descr="охота2.jpg"/>
          <p:cNvPicPr/>
          <p:nvPr/>
        </p:nvPicPr>
        <p:blipFill>
          <a:blip r:embed="rId3"/>
          <a:stretch/>
        </p:blipFill>
        <p:spPr>
          <a:xfrm>
            <a:off x="4572000" y="2357280"/>
            <a:ext cx="4429080" cy="3643560"/>
          </a:xfrm>
          <a:prstGeom prst="rect">
            <a:avLst/>
          </a:prstGeom>
          <a:ln w="0">
            <a:noFill/>
          </a:ln>
        </p:spPr>
      </p:pic>
      <p:sp>
        <p:nvSpPr>
          <p:cNvPr id="157" name="7-конечная звезда 5"/>
          <p:cNvSpPr/>
          <p:nvPr/>
        </p:nvSpPr>
        <p:spPr>
          <a:xfrm>
            <a:off x="0" y="5214960"/>
            <a:ext cx="9144000" cy="1643040"/>
          </a:xfrm>
          <a:custGeom>
            <a:avLst/>
            <a:gdLst/>
            <a:ahLst/>
            <a:rect l="l" t="t" r="r" b="b"/>
            <a:pathLst>
              <a:path w="9144000" h="1643062">
                <a:moveTo>
                  <a:pt x="-24" y="1056664"/>
                </a:moveTo>
                <a:lnTo>
                  <a:pt x="1408068" y="731236"/>
                </a:lnTo>
                <a:lnTo>
                  <a:pt x="905536" y="325430"/>
                </a:lnTo>
                <a:lnTo>
                  <a:pt x="3163933" y="325431"/>
                </a:lnTo>
                <a:lnTo>
                  <a:pt x="4572000" y="0"/>
                </a:lnTo>
                <a:lnTo>
                  <a:pt x="5980067" y="325431"/>
                </a:lnTo>
                <a:lnTo>
                  <a:pt x="8238464" y="325430"/>
                </a:lnTo>
                <a:lnTo>
                  <a:pt x="7735932" y="731236"/>
                </a:lnTo>
                <a:lnTo>
                  <a:pt x="9144024" y="1056664"/>
                </a:lnTo>
                <a:lnTo>
                  <a:pt x="7109266" y="1237264"/>
                </a:lnTo>
                <a:lnTo>
                  <a:pt x="6606720" y="1643071"/>
                </a:lnTo>
                <a:lnTo>
                  <a:pt x="4572000" y="1462468"/>
                </a:lnTo>
                <a:lnTo>
                  <a:pt x="2537280" y="1643071"/>
                </a:lnTo>
                <a:lnTo>
                  <a:pt x="2034734" y="1237264"/>
                </a:lnTo>
                <a:lnTo>
                  <a:pt x="-24" y="105666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2143080" y="5429160"/>
            <a:ext cx="47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законная охо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браконьерств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7" descr="выхухоль2.jpg"/>
          <p:cNvPicPr/>
          <p:nvPr/>
        </p:nvPicPr>
        <p:blipFill>
          <a:blip r:embed="rId2"/>
          <a:stretch/>
        </p:blipFill>
        <p:spPr>
          <a:xfrm>
            <a:off x="0" y="4000680"/>
            <a:ext cx="1857240" cy="27144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1" descr="рысь.jpg"/>
          <p:cNvPicPr/>
          <p:nvPr/>
        </p:nvPicPr>
        <p:blipFill>
          <a:blip r:embed="rId3"/>
          <a:stretch/>
        </p:blipFill>
        <p:spPr>
          <a:xfrm>
            <a:off x="0" y="1214280"/>
            <a:ext cx="2251080" cy="250056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4" descr="филин1.jpg"/>
          <p:cNvPicPr/>
          <p:nvPr/>
        </p:nvPicPr>
        <p:blipFill>
          <a:blip r:embed="rId4"/>
          <a:stretch/>
        </p:blipFill>
        <p:spPr>
          <a:xfrm>
            <a:off x="6357960" y="4429080"/>
            <a:ext cx="2606760" cy="22622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8" descr="http://club.foto.ru/gallery/images/photo/2007/01/24/779171.jpg"/>
          <p:cNvPicPr/>
          <p:nvPr/>
        </p:nvPicPr>
        <p:blipFill>
          <a:blip r:embed="rId5"/>
          <a:stretch/>
        </p:blipFill>
        <p:spPr>
          <a:xfrm>
            <a:off x="6786720" y="1857240"/>
            <a:ext cx="2357280" cy="23576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9"/>
          <p:cNvSpPr/>
          <p:nvPr/>
        </p:nvSpPr>
        <p:spPr>
          <a:xfrm>
            <a:off x="142920" y="0"/>
            <a:ext cx="542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асная книг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3571920" y="85716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ратовской об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"/>
          <p:cNvSpPr/>
          <p:nvPr/>
        </p:nvSpPr>
        <p:spPr>
          <a:xfrm>
            <a:off x="0" y="1214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ы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4"/>
          <p:cNvSpPr/>
          <p:nvPr/>
        </p:nvSpPr>
        <p:spPr>
          <a:xfrm>
            <a:off x="6929280" y="185724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ный а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7"/>
          <p:cNvSpPr/>
          <p:nvPr/>
        </p:nvSpPr>
        <p:spPr>
          <a:xfrm>
            <a:off x="214200" y="385776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хух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8"/>
          <p:cNvSpPr/>
          <p:nvPr/>
        </p:nvSpPr>
        <p:spPr>
          <a:xfrm>
            <a:off x="7865280" y="6143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15" descr="жук-олень.jpg"/>
          <p:cNvPicPr/>
          <p:nvPr/>
        </p:nvPicPr>
        <p:blipFill>
          <a:blip r:embed="rId6"/>
          <a:stretch/>
        </p:blipFill>
        <p:spPr>
          <a:xfrm>
            <a:off x="4429080" y="1571760"/>
            <a:ext cx="2328840" cy="242892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6" descr="махаон.jpg"/>
          <p:cNvPicPr/>
          <p:nvPr/>
        </p:nvPicPr>
        <p:blipFill>
          <a:blip r:embed="rId7"/>
          <a:stretch/>
        </p:blipFill>
        <p:spPr>
          <a:xfrm>
            <a:off x="2214720" y="1857240"/>
            <a:ext cx="2214360" cy="250056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7" descr="рябчик.jpg"/>
          <p:cNvPicPr/>
          <p:nvPr/>
        </p:nvPicPr>
        <p:blipFill>
          <a:blip r:embed="rId8"/>
          <a:stretch/>
        </p:blipFill>
        <p:spPr>
          <a:xfrm>
            <a:off x="1928880" y="4286160"/>
            <a:ext cx="2143080" cy="25005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8" descr="венерин башмачок.jpg"/>
          <p:cNvPicPr/>
          <p:nvPr/>
        </p:nvPicPr>
        <p:blipFill>
          <a:blip r:embed="rId9"/>
          <a:stretch/>
        </p:blipFill>
        <p:spPr>
          <a:xfrm>
            <a:off x="4143240" y="4071960"/>
            <a:ext cx="2143440" cy="27860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9"/>
          <p:cNvSpPr/>
          <p:nvPr/>
        </p:nvSpPr>
        <p:spPr>
          <a:xfrm>
            <a:off x="2291400" y="18572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ха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9"/>
          <p:cNvSpPr/>
          <p:nvPr/>
        </p:nvSpPr>
        <p:spPr>
          <a:xfrm>
            <a:off x="4714560" y="3571920"/>
            <a:ext cx="18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-о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1"/>
          <p:cNvSpPr/>
          <p:nvPr/>
        </p:nvSpPr>
        <p:spPr>
          <a:xfrm>
            <a:off x="2852640" y="614376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б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4143240" y="6027840"/>
            <a:ext cx="157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е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шма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9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6000840" y="5473800"/>
            <a:ext cx="314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c090"/>
                </a:solidFill>
                <a:latin typeface="Times New Roman"/>
                <a:ea typeface="Times New Roman"/>
              </a:rPr>
              <a:t>Аношкина Н.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c090"/>
                </a:solidFill>
                <a:latin typeface="Times New Roman"/>
                <a:ea typeface="Times New Roman"/>
              </a:rPr>
              <a:t>МОУ «СОШ №41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c090"/>
                </a:solidFill>
                <a:latin typeface="Times New Roman"/>
                <a:ea typeface="Times New Roman"/>
              </a:rPr>
              <a:t>г. Сар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500040" y="928800"/>
            <a:ext cx="837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ес и человек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28760" y="464328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учебнику А.А. Плешакова, Е.А. Крючк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000240" y="2786040"/>
            <a:ext cx="404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3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3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3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9"/>
          <p:cNvSpPr/>
          <p:nvPr/>
        </p:nvSpPr>
        <p:spPr>
          <a:xfrm>
            <a:off x="142920" y="0"/>
            <a:ext cx="542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асная книг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3571920" y="85716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ратовской об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1"/>
          <p:cNvSpPr/>
          <p:nvPr/>
        </p:nvSpPr>
        <p:spPr>
          <a:xfrm>
            <a:off x="214200" y="2286000"/>
            <a:ext cx="878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Красная книга Саратовск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 включает в себя 541 в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й  и живот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Прямоугольник 2" descr=""/>
          <p:cNvPicPr/>
          <p:nvPr/>
        </p:nvPicPr>
        <p:blipFill>
          <a:blip r:embed="rId2"/>
          <a:stretch/>
        </p:blipFill>
        <p:spPr>
          <a:xfrm>
            <a:off x="579600" y="-133200"/>
            <a:ext cx="6424560" cy="19191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3" descr="хвалынский 3.jpg"/>
          <p:cNvPicPr/>
          <p:nvPr/>
        </p:nvPicPr>
        <p:blipFill>
          <a:blip r:embed="rId3"/>
          <a:stretch/>
        </p:blipFill>
        <p:spPr>
          <a:xfrm>
            <a:off x="7072200" y="285840"/>
            <a:ext cx="1927440" cy="36432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4" descr="хвалынский 1.jpg"/>
          <p:cNvPicPr/>
          <p:nvPr/>
        </p:nvPicPr>
        <p:blipFill>
          <a:blip r:embed="rId4"/>
          <a:stretch/>
        </p:blipFill>
        <p:spPr>
          <a:xfrm>
            <a:off x="0" y="171468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Прямоугольник 2" descr=""/>
          <p:cNvPicPr/>
          <p:nvPr/>
        </p:nvPicPr>
        <p:blipFill>
          <a:blip r:embed="rId2"/>
          <a:stretch/>
        </p:blipFill>
        <p:spPr>
          <a:xfrm>
            <a:off x="579600" y="-133200"/>
            <a:ext cx="6424560" cy="19191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3" descr="хвалынский 3.jpg"/>
          <p:cNvPicPr/>
          <p:nvPr/>
        </p:nvPicPr>
        <p:blipFill>
          <a:blip r:embed="rId3"/>
          <a:stretch/>
        </p:blipFill>
        <p:spPr>
          <a:xfrm>
            <a:off x="7072200" y="285840"/>
            <a:ext cx="1927440" cy="36432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хвалынский 2.jpg"/>
          <p:cNvPicPr/>
          <p:nvPr/>
        </p:nvPicPr>
        <p:blipFill>
          <a:blip r:embed="rId4"/>
          <a:stretch/>
        </p:blipFill>
        <p:spPr>
          <a:xfrm>
            <a:off x="0" y="1697040"/>
            <a:ext cx="685800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Прямоугольник 2" descr=""/>
          <p:cNvPicPr/>
          <p:nvPr/>
        </p:nvPicPr>
        <p:blipFill>
          <a:blip r:embed="rId2"/>
          <a:stretch/>
        </p:blipFill>
        <p:spPr>
          <a:xfrm>
            <a:off x="579600" y="-133200"/>
            <a:ext cx="6424560" cy="191916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3" descr="хвалынский 3.jpg"/>
          <p:cNvPicPr/>
          <p:nvPr/>
        </p:nvPicPr>
        <p:blipFill>
          <a:blip r:embed="rId3"/>
          <a:stretch/>
        </p:blipFill>
        <p:spPr>
          <a:xfrm>
            <a:off x="7072200" y="285840"/>
            <a:ext cx="1927440" cy="364320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4" descr="хвалынский 5.jpg"/>
          <p:cNvPicPr/>
          <p:nvPr/>
        </p:nvPicPr>
        <p:blipFill>
          <a:blip r:embed="rId4"/>
          <a:stretch/>
        </p:blipFill>
        <p:spPr>
          <a:xfrm>
            <a:off x="0" y="171468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Прямоугольник 2" descr=""/>
          <p:cNvPicPr/>
          <p:nvPr/>
        </p:nvPicPr>
        <p:blipFill>
          <a:blip r:embed="rId2"/>
          <a:stretch/>
        </p:blipFill>
        <p:spPr>
          <a:xfrm>
            <a:off x="579600" y="-133200"/>
            <a:ext cx="6424560" cy="191916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3" descr="хвалынский 3.jpg"/>
          <p:cNvPicPr/>
          <p:nvPr/>
        </p:nvPicPr>
        <p:blipFill>
          <a:blip r:embed="rId3"/>
          <a:stretch/>
        </p:blipFill>
        <p:spPr>
          <a:xfrm>
            <a:off x="7072200" y="285840"/>
            <a:ext cx="1927440" cy="36432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5" descr="хвалынский 4.jpg"/>
          <p:cNvPicPr/>
          <p:nvPr/>
        </p:nvPicPr>
        <p:blipFill>
          <a:blip r:embed="rId4"/>
          <a:stretch/>
        </p:blipFill>
        <p:spPr>
          <a:xfrm>
            <a:off x="0" y="171468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логические проблемы лес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Рисунок 6" descr="пожар1.jpg"/>
          <p:cNvPicPr/>
          <p:nvPr/>
        </p:nvPicPr>
        <p:blipFill>
          <a:blip r:embed="rId2"/>
          <a:stretch/>
        </p:blipFill>
        <p:spPr>
          <a:xfrm>
            <a:off x="4572000" y="2357280"/>
            <a:ext cx="4429080" cy="364356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7" descr="пожар2.jpg"/>
          <p:cNvPicPr/>
          <p:nvPr/>
        </p:nvPicPr>
        <p:blipFill>
          <a:blip r:embed="rId3"/>
          <a:stretch/>
        </p:blipFill>
        <p:spPr>
          <a:xfrm>
            <a:off x="142920" y="2357280"/>
            <a:ext cx="4429080" cy="3643560"/>
          </a:xfrm>
          <a:prstGeom prst="rect">
            <a:avLst/>
          </a:prstGeom>
          <a:ln w="0">
            <a:noFill/>
          </a:ln>
        </p:spPr>
      </p:pic>
      <p:sp>
        <p:nvSpPr>
          <p:cNvPr id="195" name="Пятно 2 8"/>
          <p:cNvSpPr/>
          <p:nvPr/>
        </p:nvSpPr>
        <p:spPr>
          <a:xfrm>
            <a:off x="571680" y="5586480"/>
            <a:ext cx="8572320" cy="1271520"/>
          </a:xfrm>
          <a:prstGeom prst="irregularSeal2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9"/>
          <p:cNvSpPr/>
          <p:nvPr/>
        </p:nvSpPr>
        <p:spPr>
          <a:xfrm>
            <a:off x="2643120" y="58579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сные пожа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Экологические проблемы лес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Рисунок 9" descr="лесные свалки2.jpg"/>
          <p:cNvPicPr/>
          <p:nvPr/>
        </p:nvPicPr>
        <p:blipFill>
          <a:blip r:embed="rId2"/>
          <a:stretch/>
        </p:blipFill>
        <p:spPr>
          <a:xfrm>
            <a:off x="142920" y="2357280"/>
            <a:ext cx="4500360" cy="35719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5" descr="свалка в лесу2.jpg"/>
          <p:cNvPicPr/>
          <p:nvPr/>
        </p:nvPicPr>
        <p:blipFill>
          <a:blip r:embed="rId3"/>
          <a:stretch/>
        </p:blipFill>
        <p:spPr>
          <a:xfrm>
            <a:off x="4483080" y="2357280"/>
            <a:ext cx="4446720" cy="3586320"/>
          </a:xfrm>
          <a:prstGeom prst="rect">
            <a:avLst/>
          </a:prstGeom>
          <a:ln w="0">
            <a:noFill/>
          </a:ln>
        </p:spPr>
      </p:pic>
      <p:sp>
        <p:nvSpPr>
          <p:cNvPr id="200" name="5-конечная звезда 6"/>
          <p:cNvSpPr/>
          <p:nvPr/>
        </p:nvSpPr>
        <p:spPr>
          <a:xfrm>
            <a:off x="1143000" y="5786280"/>
            <a:ext cx="7143840" cy="1071720"/>
          </a:xfrm>
          <a:custGeom>
            <a:avLst/>
            <a:gdLst/>
            <a:ahLst/>
            <a:rect l="l" t="t" r="r" b="b"/>
            <a:pathLst>
              <a:path w="7143750" h="1071562">
                <a:moveTo>
                  <a:pt x="8" y="409299"/>
                </a:moveTo>
                <a:lnTo>
                  <a:pt x="2728685" y="409302"/>
                </a:lnTo>
                <a:lnTo>
                  <a:pt x="3571875" y="0"/>
                </a:lnTo>
                <a:lnTo>
                  <a:pt x="4415065" y="409302"/>
                </a:lnTo>
                <a:lnTo>
                  <a:pt x="7143742" y="409299"/>
                </a:lnTo>
                <a:lnTo>
                  <a:pt x="4936185" y="662259"/>
                </a:lnTo>
                <a:lnTo>
                  <a:pt x="5779410" y="1071559"/>
                </a:lnTo>
                <a:lnTo>
                  <a:pt x="3571875" y="818595"/>
                </a:lnTo>
                <a:lnTo>
                  <a:pt x="1364340" y="1071559"/>
                </a:lnTo>
                <a:lnTo>
                  <a:pt x="2207565" y="662259"/>
                </a:lnTo>
                <a:lnTo>
                  <a:pt x="8" y="40929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3857760" y="600084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с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логические проблемы лес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Группа 10"/>
          <p:cNvGrpSpPr/>
          <p:nvPr/>
        </p:nvGrpSpPr>
        <p:grpSpPr>
          <a:xfrm>
            <a:off x="285840" y="2000160"/>
            <a:ext cx="8572320" cy="1271520"/>
            <a:chOff x="285840" y="2000160"/>
            <a:chExt cx="8572320" cy="1271520"/>
          </a:xfrm>
        </p:grpSpPr>
        <p:sp>
          <p:nvSpPr>
            <p:cNvPr id="204" name="Пятно 2 8"/>
            <p:cNvSpPr/>
            <p:nvPr/>
          </p:nvSpPr>
          <p:spPr>
            <a:xfrm>
              <a:off x="285840" y="2000160"/>
              <a:ext cx="8572320" cy="1271520"/>
            </a:xfrm>
            <a:prstGeom prst="irregularSeal2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2"/>
            <p:cNvSpPr/>
            <p:nvPr/>
          </p:nvSpPr>
          <p:spPr>
            <a:xfrm>
              <a:off x="2786040" y="2214360"/>
              <a:ext cx="38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рубка лес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Группа 11"/>
          <p:cNvGrpSpPr/>
          <p:nvPr/>
        </p:nvGrpSpPr>
        <p:grpSpPr>
          <a:xfrm>
            <a:off x="0" y="3071880"/>
            <a:ext cx="9144000" cy="1643040"/>
            <a:chOff x="0" y="3071880"/>
            <a:chExt cx="9144000" cy="1643040"/>
          </a:xfrm>
        </p:grpSpPr>
        <p:sp>
          <p:nvSpPr>
            <p:cNvPr id="207" name="7-конечная звезда 13"/>
            <p:cNvSpPr/>
            <p:nvPr/>
          </p:nvSpPr>
          <p:spPr>
            <a:xfrm>
              <a:off x="0" y="3071880"/>
              <a:ext cx="9144000" cy="1643040"/>
            </a:xfrm>
            <a:custGeom>
              <a:avLst/>
              <a:gdLst/>
              <a:ahLst/>
              <a:rect l="l" t="t" r="r" b="b"/>
              <a:pathLst>
                <a:path w="9144000" h="1643074">
                  <a:moveTo>
                    <a:pt x="-24" y="1056672"/>
                  </a:moveTo>
                  <a:lnTo>
                    <a:pt x="1408068" y="731241"/>
                  </a:lnTo>
                  <a:lnTo>
                    <a:pt x="905536" y="325432"/>
                  </a:lnTo>
                  <a:lnTo>
                    <a:pt x="3163933" y="325433"/>
                  </a:lnTo>
                  <a:lnTo>
                    <a:pt x="4572000" y="0"/>
                  </a:lnTo>
                  <a:lnTo>
                    <a:pt x="5980067" y="325433"/>
                  </a:lnTo>
                  <a:lnTo>
                    <a:pt x="8238464" y="325432"/>
                  </a:lnTo>
                  <a:lnTo>
                    <a:pt x="7735932" y="731241"/>
                  </a:lnTo>
                  <a:lnTo>
                    <a:pt x="9144024" y="1056672"/>
                  </a:lnTo>
                  <a:lnTo>
                    <a:pt x="7109266" y="1237273"/>
                  </a:lnTo>
                  <a:lnTo>
                    <a:pt x="6606720" y="1643083"/>
                  </a:lnTo>
                  <a:lnTo>
                    <a:pt x="4572000" y="1462479"/>
                  </a:lnTo>
                  <a:lnTo>
                    <a:pt x="2537280" y="1643083"/>
                  </a:lnTo>
                  <a:lnTo>
                    <a:pt x="2034734" y="1237273"/>
                  </a:lnTo>
                  <a:lnTo>
                    <a:pt x="-24" y="105667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14"/>
            <p:cNvSpPr/>
            <p:nvPr/>
          </p:nvSpPr>
          <p:spPr>
            <a:xfrm>
              <a:off x="2143080" y="3286080"/>
              <a:ext cx="5643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законная охота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браконьерство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Группа 19"/>
          <p:cNvGrpSpPr/>
          <p:nvPr/>
        </p:nvGrpSpPr>
        <p:grpSpPr>
          <a:xfrm>
            <a:off x="428760" y="4643280"/>
            <a:ext cx="8572320" cy="1271880"/>
            <a:chOff x="428760" y="4643280"/>
            <a:chExt cx="8572320" cy="1271880"/>
          </a:xfrm>
        </p:grpSpPr>
        <p:sp>
          <p:nvSpPr>
            <p:cNvPr id="210" name="Пятно 2 15"/>
            <p:cNvSpPr/>
            <p:nvPr/>
          </p:nvSpPr>
          <p:spPr>
            <a:xfrm>
              <a:off x="428760" y="4643280"/>
              <a:ext cx="8572320" cy="1271880"/>
            </a:xfrm>
            <a:prstGeom prst="irregularSeal2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6"/>
            <p:cNvSpPr/>
            <p:nvPr/>
          </p:nvSpPr>
          <p:spPr>
            <a:xfrm>
              <a:off x="2643120" y="4857480"/>
              <a:ext cx="38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Лесные пожар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Группа 20"/>
          <p:cNvGrpSpPr/>
          <p:nvPr/>
        </p:nvGrpSpPr>
        <p:grpSpPr>
          <a:xfrm>
            <a:off x="1143000" y="5643720"/>
            <a:ext cx="7143840" cy="1071360"/>
            <a:chOff x="1143000" y="5643720"/>
            <a:chExt cx="7143840" cy="1071360"/>
          </a:xfrm>
        </p:grpSpPr>
        <p:sp>
          <p:nvSpPr>
            <p:cNvPr id="213" name="5-конечная звезда 17"/>
            <p:cNvSpPr/>
            <p:nvPr/>
          </p:nvSpPr>
          <p:spPr>
            <a:xfrm>
              <a:off x="1143000" y="5643720"/>
              <a:ext cx="7143840" cy="1071360"/>
            </a:xfrm>
            <a:custGeom>
              <a:avLst/>
              <a:gdLst/>
              <a:ahLst/>
              <a:rect l="l" t="t" r="r" b="b"/>
              <a:pathLst>
                <a:path w="7143800" h="1071570">
                  <a:moveTo>
                    <a:pt x="8" y="409302"/>
                  </a:moveTo>
                  <a:lnTo>
                    <a:pt x="2728704" y="409305"/>
                  </a:lnTo>
                  <a:lnTo>
                    <a:pt x="3571900" y="0"/>
                  </a:lnTo>
                  <a:lnTo>
                    <a:pt x="4415096" y="409305"/>
                  </a:lnTo>
                  <a:lnTo>
                    <a:pt x="7143792" y="409302"/>
                  </a:lnTo>
                  <a:lnTo>
                    <a:pt x="4936220" y="662264"/>
                  </a:lnTo>
                  <a:lnTo>
                    <a:pt x="5779451" y="1071567"/>
                  </a:lnTo>
                  <a:lnTo>
                    <a:pt x="3571900" y="818601"/>
                  </a:lnTo>
                  <a:lnTo>
                    <a:pt x="1364349" y="1071567"/>
                  </a:lnTo>
                  <a:lnTo>
                    <a:pt x="2207580" y="662264"/>
                  </a:lnTo>
                  <a:lnTo>
                    <a:pt x="8" y="409302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18"/>
            <p:cNvSpPr/>
            <p:nvPr/>
          </p:nvSpPr>
          <p:spPr>
            <a:xfrm>
              <a:off x="3714840" y="5857920"/>
              <a:ext cx="171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усо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0" y="1214280"/>
            <a:ext cx="671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разводи в лесу костер без надобности, а если разве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 обязательно зату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оставляй в лесу, в парке, на лугу, у реки мус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"/>
          <p:cNvSpPr/>
          <p:nvPr/>
        </p:nvSpPr>
        <p:spPr>
          <a:xfrm>
            <a:off x="1357200" y="2357280"/>
            <a:ext cx="492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е ломай ветки деревьев и кустарников.</a:t>
            </a:r>
            <a:br>
              <a:rPr sz="2000"/>
            </a:b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е рви на лугу, в лесу ц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2000160" y="328608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Не подходи близко к гнёздам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2143080" y="3857760"/>
            <a:ext cx="52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сбивай грибы, даже несъедоб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2857680" y="4429080"/>
            <a:ext cx="585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 обрывай в лесу паутину и не убивай пауков.</a:t>
            </a: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 лови бабочек, шмелей и других насеком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 разоряй муравей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3571920" y="5572080"/>
            <a:ext cx="557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реги лягушек, жаб, головастиков.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убивай змей даже ядовитых.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лови диких животных и не уноси их до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шуми в лесу, не пугай лесных обит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1500120" y="0"/>
            <a:ext cx="65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d99694"/>
                </a:solidFill>
                <a:uFillTx/>
                <a:latin typeface="Times New Roman"/>
                <a:ea typeface="Times New Roman"/>
              </a:rPr>
              <a:t>Как вести себя в лес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8" descr="филин2.jpg"/>
          <p:cNvPicPr/>
          <p:nvPr/>
        </p:nvPicPr>
        <p:blipFill>
          <a:blip r:embed="rId2"/>
          <a:stretch/>
        </p:blipFill>
        <p:spPr>
          <a:xfrm>
            <a:off x="6715080" y="1285920"/>
            <a:ext cx="2233800" cy="27147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0" descr="рябчик1.jpg"/>
          <p:cNvPicPr/>
          <p:nvPr/>
        </p:nvPicPr>
        <p:blipFill>
          <a:blip r:embed="rId3"/>
          <a:stretch/>
        </p:blipFill>
        <p:spPr>
          <a:xfrm>
            <a:off x="142920" y="4286160"/>
            <a:ext cx="2143080" cy="257184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1"/>
          <p:cNvSpPr/>
          <p:nvPr/>
        </p:nvSpPr>
        <p:spPr>
          <a:xfrm>
            <a:off x="1428840" y="2357280"/>
            <a:ext cx="4857840" cy="857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2"/>
          <p:cNvSpPr/>
          <p:nvPr/>
        </p:nvSpPr>
        <p:spPr>
          <a:xfrm>
            <a:off x="1500120" y="3286080"/>
            <a:ext cx="4786560" cy="5000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3"/>
          <p:cNvSpPr/>
          <p:nvPr/>
        </p:nvSpPr>
        <p:spPr>
          <a:xfrm>
            <a:off x="2214720" y="3857760"/>
            <a:ext cx="4357440" cy="357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4"/>
          <p:cNvSpPr/>
          <p:nvPr/>
        </p:nvSpPr>
        <p:spPr>
          <a:xfrm>
            <a:off x="2857680" y="4429080"/>
            <a:ext cx="5643360" cy="1000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5"/>
          <p:cNvSpPr/>
          <p:nvPr/>
        </p:nvSpPr>
        <p:spPr>
          <a:xfrm>
            <a:off x="3571920" y="5572080"/>
            <a:ext cx="5572080" cy="12859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468360" y="69228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разводи в лесу костер бе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доб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если развел, то обязательно зату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оставляй в лесу мус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468360" y="1916280"/>
            <a:ext cx="628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е ломай ветки деревьев и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устарников.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е рви на лугу, в лесу ц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539640" y="285264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Не подходи близко к гнёздам п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39640" y="335772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сбивай грибы, даже несъедоб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68360" y="378936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 лови бабочек, шмелей и других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асеко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 разоряй муравей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539640" y="4653000"/>
            <a:ext cx="700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реги лягушек, жаб, головастиков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убивай змей даже ядовитых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лови диких животных и не уноси их до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шуми в лесу, не пугай лесных обит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1500120" y="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d99694"/>
                </a:solidFill>
                <a:uFillTx/>
                <a:latin typeface="Times New Roman"/>
                <a:ea typeface="Times New Roman"/>
              </a:rPr>
              <a:t>Как вести себя в лес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8" descr="филин2.jpg"/>
          <p:cNvPicPr/>
          <p:nvPr/>
        </p:nvPicPr>
        <p:blipFill>
          <a:blip r:embed="rId2"/>
          <a:stretch/>
        </p:blipFill>
        <p:spPr>
          <a:xfrm>
            <a:off x="7053120" y="1000080"/>
            <a:ext cx="2090880" cy="27147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0" descr="рябчик1.jpg"/>
          <p:cNvPicPr/>
          <p:nvPr/>
        </p:nvPicPr>
        <p:blipFill>
          <a:blip r:embed="rId3"/>
          <a:stretch/>
        </p:blipFill>
        <p:spPr>
          <a:xfrm>
            <a:off x="7072200" y="3933720"/>
            <a:ext cx="2071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Картинка 5 из 25570"/>
          <p:cNvPicPr/>
          <p:nvPr/>
        </p:nvPicPr>
        <p:blipFill>
          <a:blip r:embed="rId1"/>
          <a:stretch/>
        </p:blipFill>
        <p:spPr>
          <a:xfrm>
            <a:off x="0" y="1484280"/>
            <a:ext cx="2928960" cy="45007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9" descr=""/>
          <p:cNvPicPr/>
          <p:nvPr/>
        </p:nvPicPr>
        <p:blipFill>
          <a:blip r:embed="rId2"/>
          <a:stretch/>
        </p:blipFill>
        <p:spPr>
          <a:xfrm>
            <a:off x="2925720" y="1341360"/>
            <a:ext cx="6443640" cy="28098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3" descr=""/>
          <p:cNvPicPr/>
          <p:nvPr/>
        </p:nvPicPr>
        <p:blipFill>
          <a:blip r:embed="rId3"/>
          <a:stretch/>
        </p:blipFill>
        <p:spPr>
          <a:xfrm>
            <a:off x="5248440" y="4876920"/>
            <a:ext cx="4024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Прямоугольник 6" descr=""/>
          <p:cNvPicPr/>
          <p:nvPr/>
        </p:nvPicPr>
        <p:blipFill>
          <a:blip r:embed="rId2"/>
          <a:stretch/>
        </p:blipFill>
        <p:spPr>
          <a:xfrm>
            <a:off x="573120" y="6480"/>
            <a:ext cx="7991280" cy="153036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9" descr=""/>
          <p:cNvPicPr/>
          <p:nvPr/>
        </p:nvPicPr>
        <p:blipFill>
          <a:blip r:embed="rId3"/>
          <a:stretch/>
        </p:blipFill>
        <p:spPr>
          <a:xfrm>
            <a:off x="231840" y="1884240"/>
            <a:ext cx="8631000" cy="40831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0"/>
          <p:cNvSpPr/>
          <p:nvPr/>
        </p:nvSpPr>
        <p:spPr>
          <a:xfrm>
            <a:off x="3571920" y="15717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Прямоугольник 4" descr=""/>
          <p:cNvPicPr/>
          <p:nvPr/>
        </p:nvPicPr>
        <p:blipFill>
          <a:blip r:embed="rId2"/>
          <a:stretch/>
        </p:blipFill>
        <p:spPr>
          <a:xfrm>
            <a:off x="2998800" y="-334800"/>
            <a:ext cx="4786200" cy="2681280"/>
          </a:xfrm>
          <a:prstGeom prst="rect">
            <a:avLst/>
          </a:prstGeom>
          <a:ln w="0">
            <a:noFill/>
          </a:ln>
        </p:spPr>
      </p:pic>
      <p:grpSp>
        <p:nvGrpSpPr>
          <p:cNvPr id="57" name="Группа 8"/>
          <p:cNvGrpSpPr/>
          <p:nvPr/>
        </p:nvGrpSpPr>
        <p:grpSpPr>
          <a:xfrm>
            <a:off x="142920" y="214200"/>
            <a:ext cx="1865160" cy="2286000"/>
            <a:chOff x="142920" y="214200"/>
            <a:chExt cx="1865160" cy="2286000"/>
          </a:xfrm>
        </p:grpSpPr>
        <p:pic>
          <p:nvPicPr>
            <p:cNvPr id="58" name="Picture 7" descr="Картинка 18 из 62043"/>
            <p:cNvPicPr/>
            <p:nvPr/>
          </p:nvPicPr>
          <p:blipFill>
            <a:blip r:embed="rId3"/>
            <a:stretch/>
          </p:blipFill>
          <p:spPr>
            <a:xfrm>
              <a:off x="142920" y="214200"/>
              <a:ext cx="18651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Скругленный прямоугольник 7"/>
            <p:cNvSpPr/>
            <p:nvPr/>
          </p:nvSpPr>
          <p:spPr>
            <a:xfrm>
              <a:off x="142920" y="2214720"/>
              <a:ext cx="185724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едвед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Группа 13"/>
          <p:cNvGrpSpPr/>
          <p:nvPr/>
        </p:nvGrpSpPr>
        <p:grpSpPr>
          <a:xfrm>
            <a:off x="285840" y="4143240"/>
            <a:ext cx="1805040" cy="2286000"/>
            <a:chOff x="285840" y="4143240"/>
            <a:chExt cx="1805040" cy="2286000"/>
          </a:xfrm>
        </p:grpSpPr>
        <p:pic>
          <p:nvPicPr>
            <p:cNvPr id="61" name="Picture 11" descr="Картинка 30 из 4812"/>
            <p:cNvPicPr/>
            <p:nvPr/>
          </p:nvPicPr>
          <p:blipFill>
            <a:blip r:embed="rId4"/>
            <a:stretch/>
          </p:blipFill>
          <p:spPr>
            <a:xfrm>
              <a:off x="285840" y="4143240"/>
              <a:ext cx="180504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Скругленный прямоугольник 9"/>
            <p:cNvSpPr/>
            <p:nvPr/>
          </p:nvSpPr>
          <p:spPr>
            <a:xfrm>
              <a:off x="285840" y="6143760"/>
              <a:ext cx="178632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урунду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14"/>
          <p:cNvGrpSpPr/>
          <p:nvPr/>
        </p:nvGrpSpPr>
        <p:grpSpPr>
          <a:xfrm>
            <a:off x="3929040" y="4357800"/>
            <a:ext cx="1928880" cy="2286000"/>
            <a:chOff x="3929040" y="4357800"/>
            <a:chExt cx="1928880" cy="2286000"/>
          </a:xfrm>
        </p:grpSpPr>
        <p:pic>
          <p:nvPicPr>
            <p:cNvPr id="64" name="Picture 5" descr="Картинка 22 из 11789"/>
            <p:cNvPicPr/>
            <p:nvPr/>
          </p:nvPicPr>
          <p:blipFill>
            <a:blip r:embed="rId5"/>
            <a:stretch/>
          </p:blipFill>
          <p:spPr>
            <a:xfrm>
              <a:off x="3929040" y="4357800"/>
              <a:ext cx="19252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Скругленный прямоугольник 10"/>
            <p:cNvSpPr/>
            <p:nvPr/>
          </p:nvSpPr>
          <p:spPr>
            <a:xfrm>
              <a:off x="3929040" y="6358320"/>
              <a:ext cx="192888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обо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Группа 15"/>
          <p:cNvGrpSpPr/>
          <p:nvPr/>
        </p:nvGrpSpPr>
        <p:grpSpPr>
          <a:xfrm>
            <a:off x="7000920" y="2357280"/>
            <a:ext cx="1928880" cy="2286000"/>
            <a:chOff x="7000920" y="2357280"/>
            <a:chExt cx="1928880" cy="2286000"/>
          </a:xfrm>
        </p:grpSpPr>
        <p:pic>
          <p:nvPicPr>
            <p:cNvPr id="67" name="Picture 9" descr="Картинка 2 из 3983"/>
            <p:cNvPicPr/>
            <p:nvPr/>
          </p:nvPicPr>
          <p:blipFill>
            <a:blip r:embed="rId6"/>
            <a:stretch/>
          </p:blipFill>
          <p:spPr>
            <a:xfrm>
              <a:off x="7004520" y="2357280"/>
              <a:ext cx="19252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Скругленный прямоугольник 11"/>
            <p:cNvSpPr/>
            <p:nvPr/>
          </p:nvSpPr>
          <p:spPr>
            <a:xfrm>
              <a:off x="7000920" y="4357800"/>
              <a:ext cx="192888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лухар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Прямоугольник 4" descr=""/>
          <p:cNvPicPr/>
          <p:nvPr/>
        </p:nvPicPr>
        <p:blipFill>
          <a:blip r:embed="rId2"/>
          <a:stretch/>
        </p:blipFill>
        <p:spPr>
          <a:xfrm>
            <a:off x="-365040" y="-304920"/>
            <a:ext cx="9807480" cy="2462400"/>
          </a:xfrm>
          <a:prstGeom prst="rect">
            <a:avLst/>
          </a:prstGeom>
          <a:ln w="0">
            <a:noFill/>
          </a:ln>
        </p:spPr>
      </p:pic>
      <p:grpSp>
        <p:nvGrpSpPr>
          <p:cNvPr id="71" name="Группа 16"/>
          <p:cNvGrpSpPr/>
          <p:nvPr/>
        </p:nvGrpSpPr>
        <p:grpSpPr>
          <a:xfrm>
            <a:off x="3714840" y="2714760"/>
            <a:ext cx="1928880" cy="2286000"/>
            <a:chOff x="3714840" y="2714760"/>
            <a:chExt cx="1928880" cy="2286000"/>
          </a:xfrm>
        </p:grpSpPr>
        <p:pic>
          <p:nvPicPr>
            <p:cNvPr id="72" name="Рисунок 5" descr="дятел.jpg"/>
            <p:cNvPicPr/>
            <p:nvPr/>
          </p:nvPicPr>
          <p:blipFill>
            <a:blip r:embed="rId3"/>
            <a:stretch/>
          </p:blipFill>
          <p:spPr>
            <a:xfrm>
              <a:off x="3714840" y="2714760"/>
              <a:ext cx="192888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Скругленный прямоугольник 9"/>
            <p:cNvSpPr/>
            <p:nvPr/>
          </p:nvSpPr>
          <p:spPr>
            <a:xfrm>
              <a:off x="3714840" y="4715280"/>
              <a:ext cx="192888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яте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19"/>
          <p:cNvGrpSpPr/>
          <p:nvPr/>
        </p:nvGrpSpPr>
        <p:grpSpPr>
          <a:xfrm>
            <a:off x="3714840" y="2428920"/>
            <a:ext cx="1928880" cy="2286000"/>
            <a:chOff x="3714840" y="2428920"/>
            <a:chExt cx="1928880" cy="2286000"/>
          </a:xfrm>
        </p:grpSpPr>
        <p:pic>
          <p:nvPicPr>
            <p:cNvPr id="75" name="Рисунок 7" descr="белка.jpg"/>
            <p:cNvPicPr/>
            <p:nvPr/>
          </p:nvPicPr>
          <p:blipFill>
            <a:blip r:embed="rId4"/>
            <a:stretch/>
          </p:blipFill>
          <p:spPr>
            <a:xfrm>
              <a:off x="3714840" y="2428920"/>
              <a:ext cx="192888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Скругленный прямоугольник 10"/>
            <p:cNvSpPr/>
            <p:nvPr/>
          </p:nvSpPr>
          <p:spPr>
            <a:xfrm>
              <a:off x="3714840" y="4429440"/>
              <a:ext cx="192888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ел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Группа 18"/>
          <p:cNvGrpSpPr/>
          <p:nvPr/>
        </p:nvGrpSpPr>
        <p:grpSpPr>
          <a:xfrm>
            <a:off x="3500280" y="2714760"/>
            <a:ext cx="1928880" cy="2286000"/>
            <a:chOff x="3500280" y="2714760"/>
            <a:chExt cx="1928880" cy="2286000"/>
          </a:xfrm>
        </p:grpSpPr>
        <p:pic>
          <p:nvPicPr>
            <p:cNvPr id="78" name="Рисунок 6" descr="волк.jpg"/>
            <p:cNvPicPr/>
            <p:nvPr/>
          </p:nvPicPr>
          <p:blipFill>
            <a:blip r:embed="rId5"/>
            <a:stretch/>
          </p:blipFill>
          <p:spPr>
            <a:xfrm>
              <a:off x="3500280" y="2714760"/>
              <a:ext cx="192888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Скругленный прямоугольник 11"/>
            <p:cNvSpPr/>
            <p:nvPr/>
          </p:nvSpPr>
          <p:spPr>
            <a:xfrm>
              <a:off x="3500280" y="4715280"/>
              <a:ext cx="192888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ол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Группа 17"/>
          <p:cNvGrpSpPr/>
          <p:nvPr/>
        </p:nvGrpSpPr>
        <p:grpSpPr>
          <a:xfrm>
            <a:off x="3500280" y="2428920"/>
            <a:ext cx="1928880" cy="2286000"/>
            <a:chOff x="3500280" y="2428920"/>
            <a:chExt cx="1928880" cy="2286000"/>
          </a:xfrm>
        </p:grpSpPr>
        <p:pic>
          <p:nvPicPr>
            <p:cNvPr id="81" name="Рисунок 8" descr="олень.jpg"/>
            <p:cNvPicPr/>
            <p:nvPr/>
          </p:nvPicPr>
          <p:blipFill>
            <a:blip r:embed="rId6"/>
            <a:stretch/>
          </p:blipFill>
          <p:spPr>
            <a:xfrm>
              <a:off x="3500280" y="2428920"/>
              <a:ext cx="192888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Скругленный прямоугольник 12"/>
            <p:cNvSpPr/>
            <p:nvPr/>
          </p:nvSpPr>
          <p:spPr>
            <a:xfrm>
              <a:off x="3500280" y="4429440"/>
              <a:ext cx="192888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лен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0.03354 C 0.00712 0.01434 -0.01093 -0.00347 -0.02135 -0.01341 C -0.03611 -0.02753 -0.05156 -0.04025 -0.06718 -0.05251 C -0.07395 -0.05783 -0.08055 -0.06431 -0.08732 -0.06986 C -0.09444 -0.07564 -0.10295 -0.07865 -0.11076 -0.08235 C -0.11909 -0.08628 -0.12552 -0.0916 -0.13437 -0.09322 C -0.15451 -0.10247 -0.17482 -0.10363 -0.19548 -0.10895 C -0.22326 -0.11589 -0.25069 -0.12214 -0.27899 -0.12468 C -0.29392 -0.12884 -0.30868 -0.13162 -0.32378 -0.13416 C -0.3342 -0.13833 -0.34496 -0.14041 -0.35555 -0.14342 C -0.35798 -0.14411 -0.36354 -0.14666 -0.36614 -0.14666 E">
                                      <p:cBhvr>
                                        <p:cTn id="6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25 0.04164 C 0.1849 0.04118 0.20729 0.04141 0.22969 0.04002 C 0.23976 0.03933 0.24688 0.02013 0.25434 0.01342 C 0.25695 0.00602 0.26059 -0.00046 0.26215 -0.00856 C 0.2632 -0.01156 0.26476 -0.01781 0.26476 -0.01758 C 0.26719 -0.05112 0.2724 -0.08674 0.25677 -0.11496 C 0.25434 -0.12491 0.25747 -0.11543 0.25191 -0.12283 C 0.24861 -0.12722 0.24792 -0.13162 0.24375 -0.13555 C 0.24028 -0.14434 0.23472 -0.14781 0.22847 -0.15267 C 0.225 -0.15938 0.22066 -0.15984 0.21545 -0.16354 C 0.19584 -0.17788 0.17361 -0.18274 0.15191 -0.18876 C 0.12761 -0.18829 0.1033 -0.18806 0.079 -0.18714 C 0.06667 -0.18667 0.05625 -0.17118 0.04375 -0.1684 C 0.02396 -0.15151 0.00209 -0.13486 -0.0151 -0.11358 C -0.0243 -0.10247 -0.03264 -0.09091 -0.04219 -0.0805 C -0.04913 -0.07286 -0.05746 -0.06639 -0.06337 -0.05713 C -0.06979 -0.04696 -0.07517 -0.03655 -0.08212 -0.02729 C -0.0901 -0.00115 -0.10729 0.02475 -0.12205 0.04488 C -0.12778 0.06338 -0.11979 0.04002 -0.1316 0.06362 C -0.13281 0.06593 -0.13281 0.06894 -0.13385 0.07148 C -0.13923 0.0849 -0.14479 0.09276 -0.15035 0.10757 C -0.15243 0.11312 -0.15712 0.11636 -0.15972 0.12168 C -0.16545 0.13347 -0.171 0.14666 -0.17621 0.15915 C -0.18125 0.17141 -0.18437 0.18552 -0.19045 0.19686 C -0.19288 0.20773 -0.18941 0.19454 -0.19514 0.20634 C -0.19757 0.2112 -0.19653 0.21814 -0.19861 0.22346 C -0.20121 0.23017 -0.20607 0.23618 -0.2092 0.24243 C -0.21163 0.24728 -0.21094 0.25422 -0.21267 0.25954 C -0.21354 0.26232 -0.21528 0.26463 -0.21632 0.26741 E">
                                      <p:cBhvr>
                                        <p:cTn id="6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87 -0.04557 C 0.04862 -0.05691 0.05157 -0.04742 0.04497 -0.05644 C 0.04306 -0.05922 0.04219 -0.06315 0.04028 -0.06593 C 0.0323 -0.07772 0.02344 -0.09091 0.0132 -0.09877 C 0.00695 -0.11011 -0.00121 -0.11797 -0.00798 -0.12861 C -0.01111 -0.1337 -0.01493 -0.14596 -0.01493 -0.14573 C -0.01631 -0.15475 -0.01857 -0.16216 -0.01961 -0.17095 C -0.01909 -0.18066 -0.01927 -0.19847 -0.01493 -0.20865 C -0.0118 -0.21559 -0.0085 -0.21952 -0.00555 -0.22577 C -0.00225 -0.23271 -4.44444000000013E-006 -0.23872 0.00504 -0.24312 C 0.00869 -0.25052 0.01615 -0.2533 0.02153 -0.25885 C 0.04132 -0.27897 0.06407 -0.28776 0.08855 -0.29332 C 0.10573 -0.29285 0.12309 -0.29262 0.14028 -0.2917 C 0.14549 -0.29146 0.14445 -0.28961 0.14862 -0.28684 C 0.15955 -0.27944 0.16806 -0.27134 0.17796 -0.26186 C 0.18247 -0.25746 0.18525 -0.25098 0.18976 -0.24613 C 0.19237 -0.23641 0.18907 -0.24682 0.19566 -0.23363 C 0.20105 -0.22276 0.20625 -0.20958 0.20973 -0.19755 C 0.21129 -0.19246 0.21285 -0.1883 0.21441 -0.18344 C 0.2158 -0.17951 0.21789 -0.17095 0.21789 -0.17072 C 0.21962 -0.15522 0.21823 -0.16354 0.22257 -0.14596 C 0.22327 -0.14342 0.22327 -0.14064 0.22379 -0.1381 C 0.22448 -0.13486 0.22622 -0.12861 0.22622 -0.12838 C 0.22726 -0.11936 0.22882 -0.11635 0.23091 -0.10826 C 0.23195 -0.0997 0.23195 -0.09322 0.23559 -0.08628 C 0.23837 -0.06523 0.24323 -0.0458 0.2474 -0.02521 C 0.24948 -0.01504 0.25087 -0.00324 0.25434 0.00625 C 0.25712 0.02359 0.26077 0.04071 0.26389 0.05783 C 0.26546 0.06662 0.26598 0.07541 0.2698 0.08304 C 0.27119 0.09091 0.27101 0.09808 0.27448 0.10502 C 0.27674 0.1152 0.27865 0.1381 0.28264 0.14735 C 0.28421 0.15105 0.28716 0.15267 0.28976 0.15498 C 0.29862 0.16285 0.30764 0.17002 0.31684 0.17696 C 0.32553 0.18344 0.33664 0.18621 0.34619 0.18968 C 0.35261 0.192 0.34671 0.18991 0.35434 0.19431 C 0.35556 0.195 0.35799 0.19593 0.35799 0.19593 E">
                                      <p:cBhvr>
                                        <p:cTn id="6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3 0.0155 C 0.09601 0.02059 0.11025 0.0266 0.11927 0.03354 C 0.12656 0.03909 0.13056 0.04673 0.13802 0.05135 C 0.14965 0.06662 0.14514 0.06037 0.15191 0.06963 C 0.15764 0.07749 0.15903 0.08952 0.16354 0.09831 C 0.16563 0.11635 0.1632 0.09877 0.16702 0.11497 C 0.16806 0.1189 0.16945 0.12699 0.16945 0.12723 C 0.17031 0.15198 0.175 0.18853 0.16702 0.21143 C 0.15556 0.2452 0.1382 0.28476 0.11233 0.30349 C 0.09931 0.31298 0.08646 0.31876 0.07275 0.32616 C 0.06615 0.32986 0.05886 0.32709 0.05174 0.32755 C 0.03854 0.32662 0.02535 0.32662 0.01215 0.32431 C 0.00174 0.32315 -0.00816 0.31344 -0.01701 0.30627 C -0.03229 0.29401 -0.04375 0.28082 -0.05191 0.25954 C -0.05885 0.2068 -0.03993 0.16933 -0.025 0.12399 C -0.01875 0.10456 -0.01302 0.08536 -0.00538 0.06662 C -0.00104 0.05598 0.00556 0.04696 0.00972 0.03632 C 0.01511 0.0229 0.02136 0.00995 0.02847 -0.00139 C 0.0375 -0.0155 0.04514 -0.0347 0.05643 -0.0465 C 0.07344 -0.06454 0.08941 -0.08189 0.10764 -0.09785 C 0.10955 -0.09947 0.11077 -0.10224 0.11233 -0.10386 C 0.11528 -0.1071 0.1184 -0.11011 0.1217 -0.11288 C 0.13698 -0.12491 0.1533 -0.13116 0.16945 -0.13995 C 0.17396 -0.14249 0.17778 -0.14666 0.18212 -0.1492 C 0.19913 -0.15869 0.21719 -0.16771 0.23455 -0.17627 C 0.24636 -0.18205 0.2467 -0.17997 0.25903 -0.1839 C 0.27917 -0.19015 0.29809 -0.19894 0.3184 -0.20356 C 0.32292 -0.20541 0.32986 -0.20935 0.3349 -0.20935 E">
                                      <p:cBhvr>
                                        <p:cTn id="7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Прямоугольник 4" descr=""/>
          <p:cNvPicPr/>
          <p:nvPr/>
        </p:nvPicPr>
        <p:blipFill>
          <a:blip r:embed="rId2"/>
          <a:stretch/>
        </p:blipFill>
        <p:spPr>
          <a:xfrm>
            <a:off x="-103320" y="-189000"/>
            <a:ext cx="9307800" cy="1689120"/>
          </a:xfrm>
          <a:prstGeom prst="rect">
            <a:avLst/>
          </a:prstGeom>
          <a:ln w="0">
            <a:noFill/>
          </a:ln>
        </p:spPr>
      </p:pic>
      <p:grpSp>
        <p:nvGrpSpPr>
          <p:cNvPr id="85" name="Группа 21"/>
          <p:cNvGrpSpPr/>
          <p:nvPr/>
        </p:nvGrpSpPr>
        <p:grpSpPr>
          <a:xfrm>
            <a:off x="7000920" y="4286160"/>
            <a:ext cx="1958760" cy="2357640"/>
            <a:chOff x="7000920" y="4286160"/>
            <a:chExt cx="1958760" cy="2357640"/>
          </a:xfrm>
        </p:grpSpPr>
        <p:pic>
          <p:nvPicPr>
            <p:cNvPr id="86" name="Рисунок 6" descr="заяц.jpg"/>
            <p:cNvPicPr/>
            <p:nvPr/>
          </p:nvPicPr>
          <p:blipFill>
            <a:blip r:embed="rId3"/>
            <a:stretch/>
          </p:blipFill>
          <p:spPr>
            <a:xfrm>
              <a:off x="7000920" y="4286160"/>
              <a:ext cx="1958760" cy="20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Скругленный прямоугольник 16"/>
            <p:cNvSpPr/>
            <p:nvPr/>
          </p:nvSpPr>
          <p:spPr>
            <a:xfrm>
              <a:off x="7000920" y="6358320"/>
              <a:ext cx="192888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ая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Группа 22"/>
          <p:cNvGrpSpPr/>
          <p:nvPr/>
        </p:nvGrpSpPr>
        <p:grpSpPr>
          <a:xfrm>
            <a:off x="2428920" y="2786040"/>
            <a:ext cx="1928880" cy="2357640"/>
            <a:chOff x="2428920" y="2786040"/>
            <a:chExt cx="1928880" cy="2357640"/>
          </a:xfrm>
        </p:grpSpPr>
        <p:pic>
          <p:nvPicPr>
            <p:cNvPr id="89" name="Рисунок 10" descr="сорока.jpg"/>
            <p:cNvPicPr/>
            <p:nvPr/>
          </p:nvPicPr>
          <p:blipFill>
            <a:blip r:embed="rId4"/>
            <a:stretch/>
          </p:blipFill>
          <p:spPr>
            <a:xfrm>
              <a:off x="2428920" y="2786040"/>
              <a:ext cx="192888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Скругленный прямоугольник 17"/>
            <p:cNvSpPr/>
            <p:nvPr/>
          </p:nvSpPr>
          <p:spPr>
            <a:xfrm>
              <a:off x="2428920" y="4848480"/>
              <a:ext cx="1928880" cy="295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оро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Группа 23"/>
          <p:cNvGrpSpPr/>
          <p:nvPr/>
        </p:nvGrpSpPr>
        <p:grpSpPr>
          <a:xfrm>
            <a:off x="214200" y="1500120"/>
            <a:ext cx="1928880" cy="2357640"/>
            <a:chOff x="214200" y="1500120"/>
            <a:chExt cx="1928880" cy="2357640"/>
          </a:xfrm>
        </p:grpSpPr>
        <p:pic>
          <p:nvPicPr>
            <p:cNvPr id="92" name="Рисунок 8" descr="лиса.jpg"/>
            <p:cNvPicPr/>
            <p:nvPr/>
          </p:nvPicPr>
          <p:blipFill>
            <a:blip r:embed="rId5"/>
            <a:stretch/>
          </p:blipFill>
          <p:spPr>
            <a:xfrm>
              <a:off x="214200" y="1500120"/>
              <a:ext cx="1928880" cy="20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Скругленный прямоугольник 18"/>
            <p:cNvSpPr/>
            <p:nvPr/>
          </p:nvSpPr>
          <p:spPr>
            <a:xfrm>
              <a:off x="214200" y="3572280"/>
              <a:ext cx="192888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лис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Группа 20"/>
          <p:cNvGrpSpPr/>
          <p:nvPr/>
        </p:nvGrpSpPr>
        <p:grpSpPr>
          <a:xfrm>
            <a:off x="4857840" y="3857760"/>
            <a:ext cx="1928880" cy="2357280"/>
            <a:chOff x="4857840" y="3857760"/>
            <a:chExt cx="1928880" cy="2357280"/>
          </a:xfrm>
        </p:grpSpPr>
        <p:pic>
          <p:nvPicPr>
            <p:cNvPr id="95" name="Рисунок 5" descr="барсук.jpg"/>
            <p:cNvPicPr/>
            <p:nvPr/>
          </p:nvPicPr>
          <p:blipFill>
            <a:blip r:embed="rId6"/>
            <a:stretch/>
          </p:blipFill>
          <p:spPr>
            <a:xfrm>
              <a:off x="4857840" y="3857760"/>
              <a:ext cx="192888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Скругленный прямоугольник 19"/>
            <p:cNvSpPr/>
            <p:nvPr/>
          </p:nvSpPr>
          <p:spPr>
            <a:xfrm>
              <a:off x="4857840" y="5929560"/>
              <a:ext cx="1928880" cy="28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арсу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58 -0.04511 L 0.74392 0.40597 E">
                                      <p:cBhvr>
                                        <p:cTn id="77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66181E-006 L -0.75868 -0.44345 E">
                                      <p:cBhvr>
                                        <p:cTn id="7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71201E-006 C 0.00329 -0.00694 0.00624 -0.01318 0.01059 -0.01897 C 0.01232 -0.02544 0.01215 -0.02752 0.01649 -0.03146 C 0.01805 -0.0384 0.02135 -0.04163 0.02465 -0.04719 C 0.03055 -0.05713 0.03559 -0.06986 0.04236 -0.07841 C 0.04531 -0.08674 0.05017 -0.09276 0.05416 -0.10039 C 0.05972 -0.11103 0.06406 -0.12213 0.07048 -0.13185 C 0.07864 -0.14434 0.06649 -0.12745 0.07517 -0.14272 C 0.08559 -0.161 0.09791 -0.17719 0.10815 -0.19616 C 0.10937 -0.19824 0.11145 -0.19893 0.11284 -0.20078 C 0.11614 -0.20472 0.11927 -0.20911 0.12239 -0.21327 C 0.12951 -0.22276 0.13784 -0.23201 0.14583 -0.23988 C 0.15763 -0.25144 0.17569 -0.27643 0.18819 -0.28221 C 0.19322 -0.28915 0.19861 -0.29123 0.20468 -0.29632 C 0.21753 -0.30696 0.23315 -0.32639 0.24826 -0.33079 C 0.25364 -0.33564 0.25954 -0.34073 0.26579 -0.34351 C 0.27395 -0.3516 0.28559 -0.35623 0.29531 -0.36063 C 0.3026 -0.36733 0.31475 -0.37335 0.32343 -0.37636 C 0.33767 -0.38815 0.36145 -0.39162 0.3776 -0.39347 C 0.3868 -0.39671 0.39513 -0.39856 0.40468 -0.39972 C 0.41406 -0.40296 0.42343 -0.40527 0.43298 -0.40758 C 0.44131 -0.40666 0.4519 -0.40597 0.45885 -0.39833 C 0.46111 -0.39579 0.46354 -0.39324 0.46579 -0.39047 C 0.46822 -0.38746 0.47291 -0.38098 0.47291 -0.38098 C 0.47482 -0.37358 0.47656 -0.36849 0.4776 -0.36063 C 0.47708 -0.33217 0.48159 -0.30071 0.46944 -0.27596 C 0.46493 -0.25306 0.45295 -0.23386 0.44704 -0.21166 C 0.44583 -0.20703 0.44531 -0.20194 0.44357 -0.19755 C 0.44218 -0.19431 0.43871 -0.18829 0.43871 -0.18829 C 0.43732 -0.18205 0.4342 -0.17811 0.43177 -0.17256 C 0.42777 -0.16331 0.42413 -0.15359 0.41996 -0.14434 C 0.41909 -0.14226 0.4184 -0.14018 0.41753 -0.1381 C 0.41562 -0.13393 0.41371 -0.12977 0.4118 -0.1256 C 0.41059 -0.12306 0.40815 -0.11774 0.40815 -0.11774 C 0.40538 -0.10386 0.4092 -0.11774 0.40347 -0.10826 C 0.40052 -0.1034 0.39913 -0.09738 0.39635 -0.09253 C 0.3901 -0.08212 0.39548 -0.09438 0.3894 -0.08165 C 0.38628 -0.07495 0.38506 -0.06893 0.38003 -0.0643 C 0.37708 -0.04904 0.38142 -0.06546 0.37517 -0.05505 C 0.3743 -0.05366 0.37482 -0.05158 0.37413 -0.05019 C 0.37239 -0.04672 0.36996 -0.04418 0.36822 -0.04094 C 0.36597 -0.03655 0.36111 -0.02822 0.36111 -0.02822 C 0.35937 -0.02128 0.35503 -0.01688 0.35173 -0.0111 C 0.34392 0.00255 0.33749 0.0192 0.32812 0.03123 C 0.32499 0.03979 0.321 0.0458 0.31753 0.05483 C 0.31631 0.05806 0.31284 0.06408 0.31284 0.06408 C 0.31111 0.07217 0.30659 0.07726 0.30347 0.08443 C 0.29999 0.09207 0.29739 0.1004 0.29409 0.10803 C 0.29166 0.11358 0.29027 0.11381 0.28819 0.11913 C 0.28489 0.12746 0.28124 0.13741 0.27517 0.1425 C 0.27447 0.14412 0.27395 0.14597 0.27291 0.14735 C 0.26909 0.15244 0.26857 0.14782 0.27048 0.1536 L 0.27638 0.14735 E">
                                      <p:cBhvr>
                                        <p:cTn id="8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01642E-006 C -0.00816 0.01643 -0.02187 0.02614 -0.0342 0.03609 C -0.04496 0.04465 -0.05399 0.05806 -0.06597 0.06269 C -0.07691 0.07403 -0.09913 0.09045 -0.11302 0.09415 C -0.12344 0.10109 -0.13802 0.11173 -0.14948 0.11451 C -0.15156 0.11497 -0.16024 0.11682 -0.16233 0.11775 C -0.18108 0.12492 -0.19913 0.13278 -0.21788 0.13949 C -0.24375 0.14897 -0.26927 0.16054 -0.29531 0.16933 C -0.30642 0.17303 -0.31701 0.17928 -0.3283 0.18182 C -0.33663 0.18645 -0.34548 0.1876 -0.35417 0.19131 C -0.36528 0.19593 -0.37656 0.20102 -0.38819 0.2038 C -0.40364 0.21189 -0.41875 0.21768 -0.43524 0.22115 C -0.45017 0.23086 -0.46771 0.23456 -0.48351 0.2415 C -0.49028 0.24451 -0.50052 0.24983 -0.50712 0.25099 C -0.51684 0.25261 -0.53646 0.25399 -0.53646 0.25399 C -0.54635 0.25353 -0.55625 0.25446 -0.56597 0.25237 C -0.56875 0.25168 -0.57292 0.24613 -0.57292 0.24613 C -0.57552 0.24127 -0.57864 0.23849 -0.58125 0.23364 C -0.58281 0.22647 -0.58576 0.22068 -0.58715 0.21328 C -0.58663 0.19593 -0.58889 0.17025 -0.58125 0.1536 C -0.5776 0.13463 -0.57118 0.11913 -0.56233 0.10363 C -0.55608 0.09276 -0.55173 0.07958 -0.54358 0.07056 C -0.53802 0.06431 -0.5316 0.05922 -0.52587 0.05344 C -0.51927 0.04673 -0.51354 0.03794 -0.5059 0.03308 C -0.49444 0.01689 -0.47969 0.00648 -0.46597 -0.00624 C -0.45903 -0.01272 -0.45295 -0.02105 -0.44479 -0.02498 C -0.43576 -0.03446 -0.42691 -0.04441 -0.41771 -0.0532 C -0.4066 -0.06384 -0.39305 -0.07078 -0.38142 -0.0798 C -0.375 -0.08466 -0.36858 -0.09114 -0.36111 -0.09391 C -0.35694 -0.09785 -0.3533 -0.09877 -0.34826 -0.10016 C -0.33854 -0.10918 -0.34323 -0.10687 -0.33542 -0.10964 C -0.32864 -0.11566 -0.3217 -0.12028 -0.31423 -0.12375 C -0.31285 -0.12537 -0.31198 -0.12722 -0.31059 -0.12838 C -0.30833 -0.13 -0.30347 -0.13162 -0.30347 -0.13162 C -0.30035 -0.13833 -0.28993 -0.14596 -0.28351 -0.14874 C -0.28125 -0.14966 -0.27882 -0.15082 -0.27656 -0.15198 C -0.27465 -0.1529 -0.27066 -0.15359 -0.27066 -0.15359 E">
                                      <p:cBhvr>
                                        <p:cTn id="83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Никулин «Русский лес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TextBox 4"/>
          <p:cNvGrpSpPr/>
          <p:nvPr/>
        </p:nvGrpSpPr>
        <p:grpSpPr>
          <a:xfrm>
            <a:off x="426960" y="1073160"/>
            <a:ext cx="4151160" cy="1815840"/>
            <a:chOff x="426960" y="1073160"/>
            <a:chExt cx="4151160" cy="1815840"/>
          </a:xfrm>
        </p:grpSpPr>
        <p:pic>
          <p:nvPicPr>
            <p:cNvPr id="99" name="TextBox 4" descr=""/>
            <p:cNvPicPr/>
            <p:nvPr/>
          </p:nvPicPr>
          <p:blipFill>
            <a:blip r:embed="rId2"/>
            <a:stretch/>
          </p:blipFill>
          <p:spPr>
            <a:xfrm>
              <a:off x="426960" y="1074240"/>
              <a:ext cx="415008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28400" y="1073160"/>
              <a:ext cx="4149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т ничего милее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родить и думать здесь.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лечит, обогреет,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кормит русский лес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TextBox 5"/>
          <p:cNvGrpSpPr/>
          <p:nvPr/>
        </p:nvGrpSpPr>
        <p:grpSpPr>
          <a:xfrm>
            <a:off x="4857840" y="1139760"/>
            <a:ext cx="3432240" cy="1812960"/>
            <a:chOff x="4857840" y="1139760"/>
            <a:chExt cx="3432240" cy="1812960"/>
          </a:xfrm>
        </p:grpSpPr>
        <p:pic>
          <p:nvPicPr>
            <p:cNvPr id="102" name="TextBox 5" descr=""/>
            <p:cNvPicPr/>
            <p:nvPr/>
          </p:nvPicPr>
          <p:blipFill>
            <a:blip r:embed="rId3"/>
            <a:stretch/>
          </p:blipFill>
          <p:spPr>
            <a:xfrm>
              <a:off x="4857840" y="1139760"/>
              <a:ext cx="3430800" cy="18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57840" y="1142640"/>
              <a:ext cx="3432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щу грибов поляну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, не жалея ног,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 если и устану –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сяду на пенек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TextBox 6"/>
          <p:cNvGrpSpPr/>
          <p:nvPr/>
        </p:nvGrpSpPr>
        <p:grpSpPr>
          <a:xfrm>
            <a:off x="365040" y="2846520"/>
            <a:ext cx="4151160" cy="1817640"/>
            <a:chOff x="365040" y="2846520"/>
            <a:chExt cx="4151160" cy="1817640"/>
          </a:xfrm>
        </p:grpSpPr>
        <p:pic>
          <p:nvPicPr>
            <p:cNvPr id="105" name="TextBox 6" descr=""/>
            <p:cNvPicPr/>
            <p:nvPr/>
          </p:nvPicPr>
          <p:blipFill>
            <a:blip r:embed="rId4"/>
            <a:stretch/>
          </p:blipFill>
          <p:spPr>
            <a:xfrm>
              <a:off x="365040" y="2846520"/>
              <a:ext cx="415008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66480" y="2846520"/>
              <a:ext cx="4149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 будет жажда мучить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 мне лесовичо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редь зарослей колючих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кажет родничок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TextBox 7"/>
          <p:cNvGrpSpPr/>
          <p:nvPr/>
        </p:nvGrpSpPr>
        <p:grpSpPr>
          <a:xfrm>
            <a:off x="360360" y="4645080"/>
            <a:ext cx="4150800" cy="1815840"/>
            <a:chOff x="360360" y="4645080"/>
            <a:chExt cx="4150800" cy="1815840"/>
          </a:xfrm>
        </p:grpSpPr>
        <p:pic>
          <p:nvPicPr>
            <p:cNvPr id="108" name="TextBox 7" descr=""/>
            <p:cNvPicPr/>
            <p:nvPr/>
          </p:nvPicPr>
          <p:blipFill>
            <a:blip r:embed="rId5"/>
            <a:stretch/>
          </p:blipFill>
          <p:spPr>
            <a:xfrm>
              <a:off x="363240" y="4646520"/>
              <a:ext cx="4147920" cy="18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60360" y="4645080"/>
              <a:ext cx="41482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с ждут в лесу рябина,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ехи и цветы,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ушистая малина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кустиках густых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TextBox 8"/>
          <p:cNvGrpSpPr/>
          <p:nvPr/>
        </p:nvGrpSpPr>
        <p:grpSpPr>
          <a:xfrm>
            <a:off x="4853160" y="2925720"/>
            <a:ext cx="4290840" cy="1815840"/>
            <a:chOff x="4853160" y="2925720"/>
            <a:chExt cx="4290840" cy="1815840"/>
          </a:xfrm>
        </p:grpSpPr>
        <p:pic>
          <p:nvPicPr>
            <p:cNvPr id="111" name="TextBox 8" descr=""/>
            <p:cNvPicPr/>
            <p:nvPr/>
          </p:nvPicPr>
          <p:blipFill>
            <a:blip r:embed="rId6"/>
            <a:stretch/>
          </p:blipFill>
          <p:spPr>
            <a:xfrm>
              <a:off x="4856040" y="2925720"/>
              <a:ext cx="4287600" cy="18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853160" y="2928600"/>
              <a:ext cx="42908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знь кажется иною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сердце не болит,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гда над головою,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к вечность, лес шумит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2" descr=""/>
          <p:cNvPicPr/>
          <p:nvPr/>
        </p:nvPicPr>
        <p:blipFill>
          <a:blip r:embed="rId2"/>
          <a:stretch/>
        </p:blipFill>
        <p:spPr>
          <a:xfrm>
            <a:off x="36360" y="500040"/>
            <a:ext cx="4900680" cy="578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2" descr=""/>
          <p:cNvPicPr/>
          <p:nvPr/>
        </p:nvPicPr>
        <p:blipFill>
          <a:blip r:embed="rId2"/>
          <a:stretch/>
        </p:blipFill>
        <p:spPr>
          <a:xfrm>
            <a:off x="36360" y="500040"/>
            <a:ext cx="4900680" cy="5784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357440" y="500040"/>
            <a:ext cx="4329000" cy="57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 для растений и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0:28:03Z</dcterms:created>
  <dc:creator>Anoshkin</dc:creator>
  <dc:description/>
  <dc:language>en-US</dc:language>
  <cp:lastModifiedBy>Vladimir</cp:lastModifiedBy>
  <dcterms:modified xsi:type="dcterms:W3CDTF">2012-08-13T12:56:15Z</dcterms:modified>
  <cp:revision>176</cp:revision>
  <dc:subject/>
  <dc:title>Слайд 1</dc:title>
</cp:coreProperties>
</file>