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804-DF03-4129-866A-23A5DE2E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5FB-C086-4AB5-896E-1C139C8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5B4-52A3-4BCA-A604-9C59F621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ACC-2A92-44EB-B44D-11B65B84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E842-3450-4C61-A5A5-00BE1EAE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C1D-9893-4542-97D0-B4E99E3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C767-DC2A-42F4-ABA3-EE7D27A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E27-A63F-4AF2-82C8-8462472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537-1D25-4753-AFE1-8D5DF34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BB77-A64A-419A-B7CA-A0CA0ED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E65-398E-4437-8239-0CD5F4A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23B-534E-48E8-A9CA-BF9A3C9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04F-1CED-4DBA-9E0E-B59A323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D712-ED13-41C5-BD0C-F35FD35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AB9-5488-47C4-B00F-8C36E36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062-3433-43BA-8BE4-61A146C2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4AD-DC72-4842-A06F-5B99A700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7A84-309C-4DF8-9DF5-589CC3AA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9910-7393-490B-8DAC-0B34073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0538-D41B-4B3C-8A5E-F85F77B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E1B0-BF5C-4224-A97D-EF7388E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0651-EF66-4F3E-A8A8-DB0D2EB9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1B1-4F02-42BF-A455-92686A5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E438-CC0F-4CBF-AF21-90FDB333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CD90-76C3-47E2-99CE-5198F88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5118-A9D8-4DFC-90B7-1F3FC3A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1915-1AEF-4BDC-A482-91AC459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3214-993A-45A5-9F3E-B48C823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61B2-2822-4E00-8B51-C98433E5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B51B-3850-4B63-9CED-E0A1AD81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BE8-220C-4B4F-A61C-A685A14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D9-CF25-4620-BFD4-5CDFADDF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680-B298-4854-B691-0A4847D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20D-CDF5-41E6-A81F-4AA01FE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283-97B9-4F7F-AEF9-21F87AB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836-CD26-4C36-89B3-902F464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7E8-39E1-4791-B3FC-EBEC670C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627-0EC4-4064-805D-C9C6931FCC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566-2057-4262-B982-DD6DE5DAED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7320" y="3860640"/>
          <a:ext cx="3119400" cy="10810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BBOXC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979640" y="4941720"/>
          <a:ext cx="1368360" cy="1440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OM210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932360" y="3860640"/>
          <a:ext cx="4056120" cy="100836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BSKTBALL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2916360" y="3933720"/>
          <a:ext cx="3743280" cy="1079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BABYTOY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932360" y="5734080"/>
          <a:ext cx="4056120" cy="86364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7320" y="404640"/>
          <a:ext cx="2974680" cy="86364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FSTV094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062080"/>
            <a:ext cx="6400800" cy="316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16000" y="5373720"/>
            <a:ext cx="6400800" cy="107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FSTV094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6"/>
          <p:cNvSpPr/>
          <p:nvPr/>
        </p:nvSpPr>
        <p:spPr>
          <a:xfrm flipV="1" rot="2278200">
            <a:off x="1066680" y="2057040"/>
            <a:ext cx="29052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10"/>
          <p:cNvSpPr/>
          <p:nvPr/>
        </p:nvSpPr>
        <p:spPr>
          <a:xfrm flipV="1" rot="2821800">
            <a:off x="3192840" y="2672640"/>
            <a:ext cx="31284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8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3"/>
          <p:cNvSpPr/>
          <p:nvPr/>
        </p:nvSpPr>
        <p:spPr>
          <a:xfrm flipV="1" rot="2361600">
            <a:off x="2438280" y="2208960"/>
            <a:ext cx="268560" cy="22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4"/>
          <p:cNvSpPr/>
          <p:nvPr/>
        </p:nvSpPr>
        <p:spPr>
          <a:xfrm flipV="1" rot="3367200">
            <a:off x="3175200" y="1319760"/>
            <a:ext cx="1493640" cy="2662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0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6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6"/>
          <p:cNvSpPr/>
          <p:nvPr/>
        </p:nvSpPr>
        <p:spPr>
          <a:xfrm flipV="1" rot="3505800">
            <a:off x="1095120" y="1952280"/>
            <a:ext cx="398520" cy="455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10"/>
          <p:cNvSpPr/>
          <p:nvPr/>
        </p:nvSpPr>
        <p:spPr>
          <a:xfrm flipV="1" rot="2821800">
            <a:off x="3193200" y="2597760"/>
            <a:ext cx="31248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1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1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32"/>
          <p:cNvSpPr/>
          <p:nvPr/>
        </p:nvSpPr>
        <p:spPr>
          <a:xfrm flipV="1" rot="2361600">
            <a:off x="2133360" y="2209320"/>
            <a:ext cx="268200" cy="22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3"/>
          <p:cNvSpPr/>
          <p:nvPr/>
        </p:nvSpPr>
        <p:spPr>
          <a:xfrm flipV="1" rot="3367200">
            <a:off x="2609640" y="1555200"/>
            <a:ext cx="1400040" cy="2028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4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7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1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j0183290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3290"/>
          <p:cNvPicPr/>
          <p:nvPr/>
        </p:nvPicPr>
        <p:blipFill>
          <a:blip r:embed="rId1"/>
          <a:stretch/>
        </p:blipFill>
        <p:spPr>
          <a:xfrm>
            <a:off x="1187280" y="404640"/>
            <a:ext cx="561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68: 8 =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6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334:6=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38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67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9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9268:7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3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4" descr="EDCN001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400800" cy="787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47280" y="314136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403280" y="4508640"/>
            <a:ext cx="6400800" cy="16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Автор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Гурьянова Мар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57320" y="549360"/>
          <a:ext cx="3119400" cy="15112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JACKNBOX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57320" y="2421000"/>
          <a:ext cx="2901960" cy="93672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57320" y="2924280"/>
          <a:ext cx="3190680" cy="100944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BACK168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Леха</cp:lastModifiedBy>
  <dcterms:modified xsi:type="dcterms:W3CDTF">2012-08-13T12:28:4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