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355-D941-44D8-9E4F-D1DFAA6B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B90-B0B2-469B-A25A-8F6ECE78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CC8-6888-4E0A-9030-D8ECE645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21F-3867-482F-A680-EEA4BD2B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61D2-951B-410D-A575-9E8449CF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BCEE-51AE-421E-AD8B-F96C4622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C7C2-6B87-4E54-9E15-143DD4F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A1D2-22DF-46A7-A5E2-C1DB0723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59A0-1FCC-4986-8A54-EA4F2422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31C4-BE74-4AF8-9770-DB0E6C65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CBD-F025-47FB-B0B4-A9AEAC2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686-E484-4B2C-BF4C-34B49E1C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4D2B-22AF-4D9D-8DEE-5E56B63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388E-17AB-4462-971F-B0309106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0C10-27C7-4D2F-AC76-8827B2CA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0A18-C5B9-459B-A083-F25F26AB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39AE-D566-4D63-8F1E-1A7EF7D7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E94-7373-45E7-87AB-33C18FCD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292-32BA-49BA-ABDC-3D0F6FA6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D69-F4E6-44DE-8F9B-F69D1F9C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724-7B76-42BB-A995-A3FDAC0F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C5A-EE9D-425B-84D3-19C1CB1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FBD-8CF3-4408-8AF4-43CB8804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FBC-C6F3-446F-BB8D-9D070DE9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016B-162A-4520-8CDA-AF033981BF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D699-1DF4-444A-820F-23F6F5A36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40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e71985"/>
                </a:solidFill>
                <a:latin typeface="Monotype Corsiva"/>
              </a:rPr>
              <a:t>ST.VALENTINE’S DAY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653000"/>
            <a:ext cx="50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16000" y="112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2997360"/>
            <a:ext cx="2016000" cy="1511280"/>
          </a:xfrm>
          <a:custGeom>
            <a:avLst/>
            <a:gdLst>
              <a:gd name="textAreaLeft" fmla="*/ 473760 w 2016000"/>
              <a:gd name="textAreaRight" fmla="*/ 1540800 w 2016000"/>
              <a:gd name="textAreaTop" fmla="*/ 177480 h 1511280"/>
              <a:gd name="textAreaBottom" fmla="*/ 947880 h 151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4797360"/>
            <a:ext cx="2233440" cy="1800360"/>
          </a:xfrm>
          <a:custGeom>
            <a:avLst/>
            <a:gdLst>
              <a:gd name="textAreaLeft" fmla="*/ 524880 w 2233440"/>
              <a:gd name="textAreaRight" fmla="*/ 1707120 w 2233440"/>
              <a:gd name="textAreaTop" fmla="*/ 211680 h 1800360"/>
              <a:gd name="textAreaBottom" fmla="*/ 1129320 h 18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724280"/>
            <a:ext cx="2232000" cy="191628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225360 h 1916280"/>
              <a:gd name="textAreaBottom" fmla="*/ 1202040 h 1916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ed01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1916280"/>
            <a:ext cx="2232000" cy="158400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186120 h 1584000"/>
              <a:gd name="textAreaBottom" fmla="*/ 993600 h 1584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2060640"/>
            <a:ext cx="2159280" cy="1584360"/>
          </a:xfrm>
          <a:custGeom>
            <a:avLst/>
            <a:gdLst>
              <a:gd name="textAreaLeft" fmla="*/ 507240 w 2159280"/>
              <a:gd name="textAreaRight" fmla="*/ 1650240 w 2159280"/>
              <a:gd name="textAreaTop" fmla="*/ 186120 h 1584360"/>
              <a:gd name="textAreaBottom" fmla="*/ 993960 h 158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7aad9"/>
              </a:gs>
              <a:gs pos="100000">
                <a:srgbClr val="e7198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50920" y="54936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d0101"/>
                </a:solidFill>
                <a:latin typeface="Times New Roman"/>
              </a:rPr>
              <a:t>MAKE A POE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d0101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060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24861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229248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you love me        too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501336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me call you sweetheart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50846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’m in love with you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"/>
          <p:cNvSpPr/>
          <p:nvPr/>
        </p:nvSpPr>
        <p:spPr>
          <a:xfrm>
            <a:off x="6443640" y="198900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me hear your whisp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4 -0.04185 L -0.55121 -0.43006 E">
                                      <p:cBhvr>
                                        <p:cTn id="30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3376 L 0.55521 0.3963 E">
                                      <p:cBhvr>
                                        <p:cTn id="310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0.02219 L 0.5316 -0.41827 E">
                                      <p:cBhvr>
                                        <p:cTn id="31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511 L -0.50798 0.44185 E">
                                      <p:cBhvr>
                                        <p:cTn id="31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24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What Do You Think of </a:t>
            </a:r>
            <a:br>
              <a:rPr sz="4000"/>
            </a:b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St. Valentine’s Day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3284280"/>
            <a:ext cx="66596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90101"/>
                </a:solidFill>
                <a:latin typeface="Arial"/>
              </a:rPr>
              <a:t>I LOVE Valentine’s Day. My boyfriend always sends me a huge card with a poem in it. And flowers and chocolate. And takes me out to dinn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492360" y="1125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HATE Valentine’s Day. I always end up stressing about whether I’ll get a card, and sometimes I only get one from my mum or my sis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I see Valentine’s Day just as any other day. If I have a valentine, that’s cool, if I don’t then I don’t stress about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201760" cy="1966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547640" y="5084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549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Valentine's Day is a day of love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Where love is as bright as the sun</a:t>
            </a: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.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We share kisses, and even a hug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With people we call our loved ones</a:t>
            </a: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                                           </a:t>
            </a: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Lord By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7480" y="8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525780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69228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404640"/>
            <a:ext cx="54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20640"/>
            <a:ext cx="4752720" cy="48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Valentine lived in the Roman Empir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One of the legends say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he was a Christian priest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who had been thrown in prison for his teaching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He performed a miracle ther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he cured the jailer’s daughter from her blindness the night before he was executed. And he wrote a letter to the girl signing it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rom your Valentin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»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n February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14 Valentine was beheade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765000"/>
            <a:ext cx="3114720" cy="522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69228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404640"/>
            <a:ext cx="54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84872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upi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he Roman god of lov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is one of the earliest popular symbols of the da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t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Valentine’s Day is now a day for sweetheart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Most people send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valentine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»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sentimental greeting card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82436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16000" y="112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365720"/>
            <a:ext cx="3598920" cy="230328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280"/>
              <a:gd name="textAreaBottom" fmla="*/ 1444680 h 23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060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2292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471024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card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907920"/>
            <a:ext cx="3598920" cy="230364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640"/>
              <a:gd name="textAreaBottom" fmla="*/ 1445040 h 2303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SWEET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052640"/>
            <a:ext cx="3598920" cy="230328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280"/>
              <a:gd name="textAreaBottom" fmla="*/ 1444680 h 23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FLOWER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4365720"/>
            <a:ext cx="3598920" cy="230328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280"/>
              <a:gd name="textAreaBottom" fmla="*/ 1444680 h 23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TOY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202120" cy="196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"/>
              </a:rPr>
              <a:t>FLOWERS QUIZ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blueb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snow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po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forget-me-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cornf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daffod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car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sunf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pan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dai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1796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подснеж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василё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нарци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колоколь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маргари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м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незабу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подсолн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анютины гл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гвозд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56360" y="620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349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48428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917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"/>
          <p:cNvSpPr/>
          <p:nvPr/>
        </p:nvSpPr>
        <p:spPr>
          <a:xfrm>
            <a:off x="687564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189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"/>
          <p:cNvSpPr/>
          <p:nvPr/>
        </p:nvSpPr>
        <p:spPr>
          <a:xfrm>
            <a:off x="651528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"/>
          <p:cNvSpPr/>
          <p:nvPr/>
        </p:nvSpPr>
        <p:spPr>
          <a:xfrm>
            <a:off x="507528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"/>
          <p:cNvSpPr/>
          <p:nvPr/>
        </p:nvSpPr>
        <p:spPr>
          <a:xfrm>
            <a:off x="687564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"/>
          <p:cNvSpPr/>
          <p:nvPr/>
        </p:nvSpPr>
        <p:spPr>
          <a:xfrm>
            <a:off x="651528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451008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4076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451008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4076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"/>
          <p:cNvSpPr/>
          <p:nvPr/>
        </p:nvSpPr>
        <p:spPr>
          <a:xfrm>
            <a:off x="5435640" y="2349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714920" y="4076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>
            <a:off x="471492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>
            <a:off x="471492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6237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5805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"/>
          <p:cNvSpPr/>
          <p:nvPr/>
        </p:nvSpPr>
        <p:spPr>
          <a:xfrm>
            <a:off x="5435640" y="5373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3284640"/>
            <a:ext cx="50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10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    O  Y   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2781360"/>
            <a:ext cx="57600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189000"/>
            <a:ext cx="360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2276640"/>
            <a:ext cx="360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781360"/>
            <a:ext cx="360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5013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   L   O  W       R   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"/>
          <p:cNvSpPr/>
          <p:nvPr/>
        </p:nvSpPr>
        <p:spPr>
          <a:xfrm>
            <a:off x="5702760" y="13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"/>
          <p:cNvSpPr/>
          <p:nvPr/>
        </p:nvSpPr>
        <p:spPr>
          <a:xfrm>
            <a:off x="5415480" y="10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"/>
          <p:cNvSpPr/>
          <p:nvPr/>
        </p:nvSpPr>
        <p:spPr>
          <a:xfrm>
            <a:off x="4766040" y="2292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"/>
          <p:cNvSpPr/>
          <p:nvPr/>
        </p:nvSpPr>
        <p:spPr>
          <a:xfrm>
            <a:off x="5486760" y="19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"/>
          <p:cNvSpPr/>
          <p:nvPr/>
        </p:nvSpPr>
        <p:spPr>
          <a:xfrm>
            <a:off x="7308720" y="22924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"/>
          <p:cNvSpPr/>
          <p:nvPr/>
        </p:nvSpPr>
        <p:spPr>
          <a:xfrm>
            <a:off x="3686760" y="495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549360"/>
            <a:ext cx="24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90792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35576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171612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07648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141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240" y="234936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88600" y="328464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979640" y="306864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71000" y="604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62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"/>
          <p:cNvSpPr/>
          <p:nvPr/>
        </p:nvSpPr>
        <p:spPr>
          <a:xfrm>
            <a:off x="531360" y="560376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042920" y="5603760"/>
            <a:ext cx="2016360" cy="1254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-78480" y="4092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68360" y="0"/>
            <a:ext cx="1727280" cy="141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250920" y="386064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lentine Text Messa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UBMV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UVU or I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WAM&lt;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L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oxoxoxo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x@&gt; --,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7280" y="1628640"/>
            <a:ext cx="471636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you be my Valent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love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you with all my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ss on the 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ts of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gs and ki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ozen r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787640" cy="435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324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es are red, Violets are blue, Honey’s sweets And so are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16720" y="4076280"/>
            <a:ext cx="3527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ream about you Every night.          Be my Valentine And hold me t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672000" cy="32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3672000" cy="32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33:52Z</dcterms:created>
  <dc:creator>Kvazim0da</dc:creator>
  <dc:description/>
  <dc:language>en-US</dc:language>
  <cp:lastModifiedBy>wqewq</cp:lastModifiedBy>
  <dcterms:modified xsi:type="dcterms:W3CDTF">2012-07-15T08:39:09Z</dcterms:modified>
  <cp:revision>47</cp:revision>
  <dc:subject/>
  <dc:title>Методическое объединение учителей иностранного языка</dc:title>
</cp:coreProperties>
</file>