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E34-61E3-4244-8B33-6817692B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037-C861-45F7-9F41-13353CD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DA0-DD2B-45E3-B614-9ABB0FBA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17A-3FC2-4930-899B-384FFB9E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2741-EF9E-47F4-9FA7-B06FD7CF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E042-FA55-4FA4-B3A9-ED8D4566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B755-626D-44D1-B9A5-146439BF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36EE-8F5C-4971-B3A4-C1055680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702A-CF06-4336-8653-CE11E714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9A97-AACC-4A05-91C1-38311FEB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05F4-1072-4DB2-84D2-E3083A16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1BF-B0CC-4BAD-AD1B-DAFB28F7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5619-4DF9-49C5-ACE2-5B0E082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860A-3173-4E78-9461-3E9458E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03F2-0946-4C29-BAE6-F670FF64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D9DA-F137-491B-9D20-A4F1B665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A9DA-CD5D-4ECA-8294-0E0893E1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48D-9CC6-4516-9B48-822E78DB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FDC-F15C-4144-BD6F-0D51E347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F28-1688-460E-BB3D-F8AE1810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9BA-225D-4293-B100-57A06318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348-8DC9-4444-A4BC-49270E5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3CB-4D5A-4120-B6DB-13DA2442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987-2599-47BC-8DD0-ADD8BBA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A347-7387-4FDB-84B1-394EB7B08A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8B5A-C7CD-487A-92DD-EE86B445DC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40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e71985"/>
                </a:solidFill>
                <a:latin typeface="Monotype Corsiva"/>
              </a:rPr>
              <a:t>ST.VALENTINE’S DAY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653000"/>
            <a:ext cx="50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16000" y="112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2997360"/>
            <a:ext cx="2016000" cy="1511280"/>
          </a:xfrm>
          <a:custGeom>
            <a:avLst/>
            <a:gdLst>
              <a:gd name="textAreaLeft" fmla="*/ 473760 w 2016000"/>
              <a:gd name="textAreaRight" fmla="*/ 1540800 w 2016000"/>
              <a:gd name="textAreaTop" fmla="*/ 177480 h 1511280"/>
              <a:gd name="textAreaBottom" fmla="*/ 947880 h 151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4797360"/>
            <a:ext cx="2233440" cy="1800360"/>
          </a:xfrm>
          <a:custGeom>
            <a:avLst/>
            <a:gdLst>
              <a:gd name="textAreaLeft" fmla="*/ 524880 w 2233440"/>
              <a:gd name="textAreaRight" fmla="*/ 1707120 w 2233440"/>
              <a:gd name="textAreaTop" fmla="*/ 211680 h 1800360"/>
              <a:gd name="textAreaBottom" fmla="*/ 1129320 h 18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724280"/>
            <a:ext cx="2232000" cy="191628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225360 h 1916280"/>
              <a:gd name="textAreaBottom" fmla="*/ 1202040 h 1916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ed01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1916280"/>
            <a:ext cx="2232000" cy="1584000"/>
          </a:xfrm>
          <a:custGeom>
            <a:avLst/>
            <a:gdLst>
              <a:gd name="textAreaLeft" fmla="*/ 524520 w 2232000"/>
              <a:gd name="textAreaRight" fmla="*/ 1706040 w 2232000"/>
              <a:gd name="textAreaTop" fmla="*/ 186120 h 1584000"/>
              <a:gd name="textAreaBottom" fmla="*/ 993600 h 1584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2060640"/>
            <a:ext cx="2159280" cy="1584360"/>
          </a:xfrm>
          <a:custGeom>
            <a:avLst/>
            <a:gdLst>
              <a:gd name="textAreaLeft" fmla="*/ 507240 w 2159280"/>
              <a:gd name="textAreaRight" fmla="*/ 1650240 w 2159280"/>
              <a:gd name="textAreaTop" fmla="*/ 186120 h 1584360"/>
              <a:gd name="textAreaBottom" fmla="*/ 993960 h 158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7aad9"/>
              </a:gs>
              <a:gs pos="100000">
                <a:srgbClr val="e7198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50920" y="54936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d0101"/>
                </a:solidFill>
                <a:latin typeface="Times New Roman"/>
              </a:rPr>
              <a:t>MAKE A POE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d0101"/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060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24861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229248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you love me        too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"/>
          <p:cNvSpPr/>
          <p:nvPr/>
        </p:nvSpPr>
        <p:spPr>
          <a:xfrm>
            <a:off x="6227640" y="501336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me call you sweetheart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"/>
          <p:cNvSpPr/>
          <p:nvPr/>
        </p:nvSpPr>
        <p:spPr>
          <a:xfrm>
            <a:off x="1619280" y="508464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’m in love with you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"/>
          <p:cNvSpPr/>
          <p:nvPr/>
        </p:nvSpPr>
        <p:spPr>
          <a:xfrm>
            <a:off x="6443640" y="198900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me hear your whisp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4 -0.04185 L -0.55121 -0.43006 E">
                                      <p:cBhvr>
                                        <p:cTn id="31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3376 L 0.55521 0.3963 E">
                                      <p:cBhvr>
                                        <p:cTn id="313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0.02219 L 0.5316 -0.41827 E">
                                      <p:cBhvr>
                                        <p:cTn id="317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-0.0511 L -0.50798 0.44185 E">
                                      <p:cBhvr>
                                        <p:cTn id="31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24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What Do You Think of </a:t>
            </a:r>
            <a:br>
              <a:rPr sz="4000"/>
            </a:b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St. Valentine’s Day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3284280"/>
            <a:ext cx="66596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90101"/>
                </a:solidFill>
                <a:latin typeface="Arial"/>
              </a:rPr>
              <a:t>I LOVE Valentine’s Day. My boyfriend always sends me a huge card with a poem in it. And flowers and chocolate. And takes me out to dinn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492360" y="1125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HATE Valentine’s Day. I always end up stressing about whether I’ll get a card, and sometimes I only get one from my mum or my sis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I see Valentine’s Day just as any other day. If I have a valentine, that’s cool, if I don’t then I don’t stress about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2201760" cy="1966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547640" y="5084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549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33cc"/>
                </a:solidFill>
                <a:latin typeface="Monotype Corsiva"/>
              </a:rPr>
              <a:t>Valentine's Day is a day of love</a:t>
            </a:r>
            <a:br>
              <a:rPr sz="4400"/>
            </a:br>
            <a:r>
              <a:rPr b="1" i="1" lang="ru-RU" sz="4400" spc="-1" strike="noStrike">
                <a:solidFill>
                  <a:srgbClr val="0033cc"/>
                </a:solidFill>
                <a:latin typeface="Monotype Corsiva"/>
              </a:rPr>
              <a:t>Where love is as bright as the sun</a:t>
            </a:r>
            <a:r>
              <a:rPr b="1" i="1" lang="en-US" sz="4400" spc="-1" strike="noStrike">
                <a:solidFill>
                  <a:srgbClr val="0033cc"/>
                </a:solidFill>
                <a:latin typeface="Monotype Corsiva"/>
              </a:rPr>
              <a:t>.</a:t>
            </a:r>
            <a:br>
              <a:rPr sz="4400"/>
            </a:br>
            <a:r>
              <a:rPr b="1" i="1" lang="ru-RU" sz="4400" spc="-1" strike="noStrike">
                <a:solidFill>
                  <a:srgbClr val="0033cc"/>
                </a:solidFill>
                <a:latin typeface="Monotype Corsiva"/>
              </a:rPr>
              <a:t>We share kisses, and even a hug</a:t>
            </a:r>
            <a:br>
              <a:rPr sz="4400"/>
            </a:br>
            <a:r>
              <a:rPr b="1" i="1" lang="ru-RU" sz="4400" spc="-1" strike="noStrike">
                <a:solidFill>
                  <a:srgbClr val="0033cc"/>
                </a:solidFill>
                <a:latin typeface="Monotype Corsiva"/>
              </a:rPr>
              <a:t>With people we call our loved ones</a:t>
            </a:r>
            <a:r>
              <a:rPr b="1" i="1" lang="en-US" sz="4400" spc="-1" strike="noStrike">
                <a:solidFill>
                  <a:srgbClr val="0033cc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Monotype Corsiva"/>
              </a:rPr>
              <a:t>                                           </a:t>
            </a:r>
            <a:r>
              <a:rPr b="1" i="1" lang="en-US" sz="4400" spc="-1" strike="noStrike">
                <a:solidFill>
                  <a:srgbClr val="0033cc"/>
                </a:solidFill>
                <a:latin typeface="Monotype Corsiva"/>
              </a:rPr>
              <a:t>Lord By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7480" y="8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525780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69228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404640"/>
            <a:ext cx="54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20640"/>
            <a:ext cx="4752720" cy="48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Valentine lived in the Roman Empire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One of the legends says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he was a Christian priest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who had been thrown in prison for his teaching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He performed a miracle there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he cured the jailer’s daughter from her blindness the night before he was executed. And he wrote a letter to the girl signing it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From your Valentine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».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n February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14 Valentine was beheaded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765000"/>
            <a:ext cx="3114720" cy="522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69228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404640"/>
            <a:ext cx="54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7848720" cy="23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upid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he Roman god of love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is one of the earliest popular symbols of the da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St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Valentine’s Day is now a day for sweethearts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Most people send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valentines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»,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sentimental greeting cards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82436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16000" y="112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365720"/>
            <a:ext cx="3598920" cy="2303280"/>
          </a:xfrm>
          <a:custGeom>
            <a:avLst/>
            <a:gdLst>
              <a:gd name="textAreaLeft" fmla="*/ 845640 w 3598920"/>
              <a:gd name="textAreaRight" fmla="*/ 2750760 w 3598920"/>
              <a:gd name="textAreaTop" fmla="*/ 270720 h 2303280"/>
              <a:gd name="textAreaBottom" fmla="*/ 1444680 h 23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060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2292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471024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0101"/>
                </a:solidFill>
                <a:latin typeface="comic"/>
              </a:rPr>
              <a:t>card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907920"/>
            <a:ext cx="3598920" cy="2303640"/>
          </a:xfrm>
          <a:custGeom>
            <a:avLst/>
            <a:gdLst>
              <a:gd name="textAreaLeft" fmla="*/ 845640 w 3598920"/>
              <a:gd name="textAreaRight" fmla="*/ 2750760 w 3598920"/>
              <a:gd name="textAreaTop" fmla="*/ 270720 h 2303640"/>
              <a:gd name="textAreaBottom" fmla="*/ 1445040 h 2303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0101"/>
                </a:solidFill>
                <a:latin typeface="comic"/>
              </a:rPr>
              <a:t>SWEET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052640"/>
            <a:ext cx="3598920" cy="2303280"/>
          </a:xfrm>
          <a:custGeom>
            <a:avLst/>
            <a:gdLst>
              <a:gd name="textAreaLeft" fmla="*/ 845640 w 3598920"/>
              <a:gd name="textAreaRight" fmla="*/ 2750760 w 3598920"/>
              <a:gd name="textAreaTop" fmla="*/ 270720 h 2303280"/>
              <a:gd name="textAreaBottom" fmla="*/ 1444680 h 23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0101"/>
                </a:solidFill>
                <a:latin typeface="comic"/>
              </a:rPr>
              <a:t>FLOWER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4365720"/>
            <a:ext cx="3598920" cy="2303280"/>
          </a:xfrm>
          <a:custGeom>
            <a:avLst/>
            <a:gdLst>
              <a:gd name="textAreaLeft" fmla="*/ 845640 w 3598920"/>
              <a:gd name="textAreaRight" fmla="*/ 2750760 w 3598920"/>
              <a:gd name="textAreaTop" fmla="*/ 270720 h 2303280"/>
              <a:gd name="textAreaBottom" fmla="*/ 1444680 h 23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2edaa5"/>
              </a:gs>
              <a:gs pos="100000">
                <a:srgbClr val="8922d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0101"/>
                </a:solidFill>
                <a:latin typeface="comic"/>
              </a:rPr>
              <a:t>TOYS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2202120" cy="1967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"/>
              </a:rPr>
              <a:t>FLOWERS QUIZ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blueb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snow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po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forget-me-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cornf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daffod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car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sunf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pan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dai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1796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подснеж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василё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нарци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колоколь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маргари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м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незабу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подсолн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анютины гла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гвозд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56360" y="620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1052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349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148428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917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"/>
          <p:cNvSpPr/>
          <p:nvPr/>
        </p:nvSpPr>
        <p:spPr>
          <a:xfrm>
            <a:off x="687564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189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"/>
          <p:cNvSpPr/>
          <p:nvPr/>
        </p:nvSpPr>
        <p:spPr>
          <a:xfrm>
            <a:off x="6515280" y="1052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3645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2781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"/>
          <p:cNvSpPr/>
          <p:nvPr/>
        </p:nvSpPr>
        <p:spPr>
          <a:xfrm>
            <a:off x="507528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"/>
          <p:cNvSpPr/>
          <p:nvPr/>
        </p:nvSpPr>
        <p:spPr>
          <a:xfrm>
            <a:off x="6875640" y="1052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1052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"/>
          <p:cNvSpPr/>
          <p:nvPr/>
        </p:nvSpPr>
        <p:spPr>
          <a:xfrm>
            <a:off x="651528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451008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4076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3645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2781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3213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451008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4076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3645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"/>
          <p:cNvSpPr/>
          <p:nvPr/>
        </p:nvSpPr>
        <p:spPr>
          <a:xfrm>
            <a:off x="5435640" y="2349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2781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>
            <a:off x="4714920" y="407664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"/>
          <p:cNvSpPr/>
          <p:nvPr/>
        </p:nvSpPr>
        <p:spPr>
          <a:xfrm>
            <a:off x="4714920" y="364500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>
            <a:off x="4714920" y="2781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6237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580536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"/>
          <p:cNvSpPr/>
          <p:nvPr/>
        </p:nvSpPr>
        <p:spPr>
          <a:xfrm>
            <a:off x="5435640" y="5373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"/>
          <p:cNvSpPr/>
          <p:nvPr/>
        </p:nvSpPr>
        <p:spPr>
          <a:xfrm>
            <a:off x="543564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4941720"/>
            <a:ext cx="36036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3284640"/>
            <a:ext cx="50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10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    O  Y   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2781360"/>
            <a:ext cx="57600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189000"/>
            <a:ext cx="360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2276640"/>
            <a:ext cx="360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781360"/>
            <a:ext cx="360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5013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   L   O  W       R   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"/>
          <p:cNvSpPr/>
          <p:nvPr/>
        </p:nvSpPr>
        <p:spPr>
          <a:xfrm>
            <a:off x="5702760" y="131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"/>
          <p:cNvSpPr/>
          <p:nvPr/>
        </p:nvSpPr>
        <p:spPr>
          <a:xfrm>
            <a:off x="5415480" y="106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"/>
          <p:cNvSpPr/>
          <p:nvPr/>
        </p:nvSpPr>
        <p:spPr>
          <a:xfrm>
            <a:off x="4766040" y="2292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"/>
          <p:cNvSpPr/>
          <p:nvPr/>
        </p:nvSpPr>
        <p:spPr>
          <a:xfrm>
            <a:off x="5486760" y="1932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"/>
          <p:cNvSpPr/>
          <p:nvPr/>
        </p:nvSpPr>
        <p:spPr>
          <a:xfrm>
            <a:off x="7308720" y="22924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"/>
          <p:cNvSpPr/>
          <p:nvPr/>
        </p:nvSpPr>
        <p:spPr>
          <a:xfrm>
            <a:off x="3686760" y="495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549360"/>
            <a:ext cx="24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90792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35576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171612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076480"/>
            <a:ext cx="4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141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240" y="234936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88600" y="328464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979640" y="3068640"/>
            <a:ext cx="1727280" cy="158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71000" y="604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62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"/>
          <p:cNvSpPr/>
          <p:nvPr/>
        </p:nvSpPr>
        <p:spPr>
          <a:xfrm>
            <a:off x="531360" y="560376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042920" y="5603760"/>
            <a:ext cx="2016360" cy="1254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-78480" y="4092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68360" y="0"/>
            <a:ext cx="1727280" cy="141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250920" y="386064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lentine Text Messag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UBMV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UVU or I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WAM&lt;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T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L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oxoxoxo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x@&gt; --,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7280" y="1628640"/>
            <a:ext cx="471636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you be my Valent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love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you with all my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ss on the l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ts of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gs and ki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ozen r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4787640" cy="435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3240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es are red, Violets are blue, Honey’s sweets And so are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16720" y="4076280"/>
            <a:ext cx="35272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ream about you Every night.          Be my Valentine And hold me t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672000" cy="32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3672000" cy="32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33:52Z</dcterms:created>
  <dc:creator>Kvazim0da</dc:creator>
  <dc:description/>
  <dc:language>en-US</dc:language>
  <cp:lastModifiedBy>wqewq</cp:lastModifiedBy>
  <dcterms:modified xsi:type="dcterms:W3CDTF">2012-07-15T08:39:09Z</dcterms:modified>
  <cp:revision>47</cp:revision>
  <dc:subject/>
  <dc:title>Методическое объединение учителей иностранного языка</dc:title>
</cp:coreProperties>
</file>