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png" ContentType="image/png"/>
  <Override PartName="/ppt/media/image12.jpeg" ContentType="image/jpeg"/>
  <Override PartName="/ppt/media/image7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F8A5-785B-4271-81AD-00998A56E8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7D62-B241-49A2-B043-82865E23D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DC1-3893-427B-8A75-214FCB7B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454-0F10-49EF-AE79-7DB7E13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B48-D9B8-4475-B82B-176156EF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102-6597-4DDD-A131-1DF202A8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C197-9F63-4F62-BE37-D98E56B7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585-6D4E-45A2-A6CD-17D3CCF8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5083-D715-4D74-A5F0-FA23E918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91F-BE97-4C42-BD58-F7834F20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D66F-9D83-45BC-A257-B76F4401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FB84-053A-493E-A7FF-5C1AB36F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18B7-CB01-4807-AD88-ED66DADB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70D-6F71-4699-BCAF-599A4B7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7931-627C-4637-853A-586B2EE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BB5A-9A8F-4A60-8D2C-08C20E10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6CC3-2743-44F7-B758-4B40EE2A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D50-386F-4EAC-A93D-DEFDCD59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0B0D-D391-4B73-A461-A57AEFD6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8BDD2-70D3-4A02-9606-DCC000CE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92A6A-B586-424D-8BD1-037DE633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09F5B-BB46-4C8A-B1DA-CCAAD7E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37635-64CC-42C5-920F-4E91D54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4E41F-AD9F-44AE-A31B-950DD887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EC1-FB42-41C1-BD81-343D6A7C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EC7F3-68C0-4E9D-B0E6-C5F6786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46A61-E319-42C8-A8F4-6826B3C9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F9192-8778-4686-B563-51CEEA7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43969-C6D0-498B-AE28-B107713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84120-889F-4E94-9F74-1061A3F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F1015-B22F-4815-80CB-6AD2DD7C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A9B4B-5773-4A53-A16C-01E70071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52FBE-4B72-4C64-969F-AF88EADD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1DC22-509F-425F-AAE8-04619238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DE3F1-0826-4309-A25C-483A5DB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C99-EA7D-4308-87E7-47C2BAF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614AE-9290-45CD-A5F2-5067E0E3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CB96C-13BF-482A-8EE0-D9CCA5C8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9FD8E-297C-47B4-BCC7-2EF3CF96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B28D1-6BC5-4B48-B47E-18778AF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C501E-D7DF-4C4F-BE8E-60203DC1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65225-9D90-47B5-8F7F-2DE346B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3C8FA-8A1F-4D06-8961-98C8726A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EB321-508E-4FCE-94DF-C47441E0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FF724-C078-43B9-8307-D23F234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939F5-5BEE-40FF-A07E-12D1A7BE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86B-FE5E-41C0-BA64-3F969C0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08DA6-2643-472B-B91D-57CAC013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58E63-E6AF-45DF-A2EE-02F78328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7B090-CB52-458C-8F2E-47F1E6E6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24A83-D603-4843-B4FF-86C16EE7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F7E7F-8901-4CF6-8A47-A5CE552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68C67-98B9-4825-A1F6-FB6E4EF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5DFD1-A027-47AA-AE2C-30C7E17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97F56-CD12-4E2E-83EF-29416F75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08AEF-9024-4100-A41F-E18E4F8A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83A0F-B85F-4C31-A0D3-8C2839B1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401-4700-4359-AE2D-C65CCE63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6C26E-EB25-43F4-BA0D-ED66379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5369-5BCE-4424-851C-6B7F48F5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B0183-7BED-4D31-B822-B80CA55D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10D9F-0862-45F4-8552-4B1ABD12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E8F8-AF35-4C7A-9DED-790D9139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CB871-E4FC-4A9F-9CF6-E30EF001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E190F-DE1C-4E5B-9B77-A3D27A5F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6C335-A64A-465D-A8BB-D69E7AB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DBC1-475C-47E6-B5D2-B2BEEAE2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3D21-34E8-405B-8D83-7F93E00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96B-12D1-4FCF-A341-FDE84C8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7B61A-5049-4A5A-9F82-53AE97F9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EBE6-FEC7-4893-9006-B061CD19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5B345-5202-441A-8864-9689BE3D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24EE3-3643-4A64-A1ED-AFEE050D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C880E-7C19-404C-A606-9541D489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A1529-B826-49C2-BC74-9AFA10B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55E1F-652E-468A-AB76-B8290072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6DBF4-89F6-43A3-9C63-8DBB8AB0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5788A-5D2B-4547-BFC5-ECFFD41B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61B31-084D-4E24-A5A0-FED9DC60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E3D-94BF-4ED3-BB68-D6CEA62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539AB-FF8B-44F0-A420-69DAF93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775B74-8EB9-47B7-B656-36D8BAFF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B1E08-1DD0-4A91-AD0B-7AA35758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85267-ACD9-4968-A2E6-8AE73415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85C86-A4AA-41F6-AA66-F1DE438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89FF2-1593-4A28-8AD1-5F14327F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E43C2-7C66-4FE4-BE71-C2D1D8B5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7927C-CF52-4BDC-BC07-8955AEC0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44DE-6E26-4648-B2DA-11E0EEE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C3AB-F0AD-47FC-B2F5-E0576D01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F06-3DE1-4708-9D18-ED7148E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CF4FD-6C3B-4FF5-9385-603BBB09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293BF-3ED9-46B0-8A3B-235855C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03C3-333C-409F-B882-3CE24D1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748F4-1057-4B38-A772-C893029C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95DAC-EB73-44BC-B3BE-AF61BA6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B7CA2-5DF4-480C-B835-46DC338B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A796D-3933-45AD-94BD-1A8E4EBA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6DCC-28AE-4426-AB4A-478C0832564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c5d1d7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950A-80B0-4E40-AB0F-E8B153E39E5A}" type="slidenum">
              <a:rPr b="1" lang="ru-RU" sz="1400" spc="-1" strike="noStrike">
                <a:solidFill>
                  <a:srgbClr val="c5d1d7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A9E9-3E8E-4971-98C0-6C374F473B38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380D-AD36-4049-81E2-1F345509BE8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624-9728-461A-A00B-B219F5FDB06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4682-E745-4E13-9CEE-C24102AFD5DF}" type="slidenum">
              <a:rPr b="1" lang="ru-RU" sz="14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5F3-841C-49B7-BD5E-34F969B392E7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793F-C09A-4D41-A3F6-321E3B4E22C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artnn.ru/2007/10/23/tsenyi-na-produktyi-pitaniya-vzlet-bez-padeniya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3000240"/>
            <a:ext cx="9144000" cy="28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5d1d7"/>
                </a:solidFill>
                <a:latin typeface="Calibri"/>
              </a:rPr>
              <a:t>ПОЛЕЗНЫ</a:t>
            </a:r>
            <a:r>
              <a:rPr b="0" lang="ru-RU" sz="8800" spc="-1" strike="noStrike">
                <a:solidFill>
                  <a:srgbClr val="c5d1d7"/>
                </a:solidFill>
                <a:latin typeface="Calibri"/>
              </a:rPr>
              <a:t>Е </a:t>
            </a:r>
            <a:r>
              <a:rPr b="0" lang="ru-RU" sz="5400" spc="-1" strike="noStrike">
                <a:solidFill>
                  <a:srgbClr val="c5d1d7"/>
                </a:solidFill>
                <a:latin typeface="Calibri"/>
              </a:rPr>
              <a:t>ИЛИ ОПАСНЫ</a:t>
            </a:r>
            <a:r>
              <a:rPr b="0" lang="ru-RU" sz="8000" spc="-1" strike="noStrike">
                <a:solidFill>
                  <a:srgbClr val="c5d1d7"/>
                </a:solidFill>
                <a:latin typeface="Calibri"/>
              </a:rPr>
              <a:t>Е</a:t>
            </a:r>
            <a:endParaRPr b="0" lang="en-US" sz="8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499760" y="54864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ди с повышенной восприимчивостью к некоторым пищевым добавкам, приходя в магазин, должны внимательно просматривать состав продуктов 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4" name="Рисунок 6" descr="кола.jpg"/>
          <p:cNvPicPr/>
          <p:nvPr/>
        </p:nvPicPr>
        <p:blipFill>
          <a:blip r:embed="rId1"/>
          <a:srcRect l="0" t="13201" r="0" b="13201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599840" y="54864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ди с повышенной восприимчивостью к некоторым пищевым добавкам, приходя в магазин, должны внимательно просматривать состав продуктов 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Рисунок 4" descr="чипсы.jpg"/>
          <p:cNvPicPr/>
          <p:nvPr/>
        </p:nvPicPr>
        <p:blipFill>
          <a:blip r:embed="rId1"/>
          <a:srcRect l="0" t="14436" r="0" b="14436"/>
          <a:stretch/>
        </p:blipFill>
        <p:spPr>
          <a:xfrm>
            <a:off x="1571760" y="0"/>
            <a:ext cx="7572240" cy="456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14200" y="1752120"/>
            <a:ext cx="485784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ля большинства людей потребление продуктов питания, в состав которых входят пищевые добавки, не представляет никакой опас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ишь немногие ингредиенты Е могут быть потенциально опасными для людей с хроническими заболева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Содержимое 9" descr="пища1.jpg"/>
          <p:cNvPicPr/>
          <p:nvPr/>
        </p:nvPicPr>
        <p:blipFill>
          <a:blip r:embed="rId1"/>
          <a:stretch/>
        </p:blipFill>
        <p:spPr>
          <a:xfrm>
            <a:off x="5429160" y="278604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2560" y="1571400"/>
            <a:ext cx="4786200" cy="514332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ногие из пищевых добавок имеют природное происхождение и содержатся в натуральных продуктах питания, не подвергавшихся технологической обработке. Например, в список пищевых добавок входят: аскорбиновая кислота Е-300 (витамин С, содержится в значительных количествах в продуктах растительного происхождения – листовых овощах, фруктах, ягодах), молочная кислота Е-281 (содержится в кисломолочных продуктах, квашеной капусте), пектины Е-440 (полисахариды, содержащиеся в изобилии во фруктах, ягодах, корнеплод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Содержимое 4" descr="пища2.jpg"/>
          <p:cNvPicPr/>
          <p:nvPr/>
        </p:nvPicPr>
        <p:blipFill>
          <a:blip r:embed="rId1"/>
          <a:stretch/>
        </p:blipFill>
        <p:spPr>
          <a:xfrm>
            <a:off x="5072040" y="2857680"/>
            <a:ext cx="3817800" cy="337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86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Информация о пищевых добавках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599840"/>
            <a:ext cx="8174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ципиально избегать продуктов, в состав которых входят пищевые добавки, не стоит.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нформация о пищевых добавках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одержащаяся на упаковках продуктов питания, должна расцениваться как забота производителя о потребител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ностью избавиться от пищевых добавок Е в наше время невозможно, ведь без них современная пищевая промышленность просто немысли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31b54"/>
                </a:solidFill>
                <a:latin typeface="바탕"/>
                <a:ea typeface="바탕"/>
              </a:rPr>
              <a:t>Будьте здоровы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уководитель проекта: Капранова И.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ащиеся 10 «Б» класса 2010-2011 учебный го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УСОШ №13 с УИОП Воронеж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д проектом работали:</a:t>
            </a:r>
            <a:endParaRPr b="0" lang="en-US" sz="28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400" name="Picture 5" descr="C:\Users\рет\Pictures\SAM_0310.JPG"/>
          <p:cNvPicPr/>
          <p:nvPr/>
        </p:nvPicPr>
        <p:blipFill>
          <a:blip r:embed="rId1"/>
          <a:srcRect l="0" t="9833" r="0" b="9833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46b86"/>
                </a:solidFill>
                <a:uFillTx/>
                <a:latin typeface="Calibri"/>
              </a:rPr>
              <a:t>Пищевые добавки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535788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ходя в магазин, мы постоянно сталкиваемся с продуктами питания, в состав которых входят различные пищевые добавки “Е”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ищевые добавки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(англ. food additives) - это химические или природные вещества, призванные улучшать вкус, цвет, запах и срок хранения продуктов питания. Список ингредиентов “Е” введен в 1953 году, когда в Европе было принято не писать на упаковках продуктов питания полные названия пищевых добавок, а ставить к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Содержимое 6" descr="добавки е.jpg"/>
          <p:cNvPicPr/>
          <p:nvPr/>
        </p:nvPicPr>
        <p:blipFill>
          <a:blip r:embed="rId1"/>
          <a:stretch/>
        </p:blipFill>
        <p:spPr>
          <a:xfrm>
            <a:off x="5715000" y="2357280"/>
            <a:ext cx="3429000" cy="326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500" autoRev="1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0" autoRev="1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0" autoRev="1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0517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Calibri"/>
              </a:rPr>
              <a:t>Пищевые добавки с кодом ”Е</a:t>
            </a:r>
            <a:endParaRPr b="0" lang="en-US" sz="2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бывшем СССР эта система была узаконена в 1978 г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йчас в соответствии с законом РФ ”О защите прав потребителей” на упаковках продуктов питания должны быть указаны все содержащиеся в них пищевые добавки с помощью кодиров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46b86"/>
                </a:solidFill>
                <a:latin typeface="Calibri"/>
              </a:rPr>
              <a:t>Классификация пищевых добавок E</a:t>
            </a: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4214880" cy="50004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с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ищевые добавки E можно классифицировать на две группы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Первая группа обозначается символом “Е” с трехзначным цифровым кодом (например, E-300 - аскорбиновая кислота, на англ. “ascorbic acid”, или витамин C). При этом первая цифра этого кода указывает на технологическое назначение пищевой доба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Содержимое 4" descr="v_dobavki.jpg"/>
          <p:cNvPicPr/>
          <p:nvPr/>
        </p:nvPicPr>
        <p:blipFill>
          <a:blip r:embed="rId1"/>
          <a:stretch/>
        </p:blipFill>
        <p:spPr>
          <a:xfrm>
            <a:off x="4643280" y="1785960"/>
            <a:ext cx="43722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5480" y="1752120"/>
            <a:ext cx="600084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торая группа пищевых добавок обозначается символом “Е” с четырехзначным цифровым кодом (например, E1105 - консервант лизоцим, на англ. lysozyme). К этой группе относятся пищевые добавки на основе ферментов: эмульгаторы, уплотнители, стабилизаторы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Содержимое 4" descr="анимация7.gif"/>
          <p:cNvPicPr/>
          <p:nvPr/>
        </p:nvPicPr>
        <p:blipFill>
          <a:blip r:embed="rId1"/>
          <a:stretch/>
        </p:blipFill>
        <p:spPr>
          <a:xfrm>
            <a:off x="6429240" y="4071960"/>
            <a:ext cx="214164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Список пищевых добавок Е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371" name="Текст 3" descr=""/>
          <p:cNvPicPr/>
          <p:nvPr/>
        </p:nvPicPr>
        <p:blipFill>
          <a:blip r:embed="rId1"/>
          <a:stretch/>
        </p:blipFill>
        <p:spPr>
          <a:xfrm>
            <a:off x="165240" y="1616040"/>
            <a:ext cx="6864120" cy="529740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4" descr="еда.gif"/>
          <p:cNvPicPr/>
          <p:nvPr/>
        </p:nvPicPr>
        <p:blipFill>
          <a:blip r:embed="rId2"/>
          <a:stretch/>
        </p:blipFill>
        <p:spPr>
          <a:xfrm>
            <a:off x="7000920" y="3786120"/>
            <a:ext cx="18572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Вредны ли пищевые добавки?..</a:t>
            </a:r>
            <a:br>
              <a:rPr sz="4400"/>
            </a:b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2560" y="1571400"/>
            <a:ext cx="4500360" cy="514332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 пищевые добавки, разрабатываемые микробиологами, проходят многочисленные тесты на токсичность и аллерг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только в том случае, если пищевые добавки по результатам экспериментов оказываются безвредными, их регистрируют и рекомендуют к широкому применению. В редких случаях при злоупотреблении </a:t>
            </a:r>
            <a:r>
              <a:rPr b="0" lang="ru-RU" sz="2000" spc="-1" strike="noStrike" u="sng">
                <a:solidFill>
                  <a:srgbClr val="00a3d6"/>
                </a:solidFill>
                <a:uFillTx/>
                <a:latin typeface="Calibri"/>
                <a:hlinkClick r:id="rId1"/>
              </a:rPr>
              <a:t>продуктами пит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одержащими пищевые добавки, могут возникать побочные я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Содержимое 6" descr="еда.jpg"/>
          <p:cNvPicPr/>
          <p:nvPr/>
        </p:nvPicPr>
        <p:blipFill>
          <a:blip r:embed="rId2"/>
          <a:stretch/>
        </p:blipFill>
        <p:spPr>
          <a:xfrm>
            <a:off x="4776840" y="2714760"/>
            <a:ext cx="4233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2920" y="1752120"/>
            <a:ext cx="5286240" cy="489132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Расстройство пищеварения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огут вызвать Е-338-Е-341, Е-407, Е-450, Е-461, Е-463, Е-465, Е-46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-320 — Е-233 не рекомендуются людям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 кожными заболеваниям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Людям с заболеваниями печени и почек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 рекомендуются Е-171 — Е-173, Е-220, Е-302, Е-320 — Е-332, Е-510, Е-51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Содержимое 4" descr="добавки орбит.jpg"/>
          <p:cNvPicPr/>
          <p:nvPr/>
        </p:nvPicPr>
        <p:blipFill>
          <a:blip r:embed="rId1"/>
          <a:stretch/>
        </p:blipFill>
        <p:spPr>
          <a:xfrm>
            <a:off x="5572080" y="1785960"/>
            <a:ext cx="3141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2560" y="1752120"/>
            <a:ext cx="435780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Аллергикам не рекомендуется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отребление продуктов питания, содержащих Е-131, Е-132, Е-160b, Е-210, Е-214, Е-217, Е-230, Е-231, Е-232, Е-239, Е-311, Е-312, Е-313, Е-95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Нежелательны для маленьких детей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ищевые добавки: Е-249, Е-262, Е-310 — Е-312, Е-320, Е-514, Е-623, Е-626 — Е-63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Содержимое 4" descr="добавки дети.jpg"/>
          <p:cNvPicPr/>
          <p:nvPr/>
        </p:nvPicPr>
        <p:blipFill>
          <a:blip r:embed="rId1"/>
          <a:stretch/>
        </p:blipFill>
        <p:spPr>
          <a:xfrm>
            <a:off x="4572000" y="3214800"/>
            <a:ext cx="43941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22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23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6:40:56Z</dcterms:created>
  <dc:creator>рет</dc:creator>
  <dc:description/>
  <dc:language>en-US</dc:language>
  <cp:lastModifiedBy>рет</cp:lastModifiedBy>
  <dcterms:modified xsi:type="dcterms:W3CDTF">2011-06-27T03:55:29Z</dcterms:modified>
  <cp:revision>13</cp:revision>
  <dc:subject/>
  <dc:title>полезныЕ или опасныЕ</dc:title>
</cp:coreProperties>
</file>