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4.jpeg" ContentType="image/jpeg"/>
  <Override PartName="/ppt/media/image5.gif" ContentType="image/gif"/>
  <Override PartName="/ppt/media/image6.png" ContentType="image/png"/>
  <Override PartName="/ppt/media/image12.jpeg" ContentType="image/jpeg"/>
  <Override PartName="/ppt/media/image7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74C4-9489-4DD1-82DB-000520E2B1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2AB8-02DD-44C1-BA42-2D163A3C63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FCFF-D439-4ECC-A435-0E0C07CD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453B-3930-48BC-99CA-0E1182BA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BAB1-D38F-4A1F-B831-D8977881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1051-3E34-4146-85D6-9276CBAC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E276-5AFB-4638-8FB8-0EB69938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4107-20B9-4A39-ABDB-CD55ACA9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CAD6-5B2A-4FFD-9BF6-264C9B8D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5F55-EB18-4EBE-95A4-45EE2FA9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C8C7-6682-42BD-9D23-C1603632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5F59-0AA0-4F19-A6E9-F5E7BA1F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9DEF-C699-476A-AB04-F5FC8A10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183A-E69A-4A49-8F63-522703C2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6744-BE44-4E6D-B703-0293B5DD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B780-E086-4365-A3A7-E4FA1BC5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81E1-1ACD-4D82-974D-20136032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40BB-553C-4AAD-BA16-BCDE86D8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36D3-4C26-46D6-A10E-644A6F4C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812552-BB83-4146-824F-2B8C28D7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9D32CB-CBA1-4A35-806D-C6054059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25589D-BB11-4C2E-B92A-0F7D1AD2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860833-6CE7-4990-BB24-067F7E88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7A8BD-4DB8-457C-B839-76FBA7D2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5EC2-624C-4EAE-AF83-46BCBDA1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1F823C-65B1-46D5-84BF-F2970986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2F1A6B-82E5-40C3-A431-F92348E7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D04529-71FC-4BEC-A75B-B6113C91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2ACF1-447A-4956-A4DE-EDDDBBD5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CA8A9A-D41F-4713-BFE3-DFDD6EAA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BB7D4A-1F3D-4985-B1F1-D040254A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285467-58D9-4F13-A24B-BFA963962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03ACEA-04E8-4789-B72D-00D22432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586B25-348E-44DC-967B-316E55FA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478B1E-D719-4E6E-A17C-7C9132A4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F8AC-6E47-45E5-8BED-E91F35C2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5F53DE-9332-40AB-87C0-C6B0C561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7D1AC6-A22F-4177-82D7-4293B619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8347F7-E51E-4FBD-9E91-7AE5A94F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800F36-72D2-43D9-B36F-5DDAF04B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817CFB-AEEE-4B79-8D06-D3219A81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A02158-2EA6-4E7E-9756-4359E978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0A8645-BE12-4DFD-A830-2BF5184C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54A888-0319-41B9-8837-BEE31A65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5F464E-F73D-4E72-B781-52B08830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2D18E3-9540-4EB9-B56C-30B3C64F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88F5-6F09-41CF-8A11-0936CF60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CBBDDB-AD57-43AF-A095-9076A0BC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F5E928-FF64-42DD-B0ED-72410C82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51A186-23E0-4D20-967E-2435E18A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AF68B6-B9AE-4DEB-9221-84337EF7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B5B399-3119-41A6-BE7C-D9164F61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CCAFEB-B619-490A-B747-24B18A3A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8A9B11-5ED2-4624-8663-89E81581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5D65C3-1EF2-48F9-A935-062DC570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B7E5C5-2D66-47B3-B35B-954C55DE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549770-F65C-435B-8A52-E9D4BE32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91D7-9291-4AAF-8D5C-644E1540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A25D93-3D26-44A0-9843-C2D40E46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96A0A-963F-42EA-9B47-F0D27981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3DB64-578F-481C-85AE-891B4BB9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B9665-7AB5-48D5-8275-E01FB6BF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88497-61AB-476C-8298-D60F954D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80738-6E01-4A21-AF7B-667EBDF9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DA243-D182-483D-80EE-F05D63DB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D22D2-4FBF-442B-AB15-8344FE8D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4C279-8757-4AA7-89A6-E1AB507B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4FC54-2D2F-47E1-8616-A1C7B9BA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FE93-AD8C-40E2-A4B8-56682013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761B2-9BBB-4385-8E04-623ED6CB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1C341-CC6B-4BF6-9793-94DD6C7B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7A63E-ADE8-403C-9937-03076DCF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01DD32-6870-4FA9-A9B1-2CE1A3B2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722B7C-57ED-473B-B9E2-15559C6F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D9BBE8-2505-4BB5-A2DB-99CCBEE7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51664E-736B-44EF-A11E-D567A2E2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B189C5-3438-4306-A315-46E17B49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D9BD9B-6F14-4C75-B7AE-04F5F2A6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4DD8E2-9584-45E7-8949-77572E22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B56-8FD0-46BC-A73C-D0B9931C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0CD5E3-1AE3-45D2-8E59-1BCEE9BD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150D8E-5C4B-4C3F-A1F2-14163E43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03E40C-6768-4310-99CE-48290322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CA60BB-E42A-4A7E-8466-A28AD070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87360D-9268-4F89-9F1B-CEA32C3B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628FC-CECF-4C8A-BFFC-60B874CD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EE9BD-B834-4C25-95D7-468F7C3E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8D04D-62AB-43DE-8598-2E18AD12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5B19E-20A6-49A3-8674-A7AAF085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03446-C787-4384-AA5D-E1813AF3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D6E5-3FFF-4DEF-BB9D-51286B93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759FF-4B2F-4FED-9ADB-5885266A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14B0D-1E0D-4CEC-827A-C4024E58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1BE66-A1A7-424E-8286-3F5486D0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80B9E-A83E-4AE3-ADBF-C77C8FB4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266B8-A54A-4ECD-95F0-D84E7779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8E104-C739-4A87-81E3-C9D74552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54879-0F44-4553-ABE1-BDA870A4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4611-5D7C-4EC0-9AA9-6414A30ADEC8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c5d1d7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C0E0-EACB-4F46-A2B4-21E06B2FC324}" type="slidenum">
              <a:rPr b="1" lang="ru-RU" sz="1400" spc="-1" strike="noStrike">
                <a:solidFill>
                  <a:srgbClr val="c5d1d7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046A-1AA4-497A-A469-2797601DF450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6CC9-A9AB-4648-A791-E96E51A7E97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02FB-EA78-44DA-ACE9-BE4E63FB5607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646b8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66AA-4757-4044-A25A-74455307D75E}" type="slidenum">
              <a:rPr b="1" lang="ru-RU" sz="1400" spc="-1" strike="noStrike">
                <a:solidFill>
                  <a:srgbClr val="646b8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FA8D-58A9-4969-A902-6DF228BA372A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8A2B-0FC2-4B66-B6EC-31E33AA4DE9F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log.artnn.ru/2007/10/23/tsenyi-na-produktyi-pitaniya-vzlet-bez-padeniya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3000240"/>
            <a:ext cx="9144000" cy="28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5d1d7"/>
                </a:solidFill>
                <a:latin typeface="Calibri"/>
              </a:rPr>
              <a:t>ПОЛЕЗНЫ</a:t>
            </a:r>
            <a:r>
              <a:rPr b="0" lang="ru-RU" sz="8800" spc="-1" strike="noStrike">
                <a:solidFill>
                  <a:srgbClr val="c5d1d7"/>
                </a:solidFill>
                <a:latin typeface="Calibri"/>
              </a:rPr>
              <a:t>Е </a:t>
            </a:r>
            <a:r>
              <a:rPr b="0" lang="ru-RU" sz="5400" spc="-1" strike="noStrike">
                <a:solidFill>
                  <a:srgbClr val="c5d1d7"/>
                </a:solidFill>
                <a:latin typeface="Calibri"/>
              </a:rPr>
              <a:t>ИЛИ ОПАСНЫ</a:t>
            </a:r>
            <a:r>
              <a:rPr b="0" lang="ru-RU" sz="8000" spc="-1" strike="noStrike">
                <a:solidFill>
                  <a:srgbClr val="c5d1d7"/>
                </a:solidFill>
                <a:latin typeface="Calibri"/>
              </a:rPr>
              <a:t>Е</a:t>
            </a:r>
            <a:endParaRPr b="0" lang="en-US" sz="8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499760" y="5486400"/>
            <a:ext cx="7643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юди с повышенной восприимчивостью к некоторым пищевым добавкам, приходя в магазин, должны внимательно просматривать состав продуктов пит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4" name="Рисунок 6" descr="кола.jpg"/>
          <p:cNvPicPr/>
          <p:nvPr/>
        </p:nvPicPr>
        <p:blipFill>
          <a:blip r:embed="rId1"/>
          <a:srcRect l="0" t="13201" r="0" b="13201"/>
          <a:stretch/>
        </p:blipFill>
        <p:spPr>
          <a:xfrm>
            <a:off x="1560600" y="0"/>
            <a:ext cx="7583400" cy="4568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1599840" y="54864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юди с повышенной восприимчивостью к некоторым пищевым добавкам, приходя в магазин, должны внимательно просматривать состав продуктов пит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7" name="Рисунок 4" descr="чипсы.jpg"/>
          <p:cNvPicPr/>
          <p:nvPr/>
        </p:nvPicPr>
        <p:blipFill>
          <a:blip r:embed="rId1"/>
          <a:srcRect l="0" t="14436" r="0" b="14436"/>
          <a:stretch/>
        </p:blipFill>
        <p:spPr>
          <a:xfrm>
            <a:off x="1571760" y="0"/>
            <a:ext cx="7572240" cy="4562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14200" y="1752120"/>
            <a:ext cx="4857840" cy="4962600"/>
          </a:xfrm>
          <a:prstGeom prst="rect">
            <a:avLst/>
          </a:prstGeom>
          <a:solidFill>
            <a:srgbClr val="ccb400"/>
          </a:solidFill>
          <a:ln cap="sq" w="50760">
            <a:solidFill>
              <a:srgbClr val="ccb400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ля большинства людей потребление продуктов питания, в состав которых входят пищевые добавки, не представляет никакой опас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Лишь немногие ингредиенты Е могут быть потенциально опасными для людей с хроническими заболева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Содержимое 9" descr="пища1.jpg"/>
          <p:cNvPicPr/>
          <p:nvPr/>
        </p:nvPicPr>
        <p:blipFill>
          <a:blip r:embed="rId1"/>
          <a:stretch/>
        </p:blipFill>
        <p:spPr>
          <a:xfrm>
            <a:off x="5429160" y="2786040"/>
            <a:ext cx="357192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2560" y="1571400"/>
            <a:ext cx="4786200" cy="5143320"/>
          </a:xfrm>
          <a:prstGeom prst="rect">
            <a:avLst/>
          </a:prstGeom>
          <a:solidFill>
            <a:srgbClr val="ccb400"/>
          </a:solidFill>
          <a:ln cap="sq" w="50760">
            <a:solidFill>
              <a:srgbClr val="ccb400"/>
            </a:solidFill>
            <a:miter/>
          </a:ln>
        </p:spPr>
        <p:txBody>
          <a:bodyPr lIns="137160" rIns="137160" tIns="182880" bIns="91440" anchor="t">
            <a:normAutofit fontScale="99000"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ногие из пищевых добавок имеют природное происхождение и содержатся в натуральных продуктах питания, не подвергавшихся технологической обработке. Например, в список пищевых добавок входят: аскорбиновая кислота Е-300 (витамин С, содержится в значительных количествах в продуктах растительного происхождения – листовых овощах, фруктах, ягодах), молочная кислота Е-281 (содержится в кисломолочных продуктах, квашеной капусте), пектины Е-440 (полисахариды, содержащиеся в изобилии во фруктах, ягодах, корнеплодах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Содержимое 4" descr="пища2.jpg"/>
          <p:cNvPicPr/>
          <p:nvPr/>
        </p:nvPicPr>
        <p:blipFill>
          <a:blip r:embed="rId1"/>
          <a:stretch/>
        </p:blipFill>
        <p:spPr>
          <a:xfrm>
            <a:off x="5072040" y="2857680"/>
            <a:ext cx="3817800" cy="3373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4200" y="228600"/>
            <a:ext cx="8786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46b86"/>
                </a:solidFill>
                <a:latin typeface="Calibri"/>
              </a:rPr>
              <a:t>Информация о пищевых добавках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599840"/>
            <a:ext cx="81741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нципиально избегать продуктов, в состав которых входят пищевые добавки, не стоит.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Информация о пищевых добавках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 содержащаяся на упаковках продуктов питания, должна расцениваться как забота производителя о потребителе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лностью избавиться от пищевых добавок Е в наше время невозможно, ведь без них современная пищевая промышленность просто немыслим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31b54"/>
                </a:solidFill>
                <a:latin typeface="바탕"/>
                <a:ea typeface="바탕"/>
              </a:rPr>
              <a:t>Будьте здоровы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b400"/>
                                      </p:to>
                                    </p:animClr>
                                    <p:animClr clrSpc="rgb">
                                      <p:cBhvr>
                                        <p:cTn id="6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b400"/>
                                      </p:to>
                                    </p:animClr>
                                    <p:set>
                                      <p:cBhvr>
                                        <p:cTn id="65" dur="3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уководитель проекта: Капранова И.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чащиеся 10 «Б» класса 2010-2011 учебный год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ОУСОШ №13 с УИОП Воронеж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ад проектом работали:</a:t>
            </a:r>
            <a:endParaRPr b="0" lang="en-US" sz="2800" spc="-1" strike="noStrike">
              <a:solidFill>
                <a:srgbClr val="646b86"/>
              </a:solidFill>
              <a:latin typeface="Calibri"/>
            </a:endParaRPr>
          </a:p>
        </p:txBody>
      </p:sp>
      <p:pic>
        <p:nvPicPr>
          <p:cNvPr id="400" name="Picture 5" descr="C:\Users\рет\Pictures\SAM_0310.JPG"/>
          <p:cNvPicPr/>
          <p:nvPr/>
        </p:nvPicPr>
        <p:blipFill>
          <a:blip r:embed="rId1"/>
          <a:srcRect l="0" t="9833" r="0" b="9833"/>
          <a:stretch/>
        </p:blipFill>
        <p:spPr>
          <a:xfrm>
            <a:off x="1560600" y="0"/>
            <a:ext cx="7583400" cy="4568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646b86"/>
                </a:solidFill>
                <a:uFillTx/>
                <a:latin typeface="Calibri"/>
              </a:rPr>
              <a:t>Пищевые добавки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13840" y="1752120"/>
            <a:ext cx="5357880" cy="4962600"/>
          </a:xfrm>
          <a:prstGeom prst="rect">
            <a:avLst/>
          </a:prstGeom>
          <a:solidFill>
            <a:srgbClr val="ccb400"/>
          </a:solidFill>
          <a:ln cap="sq" w="50760">
            <a:solidFill>
              <a:srgbClr val="ccb400"/>
            </a:solidFill>
            <a:miter/>
          </a:ln>
        </p:spPr>
        <p:txBody>
          <a:bodyPr lIns="137160" rIns="137160" tIns="182880" bIns="91440" anchor="t">
            <a:normAutofit fontScale="99000"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иходя в магазин, мы постоянно сталкиваемся с продуктами питания, в состав которых входят различные пищевые добавки “Е”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Пищевые добавки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(англ. food additives) - это химические или природные вещества, призванные улучшать вкус, цвет, запах и срок хранения продуктов питания. Список ингредиентов “Е” введен в 1953 году, когда в Европе было принято не писать на упаковках продуктов питания полные названия пищевых добавок, а ставить ко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Содержимое 6" descr="добавки е.jpg"/>
          <p:cNvPicPr/>
          <p:nvPr/>
        </p:nvPicPr>
        <p:blipFill>
          <a:blip r:embed="rId1"/>
          <a:stretch/>
        </p:blipFill>
        <p:spPr>
          <a:xfrm>
            <a:off x="5715000" y="2357280"/>
            <a:ext cx="3429000" cy="3264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b400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b400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2500" autoRev="1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" dur="2500" autoRev="1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" dur="2500" autoRev="1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051760" cy="10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46b86"/>
                </a:solidFill>
                <a:latin typeface="Calibri"/>
              </a:rPr>
              <a:t>Пищевые добавки с кодом ”Е</a:t>
            </a:r>
            <a:endParaRPr b="0" lang="en-US" sz="28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бывшем СССР эта система была узаконена в 1978 год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ейчас в соответствии с законом РФ ”О защите прав потребителей” на упаковках продуктов питания должны быть указаны все содержащиеся в них пищевые добавки с помощью кодирово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46b86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646b86"/>
                </a:solidFill>
                <a:latin typeface="Calibri"/>
              </a:rPr>
              <a:t>Классификация пищевых добавок E</a:t>
            </a:r>
            <a:br>
              <a:rPr sz="3600"/>
            </a:br>
            <a:endParaRPr b="0" lang="en-US" sz="3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5840" y="1714680"/>
            <a:ext cx="4214880" cy="5000400"/>
          </a:xfrm>
          <a:prstGeom prst="rect">
            <a:avLst/>
          </a:prstGeom>
          <a:solidFill>
            <a:srgbClr val="ccb400"/>
          </a:solidFill>
          <a:ln cap="sq" w="50760">
            <a:solidFill>
              <a:srgbClr val="ccb400"/>
            </a:solidFill>
            <a:miter/>
          </a:ln>
        </p:spPr>
        <p:txBody>
          <a:bodyPr lIns="137160" rIns="137160" tIns="182880" bIns="91440" anchor="t">
            <a:normAutofit fontScale="99000"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се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ищевые добавки E можно классифицировать на две группы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 Первая группа обозначается символом “Е” с трехзначным цифровым кодом (например, E-300 - аскорбиновая кислота, на англ. “ascorbic acid”, или витамин C). При этом первая цифра этого кода указывает на технологическое назначение пищевой добав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Содержимое 4" descr="v_dobavki.jpg"/>
          <p:cNvPicPr/>
          <p:nvPr/>
        </p:nvPicPr>
        <p:blipFill>
          <a:blip r:embed="rId1"/>
          <a:stretch/>
        </p:blipFill>
        <p:spPr>
          <a:xfrm>
            <a:off x="4643280" y="1785960"/>
            <a:ext cx="437220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5480" y="1752120"/>
            <a:ext cx="6000840" cy="4962600"/>
          </a:xfrm>
          <a:prstGeom prst="rect">
            <a:avLst/>
          </a:prstGeom>
          <a:solidFill>
            <a:srgbClr val="ccb400"/>
          </a:solidFill>
          <a:ln cap="sq" w="50760">
            <a:solidFill>
              <a:srgbClr val="ccb400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торая группа пищевых добавок обозначается символом “Е” с четырехзначным цифровым кодом (например, E1105 - консервант лизоцим, на англ. lysozyme). К этой группе относятся пищевые добавки на основе ферментов: эмульгаторы, уплотнители, стабилизаторы и друг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Содержимое 4" descr="анимация7.gif"/>
          <p:cNvPicPr/>
          <p:nvPr/>
        </p:nvPicPr>
        <p:blipFill>
          <a:blip r:embed="rId1"/>
          <a:stretch/>
        </p:blipFill>
        <p:spPr>
          <a:xfrm>
            <a:off x="6429240" y="4071960"/>
            <a:ext cx="2141640" cy="221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46b86"/>
                </a:solidFill>
                <a:latin typeface="Calibri"/>
              </a:rPr>
              <a:t>Список пищевых добавок Е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pic>
        <p:nvPicPr>
          <p:cNvPr id="371" name="Текст 3" descr=""/>
          <p:cNvPicPr/>
          <p:nvPr/>
        </p:nvPicPr>
        <p:blipFill>
          <a:blip r:embed="rId1"/>
          <a:stretch/>
        </p:blipFill>
        <p:spPr>
          <a:xfrm>
            <a:off x="165240" y="1616040"/>
            <a:ext cx="6864120" cy="5297400"/>
          </a:xfrm>
          <a:prstGeom prst="rect">
            <a:avLst/>
          </a:prstGeom>
          <a:ln w="0">
            <a:noFill/>
          </a:ln>
        </p:spPr>
      </p:pic>
      <p:pic>
        <p:nvPicPr>
          <p:cNvPr id="372" name="Содержимое 4" descr="еда.gif"/>
          <p:cNvPicPr/>
          <p:nvPr/>
        </p:nvPicPr>
        <p:blipFill>
          <a:blip r:embed="rId2"/>
          <a:stretch/>
        </p:blipFill>
        <p:spPr>
          <a:xfrm>
            <a:off x="7000920" y="3786120"/>
            <a:ext cx="185724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46b86"/>
                </a:solidFill>
                <a:latin typeface="Calibri"/>
              </a:rPr>
              <a:t>Вредны ли пищевые добавки?..</a:t>
            </a:r>
            <a:br>
              <a:rPr sz="4400"/>
            </a:b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2560" y="1571400"/>
            <a:ext cx="4500360" cy="5143320"/>
          </a:xfrm>
          <a:prstGeom prst="rect">
            <a:avLst/>
          </a:prstGeom>
          <a:solidFill>
            <a:srgbClr val="ccb400"/>
          </a:solidFill>
          <a:ln cap="sq" w="50760">
            <a:solidFill>
              <a:srgbClr val="ccb400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се пищевые добавки, разрабатываемые микробиологами, проходят многочисленные тесты на токсичность и аллерген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 только в том случае, если пищевые добавки по результатам экспериментов оказываются безвредными, их регистрируют и рекомендуют к широкому применению. В редких случаях при злоупотреблении </a:t>
            </a:r>
            <a:r>
              <a:rPr b="0" lang="ru-RU" sz="2000" spc="-1" strike="noStrike" u="sng">
                <a:solidFill>
                  <a:srgbClr val="00a3d6"/>
                </a:solidFill>
                <a:uFillTx/>
                <a:latin typeface="Calibri"/>
                <a:hlinkClick r:id="rId1"/>
              </a:rPr>
              <a:t>продуктами питан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содержащими пищевые добавки, могут возникать побочные явл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Содержимое 6" descr="еда.jpg"/>
          <p:cNvPicPr/>
          <p:nvPr/>
        </p:nvPicPr>
        <p:blipFill>
          <a:blip r:embed="rId2"/>
          <a:stretch/>
        </p:blipFill>
        <p:spPr>
          <a:xfrm>
            <a:off x="4776840" y="2714760"/>
            <a:ext cx="423396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2920" y="1752120"/>
            <a:ext cx="5286240" cy="4891320"/>
          </a:xfrm>
          <a:prstGeom prst="rect">
            <a:avLst/>
          </a:prstGeom>
          <a:solidFill>
            <a:srgbClr val="ccb400"/>
          </a:solidFill>
          <a:ln cap="sq" w="50760">
            <a:solidFill>
              <a:srgbClr val="ccb400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Расстройство пищеварения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огут вызвать Е-338-Е-341, Е-407, Е-450, Е-461, Е-463, Е-465, Е-46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Е-320 — Е-233 не рекомендуются людям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с кожными заболеваниями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Людям с заболеваниями печени и почек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е рекомендуются Е-171 — Е-173, Е-220, Е-302, Е-320 — Е-332, Е-510, Е-51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Содержимое 4" descr="добавки орбит.jpg"/>
          <p:cNvPicPr/>
          <p:nvPr/>
        </p:nvPicPr>
        <p:blipFill>
          <a:blip r:embed="rId1"/>
          <a:stretch/>
        </p:blipFill>
        <p:spPr>
          <a:xfrm>
            <a:off x="5572080" y="1785960"/>
            <a:ext cx="314172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2560" y="1752120"/>
            <a:ext cx="4357800" cy="4962600"/>
          </a:xfrm>
          <a:prstGeom prst="rect">
            <a:avLst/>
          </a:prstGeom>
          <a:solidFill>
            <a:srgbClr val="ccb400"/>
          </a:solidFill>
          <a:ln cap="sq" w="50760">
            <a:solidFill>
              <a:srgbClr val="ccb400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Аллергикам не рекомендуется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потребление продуктов питания, содержащих Е-131, Е-132, Е-160b, Е-210, Е-214, Е-217, Е-230, Е-231, Е-232, Е-239, Е-311, Е-312, Е-313, Е-95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Нежелательны для маленьких детей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ищевые добавки: Е-249, Е-262, Е-310 — Е-312, Е-320, Е-514, Е-623, Е-626 — Е-63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Содержимое 4" descr="добавки дети.jpg"/>
          <p:cNvPicPr/>
          <p:nvPr/>
        </p:nvPicPr>
        <p:blipFill>
          <a:blip r:embed="rId1"/>
          <a:stretch/>
        </p:blipFill>
        <p:spPr>
          <a:xfrm>
            <a:off x="4572000" y="3214800"/>
            <a:ext cx="4394160" cy="2928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b400"/>
                                      </p:to>
                                    </p:animClr>
                                    <p:animClr clrSpc="rgb">
                                      <p:cBhvr>
                                        <p:cTn id="22" dur="2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b400"/>
                                      </p:to>
                                    </p:animClr>
                                    <p:set>
                                      <p:cBhvr>
                                        <p:cTn id="23" dur="2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6:40:56Z</dcterms:created>
  <dc:creator>рет</dc:creator>
  <dc:description/>
  <dc:language>en-US</dc:language>
  <cp:lastModifiedBy>рет</cp:lastModifiedBy>
  <dcterms:modified xsi:type="dcterms:W3CDTF">2011-06-27T03:55:29Z</dcterms:modified>
  <cp:revision>13</cp:revision>
  <dc:subject/>
  <dc:title>полезныЕ или опасныЕ</dc:title>
</cp:coreProperties>
</file>