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6.wmf" ContentType="image/x-wmf"/>
  <Override PartName="/ppt/media/image22.wmf" ContentType="image/x-wmf"/>
  <Override PartName="/ppt/media/image21.jpeg" ContentType="image/jpeg"/>
  <Override PartName="/ppt/media/image2.wmf" ContentType="image/x-wmf"/>
  <Override PartName="/ppt/media/image6.gif" ContentType="image/gif"/>
  <Override PartName="/ppt/media/image32.wmf" ContentType="image/x-wmf"/>
  <Override PartName="/ppt/media/image36.gif" ContentType="image/gif"/>
  <Override PartName="/ppt/media/image19.wmf" ContentType="image/x-wmf"/>
  <Override PartName="/ppt/media/image10.png" ContentType="image/png"/>
  <Override PartName="/ppt/media/image5.png" ContentType="image/png"/>
  <Override PartName="/ppt/media/image28.wmf" ContentType="image/x-wmf"/>
  <Override PartName="/ppt/media/image30.png" ContentType="image/png"/>
  <Override PartName="/ppt/media/image37.jpeg" ContentType="image/jpeg"/>
  <Override PartName="/ppt/media/image29.jpeg" ContentType="image/jpeg"/>
  <Override PartName="/ppt/media/image33.wmf" ContentType="image/x-wmf"/>
  <Override PartName="/ppt/media/image13.png" ContentType="image/png"/>
  <Override PartName="/ppt/media/image20.png" ContentType="image/png"/>
  <Override PartName="/ppt/media/image8.png" ContentType="image/png"/>
  <Override PartName="/ppt/media/image12.png" ContentType="image/png"/>
  <Override PartName="/ppt/media/image34.gif" ContentType="image/gif"/>
  <Override PartName="/ppt/media/image38.gif" ContentType="image/gif"/>
  <Override PartName="/ppt/media/image4.png" ContentType="image/png"/>
  <Override PartName="/ppt/media/image3.png" ContentType="image/png"/>
  <Override PartName="/ppt/media/image17.jpeg" ContentType="image/jpeg"/>
  <Override PartName="/ppt/media/image23.gif" ContentType="image/gif"/>
  <Override PartName="/ppt/media/image25.wmf" ContentType="image/x-wmf"/>
  <Override PartName="/ppt/media/image11.png" ContentType="image/png"/>
  <Override PartName="/ppt/media/image9.jpeg" ContentType="image/jpeg"/>
  <Override PartName="/ppt/media/image7.jpeg" ContentType="image/jpeg"/>
  <Override PartName="/ppt/media/image31.wmf" ContentType="image/x-wmf"/>
  <Override PartName="/ppt/media/image35.gif" ContentType="image/gif"/>
  <Override PartName="/ppt/media/image1.wmf" ContentType="image/x-wmf"/>
  <Override PartName="/ppt/media/image24.wmf" ContentType="image/x-wmf"/>
  <Override PartName="/ppt/media/image14.gif" ContentType="image/gif"/>
  <Override PartName="/ppt/media/image39.gif" ContentType="image/gif"/>
  <Override PartName="/ppt/media/image16.jpeg" ContentType="image/jpeg"/>
  <Override PartName="/ppt/media/image18.jpeg" ContentType="image/jpeg"/>
  <Override PartName="/ppt/media/image1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84C0-F9F3-42E5-8610-11EB49023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B22E-2D09-4B58-88E1-BA589471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F4B7-E988-4D89-B0E4-C20661B95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145B-0D5B-4481-9785-680528D33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2B7F-77C4-4047-9BC2-9C023E3D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3F9E-A4B5-4E1D-BBA3-947D4990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06BF-B478-4C38-A138-A3FC2520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367A-1D05-4992-B03A-DD773FE7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6C32-B83E-424B-92EE-3CDA6D5E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6C03-1E09-4700-865F-67194E41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A914-A9AE-4571-BCDF-11A4A567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9F15-71DD-42B1-8489-B651EEDE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5D4C-9AC9-47BD-A278-67808D694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1.jpeg"/><Relationship Id="rId3" Type="http://schemas.openxmlformats.org/officeDocument/2006/relationships/image" Target="../media/image24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gi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1.jpeg"/><Relationship Id="rId3" Type="http://schemas.openxmlformats.org/officeDocument/2006/relationships/image" Target="../media/image24.wmf"/><Relationship Id="rId4" Type="http://schemas.openxmlformats.org/officeDocument/2006/relationships/image" Target="../media/image29.jpeg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gif"/><Relationship Id="rId3" Type="http://schemas.openxmlformats.org/officeDocument/2006/relationships/image" Target="../media/image35.gif"/><Relationship Id="rId4" Type="http://schemas.openxmlformats.org/officeDocument/2006/relationships/image" Target="../media/image35.gif"/><Relationship Id="rId5" Type="http://schemas.openxmlformats.org/officeDocument/2006/relationships/image" Target="../media/image34.gif"/><Relationship Id="rId6" Type="http://schemas.openxmlformats.org/officeDocument/2006/relationships/image" Target="../media/image34.gif"/><Relationship Id="rId7" Type="http://schemas.openxmlformats.org/officeDocument/2006/relationships/image" Target="../media/image36.gif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29.jpeg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39.gif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99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42920" y="1484280"/>
            <a:ext cx="71294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0099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усский язык</a:t>
            </a:r>
            <a:endParaRPr b="0" lang="en-US" sz="1800" spc="1" strike="noStrike">
              <a:ln w="19080">
                <a:solidFill>
                  <a:srgbClr val="cc0099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4360" y="5589720"/>
            <a:ext cx="777528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Учитель начальных классов</a:t>
            </a:r>
            <a:endParaRPr b="1" i="1" lang="en-US" sz="1800" spc="1" strike="noStrike">
              <a:ln w="9360">
                <a:solidFill>
                  <a:srgbClr val="663300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en-US" sz="18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Самойлова Анжелика Владимировна</a:t>
            </a:r>
            <a:endParaRPr b="1" i="1" lang="en-US" sz="1800" spc="1" strike="noStrike">
              <a:ln w="9360">
                <a:solidFill>
                  <a:srgbClr val="663300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40464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404640"/>
            <a:ext cx="6840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Monotype Corsiva"/>
              </a:rPr>
              <a:t>Муниципаль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Monotype Corsiva"/>
              </a:rPr>
              <a:t>«Средняя общеобразовательная школа №135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Monotype Corsiva"/>
              </a:rPr>
              <a:t>Г. Снежин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012000" y="4221000"/>
            <a:ext cx="208908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cc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 класс</a:t>
            </a:r>
            <a:endParaRPr b="0" i="1" lang="en-US" sz="1800" spc="1" strike="noStrike">
              <a:ln w="28440">
                <a:solidFill>
                  <a:srgbClr val="660066"/>
                </a:solidFill>
                <a:miter/>
              </a:ln>
              <a:solidFill>
                <a:srgbClr val="cc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08000" y="404640"/>
            <a:ext cx="498600" cy="64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8360" y="3429000"/>
            <a:ext cx="2371680" cy="1746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11280" y="4941720"/>
            <a:ext cx="763272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                                             </a:t>
            </a:r>
            <a:r>
              <a:rPr b="0" lang="en-US" sz="2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первые</a:t>
            </a:r>
            <a:endParaRPr b="0" lang="en-US" sz="2000" spc="1" strike="noStrike">
              <a:ln w="284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цветы.</a:t>
            </a:r>
            <a:endParaRPr b="0" lang="en-US" sz="2000" spc="1" strike="noStrike">
              <a:ln w="284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635280" y="260280"/>
            <a:ext cx="288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улетают</a:t>
            </a:r>
            <a:endParaRPr b="0" lang="en-US" sz="2000" spc="1" strike="noStrike">
              <a:ln w="284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005440" y="2781360"/>
            <a:ext cx="2374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лежит</a:t>
            </a:r>
            <a:endParaRPr b="0" lang="en-US" sz="2000" spc="1" strike="noStrike">
              <a:ln w="284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89080" y="144360"/>
            <a:ext cx="684036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Птицы                         </a:t>
            </a:r>
            <a:endParaRPr b="0" lang="en-US" sz="2000" spc="1" strike="noStrike">
              <a:ln w="284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в далёкие страны.</a:t>
            </a:r>
            <a:endParaRPr b="0" lang="en-US" sz="2000" spc="1" strike="noStrike">
              <a:ln w="284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11280" y="2665440"/>
            <a:ext cx="684036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Во дворах                 </a:t>
            </a:r>
            <a:endParaRPr b="0" lang="en-US" sz="2000" spc="1" strike="noStrike">
              <a:ln w="284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снег.</a:t>
            </a:r>
            <a:endParaRPr b="0" lang="en-US" sz="2000" spc="1" strike="noStrike">
              <a:ln w="284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24000" y="4797360"/>
            <a:ext cx="482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Распускаются</a:t>
            </a:r>
            <a:endParaRPr b="0" lang="en-US" sz="2000" spc="1" strike="noStrike">
              <a:ln w="284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268360" y="549360"/>
            <a:ext cx="5183280" cy="4222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path" presetID="1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3.12139E-006 C 0.19983 3.12139E-006 0.3625 0.10081 0.3625 0.22543 C 0.3625 0.34959 0.19983 0.45086 -1.38889E-006 0.45086 C -0.19982 0.45086 -0.36198 0.34959 -0.36198 0.22543 C -0.36198 0.10081 -0.19982 3.12139E-006 -1.38889E-006 3.12139E-006 Z">
                                      <p:cBhvr>
                                        <p:cTn id="292" dur="5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4" dur="6744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744"/>
                            </p:stCondLst>
                            <p:childTnLst>
                              <p:par>
                                <p:cTn id="2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132000" y="404640"/>
            <a:ext cx="2880000" cy="2345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635280" y="2924280"/>
            <a:ext cx="1871640" cy="1871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763280" y="3284640"/>
            <a:ext cx="5690160" cy="1152360"/>
            <a:chOff x="1763280" y="3284640"/>
            <a:chExt cx="5690160" cy="1152360"/>
          </a:xfrm>
        </p:grpSpPr>
        <p:sp>
          <p:nvSpPr>
            <p:cNvPr id="92" name=""/>
            <p:cNvSpPr/>
            <p:nvPr/>
          </p:nvSpPr>
          <p:spPr>
            <a:xfrm>
              <a:off x="5435640" y="3284640"/>
              <a:ext cx="2017800" cy="1152360"/>
            </a:xfrm>
            <a:custGeom>
              <a:avLst/>
              <a:gdLst>
                <a:gd name="textAreaLeft" fmla="*/ 252000 w 2017800"/>
                <a:gd name="textAreaRight" fmla="*/ 1765800 w 2017800"/>
                <a:gd name="textAreaTop" fmla="*/ 288000 h 1152360"/>
                <a:gd name="textAreaBottom" fmla="*/ 864360 h 11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50000">
                  <a:srgbClr val="ff8200"/>
                </a:gs>
                <a:gs pos="100000">
                  <a:srgbClr val="00008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762920" y="3284640"/>
              <a:ext cx="1979640" cy="1152360"/>
            </a:xfrm>
            <a:custGeom>
              <a:avLst/>
              <a:gdLst>
                <a:gd name="textAreaLeft" fmla="*/ 247320 w 1979640"/>
                <a:gd name="textAreaRight" fmla="*/ 1732320 w 1979640"/>
                <a:gd name="textAreaTop" fmla="*/ 288000 h 1152360"/>
                <a:gd name="textAreaBottom" fmla="*/ 864360 h 11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50000">
                  <a:srgbClr val="ff8200"/>
                </a:gs>
                <a:gs pos="100000">
                  <a:srgbClr val="00008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71280" y="2997360"/>
            <a:ext cx="1692360" cy="169200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5000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51640" y="3068640"/>
            <a:ext cx="1692360" cy="169236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5000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35280" y="2924280"/>
            <a:ext cx="1871640" cy="187164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5000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99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11280" y="549360"/>
            <a:ext cx="4608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учимся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95280" y="4797360"/>
            <a:ext cx="511344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граем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11280" y="2637000"/>
            <a:ext cx="460836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ишем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732720" y="404640"/>
            <a:ext cx="1947600" cy="1640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659640" y="2646360"/>
            <a:ext cx="1795320" cy="1677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99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95280" y="3284640"/>
            <a:ext cx="82090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чимся, отвечаем, пишем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00000" y="549360"/>
            <a:ext cx="7488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Что делаем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55640" y="5013360"/>
            <a:ext cx="7993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стоящее время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635280" y="2852640"/>
            <a:ext cx="1871640" cy="1871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35640" y="3284640"/>
            <a:ext cx="2017800" cy="1152360"/>
          </a:xfrm>
          <a:custGeom>
            <a:avLst/>
            <a:gdLst>
              <a:gd name="textAreaLeft" fmla="*/ 252000 w 2017800"/>
              <a:gd name="textAreaRight" fmla="*/ 1765800 w 2017800"/>
              <a:gd name="textAreaTop" fmla="*/ 288000 h 1152360"/>
              <a:gd name="textAreaBottom" fmla="*/ 864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762920" y="3284640"/>
            <a:ext cx="1979640" cy="1152360"/>
          </a:xfrm>
          <a:custGeom>
            <a:avLst/>
            <a:gdLst>
              <a:gd name="textAreaLeft" fmla="*/ 247320 w 1979640"/>
              <a:gd name="textAreaRight" fmla="*/ 1732320 w 1979640"/>
              <a:gd name="textAreaTop" fmla="*/ 288000 h 1152360"/>
              <a:gd name="textAreaBottom" fmla="*/ 864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105000"/>
            <a:ext cx="1692360" cy="16923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51640" y="3068640"/>
            <a:ext cx="1692360" cy="169236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5000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105000"/>
            <a:ext cx="1692360" cy="169236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5000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132000" y="404640"/>
            <a:ext cx="2880000" cy="2345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 flipH="1">
            <a:off x="2340000" y="4365720"/>
            <a:ext cx="2160720" cy="2306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99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77080" y="4508640"/>
            <a:ext cx="1690560" cy="18507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324000" y="2638440"/>
            <a:ext cx="5400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танцевали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659640" y="2565360"/>
            <a:ext cx="1589040" cy="1724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611280" y="4869000"/>
            <a:ext cx="48974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грали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95280" y="479520"/>
            <a:ext cx="5545080" cy="16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рисовали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516720" y="260280"/>
            <a:ext cx="2216160" cy="2082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99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95280" y="3284640"/>
            <a:ext cx="82090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овали, танцевали, играли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00000" y="549360"/>
            <a:ext cx="7488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Что делали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55640" y="5013360"/>
            <a:ext cx="7993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шедшее время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10076" t="4606" r="2541" b="1701"/>
          <a:stretch/>
        </p:blipFill>
        <p:spPr>
          <a:xfrm>
            <a:off x="684360" y="1052640"/>
            <a:ext cx="3838320" cy="5086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148360" y="620640"/>
            <a:ext cx="3467160" cy="7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5796000" y="1844640"/>
          <a:ext cx="2319480" cy="400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6000" y="1844640"/>
                    <a:ext cx="2319480" cy="40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3419640" y="476280"/>
            <a:ext cx="1484280" cy="1262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635280" y="2852640"/>
            <a:ext cx="1871640" cy="1871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35640" y="3284640"/>
            <a:ext cx="2017800" cy="1152360"/>
          </a:xfrm>
          <a:custGeom>
            <a:avLst/>
            <a:gdLst>
              <a:gd name="textAreaLeft" fmla="*/ 252000 w 2017800"/>
              <a:gd name="textAreaRight" fmla="*/ 1765800 w 2017800"/>
              <a:gd name="textAreaTop" fmla="*/ 288000 h 1152360"/>
              <a:gd name="textAreaBottom" fmla="*/ 864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762920" y="3284640"/>
            <a:ext cx="1979640" cy="1152360"/>
          </a:xfrm>
          <a:custGeom>
            <a:avLst/>
            <a:gdLst>
              <a:gd name="textAreaLeft" fmla="*/ 247320 w 1979640"/>
              <a:gd name="textAreaRight" fmla="*/ 1732320 w 1979640"/>
              <a:gd name="textAreaTop" fmla="*/ 288000 h 1152360"/>
              <a:gd name="textAreaBottom" fmla="*/ 864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105000"/>
            <a:ext cx="1692360" cy="16923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51640" y="2852640"/>
            <a:ext cx="1692360" cy="16923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3132000" y="404640"/>
            <a:ext cx="2880000" cy="23450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451640" y="2852640"/>
            <a:ext cx="1692360" cy="169236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5000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2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268360" y="549360"/>
            <a:ext cx="5183280" cy="4222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path" presetID="1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3.12139E-006 C 0.19983 3.12139E-006 0.3625 0.10081 0.3625 0.22543 C 0.3625 0.34959 0.19983 0.45086 -1.38889E-006 0.45086 C -0.19982 0.45086 -0.36198 0.34959 -0.36198 0.22543 C -0.36198 0.10081 -0.19982 3.12139E-006 -1.38889E-006 3.12139E-006 Z">
                                      <p:cBhvr>
                                        <p:cTn id="557" dur="5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9" dur="6744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6744"/>
                            </p:stCondLst>
                            <p:childTnLst>
                              <p:par>
                                <p:cTn id="5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99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68360" y="260280"/>
            <a:ext cx="460836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окупаемся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95280" y="4797360"/>
            <a:ext cx="4968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оиграем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2565360"/>
            <a:ext cx="5256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озагораем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310440" y="4334040"/>
            <a:ext cx="2365200" cy="2263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732720" y="189000"/>
            <a:ext cx="1481040" cy="2151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516720" y="2492280"/>
            <a:ext cx="2082600" cy="1773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99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95280" y="3357720"/>
            <a:ext cx="8569440" cy="13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купаемся, позагораем, поиграем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00000" y="549360"/>
            <a:ext cx="7488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Что сделаем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55640" y="5013360"/>
            <a:ext cx="7993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удущее время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99"/>
            </a:gs>
            <a:gs pos="100000">
              <a:srgbClr val="66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539640" y="0"/>
            <a:ext cx="7972560" cy="6543720"/>
            <a:chOff x="539640" y="0"/>
            <a:chExt cx="7972560" cy="654372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6227640" y="4581360"/>
              <a:ext cx="1779840" cy="174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2700360" y="4797360"/>
              <a:ext cx="1779480" cy="174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1258920" y="692280"/>
              <a:ext cx="1779480" cy="174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4"/>
            <a:stretch/>
          </p:blipFill>
          <p:spPr>
            <a:xfrm>
              <a:off x="6732720" y="1628640"/>
              <a:ext cx="1779480" cy="174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5"/>
            <a:stretch/>
          </p:blipFill>
          <p:spPr>
            <a:xfrm>
              <a:off x="539640" y="2924280"/>
              <a:ext cx="1779840" cy="174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6"/>
            <a:stretch/>
          </p:blipFill>
          <p:spPr>
            <a:xfrm>
              <a:off x="3924360" y="0"/>
              <a:ext cx="1779480" cy="1746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 flipH="1">
            <a:off x="2842920" y="1862280"/>
            <a:ext cx="3133800" cy="30286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5" dur="58364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ff99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539640" y="476280"/>
            <a:ext cx="5040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прошл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11280" y="4437000"/>
            <a:ext cx="5040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будущ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11280" y="2349360"/>
            <a:ext cx="5040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настоящ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732720" y="2637000"/>
            <a:ext cx="2087280" cy="1439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732720" y="4508640"/>
            <a:ext cx="2131920" cy="1407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804000" y="476280"/>
            <a:ext cx="1589040" cy="1724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99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539640" y="260280"/>
            <a:ext cx="7993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111111"/>
                </a:solidFill>
                <a:latin typeface="Impact"/>
              </a:rPr>
              <a:t>Глаголы могут </a:t>
            </a:r>
            <a:endParaRPr b="0" lang="en-US" sz="1800" spc="1" strike="noStrike">
              <a:ln w="28440">
                <a:solidFill>
                  <a:srgbClr val="ff0000"/>
                </a:solidFill>
                <a:miter/>
              </a:ln>
              <a:solidFill>
                <a:srgbClr val="111111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111111"/>
                </a:solidFill>
                <a:latin typeface="Impact"/>
              </a:rPr>
              <a:t>быть в форме</a:t>
            </a:r>
            <a:endParaRPr b="0" lang="en-US" sz="1800" spc="1" strike="noStrike">
              <a:ln w="28440">
                <a:solidFill>
                  <a:srgbClr val="ff0000"/>
                </a:solidFill>
                <a:miter/>
              </a:ln>
              <a:solidFill>
                <a:srgbClr val="111111"/>
              </a:solidFill>
              <a:latin typeface="Impact"/>
              <a:ea typeface="Impact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95280" y="2349360"/>
            <a:ext cx="4464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настоящего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79280" y="3860640"/>
            <a:ext cx="48974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прошедшего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95280" y="5157720"/>
            <a:ext cx="3816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будущего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724360" y="3645000"/>
            <a:ext cx="3097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времени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4716360" y="2133720"/>
            <a:ext cx="649440" cy="4105080"/>
          </a:xfrm>
          <a:custGeom>
            <a:avLst/>
            <a:gdLst>
              <a:gd name="textAreaLeft" fmla="*/ 0 w 649440"/>
              <a:gd name="textAreaRight" fmla="*/ 455760 w 649440"/>
              <a:gd name="textAreaTop" fmla="*/ 171000 h 4105080"/>
              <a:gd name="textAreaBottom" fmla="*/ 3934080 h 41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89080" y="144360"/>
            <a:ext cx="684036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Птицы                         </a:t>
            </a:r>
            <a:endParaRPr b="0" lang="en-US" sz="2000" spc="1" strike="noStrike">
              <a:ln w="284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в далёкие страны.</a:t>
            </a:r>
            <a:endParaRPr b="0" lang="en-US" sz="2000" spc="1" strike="noStrike">
              <a:ln w="284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11280" y="2665440"/>
            <a:ext cx="684036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Во дворах                 </a:t>
            </a:r>
            <a:endParaRPr b="0" lang="en-US" sz="2000" spc="1" strike="noStrike">
              <a:ln w="284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снег.</a:t>
            </a:r>
            <a:endParaRPr b="0" lang="en-US" sz="2000" spc="1" strike="noStrike">
              <a:ln w="284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4000" y="4797360"/>
            <a:ext cx="482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Распускаются</a:t>
            </a:r>
            <a:endParaRPr b="0" lang="en-US" sz="2000" spc="1" strike="noStrike">
              <a:ln w="284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11280" y="4941720"/>
            <a:ext cx="763272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                                             </a:t>
            </a:r>
            <a:r>
              <a:rPr b="0" lang="en-US" sz="2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первые</a:t>
            </a:r>
            <a:endParaRPr b="0" lang="en-US" sz="2000" spc="1" strike="noStrike">
              <a:ln w="284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цветы.</a:t>
            </a:r>
            <a:endParaRPr b="0" lang="en-US" sz="2000" spc="1" strike="noStrike">
              <a:ln w="284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635280" y="260280"/>
            <a:ext cx="288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улетают</a:t>
            </a:r>
            <a:endParaRPr b="0" lang="en-US" sz="2000" spc="1" strike="noStrike">
              <a:ln w="284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005440" y="2781360"/>
            <a:ext cx="2374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лежит</a:t>
            </a:r>
            <a:endParaRPr b="0" lang="en-US" sz="2000" spc="1" strike="noStrike">
              <a:ln w="284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635280" y="260280"/>
            <a:ext cx="288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66ffff"/>
                </a:solidFill>
                <a:latin typeface="Impact"/>
              </a:rPr>
              <a:t>улетели</a:t>
            </a:r>
            <a:endParaRPr b="0" lang="en-US" sz="2000" spc="1" strike="noStrike">
              <a:ln w="28440">
                <a:solidFill>
                  <a:srgbClr val="000000"/>
                </a:solidFill>
                <a:miter/>
              </a:ln>
              <a:solidFill>
                <a:srgbClr val="66ffff"/>
              </a:solidFill>
              <a:latin typeface="Impact"/>
              <a:ea typeface="Impac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4000" y="4797360"/>
            <a:ext cx="482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66ffff"/>
                </a:solidFill>
                <a:latin typeface="Impact"/>
              </a:rPr>
              <a:t>Распустятся</a:t>
            </a:r>
            <a:endParaRPr b="0" lang="en-US" sz="2000" spc="1" strike="noStrike">
              <a:ln w="28440">
                <a:solidFill>
                  <a:srgbClr val="000000"/>
                </a:solidFill>
                <a:miter/>
              </a:ln>
              <a:solidFill>
                <a:srgbClr val="66ffff"/>
              </a:solidFill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99"/>
            </a:gs>
            <a:gs pos="100000">
              <a:srgbClr val="00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492360" y="2565360"/>
            <a:ext cx="2265480" cy="2521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324000" y="189000"/>
            <a:ext cx="8640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Город Глаголов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2781360"/>
            <a:ext cx="223200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исать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940360" y="4869000"/>
            <a:ext cx="2881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660066"/>
                </a:solidFill>
                <a:latin typeface="Impact"/>
              </a:rPr>
              <a:t>полетал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660066"/>
              </a:solidFill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 rot="19707000">
            <a:off x="323640" y="4868640"/>
            <a:ext cx="2592360" cy="85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уляем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 rot="2180400">
            <a:off x="6300360" y="2997360"/>
            <a:ext cx="223380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66ffff"/>
                </a:solidFill>
                <a:latin typeface="Impact"/>
              </a:rPr>
              <a:t>петь</a:t>
            </a:r>
            <a:endParaRPr b="0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66ffff"/>
              </a:solidFill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68360" y="5445000"/>
            <a:ext cx="338472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исует</a:t>
            </a:r>
            <a:endParaRPr b="0" lang="en-US" sz="1800" spc="1" strike="noStrike">
              <a:ln w="28440">
                <a:solidFill>
                  <a:srgbClr val="008000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0"/>
                            </p:stCondLst>
                            <p:childTnLst>
                              <p:par>
                                <p:cTn id="9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9640" y="549360"/>
            <a:ext cx="684072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Птицы                              </a:t>
            </a:r>
            <a:endParaRPr b="0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в  тёплые страны.</a:t>
            </a:r>
            <a:endParaRPr b="0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11280" y="3860640"/>
            <a:ext cx="828180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Землю                            ковёр</a:t>
            </a:r>
            <a:endParaRPr b="0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из пёстрых листьев.</a:t>
            </a:r>
            <a:endParaRPr b="0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836640"/>
            <a:ext cx="288720" cy="28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9280" y="4292640"/>
            <a:ext cx="289080" cy="28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084720" y="907920"/>
            <a:ext cx="2735280" cy="2735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3348000" y="692280"/>
            <a:ext cx="3240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улетают </a:t>
            </a:r>
            <a:endParaRPr b="0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276720" y="4005360"/>
            <a:ext cx="3311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покрывает</a:t>
            </a:r>
            <a:endParaRPr b="0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99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2771640" y="620640"/>
            <a:ext cx="6121440" cy="4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"/>
              </a:rPr>
              <a:t>Что делал?    Что делает?    Что сделает?</a:t>
            </a:r>
            <a:endParaRPr b="0" lang="en-US" sz="10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50920" y="1773360"/>
            <a:ext cx="187308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решать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50920" y="3141720"/>
            <a:ext cx="18730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рыгать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82920" y="242100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41840" y="2421000"/>
            <a:ext cx="1873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46920" y="242100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556000" y="1773360"/>
            <a:ext cx="1655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"/>
              </a:rPr>
              <a:t>решал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43280" y="1773360"/>
            <a:ext cx="1873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"/>
              </a:rPr>
              <a:t>решает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"/>
              <a:ea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948360" y="1700280"/>
            <a:ext cx="1873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"/>
              </a:rPr>
              <a:t>решит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411280" y="3070080"/>
            <a:ext cx="1873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"/>
              </a:rPr>
              <a:t>прыгал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"/>
              <a:ea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716360" y="3046320"/>
            <a:ext cx="187344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"/>
              </a:rPr>
              <a:t>прыгает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020000" y="3068640"/>
            <a:ext cx="187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"/>
              </a:rPr>
              <a:t>прыгнет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"/>
              <a:ea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411280" y="3716280"/>
            <a:ext cx="6410520" cy="0"/>
            <a:chOff x="2411280" y="3716280"/>
            <a:chExt cx="6410520" cy="0"/>
          </a:xfrm>
        </p:grpSpPr>
        <p:sp>
          <p:nvSpPr>
            <p:cNvPr id="190" name=""/>
            <p:cNvSpPr/>
            <p:nvPr/>
          </p:nvSpPr>
          <p:spPr>
            <a:xfrm>
              <a:off x="6948360" y="3716280"/>
              <a:ext cx="1873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6360" y="3716280"/>
              <a:ext cx="1873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11280" y="3716280"/>
              <a:ext cx="1873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79280" y="5950080"/>
            <a:ext cx="8713800" cy="647640"/>
            <a:chOff x="179280" y="5950080"/>
            <a:chExt cx="8713800" cy="647640"/>
          </a:xfrm>
        </p:grpSpPr>
        <p:sp>
          <p:nvSpPr>
            <p:cNvPr id="194" name=""/>
            <p:cNvSpPr txBox="1"/>
            <p:nvPr/>
          </p:nvSpPr>
          <p:spPr>
            <a:xfrm>
              <a:off x="179280" y="5950080"/>
              <a:ext cx="1873080" cy="60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летать</a:t>
              </a:r>
              <a:endPara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2339640" y="6597720"/>
              <a:ext cx="6410520" cy="0"/>
              <a:chOff x="2339640" y="6597720"/>
              <a:chExt cx="6410520" cy="0"/>
            </a:xfrm>
          </p:grpSpPr>
          <p:sp>
            <p:nvSpPr>
              <p:cNvPr id="196" name=""/>
              <p:cNvSpPr/>
              <p:nvPr/>
            </p:nvSpPr>
            <p:spPr>
              <a:xfrm>
                <a:off x="6876720" y="6597720"/>
                <a:ext cx="1873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644720" y="6597720"/>
                <a:ext cx="1873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339640" y="6597720"/>
                <a:ext cx="1873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"/>
            <p:cNvSpPr txBox="1"/>
            <p:nvPr/>
          </p:nvSpPr>
          <p:spPr>
            <a:xfrm>
              <a:off x="2339640" y="5989680"/>
              <a:ext cx="1873440" cy="53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solidFill>
                    <a:srgbClr val="00cc66"/>
                  </a:solidFill>
                  <a:latin typeface="Arial"/>
                </a:rPr>
                <a:t>летал</a:t>
              </a:r>
              <a:endPara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"/>
                <a:ea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4644720" y="5989680"/>
              <a:ext cx="1873440" cy="53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solidFill>
                    <a:srgbClr val="00cc66"/>
                  </a:solidFill>
                  <a:latin typeface="Arial"/>
                </a:rPr>
                <a:t>летит</a:t>
              </a:r>
              <a:endPara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"/>
                <a:ea typeface="Arial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>
              <a:off x="6876720" y="5950080"/>
              <a:ext cx="2016360" cy="53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solidFill>
                    <a:srgbClr val="00cc66"/>
                  </a:solidFill>
                  <a:latin typeface="Arial"/>
                </a:rPr>
                <a:t>полетит</a:t>
              </a:r>
              <a:endPara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2411280" y="5013360"/>
            <a:ext cx="6410520" cy="0"/>
            <a:chOff x="2411280" y="5013360"/>
            <a:chExt cx="6410520" cy="0"/>
          </a:xfrm>
        </p:grpSpPr>
        <p:sp>
          <p:nvSpPr>
            <p:cNvPr id="203" name=""/>
            <p:cNvSpPr/>
            <p:nvPr/>
          </p:nvSpPr>
          <p:spPr>
            <a:xfrm>
              <a:off x="6948360" y="5013360"/>
              <a:ext cx="1873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16360" y="5013360"/>
              <a:ext cx="1873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11280" y="5013360"/>
              <a:ext cx="1873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 txBox="1"/>
          <p:nvPr/>
        </p:nvSpPr>
        <p:spPr>
          <a:xfrm>
            <a:off x="324000" y="4581360"/>
            <a:ext cx="143964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еть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627280" y="4365720"/>
            <a:ext cx="129708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"/>
              </a:rPr>
              <a:t>пел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"/>
              <a:ea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003640" y="4365720"/>
            <a:ext cx="144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"/>
              </a:rPr>
              <a:t>поет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"/>
              <a:ea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948360" y="4365720"/>
            <a:ext cx="187164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Arial"/>
              </a:rPr>
              <a:t>запоет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99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611280" y="1700280"/>
            <a:ext cx="756108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ЛОДЦ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170840" y="4797360"/>
            <a:ext cx="1682640" cy="1873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mph" presetID="27" repeatCount="1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4" dur="100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85" dur="100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6" dur="100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99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24000" y="1197000"/>
            <a:ext cx="8424720" cy="38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 работу!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50840" y="260280"/>
            <a:ext cx="8884800" cy="5995800"/>
            <a:chOff x="150840" y="260280"/>
            <a:chExt cx="8884800" cy="5995800"/>
          </a:xfrm>
        </p:grpSpPr>
        <p:pic>
          <p:nvPicPr>
            <p:cNvPr id="214" name="" descr=""/>
            <p:cNvPicPr/>
            <p:nvPr/>
          </p:nvPicPr>
          <p:blipFill>
            <a:blip r:embed="rId1"/>
            <a:stretch/>
          </p:blipFill>
          <p:spPr>
            <a:xfrm>
              <a:off x="150840" y="404640"/>
              <a:ext cx="2908080" cy="246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2"/>
            <a:stretch/>
          </p:blipFill>
          <p:spPr>
            <a:xfrm>
              <a:off x="6443640" y="260280"/>
              <a:ext cx="2592000" cy="309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3"/>
            <a:stretch/>
          </p:blipFill>
          <p:spPr>
            <a:xfrm rot="10800000">
              <a:off x="3274920" y="3789000"/>
              <a:ext cx="2592000" cy="2467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edge/>
  </p:transition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611280" y="333360"/>
            <a:ext cx="777708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660066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машнее задание</a:t>
            </a:r>
            <a:endParaRPr b="0" lang="en-US" sz="1800" spc="1" strike="noStrike">
              <a:ln w="19080">
                <a:solidFill>
                  <a:srgbClr val="660066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971640" y="2917800"/>
            <a:ext cx="6840360" cy="303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оставить и записат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текст про весну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используя глагол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будущего времен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11280" y="765000"/>
            <a:ext cx="8208720" cy="374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Лёгкие облака 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           </a:t>
            </a: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о небу.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6560" y="3141720"/>
            <a:ext cx="3025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летит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5280" y="3141720"/>
            <a:ext cx="316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летят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24000" y="404640"/>
            <a:ext cx="4895640" cy="604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Ярко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олнышко.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26920" y="2924280"/>
            <a:ext cx="360072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ветят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26920" y="2924280"/>
            <a:ext cx="360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светит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796000" y="260280"/>
            <a:ext cx="3038400" cy="2952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99"/>
            </a:gs>
            <a:gs pos="100000">
              <a:srgbClr val="cc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11280" y="404640"/>
            <a:ext cx="4392360" cy="604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есело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бабочки.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11280" y="2852640"/>
            <a:ext cx="4176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орхает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4360" y="2852640"/>
            <a:ext cx="4103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порхают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651640" y="189000"/>
            <a:ext cx="3241440" cy="2911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724360" y="3573360"/>
            <a:ext cx="3059280" cy="305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11280" y="2060640"/>
            <a:ext cx="820872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 небе                  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чайка.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0" y="2563920"/>
            <a:ext cx="381636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летают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0" y="2563920"/>
            <a:ext cx="352908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летает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6372360" cy="1555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0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39640" y="549360"/>
            <a:ext cx="468000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              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чела.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360" y="1125360"/>
            <a:ext cx="45352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Зажужжали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1125360"/>
            <a:ext cx="44640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Зажужжала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885080" y="404640"/>
            <a:ext cx="920880" cy="1011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76720" y="3141720"/>
            <a:ext cx="3891240" cy="3459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1:09:42Z</dcterms:created>
  <dc:creator>Serg</dc:creator>
  <dc:description/>
  <dc:language>en-US</dc:language>
  <cp:lastModifiedBy>Анжелика</cp:lastModifiedBy>
  <dcterms:modified xsi:type="dcterms:W3CDTF">2012-08-14T19:36:04Z</dcterms:modified>
  <cp:revision>74</cp:revision>
  <dc:subject/>
  <dc:title>Слайд 1</dc:title>
</cp:coreProperties>
</file>