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6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6.gif" ContentType="image/gif"/>
  <Override PartName="/ppt/media/image32.wmf" ContentType="image/x-wmf"/>
  <Override PartName="/ppt/media/image36.gif" ContentType="image/gif"/>
  <Override PartName="/ppt/media/image19.wmf" ContentType="image/x-wmf"/>
  <Override PartName="/ppt/media/image10.png" ContentType="image/png"/>
  <Override PartName="/ppt/media/image5.png" ContentType="image/png"/>
  <Override PartName="/ppt/media/image28.wmf" ContentType="image/x-wmf"/>
  <Override PartName="/ppt/media/image30.png" ContentType="image/png"/>
  <Override PartName="/ppt/media/image37.jpeg" ContentType="image/jpeg"/>
  <Override PartName="/ppt/media/image29.jpeg" ContentType="image/jpeg"/>
  <Override PartName="/ppt/media/image33.wmf" ContentType="image/x-wmf"/>
  <Override PartName="/ppt/media/image13.png" ContentType="image/png"/>
  <Override PartName="/ppt/media/image20.png" ContentType="image/png"/>
  <Override PartName="/ppt/media/image8.png" ContentType="image/png"/>
  <Override PartName="/ppt/media/image12.png" ContentType="image/png"/>
  <Override PartName="/ppt/media/image34.gif" ContentType="image/gif"/>
  <Override PartName="/ppt/media/image38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5.wmf" ContentType="image/x-wmf"/>
  <Override PartName="/ppt/media/image11.png" ContentType="image/png"/>
  <Override PartName="/ppt/media/image9.jpeg" ContentType="image/jpeg"/>
  <Override PartName="/ppt/media/image7.jpeg" ContentType="image/jpeg"/>
  <Override PartName="/ppt/media/image31.wmf" ContentType="image/x-wmf"/>
  <Override PartName="/ppt/media/image35.gif" ContentType="image/gif"/>
  <Override PartName="/ppt/media/image1.wmf" ContentType="image/x-wmf"/>
  <Override PartName="/ppt/media/image24.wmf" ContentType="image/x-wmf"/>
  <Override PartName="/ppt/media/image14.gif" ContentType="image/gif"/>
  <Override PartName="/ppt/media/image39.gif" ContentType="image/gif"/>
  <Override PartName="/ppt/media/image16.jpeg" ContentType="image/jpeg"/>
  <Override PartName="/ppt/media/image18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B75-A9E6-4F52-83FF-1A940E11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8BD-8B35-4490-89DC-4232ED1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B89-AABB-418D-85A8-AFD5A53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07B-3137-4BDB-8372-3CE4648C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A2E-6E9F-422F-8E50-68ABDA97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014-A917-4ED1-A0D7-A1F5758F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A93-605A-42A9-BF3A-CF1B2AF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A91-4042-4341-9FB8-28F3598A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1AD-A38D-4558-838D-5408762A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8B9-4DB3-4922-83FF-E90C737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2E4-98D7-484C-B580-B3D8C0EB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FF5-BFC9-4AE5-8DEA-B4DA4F55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FFD-12DA-4EFB-97E4-976B58C8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4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4.wmf"/><Relationship Id="rId4" Type="http://schemas.openxmlformats.org/officeDocument/2006/relationships/image" Target="../media/image29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6.gi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9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484280"/>
            <a:ext cx="7129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19080">
                <a:solidFill>
                  <a:srgbClr val="cc00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5589720"/>
            <a:ext cx="7775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Учитель начальных классов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Самойлова Анжелика Владимировна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04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4640"/>
            <a:ext cx="684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«Средняя общеобразовательная школа №13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Г. Снеж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4221000"/>
            <a:ext cx="2089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класс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98600" cy="64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371680" cy="174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11280" y="494172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                                             </a:t>
            </a: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ервые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цвет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35280" y="260280"/>
            <a:ext cx="28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улетаю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5440" y="278136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лежи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9080" y="14436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тицы        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 далёкие стран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1280" y="266544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о дворах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снег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4797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Распускаются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5183280" cy="4222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12139E-006 C 0.19983 3.12139E-006 0.3625 0.10081 0.3625 0.22543 C 0.3625 0.34959 0.19983 0.45086 -1.38889E-006 0.45086 C -0.19982 0.45086 -0.36198 0.34959 -0.36198 0.22543 C -0.36198 0.10081 -0.19982 3.12139E-006 -1.38889E-006 3.12139E-006 Z">
                                      <p:cBhvr>
                                        <p:cTn id="29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674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744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32000" y="404640"/>
            <a:ext cx="2880000" cy="2345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35280" y="2924280"/>
            <a:ext cx="187164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63280" y="3284640"/>
            <a:ext cx="5690160" cy="1152360"/>
            <a:chOff x="1763280" y="3284640"/>
            <a:chExt cx="5690160" cy="1152360"/>
          </a:xfrm>
        </p:grpSpPr>
        <p:sp>
          <p:nvSpPr>
            <p:cNvPr id="92" name=""/>
            <p:cNvSpPr/>
            <p:nvPr/>
          </p:nvSpPr>
          <p:spPr>
            <a:xfrm>
              <a:off x="5435640" y="3284640"/>
              <a:ext cx="2017800" cy="1152360"/>
            </a:xfrm>
            <a:custGeom>
              <a:avLst/>
              <a:gdLst>
                <a:gd name="textAreaLeft" fmla="*/ 252000 w 2017800"/>
                <a:gd name="textAreaRight" fmla="*/ 1765800 w 2017800"/>
                <a:gd name="textAreaTop" fmla="*/ 288000 h 1152360"/>
                <a:gd name="textAreaBottom" fmla="*/ 864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62920" y="3284640"/>
              <a:ext cx="1979640" cy="1152360"/>
            </a:xfrm>
            <a:custGeom>
              <a:avLst/>
              <a:gdLst>
                <a:gd name="textAreaLeft" fmla="*/ 247320 w 1979640"/>
                <a:gd name="textAreaRight" fmla="*/ 1732320 w 1979640"/>
                <a:gd name="textAreaTop" fmla="*/ 288000 h 1152360"/>
                <a:gd name="textAreaBottom" fmla="*/ 864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1280" y="2997360"/>
            <a:ext cx="1692360" cy="169200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51640" y="306864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24280"/>
            <a:ext cx="1871640" cy="187164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54936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чимс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4797360"/>
            <a:ext cx="511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гра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2637000"/>
            <a:ext cx="4608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иш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947600" cy="164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659640" y="2646360"/>
            <a:ext cx="1795320" cy="167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3284640"/>
            <a:ext cx="820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мся, отвечаем, пише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00000" y="54936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делае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55640" y="5013360"/>
            <a:ext cx="799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тоящее врем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5280" y="2852640"/>
            <a:ext cx="1871640" cy="187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3284640"/>
            <a:ext cx="2017800" cy="1152360"/>
          </a:xfrm>
          <a:custGeom>
            <a:avLst/>
            <a:gdLst>
              <a:gd name="textAreaLeft" fmla="*/ 252000 w 2017800"/>
              <a:gd name="textAreaRight" fmla="*/ 1765800 w 20178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762920" y="3284640"/>
            <a:ext cx="1979640" cy="1152360"/>
          </a:xfrm>
          <a:custGeom>
            <a:avLst/>
            <a:gdLst>
              <a:gd name="textAreaLeft" fmla="*/ 247320 w 1979640"/>
              <a:gd name="textAreaRight" fmla="*/ 1732320 w 197964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05000"/>
            <a:ext cx="1692360" cy="169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1640" y="306864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0500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132000" y="404640"/>
            <a:ext cx="2880000" cy="234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flipH="1">
            <a:off x="2340000" y="4365720"/>
            <a:ext cx="2160720" cy="230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77080" y="4508640"/>
            <a:ext cx="1690560" cy="1850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2638440"/>
            <a:ext cx="540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анцев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589040" cy="172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11280" y="4869000"/>
            <a:ext cx="48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гр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479520"/>
            <a:ext cx="5545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исов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2216160" cy="2082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95280" y="3284640"/>
            <a:ext cx="820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овали, танцевали, играл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54936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делал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5640" y="5013360"/>
            <a:ext cx="799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шедшее врем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0076" t="4606" r="2541" b="1701"/>
          <a:stretch/>
        </p:blipFill>
        <p:spPr>
          <a:xfrm>
            <a:off x="684360" y="1052640"/>
            <a:ext cx="3838320" cy="508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3467160" cy="7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796000" y="1844640"/>
          <a:ext cx="2319480" cy="400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844640"/>
                    <a:ext cx="231948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419640" y="476280"/>
            <a:ext cx="1484280" cy="12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5280" y="2852640"/>
            <a:ext cx="1871640" cy="187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3284640"/>
            <a:ext cx="2017800" cy="1152360"/>
          </a:xfrm>
          <a:custGeom>
            <a:avLst/>
            <a:gdLst>
              <a:gd name="textAreaLeft" fmla="*/ 252000 w 2017800"/>
              <a:gd name="textAreaRight" fmla="*/ 1765800 w 20178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762920" y="3284640"/>
            <a:ext cx="1979640" cy="1152360"/>
          </a:xfrm>
          <a:custGeom>
            <a:avLst/>
            <a:gdLst>
              <a:gd name="textAreaLeft" fmla="*/ 247320 w 1979640"/>
              <a:gd name="textAreaRight" fmla="*/ 1732320 w 197964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05000"/>
            <a:ext cx="1692360" cy="169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2852640"/>
            <a:ext cx="1692360" cy="1692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132000" y="404640"/>
            <a:ext cx="2880000" cy="23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451640" y="285264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5183280" cy="4222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12139E-006 C 0.19983 3.12139E-006 0.3625 0.10081 0.3625 0.22543 C 0.3625 0.34959 0.19983 0.45086 -1.38889E-006 0.45086 C -0.19982 0.45086 -0.36198 0.34959 -0.36198 0.22543 C -0.36198 0.10081 -0.19982 3.12139E-006 -1.38889E-006 3.12139E-006 Z">
                                      <p:cBhvr>
                                        <p:cTn id="557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674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744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260280"/>
            <a:ext cx="46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купаемс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97360"/>
            <a:ext cx="496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игра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565360"/>
            <a:ext cx="525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загора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10440" y="4334040"/>
            <a:ext cx="23652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481040" cy="2151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082600" cy="17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95280" y="3357720"/>
            <a:ext cx="85694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купаемся, позагораем, поиграе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00000" y="54936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сделае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5013360"/>
            <a:ext cx="799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дущее врем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9640" y="0"/>
            <a:ext cx="7972560" cy="6543720"/>
            <a:chOff x="539640" y="0"/>
            <a:chExt cx="7972560" cy="65437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6227640" y="4581360"/>
              <a:ext cx="177984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00360" y="4797360"/>
              <a:ext cx="177948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258920" y="692280"/>
              <a:ext cx="177948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6732720" y="1628640"/>
              <a:ext cx="177948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539640" y="2924280"/>
              <a:ext cx="177984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3924360" y="0"/>
              <a:ext cx="1779480" cy="174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 flipH="1">
            <a:off x="2842920" y="1862280"/>
            <a:ext cx="3133800" cy="3028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5836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99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9640" y="47628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рош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1280" y="443700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будущ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1280" y="234936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настоящ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208728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131920" cy="1407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04000" y="476280"/>
            <a:ext cx="1589040" cy="172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9640" y="26028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111111"/>
                </a:solidFill>
                <a:latin typeface="Impact"/>
              </a:rPr>
              <a:t>Глаголы могут 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11111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111111"/>
                </a:solidFill>
                <a:latin typeface="Impact"/>
              </a:rPr>
              <a:t>быть в форме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111111"/>
              </a:soli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234936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астояще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3860640"/>
            <a:ext cx="489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ошедше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515772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дуще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24360" y="3645000"/>
            <a:ext cx="3097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ремен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2133720"/>
            <a:ext cx="649440" cy="4105080"/>
          </a:xfrm>
          <a:custGeom>
            <a:avLst/>
            <a:gdLst>
              <a:gd name="textAreaLeft" fmla="*/ 0 w 649440"/>
              <a:gd name="textAreaRight" fmla="*/ 455760 w 649440"/>
              <a:gd name="textAreaTop" fmla="*/ 171000 h 4105080"/>
              <a:gd name="textAreaBottom" fmla="*/ 393408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89080" y="14436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тицы        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 далёкие стран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1280" y="266544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о дворах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снег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4797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Распускаются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494172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                                             </a:t>
            </a: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ервые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цвет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35280" y="260280"/>
            <a:ext cx="28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улетаю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05440" y="278136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лежи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635280" y="260280"/>
            <a:ext cx="28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Impact"/>
              </a:rPr>
              <a:t>улетели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4797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Impact"/>
              </a:rPr>
              <a:t>Распустятся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99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4000" y="189000"/>
            <a:ext cx="864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ород Глаголов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781360"/>
            <a:ext cx="2232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сат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940360" y="486900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660066"/>
                </a:solidFill>
                <a:latin typeface="Impact"/>
              </a:rPr>
              <a:t>полета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660066"/>
              </a:soli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 rot="19707000">
            <a:off x="323640" y="4868640"/>
            <a:ext cx="2592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уляе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 rot="2180400">
            <a:off x="6300360" y="2997360"/>
            <a:ext cx="2233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latin typeface="Impact"/>
              </a:rPr>
              <a:t>петь</a:t>
            </a:r>
            <a:endParaRPr b="0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66ffff"/>
              </a:soli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68360" y="5445000"/>
            <a:ext cx="3384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сует</a:t>
            </a:r>
            <a:endParaRPr b="0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640" y="549360"/>
            <a:ext cx="6840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тицы                              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  тёплые страны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3860640"/>
            <a:ext cx="8281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Землю                            ковёр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пёстрых листьев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836640"/>
            <a:ext cx="28872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4292640"/>
            <a:ext cx="2890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348000" y="692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улетают 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76720" y="4005360"/>
            <a:ext cx="33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окрывает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771640" y="620640"/>
            <a:ext cx="612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Что делал?    Что делает?    Что сделает?</a:t>
            </a:r>
            <a:endParaRPr b="0" lang="en-US" sz="1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773360"/>
            <a:ext cx="1873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ша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3141720"/>
            <a:ext cx="1873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ыга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2920" y="242100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1840" y="2421000"/>
            <a:ext cx="187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46920" y="242100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56000" y="1773360"/>
            <a:ext cx="165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реша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3280" y="1773360"/>
            <a:ext cx="187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реш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948360" y="1700280"/>
            <a:ext cx="18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реши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11280" y="3070080"/>
            <a:ext cx="187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рыга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16360" y="3046320"/>
            <a:ext cx="1873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рыг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020000" y="3068640"/>
            <a:ext cx="187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рыгн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11280" y="3716280"/>
            <a:ext cx="6410520" cy="0"/>
            <a:chOff x="2411280" y="3716280"/>
            <a:chExt cx="6410520" cy="0"/>
          </a:xfrm>
        </p:grpSpPr>
        <p:sp>
          <p:nvSpPr>
            <p:cNvPr id="190" name=""/>
            <p:cNvSpPr/>
            <p:nvPr/>
          </p:nvSpPr>
          <p:spPr>
            <a:xfrm>
              <a:off x="6948360" y="371628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6360" y="371628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11280" y="371628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79280" y="5950080"/>
            <a:ext cx="8713800" cy="647640"/>
            <a:chOff x="179280" y="5950080"/>
            <a:chExt cx="8713800" cy="647640"/>
          </a:xfrm>
        </p:grpSpPr>
        <p:sp>
          <p:nvSpPr>
            <p:cNvPr id="194" name=""/>
            <p:cNvSpPr txBox="1"/>
            <p:nvPr/>
          </p:nvSpPr>
          <p:spPr>
            <a:xfrm>
              <a:off x="179280" y="5950080"/>
              <a:ext cx="1873080" cy="60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летать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339640" y="6597720"/>
              <a:ext cx="6410520" cy="0"/>
              <a:chOff x="2339640" y="6597720"/>
              <a:chExt cx="6410520" cy="0"/>
            </a:xfrm>
          </p:grpSpPr>
          <p:sp>
            <p:nvSpPr>
              <p:cNvPr id="196" name=""/>
              <p:cNvSpPr/>
              <p:nvPr/>
            </p:nvSpPr>
            <p:spPr>
              <a:xfrm>
                <a:off x="6876720" y="6597720"/>
                <a:ext cx="1873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44720" y="6597720"/>
                <a:ext cx="1873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39640" y="6597720"/>
                <a:ext cx="1873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 txBox="1"/>
            <p:nvPr/>
          </p:nvSpPr>
          <p:spPr>
            <a:xfrm>
              <a:off x="2339640" y="5989680"/>
              <a:ext cx="1873440" cy="53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latin typeface="Arial"/>
                </a:rPr>
                <a:t>летал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  <a:ea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4644720" y="5989680"/>
              <a:ext cx="1873440" cy="53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latin typeface="Arial"/>
                </a:rPr>
                <a:t>летит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  <a:ea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6876720" y="5950080"/>
              <a:ext cx="2016360" cy="53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latin typeface="Arial"/>
                </a:rPr>
                <a:t>полетит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11280" y="5013360"/>
            <a:ext cx="6410520" cy="0"/>
            <a:chOff x="2411280" y="5013360"/>
            <a:chExt cx="6410520" cy="0"/>
          </a:xfrm>
        </p:grpSpPr>
        <p:sp>
          <p:nvSpPr>
            <p:cNvPr id="203" name=""/>
            <p:cNvSpPr/>
            <p:nvPr/>
          </p:nvSpPr>
          <p:spPr>
            <a:xfrm>
              <a:off x="6948360" y="501336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16360" y="501336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1280" y="501336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 txBox="1"/>
          <p:nvPr/>
        </p:nvSpPr>
        <p:spPr>
          <a:xfrm>
            <a:off x="324000" y="4581360"/>
            <a:ext cx="143964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е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27280" y="4365720"/>
            <a:ext cx="12970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е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3640" y="4365720"/>
            <a:ext cx="144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о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948360" y="4365720"/>
            <a:ext cx="1871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запо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11280" y="1700280"/>
            <a:ext cx="7561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70840" y="4797360"/>
            <a:ext cx="1682640" cy="18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10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5" dur="10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10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4000" y="1197000"/>
            <a:ext cx="842472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0840" y="260280"/>
            <a:ext cx="8884800" cy="5995800"/>
            <a:chOff x="150840" y="260280"/>
            <a:chExt cx="8884800" cy="59958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50840" y="404640"/>
              <a:ext cx="290808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443640" y="260280"/>
              <a:ext cx="2592000" cy="30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3274920" y="3789000"/>
              <a:ext cx="2592000" cy="246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11280" y="333360"/>
            <a:ext cx="777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71640" y="2917800"/>
            <a:ext cx="6840360" cy="30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ставить и записа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екст про весн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спользуя глаго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удущего времен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765000"/>
            <a:ext cx="820872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ёгкие облака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 небу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6560" y="3141720"/>
            <a:ext cx="30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ети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314172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етя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404640"/>
            <a:ext cx="4895640" cy="604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рк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олнышко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920" y="2924280"/>
            <a:ext cx="3600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ветя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2924280"/>
            <a:ext cx="36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вети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03840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404640"/>
            <a:ext cx="4392360" cy="604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есел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абочки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2852640"/>
            <a:ext cx="417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рх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852640"/>
            <a:ext cx="410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орхаю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241440" cy="291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3059280" cy="30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11280" y="2060640"/>
            <a:ext cx="8208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небе                 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айка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0" y="2563920"/>
            <a:ext cx="3816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етаю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0" y="2563920"/>
            <a:ext cx="35290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ет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372360" cy="155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549360"/>
            <a:ext cx="4680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чела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125360"/>
            <a:ext cx="4535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ажужж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125360"/>
            <a:ext cx="4464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жужжал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920880" cy="101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891240" cy="345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1:09:42Z</dcterms:created>
  <dc:creator>Serg</dc:creator>
  <dc:description/>
  <dc:language>en-US</dc:language>
  <cp:lastModifiedBy>Анжелика</cp:lastModifiedBy>
  <dcterms:modified xsi:type="dcterms:W3CDTF">2012-08-14T19:36:04Z</dcterms:modified>
  <cp:revision>74</cp:revision>
  <dc:subject/>
  <dc:title>Слайд 1</dc:title>
</cp:coreProperties>
</file>