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8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click.wav" ContentType="audio/x-wav"/>
  <Override PartName="/ppt/media/image13.jpeg" ContentType="image/jpeg"/>
  <Override PartName="/ppt/media/image23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5DD0B-2810-440E-9D2C-F8A3C0E1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3D60-1FF1-422D-8667-8B9D82C2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A38C0-02DE-4E3B-91B5-F11A2C25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98DC8-6E98-428B-859B-40FB9D5B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95B9-4BD7-43FA-9F28-4FFC7EBE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3F0E-4184-40CC-8469-9EB5B8F3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FB51-CB8D-4C61-8895-4DC750B8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2B63-C67C-4058-BA28-845339E3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4939-3B0F-4296-BD5D-A1F77E69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7934-8FDB-48F0-A687-082FB382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F112-D77E-49E6-AD9D-959C7F11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59035-7F7F-4D7D-BA7E-F5A3F28C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0267-1DCD-4862-8B45-2C789522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2ADF-1AE9-4C7D-A16A-9E9D3284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7813-E3E5-447A-B897-C5A991B4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3FCE-0F1D-44AB-AC61-C1AF90C6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6170-A534-4839-9E1F-393140C9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B5C16-5413-4A88-9724-6F1EE46A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09001-1080-4B52-8DF8-4BFF5745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F1363-3A9D-401C-B3D9-B99B82E8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78072-1DB7-4188-9832-92C9DB32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DFB4B-A7FC-4C09-9840-7F364055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A5F4E-012D-4F5E-9F9F-0895532A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54FBD-1EFE-4F65-9DC1-764F58D2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0F8C-48F4-4E7E-8A0E-7DB247FE276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FCC8-CD43-43C8-A3FD-DFF524B7564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8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5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9.jpeg"/><Relationship Id="rId9" Type="http://schemas.openxmlformats.org/officeDocument/2006/relationships/image" Target="../media/image35.jpeg"/><Relationship Id="rId10" Type="http://schemas.openxmlformats.org/officeDocument/2006/relationships/image" Target="../media/image29.jpeg"/><Relationship Id="rId11" Type="http://schemas.openxmlformats.org/officeDocument/2006/relationships/image" Target="../media/image32.jpeg"/><Relationship Id="rId12" Type="http://schemas.openxmlformats.org/officeDocument/2006/relationships/image" Target="../media/image36.jpeg"/><Relationship Id="rId13" Type="http://schemas.openxmlformats.org/officeDocument/2006/relationships/audio" Target="../media/click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ahoma"/>
              </a:rPr>
              <a:t>«Самый совершенный «инструмент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785600" y="4000680"/>
            <a:ext cx="607212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ыполни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осарева Валерия Никола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еподаватель теоретических дисципл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МАУДОД «Детская школа искусств», учитель музыки МАОУСОШ №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Г.Старая Русса Новгородской обла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7014960" cy="378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 сдержав тогда улыбки,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звенели сёстры ……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хихикали,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пиликали!</a:t>
            </a:r>
            <a:br>
              <a:rPr sz="32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Picture 16" descr="violin"/>
          <p:cNvPicPr/>
          <p:nvPr/>
        </p:nvPicPr>
        <p:blipFill>
          <a:blip r:embed="rId1"/>
          <a:stretch/>
        </p:blipFill>
        <p:spPr>
          <a:xfrm rot="1106400">
            <a:off x="5734080" y="3165480"/>
            <a:ext cx="1349280" cy="2206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violin"/>
          <p:cNvPicPr/>
          <p:nvPr/>
        </p:nvPicPr>
        <p:blipFill>
          <a:blip r:embed="rId2"/>
          <a:stretch/>
        </p:blipFill>
        <p:spPr>
          <a:xfrm rot="1106400">
            <a:off x="6815160" y="3514680"/>
            <a:ext cx="1349280" cy="220680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4" descr=""/>
          <p:cNvPicPr/>
          <p:nvPr/>
        </p:nvPicPr>
        <p:blipFill>
          <a:blip r:embed="rId3"/>
          <a:stretch/>
        </p:blipFill>
        <p:spPr>
          <a:xfrm>
            <a:off x="4791240" y="2335320"/>
            <a:ext cx="2530440" cy="74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48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violin"/>
          <p:cNvPicPr/>
          <p:nvPr/>
        </p:nvPicPr>
        <p:blipFill>
          <a:blip r:embed="rId1"/>
          <a:stretch/>
        </p:blipFill>
        <p:spPr>
          <a:xfrm rot="19105200">
            <a:off x="611280" y="4724280"/>
            <a:ext cx="1131840" cy="1630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ello"/>
          <p:cNvPicPr/>
          <p:nvPr/>
        </p:nvPicPr>
        <p:blipFill>
          <a:blip r:embed="rId2"/>
          <a:stretch/>
        </p:blipFill>
        <p:spPr>
          <a:xfrm rot="17472000">
            <a:off x="6205320" y="4458960"/>
            <a:ext cx="2689560" cy="1492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oboe"/>
          <p:cNvPicPr/>
          <p:nvPr/>
        </p:nvPicPr>
        <p:blipFill>
          <a:blip r:embed="rId3"/>
          <a:stretch/>
        </p:blipFill>
        <p:spPr>
          <a:xfrm rot="19773600">
            <a:off x="5435640" y="980640"/>
            <a:ext cx="1760400" cy="1685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fagot"/>
          <p:cNvPicPr/>
          <p:nvPr/>
        </p:nvPicPr>
        <p:blipFill>
          <a:blip r:embed="rId4"/>
          <a:stretch/>
        </p:blipFill>
        <p:spPr>
          <a:xfrm rot="19729800">
            <a:off x="7093080" y="2204640"/>
            <a:ext cx="1709640" cy="1505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litavry"/>
          <p:cNvPicPr/>
          <p:nvPr/>
        </p:nvPicPr>
        <p:blipFill>
          <a:blip r:embed="rId5"/>
          <a:stretch/>
        </p:blipFill>
        <p:spPr>
          <a:xfrm>
            <a:off x="4500720" y="260280"/>
            <a:ext cx="1079280" cy="1171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valtorna"/>
          <p:cNvPicPr/>
          <p:nvPr/>
        </p:nvPicPr>
        <p:blipFill>
          <a:blip r:embed="rId6"/>
          <a:stretch/>
        </p:blipFill>
        <p:spPr>
          <a:xfrm rot="7921200">
            <a:off x="7007040" y="561960"/>
            <a:ext cx="1800360" cy="1342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arfa"/>
          <p:cNvPicPr/>
          <p:nvPr/>
        </p:nvPicPr>
        <p:blipFill>
          <a:blip r:embed="rId7"/>
          <a:stretch/>
        </p:blipFill>
        <p:spPr>
          <a:xfrm>
            <a:off x="179280" y="1268280"/>
            <a:ext cx="1511280" cy="3314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tuba"/>
          <p:cNvPicPr/>
          <p:nvPr/>
        </p:nvPicPr>
        <p:blipFill>
          <a:blip r:embed="rId8"/>
          <a:stretch/>
        </p:blipFill>
        <p:spPr>
          <a:xfrm rot="19702800">
            <a:off x="1692360" y="404640"/>
            <a:ext cx="1404720" cy="194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MPj04094290000[1]"/>
          <p:cNvPicPr/>
          <p:nvPr/>
        </p:nvPicPr>
        <p:blipFill>
          <a:blip r:embed="rId9"/>
          <a:stretch/>
        </p:blipFill>
        <p:spPr>
          <a:xfrm>
            <a:off x="2771640" y="2421000"/>
            <a:ext cx="3240360" cy="3456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violin"/>
          <p:cNvPicPr/>
          <p:nvPr/>
        </p:nvPicPr>
        <p:blipFill>
          <a:blip r:embed="rId10"/>
          <a:stretch/>
        </p:blipFill>
        <p:spPr>
          <a:xfrm rot="19105200">
            <a:off x="1476360" y="3429000"/>
            <a:ext cx="1131840" cy="1630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litavry"/>
          <p:cNvPicPr/>
          <p:nvPr/>
        </p:nvPicPr>
        <p:blipFill>
          <a:blip r:embed="rId11"/>
          <a:stretch/>
        </p:blipFill>
        <p:spPr>
          <a:xfrm>
            <a:off x="3276720" y="260280"/>
            <a:ext cx="1047600" cy="1139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larnet"/>
          <p:cNvPicPr/>
          <p:nvPr/>
        </p:nvPicPr>
        <p:blipFill>
          <a:blip r:embed="rId12"/>
          <a:stretch/>
        </p:blipFill>
        <p:spPr>
          <a:xfrm rot="20107200">
            <a:off x="684000" y="115560"/>
            <a:ext cx="285480" cy="1584360"/>
          </a:xfrm>
          <a:prstGeom prst="rect">
            <a:avLst/>
          </a:prstGeom>
          <a:ln w="0">
            <a:noFill/>
          </a:ln>
        </p:spPr>
      </p:pic>
      <p:sp>
        <p:nvSpPr>
          <p:cNvPr id="187" name="WordArt 15"/>
          <p:cNvSpPr txBox="1"/>
          <p:nvPr/>
        </p:nvSpPr>
        <p:spPr>
          <a:xfrm>
            <a:off x="2771640" y="6021360"/>
            <a:ext cx="316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ирижёр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Список источников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Прямоугольник 4"/>
          <p:cNvSpPr/>
          <p:nvPr/>
        </p:nvSpPr>
        <p:spPr>
          <a:xfrm>
            <a:off x="928800" y="1028880"/>
            <a:ext cx="7143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1. Арановский М., Михеева Л., Фрумкин В. Поговорим о музыке – Ленинград: Музыка, 1965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2. фото и рисунки инструментов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c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интернет-ресурсов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3. Клёнов А.С. Дет.энцикл.: Музыка – М.:ООО «Фирма «Издательство АСТ», 1999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4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. Куберский И.Ю., Минина Е.В.  Энциклопедия юных музыкантов – СПб.: ТОО «Диамант», ООО «Золотой век», 1996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857160" y="642960"/>
            <a:ext cx="74296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Презентация «Самый совершенный «инструмент» знакомит  с инструментами, которые входят в состав симфонического оркестра.</a:t>
            </a:r>
            <a:br>
              <a:rPr sz="3200"/>
            </a:b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В презентации использованы фото и картинки инструментов, стихи об инструментах, схема оркестра. Управление слайдами и их содержанием осуществляется щелчком мыши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Струнно – смычковая группа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Tahoma"/>
              </a:rPr>
              <a:t>Скрипк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Tahoma"/>
              </a:rPr>
              <a:t>Аль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Tahoma"/>
              </a:rPr>
              <a:t>Виолончел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Tahoma"/>
              </a:rPr>
              <a:t>Контрабас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violin"/>
          <p:cNvPicPr/>
          <p:nvPr/>
        </p:nvPicPr>
        <p:blipFill>
          <a:blip r:embed="rId1"/>
          <a:stretch/>
        </p:blipFill>
        <p:spPr>
          <a:xfrm rot="1106400">
            <a:off x="4911840" y="1392120"/>
            <a:ext cx="842760" cy="1271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violin"/>
          <p:cNvPicPr/>
          <p:nvPr/>
        </p:nvPicPr>
        <p:blipFill>
          <a:blip r:embed="rId2"/>
          <a:stretch/>
        </p:blipFill>
        <p:spPr>
          <a:xfrm rot="766200">
            <a:off x="3430080" y="2595240"/>
            <a:ext cx="1024200" cy="1417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violin"/>
          <p:cNvPicPr/>
          <p:nvPr/>
        </p:nvPicPr>
        <p:blipFill>
          <a:blip r:embed="rId3"/>
          <a:stretch/>
        </p:blipFill>
        <p:spPr>
          <a:xfrm rot="682800">
            <a:off x="5395680" y="2637000"/>
            <a:ext cx="1650960" cy="2719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kontrabas"/>
          <p:cNvPicPr/>
          <p:nvPr/>
        </p:nvPicPr>
        <p:blipFill>
          <a:blip r:embed="rId4"/>
          <a:stretch/>
        </p:blipFill>
        <p:spPr>
          <a:xfrm rot="630000">
            <a:off x="7114680" y="2911320"/>
            <a:ext cx="1712880" cy="361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00"/>
                </a:solidFill>
                <a:latin typeface="Tahoma"/>
              </a:rPr>
              <a:t>Деревянно - духовые инструменты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Флейт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Гобо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Кларне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Фаго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oboe"/>
          <p:cNvPicPr/>
          <p:nvPr/>
        </p:nvPicPr>
        <p:blipFill>
          <a:blip r:embed="rId1"/>
          <a:stretch/>
        </p:blipFill>
        <p:spPr>
          <a:xfrm rot="3154200">
            <a:off x="4334400" y="2008800"/>
            <a:ext cx="995400" cy="196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флейта"/>
          <p:cNvPicPr/>
          <p:nvPr/>
        </p:nvPicPr>
        <p:blipFill>
          <a:blip r:embed="rId2"/>
          <a:stretch/>
        </p:blipFill>
        <p:spPr>
          <a:xfrm>
            <a:off x="3419640" y="1341360"/>
            <a:ext cx="3174840" cy="44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фагот"/>
          <p:cNvPicPr/>
          <p:nvPr/>
        </p:nvPicPr>
        <p:blipFill>
          <a:blip r:embed="rId3"/>
          <a:stretch/>
        </p:blipFill>
        <p:spPr>
          <a:xfrm>
            <a:off x="5435640" y="4365720"/>
            <a:ext cx="3168720" cy="223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larinette"/>
          <p:cNvPicPr/>
          <p:nvPr/>
        </p:nvPicPr>
        <p:blipFill>
          <a:blip r:embed="rId4"/>
          <a:stretch/>
        </p:blipFill>
        <p:spPr>
          <a:xfrm rot="3462000">
            <a:off x="5417280" y="2293920"/>
            <a:ext cx="762120" cy="31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tuba"/>
          <p:cNvPicPr/>
          <p:nvPr/>
        </p:nvPicPr>
        <p:blipFill>
          <a:blip r:embed="rId1"/>
          <a:stretch/>
        </p:blipFill>
        <p:spPr>
          <a:xfrm>
            <a:off x="3995640" y="2924280"/>
            <a:ext cx="2006640" cy="27032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Медно – духовые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Труб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Тромбон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Туб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Валторн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труба"/>
          <p:cNvPicPr/>
          <p:nvPr/>
        </p:nvPicPr>
        <p:blipFill>
          <a:blip r:embed="rId2"/>
          <a:stretch/>
        </p:blipFill>
        <p:spPr>
          <a:xfrm>
            <a:off x="3059280" y="1341360"/>
            <a:ext cx="2736720" cy="1224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тромбон"/>
          <p:cNvPicPr/>
          <p:nvPr/>
        </p:nvPicPr>
        <p:blipFill>
          <a:blip r:embed="rId3"/>
          <a:stretch/>
        </p:blipFill>
        <p:spPr>
          <a:xfrm>
            <a:off x="6099120" y="2349360"/>
            <a:ext cx="3044880" cy="1016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валторна"/>
          <p:cNvPicPr/>
          <p:nvPr/>
        </p:nvPicPr>
        <p:blipFill>
          <a:blip r:embed="rId4"/>
          <a:stretch/>
        </p:blipFill>
        <p:spPr>
          <a:xfrm>
            <a:off x="6156360" y="4398840"/>
            <a:ext cx="2278080" cy="245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6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Ударные инструменты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Picture 4" descr="барабан"/>
          <p:cNvPicPr/>
          <p:nvPr/>
        </p:nvPicPr>
        <p:blipFill>
          <a:blip r:embed="rId1"/>
          <a:stretch/>
        </p:blipFill>
        <p:spPr>
          <a:xfrm rot="20415600">
            <a:off x="641520" y="1376280"/>
            <a:ext cx="2087280" cy="1625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литавры"/>
          <p:cNvPicPr/>
          <p:nvPr/>
        </p:nvPicPr>
        <p:blipFill>
          <a:blip r:embed="rId2"/>
          <a:stretch/>
        </p:blipFill>
        <p:spPr>
          <a:xfrm rot="556200">
            <a:off x="5622840" y="1322280"/>
            <a:ext cx="2374920" cy="1714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triangle"/>
          <p:cNvPicPr/>
          <p:nvPr/>
        </p:nvPicPr>
        <p:blipFill>
          <a:blip r:embed="rId3"/>
          <a:stretch/>
        </p:blipFill>
        <p:spPr>
          <a:xfrm rot="1381800">
            <a:off x="922320" y="4095360"/>
            <a:ext cx="1574640" cy="1752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tarelki"/>
          <p:cNvPicPr/>
          <p:nvPr/>
        </p:nvPicPr>
        <p:blipFill>
          <a:blip r:embed="rId4"/>
          <a:stretch/>
        </p:blipFill>
        <p:spPr>
          <a:xfrm>
            <a:off x="4786200" y="4071960"/>
            <a:ext cx="3818160" cy="215892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6" descr=""/>
          <p:cNvPicPr/>
          <p:nvPr/>
        </p:nvPicPr>
        <p:blipFill>
          <a:blip r:embed="rId5"/>
          <a:stretch/>
        </p:blipFill>
        <p:spPr>
          <a:xfrm>
            <a:off x="944640" y="2925720"/>
            <a:ext cx="3389400" cy="98100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7" descr=""/>
          <p:cNvPicPr/>
          <p:nvPr/>
        </p:nvPicPr>
        <p:blipFill>
          <a:blip r:embed="rId6"/>
          <a:stretch/>
        </p:blipFill>
        <p:spPr>
          <a:xfrm>
            <a:off x="4541760" y="2876400"/>
            <a:ext cx="3071880" cy="89712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8" descr=""/>
          <p:cNvPicPr/>
          <p:nvPr/>
        </p:nvPicPr>
        <p:blipFill>
          <a:blip r:embed="rId7"/>
          <a:stretch/>
        </p:blipFill>
        <p:spPr>
          <a:xfrm>
            <a:off x="182520" y="5803920"/>
            <a:ext cx="4370400" cy="90180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9" descr=""/>
          <p:cNvPicPr/>
          <p:nvPr/>
        </p:nvPicPr>
        <p:blipFill>
          <a:blip r:embed="rId8"/>
          <a:stretch/>
        </p:blipFill>
        <p:spPr>
          <a:xfrm>
            <a:off x="5254560" y="5962680"/>
            <a:ext cx="3067200" cy="9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Содержимое 5" descr="buben.jpg"/>
          <p:cNvPicPr/>
          <p:nvPr/>
        </p:nvPicPr>
        <p:blipFill>
          <a:blip r:embed="rId1"/>
          <a:stretch/>
        </p:blipFill>
        <p:spPr>
          <a:xfrm>
            <a:off x="500040" y="285840"/>
            <a:ext cx="3027240" cy="2158920"/>
          </a:xfrm>
          <a:prstGeom prst="rect">
            <a:avLst/>
          </a:prstGeom>
          <a:ln w="0">
            <a:noFill/>
          </a:ln>
        </p:spPr>
      </p:pic>
      <p:pic>
        <p:nvPicPr>
          <p:cNvPr id="158" name="Содержимое 9" descr="colokola.jpg"/>
          <p:cNvPicPr/>
          <p:nvPr/>
        </p:nvPicPr>
        <p:blipFill>
          <a:blip r:embed="rId2"/>
          <a:stretch/>
        </p:blipFill>
        <p:spPr>
          <a:xfrm>
            <a:off x="5000760" y="428760"/>
            <a:ext cx="3160440" cy="421452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6" descr=""/>
          <p:cNvPicPr/>
          <p:nvPr/>
        </p:nvPicPr>
        <p:blipFill>
          <a:blip r:embed="rId3"/>
          <a:stretch/>
        </p:blipFill>
        <p:spPr>
          <a:xfrm>
            <a:off x="822240" y="2305080"/>
            <a:ext cx="2414520" cy="90180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10" descr=""/>
          <p:cNvPicPr/>
          <p:nvPr/>
        </p:nvPicPr>
        <p:blipFill>
          <a:blip r:embed="rId4"/>
          <a:stretch/>
        </p:blipFill>
        <p:spPr>
          <a:xfrm>
            <a:off x="4748040" y="4541760"/>
            <a:ext cx="4267440" cy="11034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1" descr="OS34062.jpg"/>
          <p:cNvPicPr/>
          <p:nvPr/>
        </p:nvPicPr>
        <p:blipFill>
          <a:blip r:embed="rId5"/>
          <a:stretch/>
        </p:blipFill>
        <p:spPr>
          <a:xfrm>
            <a:off x="285840" y="3071880"/>
            <a:ext cx="2800440" cy="357192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12" descr=""/>
          <p:cNvPicPr/>
          <p:nvPr/>
        </p:nvPicPr>
        <p:blipFill>
          <a:blip r:embed="rId6"/>
          <a:stretch/>
        </p:blipFill>
        <p:spPr>
          <a:xfrm>
            <a:off x="2822400" y="5614920"/>
            <a:ext cx="379116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rassadka"/>
          <p:cNvPicPr/>
          <p:nvPr/>
        </p:nvPicPr>
        <p:blipFill>
          <a:blip r:embed="rId1"/>
          <a:stretch/>
        </p:blipFill>
        <p:spPr>
          <a:xfrm>
            <a:off x="-20520" y="1071720"/>
            <a:ext cx="9164520" cy="57862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WordArt 8"/>
          <p:cNvSpPr txBox="1"/>
          <p:nvPr/>
        </p:nvSpPr>
        <p:spPr>
          <a:xfrm>
            <a:off x="1692360" y="260280"/>
            <a:ext cx="59054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хема оркестр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я вам моё известно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менит я повсеместно,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 в оркестре – главный бас,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тому что ……..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онтраба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1763640" y="189000"/>
            <a:ext cx="57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гад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0" name="Picture 10" descr="kontrabas"/>
          <p:cNvPicPr/>
          <p:nvPr/>
        </p:nvPicPr>
        <p:blipFill>
          <a:blip r:embed="rId1"/>
          <a:stretch/>
        </p:blipFill>
        <p:spPr>
          <a:xfrm rot="832800">
            <a:off x="5773320" y="1841400"/>
            <a:ext cx="223380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6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64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6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16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0:07:04Z</dcterms:created>
  <dc:creator>Andrei</dc:creator>
  <dc:description/>
  <dc:language>en-US</dc:language>
  <cp:lastModifiedBy>123ARZ</cp:lastModifiedBy>
  <dcterms:modified xsi:type="dcterms:W3CDTF">2012-08-14T09:41:13Z</dcterms:modified>
  <cp:revision>32</cp:revision>
  <dc:subject/>
  <dc:title>«Самый совершенный инструмент»</dc:title>
</cp:coreProperties>
</file>