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click.wav" ContentType="audio/x-wav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108E-33B1-4B7F-A532-847B654E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B3E5-B288-464B-AEC5-492B16B9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3D08-57E6-4FCF-9739-DD4AF394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A64F-F75E-48E1-AED8-94FAC868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5042-8738-4DAA-B2C8-478503D3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3A4E-6A4D-4B4B-8ECA-45AD6F4E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74F9-3CB7-4044-BE11-E653EB77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C38E-AD05-434A-8511-989B62F6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027E-10DB-42D9-95C5-2B57B0E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03DC-4660-4093-88C5-BB37B1E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14E1-24EE-41AF-9E09-C5F3BFB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CE1F-586A-43D4-8189-20771C1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4BC-ED94-4FC1-ACDE-BB7F65E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FA14-B030-423E-850A-4802BFE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418B-5F43-4CC4-931A-B1E6B246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8BD6-C82F-4832-A87D-21A3EC88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74B4-5D73-4DDC-9936-4DFE2F35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6B4E-6CBB-41D3-B39B-BF470726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29F3-F2A3-4E2E-98DD-5EFB9009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DB03-D143-47E2-94CF-56B69538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2B62-3FC8-478D-AB7D-4080581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2E48-839D-434C-AC8B-671BCC0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008C-DECD-4F46-87D4-086D7852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88B4-1B42-464D-B059-C0C20A1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9BF1-5D8A-4C60-B69F-896CED2EAE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2F2B-4892-4955-8623-A5C3D72EEB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8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9.jpeg"/><Relationship Id="rId9" Type="http://schemas.openxmlformats.org/officeDocument/2006/relationships/image" Target="../media/image35.jpeg"/><Relationship Id="rId10" Type="http://schemas.openxmlformats.org/officeDocument/2006/relationships/image" Target="../media/image29.jpeg"/><Relationship Id="rId11" Type="http://schemas.openxmlformats.org/officeDocument/2006/relationships/image" Target="../media/image32.jpeg"/><Relationship Id="rId12" Type="http://schemas.openxmlformats.org/officeDocument/2006/relationships/image" Target="../media/image36.jpeg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«Самый совершенный «инструмент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85600" y="4000680"/>
            <a:ext cx="607212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полн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осарева Валерия Никола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еподаватель теоретических дисцип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АУДОД «Детская школа искусств», учитель музыки МАОУСОШ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.Старая Русса Новгород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7014960" cy="378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сдержав тогда улыбк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звенели сёстры ……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хихикал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иликали!</a:t>
            </a:r>
            <a:br>
              <a:rPr sz="32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16" descr="violin"/>
          <p:cNvPicPr/>
          <p:nvPr/>
        </p:nvPicPr>
        <p:blipFill>
          <a:blip r:embed="rId1"/>
          <a:stretch/>
        </p:blipFill>
        <p:spPr>
          <a:xfrm rot="1106400">
            <a:off x="5734080" y="3165480"/>
            <a:ext cx="1349280" cy="220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violin"/>
          <p:cNvPicPr/>
          <p:nvPr/>
        </p:nvPicPr>
        <p:blipFill>
          <a:blip r:embed="rId2"/>
          <a:stretch/>
        </p:blipFill>
        <p:spPr>
          <a:xfrm rot="1106400">
            <a:off x="6815160" y="3514680"/>
            <a:ext cx="1349280" cy="220680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" descr=""/>
          <p:cNvPicPr/>
          <p:nvPr/>
        </p:nvPicPr>
        <p:blipFill>
          <a:blip r:embed="rId3"/>
          <a:stretch/>
        </p:blipFill>
        <p:spPr>
          <a:xfrm>
            <a:off x="4791240" y="2335320"/>
            <a:ext cx="2530440" cy="74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48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violin"/>
          <p:cNvPicPr/>
          <p:nvPr/>
        </p:nvPicPr>
        <p:blipFill>
          <a:blip r:embed="rId1"/>
          <a:stretch/>
        </p:blipFill>
        <p:spPr>
          <a:xfrm rot="19105200">
            <a:off x="611280" y="4724280"/>
            <a:ext cx="1131840" cy="1630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ello"/>
          <p:cNvPicPr/>
          <p:nvPr/>
        </p:nvPicPr>
        <p:blipFill>
          <a:blip r:embed="rId2"/>
          <a:stretch/>
        </p:blipFill>
        <p:spPr>
          <a:xfrm rot="17472000">
            <a:off x="6205320" y="4458960"/>
            <a:ext cx="2689560" cy="1492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oboe"/>
          <p:cNvPicPr/>
          <p:nvPr/>
        </p:nvPicPr>
        <p:blipFill>
          <a:blip r:embed="rId3"/>
          <a:stretch/>
        </p:blipFill>
        <p:spPr>
          <a:xfrm rot="19773600">
            <a:off x="5435640" y="980640"/>
            <a:ext cx="1760400" cy="168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fagot"/>
          <p:cNvPicPr/>
          <p:nvPr/>
        </p:nvPicPr>
        <p:blipFill>
          <a:blip r:embed="rId4"/>
          <a:stretch/>
        </p:blipFill>
        <p:spPr>
          <a:xfrm rot="19729800">
            <a:off x="7093080" y="2204640"/>
            <a:ext cx="1709640" cy="1505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litavry"/>
          <p:cNvPicPr/>
          <p:nvPr/>
        </p:nvPicPr>
        <p:blipFill>
          <a:blip r:embed="rId5"/>
          <a:stretch/>
        </p:blipFill>
        <p:spPr>
          <a:xfrm>
            <a:off x="4500720" y="260280"/>
            <a:ext cx="1079280" cy="1171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valtorna"/>
          <p:cNvPicPr/>
          <p:nvPr/>
        </p:nvPicPr>
        <p:blipFill>
          <a:blip r:embed="rId6"/>
          <a:stretch/>
        </p:blipFill>
        <p:spPr>
          <a:xfrm rot="7921200">
            <a:off x="7007040" y="561960"/>
            <a:ext cx="1800360" cy="134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arfa"/>
          <p:cNvPicPr/>
          <p:nvPr/>
        </p:nvPicPr>
        <p:blipFill>
          <a:blip r:embed="rId7"/>
          <a:stretch/>
        </p:blipFill>
        <p:spPr>
          <a:xfrm>
            <a:off x="179280" y="1268280"/>
            <a:ext cx="1511280" cy="331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tuba"/>
          <p:cNvPicPr/>
          <p:nvPr/>
        </p:nvPicPr>
        <p:blipFill>
          <a:blip r:embed="rId8"/>
          <a:stretch/>
        </p:blipFill>
        <p:spPr>
          <a:xfrm rot="19702800">
            <a:off x="1692360" y="404640"/>
            <a:ext cx="140472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MPj04094290000[1]"/>
          <p:cNvPicPr/>
          <p:nvPr/>
        </p:nvPicPr>
        <p:blipFill>
          <a:blip r:embed="rId9"/>
          <a:stretch/>
        </p:blipFill>
        <p:spPr>
          <a:xfrm>
            <a:off x="2771640" y="2421000"/>
            <a:ext cx="324036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violin"/>
          <p:cNvPicPr/>
          <p:nvPr/>
        </p:nvPicPr>
        <p:blipFill>
          <a:blip r:embed="rId10"/>
          <a:stretch/>
        </p:blipFill>
        <p:spPr>
          <a:xfrm rot="19105200">
            <a:off x="1476360" y="3429000"/>
            <a:ext cx="1131840" cy="1630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litavry"/>
          <p:cNvPicPr/>
          <p:nvPr/>
        </p:nvPicPr>
        <p:blipFill>
          <a:blip r:embed="rId11"/>
          <a:stretch/>
        </p:blipFill>
        <p:spPr>
          <a:xfrm>
            <a:off x="3276720" y="260280"/>
            <a:ext cx="1047600" cy="113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larnet"/>
          <p:cNvPicPr/>
          <p:nvPr/>
        </p:nvPicPr>
        <p:blipFill>
          <a:blip r:embed="rId12"/>
          <a:stretch/>
        </p:blipFill>
        <p:spPr>
          <a:xfrm rot="20107200">
            <a:off x="684000" y="115560"/>
            <a:ext cx="28548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WordArt 15"/>
          <p:cNvSpPr txBox="1"/>
          <p:nvPr/>
        </p:nvSpPr>
        <p:spPr>
          <a:xfrm>
            <a:off x="2771640" y="6021360"/>
            <a:ext cx="316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рижёр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писок источников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928800" y="1028880"/>
            <a:ext cx="7143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1. Арановский М., Михеева Л., Фрумкин В. Поговорим о музыке – Ленинград: Музыка, 1965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2. фото и рисунки инструментов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c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нтернет-ресурсо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3. Клёнов А.С. Дет.энцикл.: Музыка – М.:ООО «Фирма «Издательство АСТ», 1999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 Куберский И.Ю., Минина Е.В.  Энциклопедия юных музыкантов – СПб.: ТОО «Диамант», ООО «Золотой век», 1996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857160" y="642960"/>
            <a:ext cx="7429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резентация «Самый совершенный «инструмент» знакомит  с инструментами, которые входят в состав симфонического оркестра.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 презентации использованы фото и картинки инструментов, стихи об инструментах, схема оркестра. Управление слайдами и их содержанием осуществляется щелчком мыши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Струнно – смычковая групп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Скрип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Аль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Виолончел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Контраба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violin"/>
          <p:cNvPicPr/>
          <p:nvPr/>
        </p:nvPicPr>
        <p:blipFill>
          <a:blip r:embed="rId1"/>
          <a:stretch/>
        </p:blipFill>
        <p:spPr>
          <a:xfrm rot="1106400">
            <a:off x="4911840" y="1392120"/>
            <a:ext cx="842760" cy="1271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violin"/>
          <p:cNvPicPr/>
          <p:nvPr/>
        </p:nvPicPr>
        <p:blipFill>
          <a:blip r:embed="rId2"/>
          <a:stretch/>
        </p:blipFill>
        <p:spPr>
          <a:xfrm rot="766200">
            <a:off x="3430080" y="2595240"/>
            <a:ext cx="1024200" cy="1417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violin"/>
          <p:cNvPicPr/>
          <p:nvPr/>
        </p:nvPicPr>
        <p:blipFill>
          <a:blip r:embed="rId3"/>
          <a:stretch/>
        </p:blipFill>
        <p:spPr>
          <a:xfrm rot="682800">
            <a:off x="5395680" y="2637000"/>
            <a:ext cx="1650960" cy="271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kontrabas"/>
          <p:cNvPicPr/>
          <p:nvPr/>
        </p:nvPicPr>
        <p:blipFill>
          <a:blip r:embed="rId4"/>
          <a:stretch/>
        </p:blipFill>
        <p:spPr>
          <a:xfrm rot="630000">
            <a:off x="7114680" y="2911320"/>
            <a:ext cx="171288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Деревянно - духовые инструмент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Флей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Гоб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Кларн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Фаго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oboe"/>
          <p:cNvPicPr/>
          <p:nvPr/>
        </p:nvPicPr>
        <p:blipFill>
          <a:blip r:embed="rId1"/>
          <a:stretch/>
        </p:blipFill>
        <p:spPr>
          <a:xfrm rot="3154200">
            <a:off x="4334400" y="2008800"/>
            <a:ext cx="9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флейта"/>
          <p:cNvPicPr/>
          <p:nvPr/>
        </p:nvPicPr>
        <p:blipFill>
          <a:blip r:embed="rId2"/>
          <a:stretch/>
        </p:blipFill>
        <p:spPr>
          <a:xfrm>
            <a:off x="3419640" y="1341360"/>
            <a:ext cx="317484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фагот"/>
          <p:cNvPicPr/>
          <p:nvPr/>
        </p:nvPicPr>
        <p:blipFill>
          <a:blip r:embed="rId3"/>
          <a:stretch/>
        </p:blipFill>
        <p:spPr>
          <a:xfrm>
            <a:off x="5435640" y="436572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larinette"/>
          <p:cNvPicPr/>
          <p:nvPr/>
        </p:nvPicPr>
        <p:blipFill>
          <a:blip r:embed="rId4"/>
          <a:stretch/>
        </p:blipFill>
        <p:spPr>
          <a:xfrm rot="3462000">
            <a:off x="5417280" y="2293920"/>
            <a:ext cx="76212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tuba"/>
          <p:cNvPicPr/>
          <p:nvPr/>
        </p:nvPicPr>
        <p:blipFill>
          <a:blip r:embed="rId1"/>
          <a:stretch/>
        </p:blipFill>
        <p:spPr>
          <a:xfrm>
            <a:off x="3995640" y="2924280"/>
            <a:ext cx="2006640" cy="2703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Медно – духовые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руб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ромбо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б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Валтор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труба"/>
          <p:cNvPicPr/>
          <p:nvPr/>
        </p:nvPicPr>
        <p:blipFill>
          <a:blip r:embed="rId2"/>
          <a:stretch/>
        </p:blipFill>
        <p:spPr>
          <a:xfrm>
            <a:off x="3059280" y="1341360"/>
            <a:ext cx="273672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тромбон"/>
          <p:cNvPicPr/>
          <p:nvPr/>
        </p:nvPicPr>
        <p:blipFill>
          <a:blip r:embed="rId3"/>
          <a:stretch/>
        </p:blipFill>
        <p:spPr>
          <a:xfrm>
            <a:off x="6099120" y="2349360"/>
            <a:ext cx="3044880" cy="1016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валторна"/>
          <p:cNvPicPr/>
          <p:nvPr/>
        </p:nvPicPr>
        <p:blipFill>
          <a:blip r:embed="rId4"/>
          <a:stretch/>
        </p:blipFill>
        <p:spPr>
          <a:xfrm>
            <a:off x="6156360" y="4398840"/>
            <a:ext cx="2278080" cy="24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Ударные инструмент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4" descr="барабан"/>
          <p:cNvPicPr/>
          <p:nvPr/>
        </p:nvPicPr>
        <p:blipFill>
          <a:blip r:embed="rId1"/>
          <a:stretch/>
        </p:blipFill>
        <p:spPr>
          <a:xfrm rot="20415600">
            <a:off x="641520" y="1376280"/>
            <a:ext cx="2087280" cy="1625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литавры"/>
          <p:cNvPicPr/>
          <p:nvPr/>
        </p:nvPicPr>
        <p:blipFill>
          <a:blip r:embed="rId2"/>
          <a:stretch/>
        </p:blipFill>
        <p:spPr>
          <a:xfrm rot="556200">
            <a:off x="5622840" y="1322280"/>
            <a:ext cx="2374920" cy="1714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triangle"/>
          <p:cNvPicPr/>
          <p:nvPr/>
        </p:nvPicPr>
        <p:blipFill>
          <a:blip r:embed="rId3"/>
          <a:stretch/>
        </p:blipFill>
        <p:spPr>
          <a:xfrm rot="1381800">
            <a:off x="922320" y="4095360"/>
            <a:ext cx="1574640" cy="1752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tarelki"/>
          <p:cNvPicPr/>
          <p:nvPr/>
        </p:nvPicPr>
        <p:blipFill>
          <a:blip r:embed="rId4"/>
          <a:stretch/>
        </p:blipFill>
        <p:spPr>
          <a:xfrm>
            <a:off x="4786200" y="4071960"/>
            <a:ext cx="3818160" cy="215892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6" descr=""/>
          <p:cNvPicPr/>
          <p:nvPr/>
        </p:nvPicPr>
        <p:blipFill>
          <a:blip r:embed="rId5"/>
          <a:stretch/>
        </p:blipFill>
        <p:spPr>
          <a:xfrm>
            <a:off x="944640" y="2925720"/>
            <a:ext cx="3389400" cy="98100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7" descr=""/>
          <p:cNvPicPr/>
          <p:nvPr/>
        </p:nvPicPr>
        <p:blipFill>
          <a:blip r:embed="rId6"/>
          <a:stretch/>
        </p:blipFill>
        <p:spPr>
          <a:xfrm>
            <a:off x="4541760" y="2876400"/>
            <a:ext cx="3071880" cy="89712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8" descr=""/>
          <p:cNvPicPr/>
          <p:nvPr/>
        </p:nvPicPr>
        <p:blipFill>
          <a:blip r:embed="rId7"/>
          <a:stretch/>
        </p:blipFill>
        <p:spPr>
          <a:xfrm>
            <a:off x="182520" y="5803920"/>
            <a:ext cx="4370400" cy="90180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9" descr=""/>
          <p:cNvPicPr/>
          <p:nvPr/>
        </p:nvPicPr>
        <p:blipFill>
          <a:blip r:embed="rId8"/>
          <a:stretch/>
        </p:blipFill>
        <p:spPr>
          <a:xfrm>
            <a:off x="5254560" y="5962680"/>
            <a:ext cx="306720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Содержимое 5" descr="buben.jpg"/>
          <p:cNvPicPr/>
          <p:nvPr/>
        </p:nvPicPr>
        <p:blipFill>
          <a:blip r:embed="rId1"/>
          <a:stretch/>
        </p:blipFill>
        <p:spPr>
          <a:xfrm>
            <a:off x="500040" y="285840"/>
            <a:ext cx="3027240" cy="215892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9" descr="colokola.jpg"/>
          <p:cNvPicPr/>
          <p:nvPr/>
        </p:nvPicPr>
        <p:blipFill>
          <a:blip r:embed="rId2"/>
          <a:stretch/>
        </p:blipFill>
        <p:spPr>
          <a:xfrm>
            <a:off x="5000760" y="428760"/>
            <a:ext cx="3160440" cy="421452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6" descr=""/>
          <p:cNvPicPr/>
          <p:nvPr/>
        </p:nvPicPr>
        <p:blipFill>
          <a:blip r:embed="rId3"/>
          <a:stretch/>
        </p:blipFill>
        <p:spPr>
          <a:xfrm>
            <a:off x="822240" y="2305080"/>
            <a:ext cx="2414520" cy="90180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10" descr=""/>
          <p:cNvPicPr/>
          <p:nvPr/>
        </p:nvPicPr>
        <p:blipFill>
          <a:blip r:embed="rId4"/>
          <a:stretch/>
        </p:blipFill>
        <p:spPr>
          <a:xfrm>
            <a:off x="4748040" y="4541760"/>
            <a:ext cx="4267440" cy="1103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1" descr="OS34062.jpg"/>
          <p:cNvPicPr/>
          <p:nvPr/>
        </p:nvPicPr>
        <p:blipFill>
          <a:blip r:embed="rId5"/>
          <a:stretch/>
        </p:blipFill>
        <p:spPr>
          <a:xfrm>
            <a:off x="285840" y="3071880"/>
            <a:ext cx="2800440" cy="357192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2" descr=""/>
          <p:cNvPicPr/>
          <p:nvPr/>
        </p:nvPicPr>
        <p:blipFill>
          <a:blip r:embed="rId6"/>
          <a:stretch/>
        </p:blipFill>
        <p:spPr>
          <a:xfrm>
            <a:off x="2822400" y="5614920"/>
            <a:ext cx="379116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rassadka"/>
          <p:cNvPicPr/>
          <p:nvPr/>
        </p:nvPicPr>
        <p:blipFill>
          <a:blip r:embed="rId1"/>
          <a:stretch/>
        </p:blipFill>
        <p:spPr>
          <a:xfrm>
            <a:off x="-20520" y="1071720"/>
            <a:ext cx="9164520" cy="57862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8"/>
          <p:cNvSpPr txBox="1"/>
          <p:nvPr/>
        </p:nvSpPr>
        <p:spPr>
          <a:xfrm>
            <a:off x="1692360" y="260280"/>
            <a:ext cx="5905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хема оркестр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я вам моё известно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менит я повсеместно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в оркестре – главный бас,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тому что …….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нтраба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763640" y="189000"/>
            <a:ext cx="57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10" descr="kontrabas"/>
          <p:cNvPicPr/>
          <p:nvPr/>
        </p:nvPicPr>
        <p:blipFill>
          <a:blip r:embed="rId1"/>
          <a:stretch/>
        </p:blipFill>
        <p:spPr>
          <a:xfrm rot="832800">
            <a:off x="5773320" y="1841400"/>
            <a:ext cx="22338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4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6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16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0:07:04Z</dcterms:created>
  <dc:creator>Andrei</dc:creator>
  <dc:description/>
  <dc:language>en-US</dc:language>
  <cp:lastModifiedBy>123ARZ</cp:lastModifiedBy>
  <dcterms:modified xsi:type="dcterms:W3CDTF">2012-08-14T09:41:13Z</dcterms:modified>
  <cp:revision>32</cp:revision>
  <dc:subject/>
  <dc:title>«Самый совершенный инструмент»</dc:title>
</cp:coreProperties>
</file>