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137-75EE-465D-87C8-C8759B58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8CC-BEBB-4098-B33F-C1C59F9D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ABE-11C3-4F29-8C50-D0DD68B8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41B-A5AF-433D-9D0E-C21F5006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FC3-7EBD-441B-AF9B-F9B7F6FC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C40-25B9-42A1-AA10-CDCFB358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9A4-EB4E-4C8C-A988-186DEF60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CC5-F4F5-4A12-B7D7-76FF6DC8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555-03BC-487B-BA3F-B96C6739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B7A-63A6-4F12-BD50-C6C041C5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60F-3122-415C-922E-ADE2B74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709-5922-4F94-9CFA-942B86A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14CF-D96A-41C7-A6F2-4CDE4A578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d Mei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5229000"/>
            <a:ext cx="4208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гтярева Еле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rcRect l="1542" t="21527" r="58313" b="55612"/>
          <a:stretch/>
        </p:blipFill>
        <p:spPr>
          <a:xfrm>
            <a:off x="395280" y="765000"/>
            <a:ext cx="3240000" cy="148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писка Премиум позваляет создавать неограниченное число карт, прикреплять фай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23214" t="7958" r="-83" b="57035"/>
          <a:stretch/>
        </p:blipFill>
        <p:spPr>
          <a:xfrm>
            <a:off x="428760" y="1571760"/>
            <a:ext cx="3676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апы работы в bubbl.us и mindmeister.com очень похожи, судите 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indmeister удобно использовать в том случае, если необходимо выстроить карту интернет-проекта или обзор интернет-ресурсов по какой-то тематике, ведь его главное достоинство - возможность "подвязать" гиперссыл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56480" cy="5424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050920" y="4149720"/>
            <a:ext cx="1766880" cy="579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егистрация и в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32480" y="642960"/>
            <a:ext cx="3671640" cy="369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49240" y="746280"/>
            <a:ext cx="4332240" cy="1431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36720" y="838080"/>
            <a:ext cx="267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оздайте новую ка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нель упра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rcRect l="0" t="42877" r="0" b="0"/>
          <a:stretch/>
        </p:blipFill>
        <p:spPr>
          <a:xfrm>
            <a:off x="755640" y="1484280"/>
            <a:ext cx="7610400" cy="1440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1194840" y="3753000"/>
            <a:ext cx="15217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ба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703320" y="3753000"/>
            <a:ext cx="134208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517360" y="3753000"/>
            <a:ext cx="143496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е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7098840" y="3753000"/>
            <a:ext cx="174888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п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1"/>
          <p:cNvCxnSpPr>
            <a:stCxn id="51" idx="0"/>
          </p:cNvCxnSpPr>
          <p:nvPr/>
        </p:nvCxnSpPr>
        <p:spPr>
          <a:xfrm flipV="1">
            <a:off x="1955520" y="2275920"/>
            <a:ext cx="1392840" cy="14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12"/>
          <p:cNvCxnSpPr/>
          <p:nvPr/>
        </p:nvCxnSpPr>
        <p:spPr>
          <a:xfrm flipV="1">
            <a:off x="3635280" y="2275920"/>
            <a:ext cx="1393200" cy="14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13"/>
          <p:cNvCxnSpPr/>
          <p:nvPr/>
        </p:nvCxnSpPr>
        <p:spPr>
          <a:xfrm flipV="1">
            <a:off x="6659280" y="2204640"/>
            <a:ext cx="73800" cy="151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Прямая со стрелкой 14"/>
          <p:cNvCxnSpPr/>
          <p:nvPr/>
        </p:nvCxnSpPr>
        <p:spPr>
          <a:xfrm flipV="1">
            <a:off x="7596000" y="2275920"/>
            <a:ext cx="1080" cy="14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строй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I:\мк\модуль 4\map\64.jpg"/>
          <p:cNvPicPr/>
          <p:nvPr/>
        </p:nvPicPr>
        <p:blipFill>
          <a:blip r:embed="rId1"/>
          <a:stretch/>
        </p:blipFill>
        <p:spPr>
          <a:xfrm>
            <a:off x="928800" y="1643040"/>
            <a:ext cx="54180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157000" y="250020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есь можно выбрать я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I:\мк\модуль 4\map\53.jpg"/>
          <p:cNvPicPr/>
          <p:nvPr/>
        </p:nvPicPr>
        <p:blipFill>
          <a:blip r:embed="rId2"/>
          <a:stretch/>
        </p:blipFill>
        <p:spPr>
          <a:xfrm>
            <a:off x="6643800" y="428760"/>
            <a:ext cx="1271520" cy="928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6050160" cy="4978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900000" y="620640"/>
            <a:ext cx="2100240" cy="289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ублик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651640" y="3573360"/>
            <a:ext cx="309708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щитить паро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651640" y="3141720"/>
            <a:ext cx="3313080" cy="398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решить писать вс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ойства к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I:\мк\модуль 4\map\61.jpg"/>
          <p:cNvPicPr/>
          <p:nvPr/>
        </p:nvPicPr>
        <p:blipFill>
          <a:blip r:embed="rId1"/>
          <a:stretch/>
        </p:blipFill>
        <p:spPr>
          <a:xfrm>
            <a:off x="428760" y="1285920"/>
            <a:ext cx="4503600" cy="385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:\мк\модуль 4\map\62.jpg"/>
          <p:cNvPicPr/>
          <p:nvPr/>
        </p:nvPicPr>
        <p:blipFill>
          <a:blip r:embed="rId2"/>
          <a:srcRect l="0" t="10417" r="0" b="0"/>
          <a:stretch/>
        </p:blipFill>
        <p:spPr>
          <a:xfrm>
            <a:off x="4000680" y="3071880"/>
            <a:ext cx="478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мпорт интеллект-ка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I:\мк\модуль 4\map\63.jpg"/>
          <p:cNvPicPr/>
          <p:nvPr/>
        </p:nvPicPr>
        <p:blipFill>
          <a:blip r:embed="rId1"/>
          <a:srcRect l="0" t="18305" r="0" b="0"/>
          <a:stretch/>
        </p:blipFill>
        <p:spPr>
          <a:xfrm>
            <a:off x="1071720" y="1428840"/>
            <a:ext cx="68878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ел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I:\мк\модуль 4\map\53.jpg"/>
          <p:cNvPicPr/>
          <p:nvPr/>
        </p:nvPicPr>
        <p:blipFill>
          <a:blip r:embed="rId1"/>
          <a:stretch/>
        </p:blipFill>
        <p:spPr>
          <a:xfrm>
            <a:off x="4324320" y="3247920"/>
            <a:ext cx="495360" cy="36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I:\мк\модуль 4\map\60.jpg"/>
          <p:cNvPicPr/>
          <p:nvPr/>
        </p:nvPicPr>
        <p:blipFill>
          <a:blip r:embed="rId2"/>
          <a:stretch/>
        </p:blipFill>
        <p:spPr>
          <a:xfrm>
            <a:off x="1214280" y="1214280"/>
            <a:ext cx="600084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3:50:46Z</dcterms:created>
  <dc:creator>Елена</dc:creator>
  <dc:description/>
  <dc:language>en-US</dc:language>
  <cp:lastModifiedBy>Admin</cp:lastModifiedBy>
  <dcterms:modified xsi:type="dcterms:W3CDTF">2012-05-21T07:26:25Z</dcterms:modified>
  <cp:revision>11</cp:revision>
  <dc:subject/>
  <dc:title>Слайд 1</dc:title>
</cp:coreProperties>
</file>