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9A3-8456-476B-A1C4-6AE36CF8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B82-FEED-4A65-A2E0-DC1BCB17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58E-3A80-46F4-B062-97957135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453-3E50-4A9C-AF67-E5B818D9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187-9B89-442B-B89C-A1F1103A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619-EAFC-4668-B963-9972BB9C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1EF-7550-4527-AA8B-D8345679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773-6F8F-40F0-A2BA-2A398621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F54-4131-4A80-BE40-78F4A920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7A0-8D3D-4F89-839E-770C1AF0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22F-9D4D-4A5F-B934-E8B5D968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01F-BE80-47EE-B809-B7F9EBDF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22A0-7C8B-4B79-A35E-7F7ACA71B2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nd Mei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5229000"/>
            <a:ext cx="4208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гтярева Елена Александ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rcRect l="1542" t="21527" r="58313" b="55612"/>
          <a:stretch/>
        </p:blipFill>
        <p:spPr>
          <a:xfrm>
            <a:off x="395280" y="765000"/>
            <a:ext cx="3240000" cy="1481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11280" y="274680"/>
            <a:ext cx="447516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писка Премиум позваляет создавать неограниченное число карт, прикреплять фай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23214" t="7958" r="-83" b="57035"/>
          <a:stretch/>
        </p:blipFill>
        <p:spPr>
          <a:xfrm>
            <a:off x="428760" y="1571760"/>
            <a:ext cx="36766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тапы работы в bubbl.us и mindmeister.com очень похожи, судите с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indmeister удобно использовать в том случае, если необходимо выстроить карту интернет-проекта или обзор интернет-ресурсов по какой-то тематике, ведь его главное достоинство - возможность "подвязать" гиперссыл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56480" cy="5424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050920" y="4149720"/>
            <a:ext cx="1766880" cy="579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регистрация и в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632480" y="642960"/>
            <a:ext cx="3671640" cy="3693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849240" y="746280"/>
            <a:ext cx="4332240" cy="1431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936720" y="838080"/>
            <a:ext cx="267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оздайте новую кар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нель упра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rcRect l="0" t="42877" r="0" b="0"/>
          <a:stretch/>
        </p:blipFill>
        <p:spPr>
          <a:xfrm>
            <a:off x="755640" y="1484280"/>
            <a:ext cx="7610400" cy="1440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1194840" y="3753000"/>
            <a:ext cx="15217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бав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703320" y="3753000"/>
            <a:ext cx="134208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да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517360" y="3753000"/>
            <a:ext cx="143496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ре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7098840" y="3753000"/>
            <a:ext cx="174888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п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11"/>
          <p:cNvCxnSpPr>
            <a:stCxn id="51" idx="0"/>
          </p:cNvCxnSpPr>
          <p:nvPr/>
        </p:nvCxnSpPr>
        <p:spPr>
          <a:xfrm flipV="1">
            <a:off x="1955520" y="2275920"/>
            <a:ext cx="1392840" cy="147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Прямая со стрелкой 12"/>
          <p:cNvCxnSpPr/>
          <p:nvPr/>
        </p:nvCxnSpPr>
        <p:spPr>
          <a:xfrm flipV="1">
            <a:off x="3635280" y="2275920"/>
            <a:ext cx="1393200" cy="147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Прямая со стрелкой 13"/>
          <p:cNvCxnSpPr/>
          <p:nvPr/>
        </p:nvCxnSpPr>
        <p:spPr>
          <a:xfrm flipV="1">
            <a:off x="6659280" y="2204640"/>
            <a:ext cx="73800" cy="1512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Прямая со стрелкой 14"/>
          <p:cNvCxnSpPr/>
          <p:nvPr/>
        </p:nvCxnSpPr>
        <p:spPr>
          <a:xfrm flipV="1">
            <a:off x="7596000" y="2275920"/>
            <a:ext cx="1080" cy="147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строй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I:\мк\модуль 4\map\64.jpg"/>
          <p:cNvPicPr/>
          <p:nvPr/>
        </p:nvPicPr>
        <p:blipFill>
          <a:blip r:embed="rId1"/>
          <a:stretch/>
        </p:blipFill>
        <p:spPr>
          <a:xfrm>
            <a:off x="928800" y="1643040"/>
            <a:ext cx="54180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157000" y="250020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есь можно выбрать яз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I:\мк\модуль 4\map\53.jpg"/>
          <p:cNvPicPr/>
          <p:nvPr/>
        </p:nvPicPr>
        <p:blipFill>
          <a:blip r:embed="rId2"/>
          <a:stretch/>
        </p:blipFill>
        <p:spPr>
          <a:xfrm>
            <a:off x="6643800" y="428760"/>
            <a:ext cx="1271520" cy="928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000080" y="1285920"/>
            <a:ext cx="6050160" cy="4978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900000" y="620640"/>
            <a:ext cx="2100240" cy="289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ублик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651640" y="3573360"/>
            <a:ext cx="3097080" cy="398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щитить паро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5651640" y="3141720"/>
            <a:ext cx="3313080" cy="398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решить писать вс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войства кар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I:\мк\модуль 4\map\61.jpg"/>
          <p:cNvPicPr/>
          <p:nvPr/>
        </p:nvPicPr>
        <p:blipFill>
          <a:blip r:embed="rId1"/>
          <a:stretch/>
        </p:blipFill>
        <p:spPr>
          <a:xfrm>
            <a:off x="428760" y="1285920"/>
            <a:ext cx="4503600" cy="385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I:\мк\модуль 4\map\62.jpg"/>
          <p:cNvPicPr/>
          <p:nvPr/>
        </p:nvPicPr>
        <p:blipFill>
          <a:blip r:embed="rId2"/>
          <a:srcRect l="0" t="10417" r="0" b="0"/>
          <a:stretch/>
        </p:blipFill>
        <p:spPr>
          <a:xfrm>
            <a:off x="4000680" y="3071880"/>
            <a:ext cx="4787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мпорт интеллект-ка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8" descr="I:\мк\модуль 4\map\63.jpg"/>
          <p:cNvPicPr/>
          <p:nvPr/>
        </p:nvPicPr>
        <p:blipFill>
          <a:blip r:embed="rId1"/>
          <a:srcRect l="0" t="18305" r="0" b="0"/>
          <a:stretch/>
        </p:blipFill>
        <p:spPr>
          <a:xfrm>
            <a:off x="1071720" y="1428840"/>
            <a:ext cx="688788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ел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I:\мк\модуль 4\map\53.jpg"/>
          <p:cNvPicPr/>
          <p:nvPr/>
        </p:nvPicPr>
        <p:blipFill>
          <a:blip r:embed="rId1"/>
          <a:stretch/>
        </p:blipFill>
        <p:spPr>
          <a:xfrm>
            <a:off x="4324320" y="3247920"/>
            <a:ext cx="495360" cy="36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I:\мк\модуль 4\map\60.jpg"/>
          <p:cNvPicPr/>
          <p:nvPr/>
        </p:nvPicPr>
        <p:blipFill>
          <a:blip r:embed="rId2"/>
          <a:stretch/>
        </p:blipFill>
        <p:spPr>
          <a:xfrm>
            <a:off x="1214280" y="1214280"/>
            <a:ext cx="600084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3:50:46Z</dcterms:created>
  <dc:creator>Елена</dc:creator>
  <dc:description/>
  <dc:language>en-US</dc:language>
  <cp:lastModifiedBy>Admin</cp:lastModifiedBy>
  <dcterms:modified xsi:type="dcterms:W3CDTF">2012-05-21T07:26:25Z</dcterms:modified>
  <cp:revision>11</cp:revision>
  <dc:subject/>
  <dc:title>Слайд 1</dc:title>
</cp:coreProperties>
</file>