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23E-1FC4-433D-B659-6F066B45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C832-1944-448C-A786-A98E1BCC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D82-1B35-49E4-8AE5-21A0D10D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5F9E-1597-4141-A384-F374A4DE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7E76-99E0-4AA3-BEAC-E5F2BA98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BE7-D5A6-49FB-8259-83F81085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6DC-2229-49A5-AA5B-6B2E63A8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D3A-49FF-4E28-BAD4-B4D59AE8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A36-14A8-4CB2-9710-A54AA3BC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7214-0082-43AC-BF74-0A45FCBF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94C-A1AB-4A4E-B138-7D615285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5AF-D965-43D8-928E-BA7EC7A4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C132-6486-4DD3-8637-0903C1959C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115920"/>
            <a:ext cx="6480360" cy="744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«Путь от станции "Нездоровье" к станции "Здоровье"»</a:t>
            </a:r>
            <a:r>
              <a:rPr b="0" lang="ru-RU" sz="2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31640" y="6021360"/>
            <a:ext cx="871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олубев Александр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ченики 9 класса ГБОУ СОШ №17 г. Сызрани Самарской об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011-2012 уч. г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124000" y="322740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4211640" y="1484280"/>
            <a:ext cx="203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286000" y="3429000"/>
            <a:ext cx="66261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Актуальность</a:t>
            </a:r>
            <a:r>
              <a:rPr b="0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о не лечить болезни, а учить, как их избежать, используя знания  Законов Жизн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рода создаёт живой организм здоровым. Она закладывает в него защитные и целительные сил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русский физиолог  И. П. Павлов писал: «Человеческий организм есть в высшей степени саморегулирующая система, сама себя направляющая, поддерживающая, восстанавливающая и даже совершенствующая»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181080" y="614520"/>
            <a:ext cx="1942920" cy="26128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tretch/>
        </p:blipFill>
        <p:spPr>
          <a:xfrm>
            <a:off x="324000" y="3594240"/>
            <a:ext cx="1800000" cy="25192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2286000" y="890640"/>
            <a:ext cx="653400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умывались ли вы когда – нибудь над тем, что ваше здоровье – сугубо ваше личное дело? Медицина, безусловно, занимается нами, но только нашими болезнями, а вовсе не здоровьем. Фармацевтическая промышленность погибнет и разорится без наших болезней. Государству, учреждению, где мы трудимся, конечно, нужны здоровые работники, но только для увеличения прибыли. Никто не закроет ликёро-водочные заводы и табачные фабрики, хотя всем известно, какой вред здоровью наносит их продукция. Вот и выходит, что своим здоровьем каждый должен заниматься сам. Но как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6000" y="189000"/>
            <a:ext cx="4835520" cy="5270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акое хорошее здоровье?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108000" y="1150920"/>
            <a:ext cx="3456000" cy="223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2"/>
          <a:stretch/>
        </p:blipFill>
        <p:spPr>
          <a:xfrm>
            <a:off x="6356520" y="4149720"/>
            <a:ext cx="2292120" cy="21607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3851280" y="1125360"/>
            <a:ext cx="4572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адать хорошим здоровьем, означает никогда не иметь дискомфорта, а если он появился -распрощаться с ним и никогда больше не подвергаться его нашествию. К. Ниши настаивает, что каждый человек обязан иметь хорошее здоровье всю свою жизнь. Мало того -потенциально человек обладает таким здоровье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43000" y="3990960"/>
            <a:ext cx="5833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ольшинству от рождения Господь Бог дал здоровый организм. Но многие владельцы немедленно вступают с ним в ожесточённую битву: переедают или голодают, пьют крутой кипяток или водку, недосыпают, мало двигаются или ворочают неподъёмные грузы, жарятся на солнце, предаются сексуальным эксцессам, подвергаются стрессам. И, как правило, одерживают полную победу: организм хиреет, болеет и рано погибает.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оргий Ратне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98920" y="404280"/>
            <a:ext cx="4402080" cy="527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Что такое болезнь?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4140360" y="1197000"/>
            <a:ext cx="4319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ь – преступл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будьте преступниками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ый страшный преступник –  невежество.                              Вооружайтесь против нег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ниями, умениями, навыками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755640" y="3573360"/>
            <a:ext cx="554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ь - это нарушение целостности, потеря способности сопротивляться внешним и внутренним врагам живого организм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ая болезнь - от легкого покраснения кожи до рака любого органа - есть разрушение целостности всего организма (т.е. болезнь всего организма, а не отдельного участка его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6272280" y="3500280"/>
            <a:ext cx="1722240" cy="158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7209000" y="4889520"/>
            <a:ext cx="1785600" cy="1428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3"/>
          <a:stretch/>
        </p:blipFill>
        <p:spPr>
          <a:xfrm>
            <a:off x="1630440" y="1700280"/>
            <a:ext cx="1896840" cy="1414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4"/>
          <a:stretch/>
        </p:blipFill>
        <p:spPr>
          <a:xfrm>
            <a:off x="630360" y="549360"/>
            <a:ext cx="1209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36800" y="259920"/>
            <a:ext cx="490680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Главные факторы здоровь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4920" y="2924280"/>
            <a:ext cx="38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971640" y="1095480"/>
            <a:ext cx="684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оровье человека зависит от четырех одинаково важных факторов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состояния кож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качества питания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состояния конечностей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состояния психи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 четыре главных элемента уникальны тем, что сохраняют свою собственную индивидуальность, несмотря на то, что они собирают и объединяют человека в цело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22360" y="4510080"/>
            <a:ext cx="1601640" cy="1798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2470320" y="4518000"/>
            <a:ext cx="4464000" cy="1981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3"/>
          <a:stretch/>
        </p:blipFill>
        <p:spPr>
          <a:xfrm>
            <a:off x="5292720" y="4510080"/>
            <a:ext cx="1655640" cy="1798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4"/>
          <a:stretch/>
        </p:blipFill>
        <p:spPr>
          <a:xfrm>
            <a:off x="7236000" y="4510080"/>
            <a:ext cx="16570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713040" y="360828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овое в диетолог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2843280" y="4186080"/>
            <a:ext cx="576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оровье-это то богатство, которое нельзя купить за деньги или получить в подарок. Люди сами укрепляют или разрушают то, что им дано природой. Один из важнейших элементов этой созидательной или разрушительной работы - это питание. Всем хорошо известно мудрое изречение: «Человек есть то, что он ест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95280" y="3863880"/>
            <a:ext cx="3908520" cy="19814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3703680" y="447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ожа и здоровь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2160720" cy="2232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2700360" y="911160"/>
            <a:ext cx="653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а - это зеркало болезн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а - это часть человеческого тела, которая первая соприкасается с воздухом. Она как бы представляет собой пограничную линию между окружающей средой и телом челове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жду кожей и здоровьем существует тесное взаимоотношение. Кожа - это ворота, через которые целительные силы природы воздействуют на организм, вливаясь в тел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а обладает многосторонними функциями: как легкие, она вдыхает через микроскопические поры воздух, свет, вод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3132000" y="260280"/>
            <a:ext cx="60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 состоянии конечнос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3143160" y="350028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 создании здоровой псих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1658880" cy="17989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2170080" y="4006800"/>
            <a:ext cx="67420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. Гёте сказал: "Без разума не может быть материи - без материи нет разума". Действительно, среди всего живого человек - единственное существо, которое наделено разумом. К. Ниши употребляет слово "разум" в более широком смысле, включая в него понятие "душа", "дух"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ует тесная связь между разумом и телом. Нередко беспокойство, тревога, нервные расстройства могут привести к органическим нарушениям, болезням сердца, повышению кровяного давления, туберкулез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297000" y="630360"/>
            <a:ext cx="1685880" cy="17985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2170080" y="765000"/>
            <a:ext cx="67420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древних времен считалось, что болезни связаны с состоянием конечностей. Особую роль играют нижние конечности, и прежде всего ступни. Врачи хорошо знают, что состояние ступней часто указывает на некоторые серьезные болезни. Например, опухшие лодыжки и ступни бывают, как правило, при болезнях сердца, почек, при анем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ные ноги, ослабляющие работу сердца, почек, печени и других органов, в то же время оказывают неблагоприятное воздействие и на походку. По манере носить и снашивать обув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56000" y="189000"/>
            <a:ext cx="4176720" cy="503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Шесть правил здоровь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4572000" y="5400720"/>
            <a:ext cx="4379760" cy="1067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человек будет выполнять эти правила дважды в день, это не только принесет ему здоровье, но и поможет сохранить его в течение всей жизн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1403280" y="907920"/>
            <a:ext cx="66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ЕРВОЕ ПРАВИЛО ЗДОРОВЬ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ТВЕРДАЯ РОВНАЯ ПОСТЕЛ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250920" y="695160"/>
            <a:ext cx="1209600" cy="1438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1627200" y="1463760"/>
            <a:ext cx="1162080" cy="14382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7"/>
          <p:cNvSpPr/>
          <p:nvPr/>
        </p:nvSpPr>
        <p:spPr>
          <a:xfrm>
            <a:off x="2854440" y="1557360"/>
            <a:ext cx="57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ТОРОЕ ПРАВИЛО ЗДОРОВЬ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ТВЕРДАЯ ПОДУШ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>
            <a:off x="2887560" y="2349360"/>
            <a:ext cx="2571840" cy="13906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9"/>
          <p:cNvSpPr/>
          <p:nvPr/>
        </p:nvSpPr>
        <p:spPr>
          <a:xfrm>
            <a:off x="5495760" y="2751120"/>
            <a:ext cx="35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ТРЕТЬЕ ПРАВИЛО ЗДОРОВЬ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Е "ЗОЛОТАЯ РЫБКА"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Прямоугольник 10"/>
          <p:cNvSpPr/>
          <p:nvPr/>
        </p:nvSpPr>
        <p:spPr>
          <a:xfrm>
            <a:off x="2093760" y="3930480"/>
            <a:ext cx="70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ЧЕТВЕРТОЕ ПРАВИЛО ЗДОРОВЬ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УПРАЖНЕНИЕ ДЛЯ КАПИЛЛЯР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4"/>
          <a:stretch/>
        </p:blipFill>
        <p:spPr>
          <a:xfrm>
            <a:off x="622440" y="3552840"/>
            <a:ext cx="1428480" cy="14382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1"/>
          <p:cNvSpPr/>
          <p:nvPr/>
        </p:nvSpPr>
        <p:spPr>
          <a:xfrm>
            <a:off x="3851280" y="4594320"/>
            <a:ext cx="52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ЯТОЕ ПРАВИЛО ЗДОРОВЬ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Е "СМЫКАНИЕ СТОП И ЛАДОНЕЙ"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5"/>
          <a:stretch/>
        </p:blipFill>
        <p:spPr>
          <a:xfrm>
            <a:off x="2414520" y="4495680"/>
            <a:ext cx="1438200" cy="7812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2"/>
          <p:cNvSpPr/>
          <p:nvPr/>
        </p:nvSpPr>
        <p:spPr>
          <a:xfrm>
            <a:off x="1157400" y="548640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ШЕСТОЕ ПРАВИЛО ЗДОРОВЬЯ: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Е  ДЛ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НЫ И ЖИВО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12" descr=""/>
          <p:cNvPicPr/>
          <p:nvPr/>
        </p:nvPicPr>
        <p:blipFill>
          <a:blip r:embed="rId6"/>
          <a:stretch/>
        </p:blipFill>
        <p:spPr>
          <a:xfrm>
            <a:off x="179280" y="5235480"/>
            <a:ext cx="936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780000" y="333360"/>
            <a:ext cx="1439640" cy="398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143160" y="615456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3" descr=""/>
          <p:cNvPicPr/>
          <p:nvPr/>
        </p:nvPicPr>
        <p:blipFill>
          <a:blip r:embed="rId1"/>
          <a:stretch/>
        </p:blipFill>
        <p:spPr>
          <a:xfrm>
            <a:off x="1463760" y="3351240"/>
            <a:ext cx="5064120" cy="2286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"/>
          <p:cNvSpPr/>
          <p:nvPr/>
        </p:nvSpPr>
        <p:spPr>
          <a:xfrm>
            <a:off x="755640" y="1413000"/>
            <a:ext cx="734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Если вы решили сохранить свою активность ещё на долгие годы, то следует, прежде всего, упорядочить собственную жизнь, покончить с вредными привычками, избегать любых эксцессов, регламентировать работу, регулярно отдыхать, избавиться от влияния производственных и бытовых вредностей как токсического, так и морального порядка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оргий  Ратне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6:07:17Z</dcterms:created>
  <dc:creator>Никитос</dc:creator>
  <dc:description/>
  <dc:language>en-US</dc:language>
  <cp:lastModifiedBy>Пользователь</cp:lastModifiedBy>
  <dcterms:modified xsi:type="dcterms:W3CDTF">2012-04-04T11:32:35Z</dcterms:modified>
  <cp:revision>22</cp:revision>
  <dc:subject/>
  <dc:title>История развития баскетбол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