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5DF-3EB1-4694-A385-5FDA6795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0EC-F2FD-4329-A64B-93212C33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0C5-A94C-4986-82C7-4775F7EE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611-6F82-4C31-B442-789A0F9D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9A5-CF8F-4071-916D-7179862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304-6E04-4D68-B455-9111A718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D0D-1A7E-4E2C-8023-1CAE099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7BC-5C8B-43BB-81FA-B3B8DABD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141-C168-45DE-A0CF-5BC4A690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C26-BA84-4EF3-B191-1F8B7F9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366-51FF-4C76-889B-3508858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70A-71CE-4C05-827E-E540B10A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DFFF-5C03-41D7-8334-4F7673B4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38160"/>
            <a:ext cx="5715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-20520"/>
            <a:ext cx="60818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38160"/>
            <a:ext cx="56390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-30240"/>
            <a:ext cx="59482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знецова Н. В.</cp:lastModifiedBy>
  <dcterms:modified xsi:type="dcterms:W3CDTF">2011-09-16T06:38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