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5EF-D33E-4892-A682-DE4A4980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785-5014-4E7B-8D77-C49EE8AD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E79-3138-4BDE-8466-254FA7D0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1AA-26C9-4F4D-8E69-38F0CA88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61C-644A-4C9F-BE80-2FFE3F9D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2B7-8DE8-4E87-8E3B-1E23B626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D55-AEFB-491D-B6E5-06187344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67A-62FB-4898-B2DB-E1884B11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9D6-750C-4885-8394-0089655B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134-F644-4E64-9168-8A25683C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288-2122-4377-83A4-EB54B9B3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C44-D382-4AF7-A1F6-65E5E2A5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5F51-FF77-43AD-9DFA-5F68FADD5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62320" y="38160"/>
            <a:ext cx="5715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47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-20520"/>
            <a:ext cx="608184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38160"/>
            <a:ext cx="56390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-30240"/>
            <a:ext cx="594828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знецова Н. В.</cp:lastModifiedBy>
  <dcterms:modified xsi:type="dcterms:W3CDTF">2011-09-16T06:38:3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