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927-6432-4256-9E7E-F181D315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443-60D0-4002-A7FC-EBB8F89C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F3A-3CA9-4777-AE04-3B27E7D8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77F-DEF5-4BFF-AD8A-D8E9A1B8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5EA-C321-461D-A8A0-7BB4CBCD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176-E599-4ADF-A9C1-F04F3571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479-DF6F-4E0C-82B6-8CBB03E1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437-3991-4384-BC24-15C36349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47C-0FE2-42C7-A848-7A1190AB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9AC-DE18-4592-BB29-0DF36D5B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CD6-0DA0-43B3-B1F2-FC6DACF5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FF9-9B6F-4378-9265-6F2D54EE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1DEF-77CB-4C22-96C8-01CF9CB1F2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Индивидуальная работа по развитию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314316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Кузякина Анна Евген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omic Sans MS"/>
              </a:rPr>
              <a:t>Учитель-логопе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omic Sans MS"/>
              </a:rPr>
              <a:t>ГБОУ ООШ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log.jpg"/>
          <p:cNvPicPr/>
          <p:nvPr/>
        </p:nvPicPr>
        <p:blipFill>
          <a:blip r:embed="rId1"/>
          <a:stretch/>
        </p:blipFill>
        <p:spPr>
          <a:xfrm>
            <a:off x="428760" y="3357720"/>
            <a:ext cx="2690640" cy="202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Планирование индивидуа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Распределение учебного материала по             трём направления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воспитание произносительных навы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словар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грамматических умений и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Нарушение звукопроизно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Развитие фонематического слух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Развитие артикуляционного аппара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тработка опорных зву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остановка нарушенных зву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Автоматизация поставленных зв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rrow-blue-rounded-down"/>
          <p:cNvPicPr/>
          <p:nvPr/>
        </p:nvPicPr>
        <p:blipFill>
          <a:blip r:embed="rId1"/>
          <a:stretch/>
        </p:blipFill>
        <p:spPr>
          <a:xfrm>
            <a:off x="3708360" y="112536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Формирование сло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одбирается лексический материал по программе детского сад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- слова, обозначающие предме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лова, обозначающие качества и свойства предмет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лова, обозначающие различные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Формирование грамматических умений и навы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редложные конструк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равнительные и превосходные степени  прилагательных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вязь слов в предложении (управление и согласование)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Организация индивидуальной работы по развитию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40384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Comic Sans MS"/>
              </a:rPr>
              <a:t>Индивидуальный подход на фронтальных занятиях, в игровых и режимных момен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2852280"/>
            <a:ext cx="403848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cc"/>
                </a:solidFill>
                <a:latin typeface="Comic Sans MS"/>
              </a:rPr>
              <a:t>Собственно индивидуа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arrow-blue-rounded-down"/>
          <p:cNvPicPr/>
          <p:nvPr/>
        </p:nvPicPr>
        <p:blipFill>
          <a:blip r:embed="rId1"/>
          <a:stretch/>
        </p:blipFill>
        <p:spPr>
          <a:xfrm>
            <a:off x="2050920" y="1700280"/>
            <a:ext cx="1141560" cy="1141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arrow-blue-rounded-down"/>
          <p:cNvPicPr/>
          <p:nvPr/>
        </p:nvPicPr>
        <p:blipFill>
          <a:blip r:embed="rId2"/>
          <a:stretch/>
        </p:blipFill>
        <p:spPr>
          <a:xfrm>
            <a:off x="615636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Gu3.jpg"/>
          <p:cNvPicPr/>
          <p:nvPr/>
        </p:nvPicPr>
        <p:blipFill>
          <a:blip r:embed="rId3"/>
          <a:stretch/>
        </p:blipFill>
        <p:spPr>
          <a:xfrm>
            <a:off x="1357200" y="4643280"/>
            <a:ext cx="2529000" cy="16304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9" descr="logoped3.jpg"/>
          <p:cNvPicPr/>
          <p:nvPr/>
        </p:nvPicPr>
        <p:blipFill>
          <a:blip r:embed="rId4"/>
          <a:stretch/>
        </p:blipFill>
        <p:spPr>
          <a:xfrm>
            <a:off x="5643720" y="400068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Взаимодействие с логопе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тсутствие положительной динамики  при систематической индивидуальной работе в течение трёх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           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Консультация лого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rrow-blue-outline-down"/>
          <p:cNvPicPr/>
          <p:nvPr/>
        </p:nvPicPr>
        <p:blipFill>
          <a:blip r:embed="rId1"/>
          <a:stretch/>
        </p:blipFill>
        <p:spPr>
          <a:xfrm>
            <a:off x="3995640" y="3141720"/>
            <a:ext cx="828720" cy="10792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x_5cc5460f.jpg"/>
          <p:cNvPicPr/>
          <p:nvPr/>
        </p:nvPicPr>
        <p:blipFill>
          <a:blip r:embed="rId2"/>
          <a:stretch/>
        </p:blipFill>
        <p:spPr>
          <a:xfrm>
            <a:off x="3203640" y="4869000"/>
            <a:ext cx="254628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Работа по формированию и исправлению звукопроизно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40384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Формирование звукопроиз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Воспит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3213000"/>
            <a:ext cx="4038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Исправление звукопроиз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arrow-blue-rounded-down"/>
          <p:cNvPicPr/>
          <p:nvPr/>
        </p:nvPicPr>
        <p:blipFill>
          <a:blip r:embed="rId1"/>
          <a:stretch/>
        </p:blipFill>
        <p:spPr>
          <a:xfrm>
            <a:off x="1908000" y="162864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arrow-blue-rounded-down"/>
          <p:cNvPicPr/>
          <p:nvPr/>
        </p:nvPicPr>
        <p:blipFill>
          <a:blip r:embed="rId2"/>
          <a:stretch/>
        </p:blipFill>
        <p:spPr>
          <a:xfrm>
            <a:off x="6012000" y="16286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arrow-blue-rounded-down"/>
          <p:cNvPicPr/>
          <p:nvPr/>
        </p:nvPicPr>
        <p:blipFill>
          <a:blip r:embed="rId3"/>
          <a:stretch/>
        </p:blipFill>
        <p:spPr>
          <a:xfrm>
            <a:off x="2124000" y="422100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arrow-blue-rounded-down"/>
          <p:cNvPicPr/>
          <p:nvPr/>
        </p:nvPicPr>
        <p:blipFill>
          <a:blip r:embed="rId4"/>
          <a:stretch/>
        </p:blipFill>
        <p:spPr>
          <a:xfrm>
            <a:off x="6372360" y="4221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Воспит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Уточняет движения органов артикуляционного ап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Логопед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Создаёт определённые положения и тренирует движения органов артикуляционного ап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Этап появления зв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Воспит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Уточняет звук или вызывает его по подраж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Логопе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Процесс постановки 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arrow-blue-rounded-down"/>
          <p:cNvPicPr/>
          <p:nvPr/>
        </p:nvPicPr>
        <p:blipFill>
          <a:blip r:embed="rId1"/>
          <a:stretch/>
        </p:blipFill>
        <p:spPr>
          <a:xfrm>
            <a:off x="1979640" y="220500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arrow-blue-rounded-down"/>
          <p:cNvPicPr/>
          <p:nvPr/>
        </p:nvPicPr>
        <p:blipFill>
          <a:blip r:embed="rId2"/>
          <a:stretch/>
        </p:blipFill>
        <p:spPr>
          <a:xfrm>
            <a:off x="6372360" y="213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231.jpg"/>
          <p:cNvPicPr/>
          <p:nvPr/>
        </p:nvPicPr>
        <p:blipFill>
          <a:blip r:embed="rId3"/>
          <a:stretch/>
        </p:blipFill>
        <p:spPr>
          <a:xfrm>
            <a:off x="5214960" y="4214880"/>
            <a:ext cx="2833560" cy="189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Этап усвоения зв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Воспит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Уточняет  правильное произнош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557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Автоматизир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       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arrow-blue-rounded-down"/>
          <p:cNvPicPr/>
          <p:nvPr/>
        </p:nvPicPr>
        <p:blipFill>
          <a:blip r:embed="rId1"/>
          <a:stretch/>
        </p:blipFill>
        <p:spPr>
          <a:xfrm>
            <a:off x="1692360" y="2349360"/>
            <a:ext cx="923760" cy="924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arrow-blue-rounded-down"/>
          <p:cNvPicPr/>
          <p:nvPr/>
        </p:nvPicPr>
        <p:blipFill>
          <a:blip r:embed="rId2"/>
          <a:stretch/>
        </p:blipFill>
        <p:spPr>
          <a:xfrm>
            <a:off x="6300720" y="234936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правильной речи, её активизация и обога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Содержимое 4" descr="Morozova2.jpg"/>
          <p:cNvPicPr/>
          <p:nvPr/>
        </p:nvPicPr>
        <p:blipFill>
          <a:blip r:embed="rId1"/>
          <a:stretch/>
        </p:blipFill>
        <p:spPr>
          <a:xfrm>
            <a:off x="3575160" y="804960"/>
            <a:ext cx="5111640" cy="4789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713880"/>
            <a:ext cx="30081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omic Sans MS"/>
              </a:rPr>
              <a:t>По отношению к детям, посещающим занятия у логопеда и остающимся в массовых группах воспитатель осуществляет индивидуальный подход на фронтальных занятиях и организует индивидуальную работу по развитию речи согласно рекомендациям логоп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                          </a:t>
            </a: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                           </a:t>
            </a: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34c196b8adb4.png"/>
          <p:cNvPicPr/>
          <p:nvPr/>
        </p:nvPicPr>
        <p:blipFill>
          <a:blip r:embed="rId1"/>
          <a:stretch/>
        </p:blipFill>
        <p:spPr>
          <a:xfrm>
            <a:off x="179280" y="836640"/>
            <a:ext cx="501336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4000"/>
                            </p:stCondLst>
                            <p:childTnLst>
                              <p:par>
                                <p:cTn id="6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звуковой культуры ре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богащение и активизация слова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Формирование грамматических умений и навы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Правильная 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равильная, хорошая речь  - важнейшее условие всестороннего полноценного развития детей. Чем богаче и правильнее речь  у ребёнка, тем ему легче высказать свои мысли, тем шире его возможности в познании окружающей действительности, тем активнее осуществляется его психическое разви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Нарушения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рицательно влияют на формирование личности ребён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ызывают специфические особенности эмоционально-волевой сфер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пособствуют развитию отрицательных качеств характера (застенчивости, нерешительности, замкнутости, негативизма, чувства неполноценно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Необходимость проведения коррекционно-речевой работы в общеразвивающих групп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Comic Sans MS"/>
              </a:rPr>
              <a:t>Более 50% воспитанников ДОУ имеют отклонения в речевом развит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rrow-blue-outline-down"/>
          <p:cNvPicPr/>
          <p:nvPr/>
        </p:nvPicPr>
        <p:blipFill>
          <a:blip r:embed="rId1"/>
          <a:stretch/>
        </p:blipFill>
        <p:spPr>
          <a:xfrm>
            <a:off x="3995640" y="2565360"/>
            <a:ext cx="954360" cy="12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Отклонения в речевом развит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Ярко выраженные внешние признаки (несовершенство звуковой системы, недостатки темпо-ритмического оформления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2920" y="2781360"/>
            <a:ext cx="403884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Особенности, системно охватывающие различные уровни речев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arrow-blue-rounded-down"/>
          <p:cNvPicPr/>
          <p:nvPr/>
        </p:nvPicPr>
        <p:blipFill>
          <a:blip r:embed="rId1"/>
          <a:stretch/>
        </p:blipFill>
        <p:spPr>
          <a:xfrm>
            <a:off x="1763640" y="1413000"/>
            <a:ext cx="1130400" cy="113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arrow-blue-rounded-down"/>
          <p:cNvPicPr/>
          <p:nvPr/>
        </p:nvPicPr>
        <p:blipFill>
          <a:blip r:embed="rId2"/>
          <a:stretch/>
        </p:blipFill>
        <p:spPr>
          <a:xfrm>
            <a:off x="6156360" y="141300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Коррекционно-речевая работа воспитателя ДОУ определя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овременными требованиями к педагогической работе с дошкольник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оставом дет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ложностью речевой деятельности и её значением для развития ребён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Наличием недостатков и отклонений в речевом развитии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omic Sans MS"/>
              </a:rPr>
              <a:t>Диагностика речевого 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воспитатель выясняет состояние речевого развития ребён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пределяет динамику речевого развит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пределяет перспективы развития реч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определяет соответствие или несоответствие речевого развития нор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0:56:47Z</dcterms:created>
  <dc:creator>Admin</dc:creator>
  <dc:description/>
  <dc:language>en-US</dc:language>
  <cp:lastModifiedBy>Черри</cp:lastModifiedBy>
  <dcterms:modified xsi:type="dcterms:W3CDTF">2012-08-13T09:05:27Z</dcterms:modified>
  <cp:revision>67</cp:revision>
  <dc:subject/>
  <dc:title>Индивидуальная работа по развитию речи</dc:title>
</cp:coreProperties>
</file>