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9AC-39CA-4D30-8E0F-8DA45141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66B-1961-4CC7-8A55-87A28999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AE1-F6BF-46C3-BCB7-14B7EDBB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2A0-80D5-484B-81D5-8AA7BEBB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C33-6322-44F9-9720-3149334E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1237-D540-49A1-9DA4-3824B23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B61-9130-4E4C-93C2-C6A515F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D444-B5D0-4D50-8E61-B6550EF2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8634-AB01-4DC0-B02F-B0BE912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422D-E98B-4352-AC08-B4019703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F9B8-EBD0-49FD-B698-87A259F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896-79F2-4C18-A270-768860A9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A50A-5CEA-46A0-9084-8F979AB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152-6FAD-4533-AB87-BF4D627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AB1-202D-4C95-87CB-5BA9565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CFFE-D6F0-484F-806E-78185019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079-A889-4EC8-A270-44286948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9D4-E86C-4C4D-87A6-71F4D804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913-83AB-4973-AE94-2997BBF0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88E-E0D8-4284-B58B-A5626AF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2C8-83FD-46D2-86A1-F69B9C6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930-0267-421C-AC54-516DC9E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CE6-F9D1-4BE1-92B9-150C99B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5A6-06AB-40D6-B773-9A68B05C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B9D1-6E94-477A-B754-084B3E896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24A8-9CF9-4D12-9321-4D3C9F212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Проект на тему: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«История   возникновения  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ложк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924360" y="4149720"/>
            <a:ext cx="464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воспитатель МДОУ дет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ада№2»Улыб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Царенко Елена Владимиров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3400" y="33264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И напоследок, несколько пословиц о ложках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1050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сна ложечка с похлебочкой, а не сух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9956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рога ложка к обед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349000"/>
            <a:ext cx="89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шкам по ложкам, собакам по крошкам, нам по лепёшка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6680" y="3283920"/>
            <a:ext cx="62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асна ложка едоком, лошадь ездоко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8066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42920" y="62064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Дорога ложка к обеду», — гласит      русская пословица. И не зря в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этой пословице упоминается именно ложка, ведь ложка – это самый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актичный предмет из всех столовых приборов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которые ложки удачно используют для декорирования помещения. Особенно хорошо применяются для этого деревянные ложки с росписью. Разве можем мы сейчас обойтись без такого необходимого и практичного предмета, как ложка? Но кто из вас задумывался, когда же появился это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бор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95640" y="3573360"/>
            <a:ext cx="5256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60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обходимость ложки люди поняли очень давно, именно поэтому ее начали использовать как столовый прибор уже в древние времена. Первые ложки были сделаны не из камня, как можно было предположить, а из обожженной глины, так как им не требовалась прочность, потому что ложками тогда ели мягкую пищу. Представляла она собой полушар с ручкой. В дальнейшем люди начали использовать различные материалы для изготовления ложек. На Руси ложки стали делать из дер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5880" y="692280"/>
            <a:ext cx="30481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33336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 временем у ложки менялась форма , ручка ложки удлинилась в несколько раз. Правило держать ложку тремя пальцами привело к появлению более широких и плоских ручек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3527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95600" y="566892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Деревянные ложки — Постучи-ка немножко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Хочешь — вальс играй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А хочешь — суп хлебай!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388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6000" y="422100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юди стали расписывать ложки красивыми узорами,  эти ложки расписаны под Хохло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древних времен наши предки использовали деревянные ложки как музыкальный инстру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дальнейшем ложки стали изготавливать из металла, нанося красивые уз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протяжении многих лет ложка постоянно менялась, т.к. менялась жизнь людей, но как бы там ни было, ложка остается, по сей день, незаменимым предметом в повседневной жизни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56199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06:24Z</dcterms:created>
  <dc:creator>Андрей</dc:creator>
  <dc:description/>
  <dc:language>en-US</dc:language>
  <cp:lastModifiedBy>Андрей</cp:lastModifiedBy>
  <dcterms:modified xsi:type="dcterms:W3CDTF">2012-02-01T17:46:01Z</dcterms:modified>
  <cp:revision>3</cp:revision>
  <dc:subject/>
  <dc:title>           Проект на тему:  «История возникновения        ложки»</dc:title>
</cp:coreProperties>
</file>