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96D-67A0-42EB-9ACF-7EB52C90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31D-751E-4BE3-8921-2C924B6C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D16-D690-4F48-ADD9-D2F1220E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5A4-DA31-4556-95D8-6B9DA9FB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AE9E-45C0-45FC-B972-EC362876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3375-D0D2-49B8-9F79-ED157E5C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F4FF-49D7-412F-A1C4-F7155754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8B96-9C03-457C-8D29-A4522096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9272-8885-410E-8F63-10E24AE9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5273-E986-4351-9C8C-33EEA712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FC7D-AD20-42EA-AE45-F82993EF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5FB-666E-40F2-9B00-C4BF77D3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A143-899D-4C1D-B2B5-66003E1F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DA1E-C4ED-4C34-A396-D8602ED2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D804-DFDE-4F51-8CEE-62585C75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1A8E-1C64-4B59-8482-41ECCB43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C1B6-AFD7-4D55-84FB-DC5D7A4A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BDD-232A-4937-94F0-8758E293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038-B86B-471E-B396-4F8AB1F2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D21-303E-41D7-B99E-99CBE1DE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DB1-DFA5-4C91-9EAD-383171C3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5E3-62DD-4A1E-8B4D-28F16CBC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188-AF10-481D-9839-D5A2E284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98F-BC45-4605-8E81-9C48EA18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F3AE-4530-481E-929A-91482B2F9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94BB-5336-45A1-8B37-EAB97671B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Проект на тему: 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«История   возникновения   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1af63f"/>
                </a:solidFill>
                <a:latin typeface="Arial"/>
              </a:rPr>
              <a:t>ложки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924360" y="4149720"/>
            <a:ext cx="464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Работу выполн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воспитатель МДОУ дет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сада№2»Улыб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Царенко Елена Владимиров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33400" y="332640"/>
            <a:ext cx="71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И напоследок, несколько пословиц о ложках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105012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асна ложечка с похлебочкой, а не сух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169956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орога ложка к обеду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2349000"/>
            <a:ext cx="89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шкам по ложкам, собакам по крошкам, нам по лепёшкам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6680" y="3283920"/>
            <a:ext cx="62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асна ложка едоком, лошадь ездоком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8066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42920" y="62064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«Дорога ложка к обеду», — гласит      русская пословица. И не зря в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этой пословице упоминается именно ложка, ведь ложка – это самый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рактичный предмет из всех столовых приборов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55640" y="259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которые ложки удачно используют для декорирования помещения. Особенно хорошо применяются для этого деревянные ложки с росписью. Разве можем мы сейчас обойтись без такого необходимого и практичного предмета, как ложка? Но кто из вас задумывался, когда же появился этот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бор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95640" y="3573360"/>
            <a:ext cx="52560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60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обходимость ложки люди поняли очень давно, именно поэтому ее начали использовать как столовый прибор уже в древние времена. Первые ложки были сделаны не из камня, как можно было предположить, а из обожженной глины, так как им не требовалась прочность, потому что ложками тогда ели мягкую пищу. Представляла она собой полушар с ручкой. В дальнейшем люди начали использовать различные материалы для изготовления ложек. На Руси ложки стали делать из дер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095880" y="692280"/>
            <a:ext cx="304812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4360" y="33336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 временем у ложки менялась форма , ручка ложки удлинилась в несколько раз. Правило держать ложку тремя пальцами привело к появлению более широких и плоских ручек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616720" cy="3527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95600" y="566892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Деревянные ложки — Постучи-ка немножко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Хочешь — вальс играй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А хочешь — суп хлебай!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264360" cy="3889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16000" y="4221000"/>
            <a:ext cx="71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юди стали расписывать ложки красивыми узорами,  эти ложки расписаны под Хохлом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 древних времен наши предки использовали деревянные ложки как музыкальный инстру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4360" y="333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дальнейшем ложки стали изготавливать из металла, нанося красивые уз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6167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 протяжении многих лет ложка постоянно менялась, т.к. менялась жизнь людей, но как бы там ни было, ложка остается, по сей день, незаменимым предметом в повседневной жизни чело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8000" y="3284640"/>
            <a:ext cx="56199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06:24Z</dcterms:created>
  <dc:creator>Андрей</dc:creator>
  <dc:description/>
  <dc:language>en-US</dc:language>
  <cp:lastModifiedBy>Андрей</cp:lastModifiedBy>
  <dcterms:modified xsi:type="dcterms:W3CDTF">2012-02-01T17:46:01Z</dcterms:modified>
  <cp:revision>3</cp:revision>
  <dc:subject/>
  <dc:title>           Проект на тему:  «История возникновения        ложки»</dc:title>
</cp:coreProperties>
</file>