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43A-2E97-47A5-B216-2DF2E20C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98C-F514-4314-A6BE-5EBDBDF6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C4D-4502-4AA2-B063-FEE63E3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946-9CE0-4F1B-B0BA-4E2C355D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1D2D-ACC3-4149-BCE8-04CDE44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2B6-4AF0-4CDD-A434-461DCE7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23B9-A0FF-435D-897D-F206206E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A43-8BEA-4FF0-A3A0-F78802A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4905-A637-478E-A0E0-8427CF29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1603-47F0-44E2-9A6A-1CEFD18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AEC-AD36-4219-B1AB-339907A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658-1682-4CC6-92AE-F01A78C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43A6-66A3-4E06-847F-91ED967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C67E-AE8D-4DF8-88C1-FE5774D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F8E-B175-462E-98F0-73B055F0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AF45-E81A-4923-B5F8-17C5F627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1EE8-3EF3-4EBC-AD5F-78988C60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BD0-4793-4E4E-80BD-88C68EA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0A6-39EC-44E6-A4EA-F552283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90D-096E-431A-8246-B673E4B7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842-0704-4151-BCDA-2BB7891E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011-B650-4342-8099-9A8CF02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EC7-13D4-4981-84E3-2D94620B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E00-5DB9-4B8E-93E3-80619DC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2193-5294-4347-8D3E-A9586FB38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BA4-411C-4D42-B14D-C0465B79B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Викторина :</a:t>
            </a:r>
            <a:br>
              <a:rPr sz="7200"/>
            </a:br>
            <a:r>
              <a:rPr b="1" lang="en-US" sz="7200" spc="-1" strike="noStrike">
                <a:solidFill>
                  <a:srgbClr val="feec94"/>
                </a:solidFill>
                <a:latin typeface="Times New Roman"/>
              </a:rPr>
              <a:t>«Что за прелесть эти сказки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...царевича в «Сказке о царе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...сватью в «Сказке о царе  Салтане»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8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...королевича в «Сказке о мертвой царевне и семи богатырях»?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... пса в «Сказке о    мертвой царев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...царя в «Сказке о золотом петушк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.. дядьку в «Сказке о царе Салтане»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2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Верните в сказку!»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запишите название сказки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br>
              <a:rPr sz="3500"/>
            </a:br>
            <a:r>
              <a:rPr b="0" lang="en-US" sz="55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55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-4391" r="0" b="14065"/>
          <a:stretch/>
        </p:blipFill>
        <p:spPr>
          <a:xfrm>
            <a:off x="1547640" y="0"/>
            <a:ext cx="6912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746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32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바탕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70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№ 3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«Узнай героя сказки!»</a:t>
            </a:r>
            <a:br>
              <a:rPr sz="72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( напишите имя героя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1. Ломит он у дуба су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в тугой сгибает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лук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По-русски говорим мы с детств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Но волшебство знакомых с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Мы обретаем, как наследств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В сиянье пушкинских стихов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3149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2. Ест за четверых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Работает з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семерых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3. Вся сияя, как зар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ихо встретила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царя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4. Торговали мы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ула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Чистым серебром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златом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5. Высока, стройна, бела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И умом и всем взяла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Белолица, черноброва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Нраву кротког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바탕"/>
              </a:rPr>
              <a:t>такого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Конкурс № 4</a:t>
            </a:r>
            <a:br>
              <a:rPr sz="6000"/>
            </a:b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«Из одной ли мы сказки ?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22064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바탕"/>
              </a:rPr>
              <a:t>( напишите «да» или «нет»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1. Царь Дадон и шамаханская цариц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2. Царевна Лебедь и семь богатырей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3. Королевич Елисей и мертвая царевн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5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4. Князь Гвидон и злая мачех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5. Попадья и золотая рыбка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바탕"/>
              </a:rPr>
              <a:t>6. Царь Салтан и тридцать три богатыря 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Конкурс № 5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Тест для знатоков сказок»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выберите и обведите букву правильного ответ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1. На какой срок нанялся Балда в услужение к поп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на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на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на г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2. Кто вел учет золотым орехам белочки в городе князя Гвидона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а) Дья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) Счетовод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) Воевод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Разминка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«Узнай сказку!»</a:t>
            </a:r>
            <a:br>
              <a:rPr sz="6000"/>
            </a:b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(</a:t>
            </a:r>
            <a:r>
              <a:rPr b="1" lang="en-US" sz="4400" spc="-1" strike="noStrike">
                <a:solidFill>
                  <a:srgbClr val="feec94"/>
                </a:solidFill>
                <a:latin typeface="바탕"/>
              </a:rPr>
              <a:t>напиши полное название сказки</a:t>
            </a:r>
            <a:r>
              <a:rPr b="1" lang="en-US" sz="6000" spc="-1" strike="noStrike">
                <a:solidFill>
                  <a:srgbClr val="feec94"/>
                </a:solidFill>
                <a:latin typeface="바탕"/>
              </a:rPr>
              <a:t>)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022800"/>
            <a:ext cx="822960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3. Сколько дней царь Дадон пировал в шатре шамаханской царицы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д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меся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еделю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4. На кого любили охотиться семь богатырей из «Сказки о мертвой царевне…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на серых волк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на серых уто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на диких кабан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5. Сколько раз старуха посылала старика к рыбке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четыр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я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шест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6. Чем Балда грозил чертям 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веревко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кулак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тол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7. Как иначе назван мудрец в «Сказке о золотом петушке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астроном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учены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звездочето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바탕"/>
              </a:rPr>
              <a:t>8. От чего умерла злая царица в «Сказке о мертвой царевне..»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57336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от зло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от тоск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от завист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바탕"/>
              </a:rPr>
              <a:t>9. Что посылал князь Гвидон с корабельщиками царю Салтану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а) покло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б) приве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바탕"/>
              </a:rPr>
              <a:t>в) письм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Спасибо за участие в литературной викторине:</a:t>
            </a:r>
            <a:br>
              <a:rPr sz="6600"/>
            </a:br>
            <a:r>
              <a:rPr b="1" lang="en-US" sz="6600" spc="-1" strike="noStrike">
                <a:solidFill>
                  <a:srgbClr val="feec94"/>
                </a:solidFill>
                <a:latin typeface="Monotype Corsiva"/>
              </a:rPr>
              <a:t>«О, сколько нам открытий чудных…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바탕"/>
              </a:rPr>
              <a:t>1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553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2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3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3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9360" y="333360"/>
            <a:ext cx="6578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4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343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ec94"/>
                </a:solidFill>
                <a:latin typeface="바탕"/>
              </a:rPr>
              <a:t>5.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1160" y="765000"/>
            <a:ext cx="7278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Конкурс 1.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«Как звали </a:t>
            </a:r>
            <a:br>
              <a:rPr sz="7200"/>
            </a:br>
            <a:r>
              <a:rPr b="0" lang="en-US" sz="7200" spc="-1" strike="noStrike">
                <a:solidFill>
                  <a:srgbClr val="feec94"/>
                </a:solidFill>
                <a:latin typeface="바탕"/>
              </a:rPr>
              <a:t>    героя  сказки ?»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바탕"/>
              </a:rPr>
              <a:t>( напиши имя героя сказки)</a:t>
            </a:r>
            <a:r>
              <a:rPr b="1" lang="en-US" sz="4800" spc="-1" strike="noStrike">
                <a:solidFill>
                  <a:srgbClr val="ffffff"/>
                </a:solidFill>
                <a:latin typeface="바탕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1:46:12Z</dcterms:created>
  <dc:creator>User</dc:creator>
  <dc:description/>
  <dc:language>en-US</dc:language>
  <cp:lastModifiedBy>User</cp:lastModifiedBy>
  <dcterms:modified xsi:type="dcterms:W3CDTF">2012-08-16T09:06:38Z</dcterms:modified>
  <cp:revision>10</cp:revision>
  <dc:subject/>
  <dc:title>Викторина : «Что за прелесть  эти сказки?»</dc:title>
</cp:coreProperties>
</file>