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E21-AEB6-45EC-9DB5-2CAF7328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3DB-C8A0-4B02-A1DE-CF024FB9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205-0FAD-4598-BFD5-0C0DF322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0AB-EF91-4A26-B154-C79F4346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433D-4023-4A1A-B7EB-3DE24370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0AC3-AC3D-4592-A11C-C8C69C56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3DCA-5646-43EF-9609-829284D2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8983-7829-4C80-BB2E-8AA85B96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C0B0-1F59-4721-A136-036C6B44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48A9-81D0-4189-95C2-00F38340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2DFE-B1A1-47B1-83C7-59504289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CDB-0570-4865-90B9-32429954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EE27-31F8-4FF2-8099-21D73927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D639-5C7F-49CC-84ED-E65B6282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4A97-8E32-47EE-9D75-6FD92509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4D23-E2AE-496D-A127-70C4AEA9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1D11-2DC2-482D-9979-C1F25F2B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9FB-2187-4C4A-BDAB-DD56DFCD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009-CB13-4E9D-B40D-AA6C5217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147-81B8-4827-803C-BA140026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6B8-2C45-4E83-8FF7-AD716A71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E39-C7B9-4161-ACCA-C4BE504B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D7B-7DC2-4CE8-A8CD-6B63E05E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4DB-1F79-4090-9941-86215447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F7D7-258F-4F9E-B981-51056108B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EA31-2027-4E06-9FC5-4AE86A4D2A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1301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7200" spc="-1" strike="noStrike">
                <a:solidFill>
                  <a:srgbClr val="feec94"/>
                </a:solidFill>
                <a:latin typeface="Times New Roman"/>
              </a:rPr>
              <a:t>Викторина :</a:t>
            </a:r>
            <a:br>
              <a:rPr sz="7200"/>
            </a:br>
            <a:r>
              <a:rPr b="1" lang="en-US" sz="7200" spc="-1" strike="noStrike">
                <a:solidFill>
                  <a:srgbClr val="feec94"/>
                </a:solidFill>
                <a:latin typeface="Times New Roman"/>
              </a:rPr>
              <a:t>«Что за прелесть эти сказки?»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758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1. ...царевича в «Сказке о царе Салтане»?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2" marL="758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2. ...сватью в «Сказке о царе  Салтане»?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2" marL="758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3. ...королевича в «Сказке о мертвой царевне и семи богатырях»?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4. ... пса в «Сказке о    мертвой царевне»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5. ...царя в «Сказке о золотом петушке»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6. .. дядьку в «Сказке о царе Салтане»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Конкурс № 2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«Верните в сказку!»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바탕"/>
              </a:rPr>
              <a:t>( запишите название сказки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br>
              <a:rPr sz="3500"/>
            </a:br>
            <a:r>
              <a:rPr b="0" lang="en-US" sz="5500" spc="-1" strike="noStrike">
                <a:solidFill>
                  <a:srgbClr val="feec94"/>
                </a:solidFill>
                <a:latin typeface="바탕"/>
              </a:rPr>
              <a:t>1.</a:t>
            </a:r>
            <a:endParaRPr b="1" lang="en-US" sz="55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5516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바탕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-4391" r="0" b="14065"/>
          <a:stretch/>
        </p:blipFill>
        <p:spPr>
          <a:xfrm>
            <a:off x="1547640" y="0"/>
            <a:ext cx="6912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29600" cy="57466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바탕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바탕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75326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바탕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70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ec94"/>
                </a:solidFill>
                <a:latin typeface="바탕"/>
              </a:rPr>
              <a:t>Конкурс № 3</a:t>
            </a:r>
            <a:br>
              <a:rPr sz="7200"/>
            </a:br>
            <a:r>
              <a:rPr b="0" lang="en-US" sz="7200" spc="-1" strike="noStrike">
                <a:solidFill>
                  <a:srgbClr val="feec94"/>
                </a:solidFill>
                <a:latin typeface="바탕"/>
              </a:rPr>
              <a:t>  «Узнай героя сказки!»</a:t>
            </a:r>
            <a:br>
              <a:rPr sz="7200"/>
            </a:b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2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바탕"/>
              </a:rPr>
              <a:t>( напишите имя героя 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1. Ломит он у дуба су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И в тугой сгибает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лук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По-русски говорим мы с детств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Но волшебство знакомых сл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Мы обретаем, как наследство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В сиянье пушкинских стих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3149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2. Ест за четверых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Работает за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семерых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3. Вся сияя, как заря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Тихо встретила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царя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4. Торговали мы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булатом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Чистым серебром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и златом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5. Высока, стройна, бела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И умом и всем взяла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Белолица, черноброва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Нраву кроткого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такого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Конкурс № 4</a:t>
            </a:r>
            <a:br>
              <a:rPr sz="6000"/>
            </a:b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«Из одной ли мы сказки ?»</a:t>
            </a:r>
            <a:br>
              <a:rPr sz="6000"/>
            </a:b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42206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( напишите «да» или «нет»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1. Царь Дадон и шамаханская царица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2. Царевна Лебедь и семь богатырей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3. Королевич Елисей и мертвая царевна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950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4. Князь Гвидон и злая мачеха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5. Попадья и золотая рыбка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6. Царь Салтан и тридцать три богатыря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Конкурс № 5</a:t>
            </a:r>
            <a:br>
              <a:rPr sz="6000"/>
            </a:b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«Тест для знатоков сказок»</a:t>
            </a:r>
            <a:br>
              <a:rPr sz="6000"/>
            </a:b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выберите и обведите букву правильного ответа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1. На какой срок нанялся Балда в услужение к попу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а) на меся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б) на недел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в) на го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바탕"/>
              </a:rPr>
              <a:t>2. Кто вел учет золотым орехам белочки в городе князя Гвидона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а) Дья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б) Счетово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в) Воевод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Разминка</a:t>
            </a:r>
            <a:br>
              <a:rPr sz="6000"/>
            </a:b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«Узнай сказку!»</a:t>
            </a:r>
            <a:br>
              <a:rPr sz="6000"/>
            </a:b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(</a:t>
            </a:r>
            <a:r>
              <a:rPr b="1" lang="en-US" sz="4400" spc="-1" strike="noStrike">
                <a:solidFill>
                  <a:srgbClr val="feec94"/>
                </a:solidFill>
                <a:latin typeface="바탕"/>
              </a:rPr>
              <a:t>напиши полное название сказки</a:t>
            </a: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)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022800"/>
            <a:ext cx="8229600" cy="1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51120" indent="-5112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feec94"/>
                </a:solidFill>
                <a:latin typeface="바탕"/>
              </a:rPr>
              <a:t>3. Сколько дней царь Дадон пировал в шатре шамаханской царицы 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оди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меся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недел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4. На кого любили охотиться семь богатырей из «Сказки о мертвой царевне…»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33573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на серых волко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на серых уто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на диких кабано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5. Сколько раз старуха посылала старика к рыбке 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6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четыр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пят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шест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6. Чем Балда грозил чертям 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веревко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кулако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пистолето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7. Как иначе назван мудрец в «Сказке о золотом петушке»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астрономо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учены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звездочето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8. От чего умерла злая царица в «Сказке о мертвой царевне..»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573360"/>
            <a:ext cx="82296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от злост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от тоск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от завист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바탕"/>
              </a:rPr>
              <a:t>9. Что посылал князь Гвидон с корабельщиками царю Салтану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покло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приве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письм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Monotype Corsiva"/>
              </a:rPr>
              <a:t>Спасибо за участие в литературной викторине:</a:t>
            </a:r>
            <a:br>
              <a:rPr sz="6600"/>
            </a:br>
            <a:r>
              <a:rPr b="1" lang="en-US" sz="6600" spc="-1" strike="noStrike">
                <a:solidFill>
                  <a:srgbClr val="feec94"/>
                </a:solidFill>
                <a:latin typeface="Monotype Corsiva"/>
              </a:rPr>
              <a:t>«О, сколько нам открытий чудных…»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ec94"/>
                </a:solidFill>
                <a:latin typeface="바탕"/>
              </a:rPr>
              <a:t>1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553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2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335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3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49360" y="333360"/>
            <a:ext cx="6578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4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7343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5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1160" y="765000"/>
            <a:ext cx="72784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2204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ec94"/>
                </a:solidFill>
                <a:latin typeface="바탕"/>
              </a:rPr>
              <a:t>Конкурс 1. </a:t>
            </a:r>
            <a:br>
              <a:rPr sz="7200"/>
            </a:br>
            <a:r>
              <a:rPr b="0" lang="en-US" sz="7200" spc="-1" strike="noStrike">
                <a:solidFill>
                  <a:srgbClr val="feec94"/>
                </a:solidFill>
                <a:latin typeface="바탕"/>
              </a:rPr>
              <a:t>«Как звали </a:t>
            </a:r>
            <a:br>
              <a:rPr sz="7200"/>
            </a:br>
            <a:r>
              <a:rPr b="0" lang="en-US" sz="7200" spc="-1" strike="noStrike">
                <a:solidFill>
                  <a:srgbClr val="feec94"/>
                </a:solidFill>
                <a:latin typeface="바탕"/>
              </a:rPr>
              <a:t>    героя  сказки ?»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바탕"/>
              </a:rPr>
              <a:t>( напиши имя героя сказки)</a:t>
            </a:r>
            <a:r>
              <a:rPr b="1" lang="en-US" sz="4800" spc="-1" strike="noStrike">
                <a:solidFill>
                  <a:srgbClr val="ffffff"/>
                </a:solidFill>
                <a:latin typeface="바탕"/>
              </a:rPr>
              <a:t>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1:46:12Z</dcterms:created>
  <dc:creator>User</dc:creator>
  <dc:description/>
  <dc:language>en-US</dc:language>
  <cp:lastModifiedBy>User</cp:lastModifiedBy>
  <dcterms:modified xsi:type="dcterms:W3CDTF">2012-08-16T09:06:38Z</dcterms:modified>
  <cp:revision>10</cp:revision>
  <dc:subject/>
  <dc:title>Викторина : «Что за прелесть  эти сказки?»</dc:title>
</cp:coreProperties>
</file>