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931-0341-4151-8939-8A295052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6FB-B6F6-4556-9C1A-485C07E7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028-B533-43B0-BC7C-71DC7CF8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A61-01ED-4F44-AE45-0A7568CA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A4C-D13D-4904-973C-2CB608B9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647-17E1-4665-9E93-FF4F250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6FE-43DE-408C-8B69-E9B4AE7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9D3-83B9-43BC-A565-C132FEB8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C1E-4172-4EAF-ACA6-12D4901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0C7-48D8-4BAF-873E-7B6130F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039-295F-40D1-B42D-D64105E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70A-9699-4291-9FE0-000E19F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E7D-B2BA-41B5-B4B2-CC4C6411C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Сыргай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добеева Люда 8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Хвориков А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гучая берёза в три обхвата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187280" y="1285920"/>
            <a:ext cx="6418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ший друг помогает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96880" y="1557360"/>
            <a:ext cx="60278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есу с брато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рокое раздол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984240" y="1484280"/>
            <a:ext cx="6991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дник, роднич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28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опинка к оз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403280" y="1327320"/>
            <a:ext cx="640872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у деревн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езжают дач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её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юби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01760" y="1268280"/>
            <a:ext cx="402588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а дере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4342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, повидавший мног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05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тели дере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ей деревне 40 дворов. Население составляет 112 человек. Несколько жителей нашей деревни - участники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6274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Arial"/>
              </a:rPr>
              <a:t>«Сыргайды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свою деревн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свой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ки и грибники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ходят сторо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, дорожень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452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папа голубевод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ль. У н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ное кол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х ви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дрявые, якобины, бухарски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52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га в деревн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49244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мой дом родно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26436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еннее половод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47640" y="1376280"/>
            <a:ext cx="5977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есь была воинская час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3545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одец, колодец, дай воды напить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2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е следу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бликаев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ё Тютняр не было, а на нашей земле уже жили люди. По первым источникам мы узнали, что деревня наша отсчёт начинает с 1740 года. Тогда наша деревня называлась «Обликаевка» (по –башкирски звучит «авилькай»). Деревня эта находилась ближе к деревне Курманова, на 3 км левее трассы. Поблизости не было водоема, и люди решили переселиться поближе к озеру, которое находилось на 3 км  правее трас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ыргайды – «жёлтое озер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й дедушка, Зарипов Магдей, рассказывал, что название своё деревня получила от заезжих купцов – рыбаков. В озере водилось много рыбы. Всё лето у рыбаков был хороший улов, но с наступлением осени вокруг всё пожелтело от опавших листьев, уловы стали меньше. Тогда купцы сказали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айзы», что в переводе с башкирского означает «пожелтевшее», и уехали восвоя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зеро Сыргай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еро Сыргайды вытянуто с севера на юг. С восточной стороны береговая линия поросла лесом. Площадь озера 360 га. Наибольшая глубина в центральной части озера составляет 560 см. С севера на юг имеет протяжность 2800 м, а с запада на восток – 1900 м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деревни Сыргай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гайды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дра. Летом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ягод, гриб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прогулять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у, отдох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ой фот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 мамой сиди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ым ведром костя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рали мы её прямо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родами. Лес у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к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естности оз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круг озера, вд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овой ли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т камы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стники, рогоз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зырчатая ос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в озере раст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оросли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до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ёхдольная ря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реговая л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овая л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а поросла ле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берёз.  З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ером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лять. Ощуща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койствие и ср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ов у нас мн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437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31:43Z</dcterms:created>
  <dc:creator>Вася</dc:creator>
  <dc:description/>
  <dc:language>en-US</dc:language>
  <cp:lastModifiedBy>Анатолий</cp:lastModifiedBy>
  <dcterms:modified xsi:type="dcterms:W3CDTF">2012-08-17T15:55:39Z</dcterms:modified>
  <cp:revision>18</cp:revision>
  <dc:subject/>
  <dc:title>«Сыргайды»</dc:title>
</cp:coreProperties>
</file>