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032-FEED-474C-82C2-642E4061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E5B-55C6-405B-8E4C-61D1007C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C4C-0E6D-4CCC-823D-1F30756A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95A-26C8-418E-92BC-F82A3329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8C8-FE6C-4DF4-9FED-90DBFFB9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690-0ED8-4404-A958-BC5E8964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A8E-65A8-4A53-B6BB-1DD60C08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E90-BACD-4060-8196-62087105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C91-34A7-48B3-915E-25CA2E92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968-5EB9-4C8B-AB00-AA6E0AB7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B12-7847-45DB-875A-E1D175DA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E0F-9AE8-4DDE-BB63-5A7D0A5D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9F4B-CBD1-40A4-A77E-2AD7B2EF2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Arial"/>
              </a:rPr>
              <a:t>Сыргай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добеева Люда 8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Хвориков А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гучая берёза в три обхвата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187280" y="1285920"/>
            <a:ext cx="6418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чший друг помога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96880" y="1557360"/>
            <a:ext cx="602784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лесу с брато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265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рокое раздол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84240" y="1484280"/>
            <a:ext cx="69912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дник, роднич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288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опинка к оз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403280" y="1327320"/>
            <a:ext cx="640872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шу деревн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езжают дачн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её о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юби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401760" y="1268280"/>
            <a:ext cx="402588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а дере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4342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, повидавший мног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054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тели дерев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шей деревне 40 дворов. Население составляет 112 человек. Несколько жителей нашей деревни - участники 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6274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ff"/>
                </a:solidFill>
                <a:latin typeface="Arial"/>
              </a:rPr>
              <a:t>«Сыргайды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люблю свою деревн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люблю свой дом р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аки и грибники е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ходят сторо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рога, дорожень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4529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й папа голубевод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тель. У н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омное кол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ых ви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дрявые, якобины, бухарские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45291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рога в деревн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492444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мой дом родно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26436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еннее половод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547640" y="1376280"/>
            <a:ext cx="597708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329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есь была воинская час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3545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одец, колодец, дай воды напить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022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ение следу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бликаев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щё Тютняр не было, а на нашей земле уже жили люди. По первым источникам мы узнали, что деревня наша отсчёт начинает с 1740 года. Тогда наша деревня называлась «Обликаевка» (по –башкирски звучит «авилькай»). Деревня эта находилась ближе к деревне Курманова, на 3 км левее трассы. Поблизости не было водоема, и люди решили переселиться поближе к озеру, которое находилось на 3 км  правее трас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ыргайды – «жёлтое озер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дедушка, Зарипов Магдей, рассказывал, что название своё деревня получила от заезжих купцов – рыбаков. В озере водилось много рыбы. Всё лето у рыбаков был хороший улов, но с наступлением осени вокруг всё пожелтело от опавших листьев, уловы стали меньше. Тогда купцы сказали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гайзы», что в переводе с башкирского означает «пожелтевшее», и уехали восвоя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зеро Сыргай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еро Сыргайды вытянуто с севера на юг. С восточной стороны береговая линия поросла лесом. Площадь озера 360 га. Наибольшая глубина в центральной части озера составляет 560 см. С севера на юг имеет протяжность 2800 м, а с запада на восток – 1900 м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деревни Сыргай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ыргайды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дра. Летом у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ягод, гриб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прогулять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у, отдохн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ой фот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с мамой сиди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ым ведром костя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рали мы её прямо 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ородами. Лес у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к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естности оз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круг озера, вд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говой ли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ут камыш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стники, рогоз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зырчатая ос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в озере раст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росли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до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ёхдольная ря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реговая ли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говая л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ера поросла ле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берёз.  Зд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чером 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лять. Ощуща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койствие и ср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овится лег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4164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ибов у нас мног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6437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6:31:43Z</dcterms:created>
  <dc:creator>Вася</dc:creator>
  <dc:description/>
  <dc:language>en-US</dc:language>
  <cp:lastModifiedBy>Анатолий</cp:lastModifiedBy>
  <dcterms:modified xsi:type="dcterms:W3CDTF">2012-08-17T15:55:39Z</dcterms:modified>
  <cp:revision>18</cp:revision>
  <dc:subject/>
  <dc:title>«Сыргайды»</dc:title>
</cp:coreProperties>
</file>