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D40-BFB4-459C-AC50-C96324F6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AA8-1580-4CC4-A566-72C8A7FC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DA2-46A8-4FFF-8E3A-17C3C1EC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D36-493E-4E0B-9CF4-B229A190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C67-AD77-4E3C-A95E-F717C44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F4D-85A8-4DCA-984A-42B6125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090-0FDE-4459-9D50-361645B1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181-C58E-4C66-B61C-024E054A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8F6-F997-46C7-9E3D-0887678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CD8-633A-40AB-A5AF-D9DFE20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99C-78CC-4FC3-B6FF-D3F8420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59E-899A-4DA4-ADE4-1C958764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3221-3978-4986-8531-7164AA121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0lik.ru/cliparts/clipartrastr/180727-klenovye-ugolki.html" TargetMode="External"/><Relationship Id="rId2" Type="http://schemas.openxmlformats.org/officeDocument/2006/relationships/hyperlink" Target="http://www.google.ru/imgres" TargetMode="External"/><Relationship Id="rId3" Type="http://schemas.openxmlformats.org/officeDocument/2006/relationships/hyperlink" Target="http://www.google.ru/imgres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16000" y="5445000"/>
            <a:ext cx="2879640" cy="1227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5816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ЕСТО ВИШНЁВОГО САДА В СИСТЕМЕ ОБРАЗОВ ПЬЕСЫ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. П. ЧЕХОВА "ВИШНЁВЫЙ САД». СИМВОЛИЧЕСКИЙ СМЫСЛ НАЗВА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</a:rPr>
              <a:t>сад - образ и персона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2124000" y="3319560"/>
            <a:ext cx="275436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сад - врем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24000" y="3456000"/>
            <a:ext cx="32400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сад - символическое простран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564000" y="2825640"/>
            <a:ext cx="25207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налитическая бес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чём проявляется взаимосвязь понятий символ - аллегори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чём состоит принципиальное отличие этих понятий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разите мысль, вставив в предложение с пропусками слова «символ»  и «аллегория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В &lt; ... &gt;  &lt; ... &gt; единичное привлечено для наглядного показа общности, а в &lt; ... &gt; &lt; ... &gt; наглядная картина иллюстрирует какую - либо общность» (А. Ф. Лосев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зовите центральный образ-символ пье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. П. Чехова «Вишнёвый сад» и дайте максимальное количество его интерпретаций, обосновав все тракт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тези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бобщённо-символический подтекст заложен в системе образов: представлены все основные сословия, три поколения; герои делятся на «людей фразы» и «людей дела», вычленяются в системе образов «жертвы и хищники, несчастные и счастливые»; все герои так или иначе могут быть названы «недотёпами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пьесе есть система символических противопоставлений (мечта - реальность, счастье - беда, прошлое - будущее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 речи героев встречаются традиционные символы, слова-эмблемы. (Трофимов: «мы идём неудержимо к яркой звезде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южетные повороты в пьесе А. П. Чехова часто приобретают символический подтекст. (Финал пьесы. Вина за трагическую развязку жизни Фирса возлагается на всех основных героев пьес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вторские ремарки порой переводят действие в условный план. (Петя завораживает Аню громкими словами, которые исполнены верой в прекрасное будущее: «Я предчувствую счастье ... , я уже вижу его ... ».  В авторской ремарке не случайно упоминается Епиходов, который «играет на гитаре ту же грустную песню». Так проявляется авторское сомнение в справедливости предчувствий П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Обобщающая бесе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пределите хронологические рамки действия пьесы. В чём состоит особенность пространственно-временной организации «Вишнёвого сада»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 раскрывается тема уходящего времени в действиях персонаже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чём, на ваш взгляд, внутренний конфликт пьес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рамой или комедией представляется вам пьеса А. П. Чехова «Вишнёвый сад»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то  виновен в гибели «Вишнёвого сада»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 влияет окружение Раневской, соседство с другими героями пьесы на отношение читателя к драме Любови Андреевн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 чём заставляет сожалеть, и какие надежды вызывает «Вишнёвый сад» А. П. Чехов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•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Каковы ваши впечатления от творчества писателя, драматурга, просто человека? Изменилось ли что-то в вашем первоначальном восприятии его творчества и его самого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Вся Россия наш сад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Мы насадим новый сад,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                          роскошнее этого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сочинение-миниатюру, предложив свой вариант спасения вишнёвого са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Погода чудесная. Всё поё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ветёт, блещет красот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Цветут все эти древеса бел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тчего поразительно похожи 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вест во время венчани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Из письма А.П. Чехова. 1889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www.0lik.ru/cliparts/clipartrastr/180727-klenovye-ugolki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www.google.ru/im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google.ru/img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Слушая пьесу Чехова – в чтении она не производит впечатления крупной вещи. Нового – ни  слова. Всё – настроение, идеи, - если    можно говорить о них,  - лица, всё это уже было в его пьесах. Конечно, красиво, и – разумеется – со сцены повеет на публику зелёной тоской. А о чём тоска – не знаю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 М. Горь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 Я плакал, как женщина, хотел, но не мог сдержаться. Нет, для простого человека это трагедия… я ощущаю к этой пьесе особую нежность и любовь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К. Станиславс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«…мне представилось, что «Вишневый сад» не пьеса, а музыкальное произведение, симфония. И играть эту пьесу надо особенно правдиво, без реальных грубосте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М.И. Лилина, актр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южет (от франц. sujet – предмет, содержание)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- система  событий в художественном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произведении, раскрывающа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характеры действующих лиц 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тношение писателя к изображаемым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явления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- последовательность, ход событий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составляющий содержание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художественного произведения.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В основе сюжета –конфли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нфликт(от лат. сonflictu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строе столкновение характеров 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бстоятельств, взглядов 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принципов жизни, положенное в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основу действия; противоречие,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  столкновение между геро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ишнёвый сад, являющийся     одновременно и фоном действия, и действующим лицом, и всеобъемлющим символом, можно рассматривать в трёх основных аспект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05160" y="4052880"/>
            <a:ext cx="195084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lla</cp:lastModifiedBy>
  <dcterms:modified xsi:type="dcterms:W3CDTF">2012-08-17T20:21:36Z</dcterms:modified>
  <cp:revision>23</cp:revision>
  <dc:subject/>
  <dc:title>Слайд 1</dc:title>
</cp:coreProperties>
</file>