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D59-BFF8-4BCC-A52C-796823EE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25A-E1D7-4B1C-B79D-DBCB8CE9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449-B990-46A1-8FF3-288B80A4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81A-B797-4776-A6E5-D6F874B4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5AE-0323-445B-8722-FDF1894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919-7D40-4D6B-B624-D26500AF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BDA-B639-465B-A76C-052893E7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901-051B-4369-8B2E-2D0A09B6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930-62E5-4E7A-8F6B-A4C98D52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23E-69E0-4D6A-BE23-600720B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D18-222A-42C4-9E4B-ECAA1C4B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590-C588-499E-A338-C6081C8E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CD60-D99F-49D7-B65B-9BA78812D2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0lik.ru/cliparts/clipartrastr/180727-klenovye-ugolki.html" TargetMode="External"/><Relationship Id="rId2" Type="http://schemas.openxmlformats.org/officeDocument/2006/relationships/hyperlink" Target="http://www.google.ru/imgres" TargetMode="External"/><Relationship Id="rId3" Type="http://schemas.openxmlformats.org/officeDocument/2006/relationships/hyperlink" Target="http://www.google.ru/imgres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116000" y="5445000"/>
            <a:ext cx="2879640" cy="1227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05816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МЕСТО ВИШНЁВОГО САДА В СИСТЕМЕ ОБРАЗОВ ПЬЕСЫ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А. П. ЧЕХОВА "ВИШНЁВЫЙ САД». СИМВОЛИЧЕСКИЙ СМЫСЛ НАЗВА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</a:rPr>
              <a:t>сад - образ и персона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2124000" y="3319560"/>
            <a:ext cx="275436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сад - врем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24000" y="3456000"/>
            <a:ext cx="32400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сад - символическое простран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564000" y="2825640"/>
            <a:ext cx="25207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Аналитическая бесе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чём проявляется взаимосвязь понятий символ - аллегори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чём состоит принципиальное отличие этих понятий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ыразите мысль, вставив в предложение с пропусками слова «символ»  и «аллегория»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В &lt; ... &gt;  &lt; ... &gt; единичное привлечено для наглядного показа общности, а в &lt; ... &gt; &lt; ... &gt; наглядная картина иллюстрирует какую - либо общность» (А. Ф. Лосев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зовите центральный образ-символ пье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. П. Чехова «Вишнёвый сад» и дайте максимальное количество его интерпретаций, обосновав все тракт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тези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Обобщённо-символический подтекст заложен в системе образов: представлены все основные сословия, три поколения; герои делятся на «людей фразы» и «людей дела», вычленяются в системе образов «жертвы и хищники, несчастные и счастливые»; все герои так или иначе могут быть названы «недотёпами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пьесе есть система символических противопоставлений (мечта - реальность, счастье - беда, прошлое - будущее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речи героев встречаются традиционные символы, слова-эмблемы. (Трофимов: «мы идём неудержимо к яркой звезде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южетные повороты в пьесе А. П. Чехова часто приобретают символический подтекст. (Финал пьесы. Вина за трагическую развязку жизни Фирса возлагается на всех основных героев пьес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вторские ремарки порой переводят действие в условный план. (Петя завораживает Аню громкими словами, которые исполнены верой в прекрасное будущее: «Я предчувствую счастье ... , я уже вижу его ... ».  В авторской ремарке не случайно упоминается Епиходов, который «играет на гитаре ту же грустную песню». Так проявляется авторское сомнение в справедливости предчувствий П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бобщающая бесе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пределите хронологические рамки действия пьесы. В чём состоит особенность пространственно-временной организации «Вишнёвого сада»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ак раскрывается тема уходящего времени в действиях персонаже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 чём, на ваш взгляд, внутренний конфликт пьесы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Драмой или комедией представляется вам пьеса А. П. Чехова «Вишнёвый сад»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то  виновен в гибели «Вишнёвого сада»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ак влияет окружение Раневской, соседство с другими героями пьесы на отношение читателя к драме Любови Андреевны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 чём заставляет сожалеть, и какие надежды вызывает «Вишнёвый сад» А. П. Чехова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аковы ваши впечатления от творчества писателя, драматурга, просто человека? Изменилось ли что-то в вашем первоначальном восприятии его творчества и его самого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Вся Россия наш сад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Мы насадим новый сад,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                         роскошнее этого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писать сочинение-миниатюру, предложив свой вариант спасения вишнёвого са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Погода чудесная. Всё поё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цветёт, блещет красот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Цветут все эти древеса бел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тчего поразительно похожи 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вест во время венчания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Из письма А.П. Чехова. 1889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www.0lik.ru/cliparts/clipartrastr/180727-klenovye-ugolki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www.google.ru/im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google.ru/im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Слушая пьесу Чехова – в чтении она не производит впечатления крупной вещи. Нового – ни  слова. Всё – настроение, идеи, - если    можно говорить о них,  - лица, всё это уже было в его пьесах. Конечно, красиво, и – разумеется – со сцены повеет на публику зелёной тоской. А о чём тоска – не знаю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 М. Горьк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 Я плакал, как женщина, хотел, но не мог сдержаться. Нет, для простого человека это трагедия… я ощущаю к этой пьесе особую нежность и любовь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К. Станиславск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…мне представилось, что «Вишневый сад» не пьеса, а музыкальное произведение, симфония. И играть эту пьесу надо особенно правдиво, без реальных грубосте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М.И. Лилина, актр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южет (от франц. sujet – предмет, содержание)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- система  событий в художественном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произведении, раскрывающая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характеры действующих лиц и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отношение писателя к изображаемым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явления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- последовательность, ход событий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составляющий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художественного произведения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В основе сюжета –конфли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онфликт(от лат. сonflictu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строе столкновение характеров 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обстоятельств, взглядов и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принципов жизни, положенное в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основу действия; противоречие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столкновение между геро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ишнёвый сад, являющийся     одновременно и фоном действия, и действующим лицом, и всеобъемлющим символом, можно рассматривать в трёх основных аспект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05160" y="4052880"/>
            <a:ext cx="195084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lla</cp:lastModifiedBy>
  <dcterms:modified xsi:type="dcterms:W3CDTF">2012-08-17T20:21:36Z</dcterms:modified>
  <cp:revision>23</cp:revision>
  <dc:subject/>
  <dc:title>Слайд 1</dc:title>
</cp:coreProperties>
</file>