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BA5-CB1A-4D77-AEFF-DF6378A0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633-452B-49B7-B8DB-0B2F2DD2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ED4-C993-414F-9D9E-65C0CAA1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D2B-9B95-4439-B926-755EC972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02E-1A51-4308-A9DF-A2E36867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ED4-22AA-46F5-B145-6752C96C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D3A-3C46-47DD-B9C5-85C69C1E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09B-CBA7-45CC-9F45-5DCD7A14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CD6-329C-4E8F-BE08-DA518AE4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F25-8DD6-4BBE-BF97-8B120D45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CD3-6895-4290-8EDF-98828BDD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170-1334-41EC-87AD-71607AE6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54F2-48E1-43DA-B348-C12F121E7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домашнее зад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844280"/>
            <a:ext cx="8642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П с придаточным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П с придаточным        определительным: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ъяснительным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2, 5, 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1, 3, 4, 7,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mic Sans MS"/>
              </a:rPr>
              <a:t>Избегай ошибок, связанны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5075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с нарушением порядка следования частей в сложноподчинённом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с отрывом придаточной части от определяем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150"/>
                            </p:stCondLst>
                            <p:childTnLst>
                              <p:par>
                                <p:cTn id="485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650"/>
                            </p:stCondLst>
                            <p:childTnLst>
                              <p:par>
                                <p:cTn id="494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Исправь оши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Которые еще не сдали деньги на билеты, сдайте до трех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Я все задания выполнил, которые нам зад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А мальчики вернулись, которые ходили в л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650"/>
                            </p:stCondLst>
                            <p:childTnLst>
                              <p:par>
                                <p:cTn id="51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150"/>
                            </p:stCondLst>
                            <p:childTnLst>
                              <p:par>
                                <p:cTn id="521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650"/>
                            </p:stCondLst>
                            <p:childTnLst>
                              <p:par>
                                <p:cTn id="530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2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Есть разного рода неряшливости в языке человека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Грубость в языке – распространённейшее явление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3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Оно в основном свидетельствует о психологической незащищенности человека, о его слабости, а вовсе не о силе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4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Грубыми прозвищами учителей именно слабые волей ученики хотят показать, что они их не боятся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5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Я уже не говорю о том, что это признак невоспитанности, неинтеллигентности, а иногда и жестокости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6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Грубо, цинично, иронически выражаются люди по отношению к тем явлениям повседневной жизни, которые чем-либо травмируют их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7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Этим грубо говорящие люди как бы хотят показать, что они выше тех явлений, которых на самом деле они боятся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8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В основе любых жаргонных циничных выражений лежит слабост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9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По-настоящему сильный и здоровый, уравновешенный человек не будет без нужды говорить громко, ругаться, не будет употреблять жаргонных слов, так как уверен, что это слово и так весом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10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Наш язык – это важнейшая часть нашего общего поведения в жизни.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11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И по тому, как человек говорит, мы легко можем судить о том, с кем мы имеем дело, определить степень интеллигентности человека или его «закомплексованности».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1. Укажи сложное предло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5075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 помощью языка ребенок постигает м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ервый и самый важный предмет в школе – это родная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лагодаря языку благодаря лучшим его произведениям каждый из нас познает себя через других и каждый постигает законы человеческ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5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75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25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820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2. Найди сложноподчиненное предложе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 самого раннего детства и до глубокой старости вся жизнь человека непрерывно связана с язы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ерез слово человек впервые узнает о том чего еще не видели его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Ребенок еще не научился как следует говорить а его чистый слух уже ловит журчанье сказок и колыбельных пес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25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75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3. Найди СПП в котором придаточное стоит перед главным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то русский язык – один из богатейших языков в мире в этом нет никакого сом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Русский язык чрезвычайно богат гибок и живописен для выражения простых естественных по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Мы живем в такое время когда без овладения научными знаниями невозможно элементарная культур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300"/>
                            </p:stCondLst>
                            <p:childTnLst>
                              <p:par>
                                <p:cTn id="15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80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30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4. Найди СПП, в котором придаточное стоит в середине главного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тение не может быть легкой и приятной игрой которая доставляет только насла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тобы воспользоваться всеми сокровищами языка нужно хорошо зна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Язык которым Российская держава великой части света повелевает имеет природное изобилие красоту и силу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6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1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6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5. Найди СПП с придаточным определительным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Истинная любовь к своей стране немыслима без любви к свое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Лермонтов создал новый литературный язык который сочетал в себе книжнославянские слова с народно-разговорной реч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Человек мыслит делает обобщения выводы для того чтобы быть поня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850"/>
                            </p:stCondLst>
                            <p:childTnLst>
                              <p:par>
                                <p:cTn id="27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350"/>
                            </p:stCondLst>
                            <p:childTnLst>
                              <p:par>
                                <p:cTn id="28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850"/>
                            </p:stCondLst>
                            <p:childTnLst>
                              <p:par>
                                <p:cTn id="30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6. Найди СПП с придаточным изъяснительным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О развитости языка о его богатстве говорят ресурсы которые заложены в язы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О богатстве языковых средств говорит также развитая система частей речи широкие возможности слово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Все приведенные примеры говорят о том что русский язык дает неограниченные возможности передавать мысли и чувств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8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3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8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Comic Sans MS"/>
              </a:rPr>
              <a:t>7. Найди предложение, в котором что – союз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А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Мы знаем что ныне лежит на весах и что совершается ны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Б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Оттого и дороги мне люди что живут со мною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В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Все понимают что сейчас решается судьба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75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25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750"/>
                            </p:stCondLst>
                            <p:childTnLst>
                              <p:par>
                                <p:cTn id="425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В                   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В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Б                  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А                  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7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100"/>
                            </p:stCondLst>
                            <p:childTnLst>
                              <p:par>
                                <p:cTn id="451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3:26:21Z</dcterms:created>
  <dc:creator>Тигран</dc:creator>
  <dc:description/>
  <dc:language>en-US</dc:language>
  <cp:lastModifiedBy>Борисов</cp:lastModifiedBy>
  <dcterms:modified xsi:type="dcterms:W3CDTF">2007-11-28T13:01:01Z</dcterms:modified>
  <cp:revision>6</cp:revision>
  <dc:subject/>
  <dc:title>      Проверь домашнее задание!</dc:title>
</cp:coreProperties>
</file>