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222-3A09-4ADD-A9F2-7778394C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591-9A6A-4F3F-B26E-86B2EF04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392-88A2-4E74-B668-E40D3E0C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CB0-464B-402A-83C2-12DCA38A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6FF-7AD0-40C9-B0E8-F2729CB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CFD-514D-414F-85FC-A735920F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50E-38A7-4E68-BAD5-E641D361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2C2-86E9-464D-8A04-149EA849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845-8BAA-404B-BB97-2EEADC2A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A14-1526-4D5C-B64C-8B237AAB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D5B-E250-4BF9-BEFC-AA836945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E96-CBBF-4D54-A17D-7F6CFC8A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1174-24AE-4C23-B20E-BF997D9E5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14880" y="3857400"/>
            <a:ext cx="511488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1893 – 1930 г.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Работа учителя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Шубуновой Валентины Иванов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Средней школы № 422 г. Санкт-Петербур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Кронштадтского рай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898989"/>
                </a:solidFill>
                <a:uFillTx/>
                <a:latin typeface="Calibri"/>
              </a:rPr>
              <a:t>2010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mayakovsky.jpg"/>
          <p:cNvPicPr/>
          <p:nvPr/>
        </p:nvPicPr>
        <p:blipFill>
          <a:blip r:embed="rId1"/>
          <a:stretch/>
        </p:blipFill>
        <p:spPr>
          <a:xfrm>
            <a:off x="0" y="1905120"/>
            <a:ext cx="374184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286000" y="500040"/>
            <a:ext cx="62150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згл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ди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я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Г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яковский умеет любить, быть добрым, робким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2" descr=""/>
          <p:cNvPicPr/>
          <p:nvPr/>
        </p:nvPicPr>
        <p:blipFill>
          <a:blip r:embed="rId1"/>
          <a:stretch/>
        </p:blipFill>
        <p:spPr>
          <a:xfrm>
            <a:off x="4468680" y="1670040"/>
            <a:ext cx="4314960" cy="467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Фрол\Desktop\маяковский\1-web.jpg"/>
          <p:cNvPicPr/>
          <p:nvPr/>
        </p:nvPicPr>
        <p:blipFill>
          <a:blip r:embed="rId2"/>
          <a:stretch/>
        </p:blipFill>
        <p:spPr>
          <a:xfrm>
            <a:off x="285840" y="1219320"/>
            <a:ext cx="3564000" cy="5354640"/>
          </a:xfrm>
          <a:prstGeom prst="rect">
            <a:avLst/>
          </a:prstGeom>
          <a:ln w="0">
            <a:noFill/>
          </a:ln>
          <a:effectLst>
            <a:outerShdw dist="203272" dir="4380550" blurRad="0" rotWithShape="0">
              <a:srgbClr val="000000">
                <a:alpha val="31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f497d"/>
            </a:gs>
            <a:gs pos="100000">
              <a:srgbClr val="e1e8f5">
                <a:alpha val="81176"/>
              </a:srgbClr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720" y="274680"/>
            <a:ext cx="42577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иля Бри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иля Брик обладала даром – «сводить с ума» мужчин. Фактически в течение семи лет у нее было два мужа, одним из которых был популярный поэт – певец революции Маяковский. Она обращала на себя всеобщее внимание: броская, яркая, большие сияющие глаза, загадочная улыбка, многообещающий взгляд. За ней давно ухаживал Осип Брик – дипломированный юрист, воспитанный и надежный молодой человек. Лиля к нему искренне привязалась. В марте 1913 года они отпраздновали свадьбу а всего через несколько лет спустя в жизнь Лили ворвался другой… До встречи с Лилей в жизни Маяковского были женщины, но именно она вдохновила поэта на самые прекрасные стихи о любви и стра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Фрол\Desktop\маяковский\2193.jpg"/>
          <p:cNvPicPr/>
          <p:nvPr/>
        </p:nvPicPr>
        <p:blipFill>
          <a:blip r:embed="rId1"/>
          <a:stretch/>
        </p:blipFill>
        <p:spPr>
          <a:xfrm>
            <a:off x="1500120" y="1285920"/>
            <a:ext cx="6114960" cy="4352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66000"/>
              </a:srgbClr>
            </a:outerShdw>
          </a:effectLst>
        </p:spPr>
      </p:pic>
      <p:sp>
        <p:nvSpPr>
          <p:cNvPr id="68" name="Прямоугольник 6"/>
          <p:cNvSpPr/>
          <p:nvPr/>
        </p:nvSpPr>
        <p:spPr>
          <a:xfrm rot="21348600">
            <a:off x="2228400" y="57340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95959"/>
                </a:solidFill>
                <a:latin typeface="Calibri"/>
              </a:rPr>
              <a:t>В её жизнь ворвался другой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 rot="21348600">
            <a:off x="2842920" y="60199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В её жизнь ворвался другой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Фрол\Desktop\маяковский\1924.jpg"/>
          <p:cNvPicPr/>
          <p:nvPr/>
        </p:nvPicPr>
        <p:blipFill>
          <a:blip r:embed="rId1"/>
          <a:stretch/>
        </p:blipFill>
        <p:spPr>
          <a:xfrm>
            <a:off x="142920" y="406440"/>
            <a:ext cx="7572240" cy="559440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2" descr=""/>
          <p:cNvPicPr/>
          <p:nvPr/>
        </p:nvPicPr>
        <p:blipFill>
          <a:blip r:embed="rId2"/>
          <a:stretch/>
        </p:blipFill>
        <p:spPr>
          <a:xfrm>
            <a:off x="2541600" y="3790800"/>
            <a:ext cx="6194520" cy="2756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2928960" y="591660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 короне слова мои радугой судорог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8760" y="5072040"/>
            <a:ext cx="84722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иля Брик поразила поэта в самое сердце: его любовь просто не знала пределов. А познакомила их младшая сестра Лили – Эльза, влюбленная в Маяковского. Увидев Лилю, он сразу почувствовал, что встретил свою женщину – единственную и неповториму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Фрол\Desktop\маяковский\123251.25146.jpg"/>
          <p:cNvPicPr/>
          <p:nvPr/>
        </p:nvPicPr>
        <p:blipFill>
          <a:blip r:embed="rId1"/>
          <a:stretch/>
        </p:blipFill>
        <p:spPr>
          <a:xfrm>
            <a:off x="928800" y="214200"/>
            <a:ext cx="7399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840" y="142560"/>
            <a:ext cx="38293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ым табачный воздух вы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нат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в крученыховском а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этим окн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и твои, исступленный, глад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сидишь во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дце в желез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еще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гониш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быть, выруга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утной передней долго не влез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манная дрожью рука в рука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г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ло в улицу брошу 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к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зумлюс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аяньем иссечась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надо этог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рог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й простимся сейча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Лиличке»1916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Фрол\Desktop\маяковский\1468-9-b.jpg"/>
          <p:cNvPicPr/>
          <p:nvPr/>
        </p:nvPicPr>
        <p:blipFill>
          <a:blip r:embed="rId1">
            <a:lum contrast="20000"/>
          </a:blip>
          <a:srcRect l="2987" t="0" r="0" b="1097"/>
          <a:stretch/>
        </p:blipFill>
        <p:spPr>
          <a:xfrm>
            <a:off x="4286160" y="142920"/>
            <a:ext cx="46436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70920"/>
            <a:ext cx="368604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яковский выстрадал свое счастье: Лиля была с ним, но и со своим мужем не собиралась расставаться. Как они жили? Бывало всякое: голод и нищета первых послереволюционных лет, если Маяковский работал, никто не смел его тревож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357800" y="5500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я чего написал, если чего сказа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му виной глаза-небеса, любимой моей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углые да карие, горячие до гари…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714840" y="130320"/>
            <a:ext cx="5286240" cy="5286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67000"/>
              </a:srgbClr>
            </a:outerShdw>
          </a:effectLst>
        </p:spPr>
      </p:pic>
      <p:pic>
        <p:nvPicPr>
          <p:cNvPr id="80" name="Рисунок 6" descr="lila.png"/>
          <p:cNvPicPr/>
          <p:nvPr/>
        </p:nvPicPr>
        <p:blipFill>
          <a:blip r:embed="rId3"/>
          <a:stretch/>
        </p:blipFill>
        <p:spPr>
          <a:xfrm>
            <a:off x="214200" y="3708360"/>
            <a:ext cx="2476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2560" y="142920"/>
            <a:ext cx="4071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иля по-своему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била Маяковского, он так и не стал для нее всем. Она увлекалась другими мужчинами, а Маяковский избрал добровольное одиночество. Пусть Лиля сама разберется в своих чувствах. Он же откроет свою истерзанную душу бумаг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286160" y="174600"/>
            <a:ext cx="4689720" cy="6540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6760" y="1928520"/>
            <a:ext cx="6072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е чем можно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е чем надо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этовым бредом во с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ис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ок сердечный разрос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омадо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омада любов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омада ненависть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Фрол\Desktop\маяковский\mayakovsky_008.jpg"/>
          <p:cNvPicPr/>
          <p:nvPr/>
        </p:nvPicPr>
        <p:blipFill>
          <a:blip r:embed="rId1"/>
          <a:stretch/>
        </p:blipFill>
        <p:spPr>
          <a:xfrm>
            <a:off x="4714920" y="500040"/>
            <a:ext cx="41702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5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3568" t="1526" r="2423" b="26720"/>
          <a:stretch/>
        </p:blipFill>
        <p:spPr>
          <a:xfrm>
            <a:off x="0" y="0"/>
            <a:ext cx="5786280" cy="6885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6" name=""/>
          <p:cNvSpPr txBox="1"/>
          <p:nvPr/>
        </p:nvSpPr>
        <p:spPr>
          <a:xfrm rot="207600">
            <a:off x="101160" y="2925360"/>
            <a:ext cx="902484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разгаре любви с Маяковским – летом 1922 года – Лиля влюбляется в Александра Краснощекова – заместителя наркома финансов, яркого и интересного человека. Маяковский не хочет делить любимую ни с кем. Оба были рады видеть друг друга, оба остались на своих позициях: Лиля продолжала встречаться с Краснощековым, Маяковский ревновал и неистовствовал, терпел создавшуюся ситуацию из последних сил. Они поддерживали отношения, даже если находились в разных концах земли. И, быть может, будь она рядом с ним в тяжкую минуту боли и разочарования, не было бы и рокового выстрела, оборвавшего жизнь поэта. Но Лиля была далеко и с другим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714560" y="428760"/>
            <a:ext cx="43290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мья Владимира Маяковского жила в небольшом грузинском селе Багдади , что неподалеку от города Кутаиси.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ец его, Владимир Константинович был лесничим, мать, Александра Алексеевна полностью посвятила себя семье. В 1906 г. Маяковский вместе с матерью и сестрами переезжает в Москву.  Он поступил в четвертую гимназию, но революционные настроения настолько захватили юношу, что учеба отошла на второй план. С этого времени Маяковский активно участвует в революционной деятельности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image018.jpg"/>
          <p:cNvPicPr/>
          <p:nvPr/>
        </p:nvPicPr>
        <p:blipFill>
          <a:blip r:embed="rId1"/>
          <a:stretch/>
        </p:blipFill>
        <p:spPr>
          <a:xfrm>
            <a:off x="357120" y="351000"/>
            <a:ext cx="4429080" cy="60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Фрол\Desktop\маяковский\file.jpeg"/>
          <p:cNvPicPr/>
          <p:nvPr/>
        </p:nvPicPr>
        <p:blipFill>
          <a:blip r:embed="rId2"/>
          <a:srcRect l="2085" t="1284" r="0" b="10573"/>
          <a:stretch/>
        </p:blipFill>
        <p:spPr>
          <a:xfrm rot="216000">
            <a:off x="5210280" y="399600"/>
            <a:ext cx="3789360" cy="4579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86000"/>
              </a:srgbClr>
            </a:outerShdw>
          </a:effectLst>
        </p:spPr>
      </p:pic>
      <p:sp>
        <p:nvSpPr>
          <p:cNvPr id="88" name=""/>
          <p:cNvSpPr txBox="1"/>
          <p:nvPr/>
        </p:nvSpPr>
        <p:spPr>
          <a:xfrm>
            <a:off x="356760" y="214200"/>
            <a:ext cx="46436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ит? Не любит? Я рук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ома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пальц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брасываю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разломавши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 рвут загадав и пускаю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ма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енчики встречных ромашек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ускай седины обнаруживае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ижка и брить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усть серебро годов           вызванивает уймою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деюсь, верую вовеки не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приде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 мне позорное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благоразумие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Фрол\Desktop\маяковский\2493.jpg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Фрол\Desktop\маяковский\mayakovskiy.jpg"/>
          <p:cNvPicPr/>
          <p:nvPr/>
        </p:nvPicPr>
        <p:blipFill>
          <a:blip r:embed="rId2"/>
          <a:stretch/>
        </p:blipFill>
        <p:spPr>
          <a:xfrm rot="868800">
            <a:off x="0" y="4025880"/>
            <a:ext cx="2246400" cy="197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57000"/>
              </a:srgbClr>
            </a:outerShdw>
          </a:effectLst>
        </p:spPr>
      </p:pic>
      <p:pic>
        <p:nvPicPr>
          <p:cNvPr id="91" name="Picture 4" descr="C:\Users\Фрол\Desktop\маяковский\mayak51-1.jpg"/>
          <p:cNvPicPr/>
          <p:nvPr/>
        </p:nvPicPr>
        <p:blipFill>
          <a:blip r:embed="rId3"/>
          <a:stretch/>
        </p:blipFill>
        <p:spPr>
          <a:xfrm rot="847800">
            <a:off x="0" y="1000080"/>
            <a:ext cx="2141640" cy="215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5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43240" y="274680"/>
            <a:ext cx="485784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ТРИБУН  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РЕВОЛЮЦИИ 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c71c37da7f30t.jpg"/>
          <p:cNvPicPr/>
          <p:nvPr/>
        </p:nvPicPr>
        <p:blipFill>
          <a:blip r:embed="rId1"/>
          <a:srcRect l="0" t="0" r="0" b="2993"/>
          <a:stretch/>
        </p:blipFill>
        <p:spPr>
          <a:xfrm>
            <a:off x="500040" y="285840"/>
            <a:ext cx="3786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356760"/>
            <a:ext cx="32860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сток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датским богом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жил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лись об пол     головой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лоб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в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жигалась,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скам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жиля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железо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жималис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злобой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Революция» 191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m05_02_23.jpg"/>
          <p:cNvPicPr/>
          <p:nvPr/>
        </p:nvPicPr>
        <p:blipFill>
          <a:blip r:embed="rId1"/>
          <a:stretch/>
        </p:blipFill>
        <p:spPr>
          <a:xfrm rot="285600">
            <a:off x="3886200" y="387000"/>
            <a:ext cx="4422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a53f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100400" y="285480"/>
            <a:ext cx="5043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волюция позволила Маяковскому выйти из трагического тупика, преодолеть разрыв между личностью и миром. По слов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. Карабчинского  («Воскресение Маяковского» 1989г.), Маяковский предстает как певец насилия. Основной мотив его поэзии – месть, культ жестокости. Его пафос – пафос погрома. Поэтому он так восторженно принял Октябрьскую революцию, с ее жестокостью и насилием, с   ее пафосом погрома «старой» культуры.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image024.jpg"/>
          <p:cNvPicPr/>
          <p:nvPr/>
        </p:nvPicPr>
        <p:blipFill>
          <a:blip r:embed="rId1"/>
          <a:stretch/>
        </p:blipFill>
        <p:spPr>
          <a:xfrm>
            <a:off x="142920" y="150840"/>
            <a:ext cx="39592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3840" y="214200"/>
            <a:ext cx="36435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зворачивайтесь в марше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ловесной не место кляуз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ише, ораторы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аш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лово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оварищ маузер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  .  .  .  .  .  .  .  .  .  .  .  .  .  .  . 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лаз ли померкнет орлий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старое ль станем пялиться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реп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 мира на горл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летариата пальцы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рудью вперед браво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лагами небо оклеива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то там шагает правой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ево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ево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ево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Левый марш» 1918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68.jpg"/>
          <p:cNvPicPr/>
          <p:nvPr/>
        </p:nvPicPr>
        <p:blipFill>
          <a:blip r:embed="rId1"/>
          <a:stretch/>
        </p:blipFill>
        <p:spPr>
          <a:xfrm>
            <a:off x="4024440" y="142920"/>
            <a:ext cx="4949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429080" y="1000080"/>
            <a:ext cx="4500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ладимир Маяковский о себе в военные годы: «Чувствую мастерство. Могу овладеть темой. Вплотную. Ставлю вопрос о теме. О революционной…Принял войну взволнованно. Сначала только с декоративной стороны. Плакаты заказные и , конечно, вполне военные. Затем стих… Первое поражение. Вплотную встал военный ужас. Война отвратительна. Тыл еще отвратительней. Чтобы сказать о войне – надо ее видеть. Пошел записываться добровольцем. Не позволили. Нет благонадежности…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5182999.jpg"/>
          <p:cNvPicPr/>
          <p:nvPr/>
        </p:nvPicPr>
        <p:blipFill>
          <a:blip r:embed="rId1"/>
          <a:stretch/>
        </p:blipFill>
        <p:spPr>
          <a:xfrm>
            <a:off x="285840" y="500040"/>
            <a:ext cx="43844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5840" y="35712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гуделась весть о расстрел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до нынч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удит заряд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тябрем разгорелась зар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ынче с золота смыты пят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ш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ыщи сияющих жи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ше золо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яли обратн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каза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чим служи!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17 апреля» 1923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-5733_76289633.jpg"/>
          <p:cNvPicPr/>
          <p:nvPr/>
        </p:nvPicPr>
        <p:blipFill>
          <a:blip r:embed="rId1"/>
          <a:stretch/>
        </p:blipFill>
        <p:spPr>
          <a:xfrm rot="585600">
            <a:off x="4690800" y="422280"/>
            <a:ext cx="3960720" cy="6143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-5733_76289633.jpg"/>
          <p:cNvPicPr/>
          <p:nvPr/>
        </p:nvPicPr>
        <p:blipFill>
          <a:blip r:embed="rId2"/>
          <a:stretch/>
        </p:blipFill>
        <p:spPr>
          <a:xfrm rot="585600">
            <a:off x="4563720" y="291960"/>
            <a:ext cx="3960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Фрол\Desktop\маяковский\BCKGRND.jpg"/>
          <p:cNvPicPr/>
          <p:nvPr/>
        </p:nvPicPr>
        <p:blipFill>
          <a:blip r:embed="rId1"/>
          <a:srcRect l="0" t="0" r="0" b="27140"/>
          <a:stretch/>
        </p:blipFill>
        <p:spPr>
          <a:xfrm>
            <a:off x="142920" y="214200"/>
            <a:ext cx="8823240" cy="642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21009000">
            <a:off x="142560" y="1615680"/>
            <a:ext cx="4757760" cy="40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РАЗБИТОЕСЕРДЦЕ.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Фрол\Desktop\маяковский\033cbe7e7e62.jpg"/>
          <p:cNvPicPr/>
          <p:nvPr/>
        </p:nvPicPr>
        <p:blipFill>
          <a:blip r:embed="rId2"/>
          <a:stretch/>
        </p:blipFill>
        <p:spPr>
          <a:xfrm>
            <a:off x="5086440" y="181080"/>
            <a:ext cx="391464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16:12Z</dcterms:created>
  <dc:creator>Фрол</dc:creator>
  <dc:description/>
  <dc:language>en-US</dc:language>
  <cp:lastModifiedBy>фрол</cp:lastModifiedBy>
  <dcterms:modified xsi:type="dcterms:W3CDTF">2012-08-18T17:06:29Z</dcterms:modified>
  <cp:revision>16</cp:revision>
  <dc:subject/>
  <dc:title>Слайд 1</dc:title>
</cp:coreProperties>
</file>