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217-4846-45EC-B5A7-23C5DED0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8BE-5083-4E17-9C83-B1A42504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DD273-7F66-4346-BC9F-9FF8986E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B0860-7450-4B09-BE8C-1F7FEF8C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F8308-C72A-4C4B-97B9-B99B332F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30BFD-6AB8-42C0-A7F9-8C37AA2D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E38B5-9E49-4FBC-891C-5768D46B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B15C8-9212-4407-AC03-969E84F8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02174-10C8-44B9-BAD3-631A0DC8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C6ABB-D349-4270-B505-37EBB934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65250-71E0-4B34-AF54-034AD9F5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48C89-C5F1-4776-95C6-32226CE3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A36-7B43-4539-911C-A017D389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D2019-D6BF-401F-8D9C-A8207975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598E5-195F-40BF-B9BD-55B8596E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ADFB7-26E2-4AA4-8684-BC2D8BF0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B19F2-D0D3-4462-9853-2A206CBD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8FE5F-0256-4296-89C7-53AE1D0E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79752-4AF1-4C1F-AE7B-8C7283FB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39AF6-6CDB-4AE3-9786-A882FA8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FDF8B-7374-4AF6-8732-246C95A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0EF37-22FE-4EDF-80F9-D7B59B03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3D3BE-73B7-4580-B357-44EF149C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58F-A4FB-4BC2-8738-5861F0BF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4D49F-1A2D-4FDC-9A34-F6290950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13817-D361-4C82-895D-C94B3426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3C6A0-ECC8-44F5-AE0F-4E31DB25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0311D-C0DF-4B68-A3AD-9BAE57D6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F1E9-E7DC-4ABB-A260-7FAAB2B9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C8598-BEE5-475A-ABA5-238FE331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8B020-D635-4F3E-A16A-FE0CC6A1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CA76C-D2AC-437A-997E-0B55498D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92F42-7CF4-4025-A41A-48969DC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A5CE9-C772-4B63-BA2A-203FF11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6F28-D91B-4DC5-B2DE-544F2EA9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98DB0-7929-4EB8-A3FD-A56B9F3F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E3AAF-EBA9-4DB9-8CA1-0BD8BCCF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821B7-7017-4FCF-8B66-E82B84C9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4EEBD-E757-4E80-A896-F4B61E9E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61DB9-49C8-46B2-B854-BE1C5E96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03B4D-47C3-4363-8403-0FFDDDD6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E781B-AC11-4CD7-8D16-25F04E8E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8FF96-4EE8-4A5C-A068-0B8C785B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1DC2F-1ABA-485D-83F9-B1D91E7A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72F4B-9AE6-431A-89AA-E037A7BA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E290-2E20-4821-A916-BB87660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227A9-C07C-479A-BF1C-D95FB24D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BEFAE-A831-406F-8CFB-52FE2AC0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079B1-BF60-46D9-AC08-092BEEF6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A7F20-1EB6-43D6-8677-8F5624C0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85F06-FCDF-4081-B362-5AE3AF73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7B653-BE28-4E5B-9FD6-31D0FA90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874DC-7028-4B05-9A80-EE4B4A6D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47A91-3648-4727-BAF6-BC13F1C8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C52B9-D63B-4D1E-BD47-66C78924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B2F65-3239-4525-AAAB-50E86721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3787-8DC8-4CEA-9546-DCDFE6ED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30194-7FA1-4091-A34A-1FBCD008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2B51D-F7C6-49BC-BD38-FCAF7279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C8B6D-BA1B-487C-8446-96655C2A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9479E-45AD-4CD7-B630-2FDF545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102B6-4536-4AB4-93C0-9A838619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2F113-546F-434C-B161-71AA3AEB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929CC-0C99-4E1B-BE88-4140C0E7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4AF4D-B2B8-4D5E-8A69-A459A3A2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33FB6-73F1-4B89-8F46-3C27C6E4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FA905-5A49-44E9-9104-546EE56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8C0F-DCF0-41D8-904C-FAA7A362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01D74-52E5-4FD5-8D9B-BBF74619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CDAC2-4B00-4740-8BF7-DE515526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377A4-9EAC-4EA2-AD04-2392E7CC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28534-5F00-429B-8D74-3698DF06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1A6DE-F755-4DC2-8297-A676E2B8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CECCA-4B2B-48B4-B748-75888DD5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AE8D0-FF0E-440D-B3B3-3458D069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76F90-FFE6-4073-A3A4-35A88D2A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3B361-C427-43C4-89BD-6D6E1923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C695-4604-43B8-86B3-C384340A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023-8CCA-4DB9-95BA-5FEF7C32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B340-299A-4587-9824-99FA126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296-DA88-47DB-92CB-996FAABC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B965-0950-4DC5-BA77-7D942FA9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7375-4B20-48E2-8440-9E81076C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F37A-1FDD-413C-823B-2E959DCB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B0FF-0369-4E75-8157-4791B54F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F221-6272-4992-AB35-696C36BA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B888-24C0-4119-9BA9-69B6F372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84D4-AF9E-4601-A2F4-507046E7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507C-803B-4DBF-93DB-C25F09C1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A8F0-A655-4209-9CAC-182EA398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A3DC-CE7A-42B0-A900-79F12D3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E57-FF77-49B2-81F9-4B2AAC48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6E09-0B92-449B-935F-52FF4175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7E2B-730D-4F34-BE41-67789BD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E1C7-F7DD-464D-ACC2-33B8B71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9A0F-0E4D-460F-9FC0-52B7117A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B0EE-0B23-4A21-B5FD-00023CD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5B73-63EA-4A0C-989E-186F8293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3F9C5-5EAA-45A2-A0E0-B8A1C341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2062-A6F1-46E9-B269-930F1C34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7725-742C-46F4-9DE2-2F878873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6E30-CE75-46AF-A053-E28DB75C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CCF-EA80-40D0-80F0-1E9D9436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EF52-BB09-4EFA-A776-0F726BD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C5FA-2512-4CB2-A259-C6EB360B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9109-3FE4-4801-AF58-571FF43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AC425-F473-4106-A1D6-EDE915D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C8A0-98D5-4761-9FE1-C0DE34A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1EE7-B6D4-4C5D-B725-AE22C1B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3F35B-E47C-4E58-9464-E4975CC8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1133-E23B-44DD-9F3F-A18225CE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9F92-7A04-4E35-9F02-EE345DE9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62893-884E-439B-89FB-8C4F1978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9C0-5BB2-472C-9E5F-E6CD5A78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59621-1C29-4EB1-944A-5F3B028E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35A8A-0048-45EA-AB9D-61679FB8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48606-F8C4-4748-845D-9F15A950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8859-AA73-482E-8737-5923205F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533FA-1709-4E31-A132-0602BE5C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DA9D-ACD7-442B-A15E-306DB4E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45E2D-9C5E-4DA2-917F-5507618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2046-5707-4A67-B494-4E09A6C0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70E80-F25A-4E5A-B954-E4634842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A083B-445D-4A3E-81A7-5690E107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E62-A979-4620-86D1-A5978AE3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DEE09-817B-4648-A5BB-B58676C2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37524-AABD-4A3A-933A-8EB5471D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2F864-7853-40C3-A044-0084FED7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B040-21FC-460D-A8F1-3ED0FAD6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E9E90-9DA1-4EB2-8AD5-73B0CC5A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84FF-8B04-4C2C-8343-D194D7C8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35573-7823-4BB4-9D3A-52181AC5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B4810-6947-44A8-A7E3-3FB26D6A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96342-E14D-41AE-889C-704A1433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4D46F-C580-46B8-A998-D61CC0B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7DD-63B7-463E-A22A-7355D792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BA5E0-7489-481C-AE51-6B5DAD06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6F929-D1F8-4C92-80CB-FE6C3BF4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56F92-ED94-4491-8B05-D8678F7C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A422-BC7C-4E1E-8097-4FED0A20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FDDAA-9FC0-4F55-9D6F-80937682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CE100-4D33-4D07-A2AC-D80A500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FE5BC-D5AD-49DE-8170-3E7CCEF3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DFF2-CFE7-47B6-9BB7-BB1F0169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21BD-6D4A-4AA2-8AE0-3E442BAB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6DD35-6E78-4DA7-AD74-CB7CE466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326-71F9-44FC-8DCC-C4AFB346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89B2-0997-4809-8F90-0EA53076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7FC3B-8A9F-460C-AD44-000890E0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B524E-88C3-494E-9F79-2C8D661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28FAD-3993-45FC-8413-6DC8FD0C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0E7B1-2AA0-4FAC-B68A-ED0CE8FB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C8BA9-D453-4FA2-9A79-126610A5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210B-5628-4C89-A248-0193D8F5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E4F0-B892-4E10-8C0B-0CACB70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ABEC4-C690-43EA-92BB-EE630A6E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F4D2C-2E68-4B92-8680-AFC2CC55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611-BEEF-4B8D-A5CA-5709EBB1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29FEA-EFB1-4E60-ACB8-9AA9B32D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D18E-CE05-4905-A4DD-5F865ACD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064ED-4B39-44FB-89CA-C00D9D8D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7F71-36A3-477A-90FD-6B002C7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D496A-2E21-4A24-A16A-59C24B39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0800E-3FCF-4B7D-88F7-C23E6645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C41D0-80D0-4721-9D69-7A222C4A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404AE-ED53-4FC7-B1AA-BCD97CFD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CD43A-12EC-4D38-B871-82FD0518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C49DC-C0CB-40EF-BE13-022BD97F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183A-AB74-491E-8FBB-F8170006B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D787-5A07-45BB-AAC4-666BA478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1970-B12E-4550-849C-E0FA021A8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A4C2-972C-4737-838C-F751E4985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3125-E627-4720-83FD-796442303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DFC6-1013-429E-ABA6-8DF02229B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07BB-AE46-404E-A675-8E59FA316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56D3-77C1-4DB8-901C-922890215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120-A78B-4CAF-9E34-7D813A80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495F-0764-4712-8602-02FC3AFC8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2D3F-935B-4357-AED3-1CD1A2B7B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C563-8E91-4718-92B7-D9F493F5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204A-AF2E-45CD-941E-FF2305548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AAF2-F609-4844-A137-9BDC36CDD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2"/>
          <p:cNvSpPr txBox="1"/>
          <p:nvPr/>
        </p:nvSpPr>
        <p:spPr>
          <a:xfrm>
            <a:off x="847800" y="1908000"/>
            <a:ext cx="75070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ституция  Р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495360" y="4961520"/>
            <a:ext cx="852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stral"/>
              </a:rPr>
              <a:t>Выполнила уче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stral"/>
              </a:rPr>
              <a:t>9а класса СОШ№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stral"/>
              </a:rPr>
              <a:t>Кузина Ди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инципы Конститу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28320" y="1172880"/>
            <a:ext cx="86756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ерхове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. Распространяется  на  всю  территорию 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. Имеет  высшую  юридическую  с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за  текущего  законод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. Основные  положения  развиваются  в  отрасле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к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аб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. Принимается  тогда,  когда  имеется  компромис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личных  социально-политических 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. Рассчитана  на  длительный  с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Имеет  особый  порядок  принятия  и  внесения  в 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менений, это  система  довольно  жесткая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7120" y="194760"/>
            <a:ext cx="822960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сновы конституционного стро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01400" y="1599840"/>
            <a:ext cx="839628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оссийская Федерация – Россия есть демократическое федеративное правовое государство с республиканской формой 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татья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еловек, его права и свободы являются высшей ценностью. Признание, соблюдение и защита прав и свобод человека и гражданина – обязанность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01360" y="174240"/>
            <a:ext cx="8015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знаки Конститу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49360" y="105552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указывает на необходимость принятия соответствующих федеральных зак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нормативный акт прямого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специальный порядок принятия и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особая охрана Конститу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4476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71600" y="184320"/>
            <a:ext cx="712944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</a:rPr>
              <a:t>рассматривает дела о соответствии Конститу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А)федеральных законов, нормативных актов Президен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Федерального собрания, Прави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Б)Конституций и нормативных актов Субъектов Федера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В)Договоров между органами Государственной власти ф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дерации и су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Г)не вступивших в силу международных договоров РФ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</a:rPr>
              <a:t>разрешает споры о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А)между федеральными органами государственной влас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Б)между органами государственной власти РФ и ее субъ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к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В)Между высшими органами государственной власти су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бъек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3365640" y="5019840"/>
            <a:ext cx="577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-рассматривает дела по жалобам на нарушения конституц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онных прав и свобод граждан, или по запросам судов пр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веряет конституционность закона, подлежащего примен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нию в конкретном де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-дает толкование Конституции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318960" y="660960"/>
            <a:ext cx="8434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юбая конституция – это документ, 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63520" y="253800"/>
            <a:ext cx="8739360" cy="52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знанн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и поколениями, сознавая себя частью мирового сообщества, принимаем                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КОНСТИТУЦИЮ РОССИЙСКОЙ 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392040" y="530280"/>
            <a:ext cx="548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ституция Российской Федерац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о основной закон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"/>
          <p:cNvPicPr/>
          <p:nvPr/>
        </p:nvPicPr>
        <p:blipFill>
          <a:blip r:embed="rId1"/>
          <a:stretch/>
        </p:blipFill>
        <p:spPr>
          <a:xfrm>
            <a:off x="6032520" y="5605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29720" y="-360"/>
            <a:ext cx="830124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Возникновения конститу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0200" y="785520"/>
            <a:ext cx="86011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18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24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25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36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37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77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78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93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458640" y="29304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 Конституции РФ записаны наши права, свободы и обяза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се люди равны перед законом, и каждого из нас защищает государство, через милицию и су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4503600" y="3900600"/>
            <a:ext cx="3957840" cy="27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223920" y="588240"/>
            <a:ext cx="869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кже у каждого из нас есть обязанности, записанные в Конститу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196920" y="362520"/>
            <a:ext cx="8578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ституция, о которой у нас много говорят в последнее время, это основной закон государства, к которому должны быть подлажены все остальны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сли какой-то закон все же противоречит Конституции, то поступать следует так, как указывает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робнее каждый ученик может узнать об э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пециальном справочнике для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6507000" y="3054240"/>
            <a:ext cx="22734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то такое Конститу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516480" y="1677960"/>
            <a:ext cx="52480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онстит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– (лат.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itutio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становление,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онституция – Основной Закон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к устроен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к образованы органы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ковы права и обязанности гражд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1"/>
          <a:stretch/>
        </p:blipFill>
        <p:spPr>
          <a:xfrm>
            <a:off x="196920" y="1366920"/>
            <a:ext cx="3246480" cy="32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Диана</cp:lastModifiedBy>
  <dcterms:modified xsi:type="dcterms:W3CDTF">2011-05-12T16:08:20Z</dcterms:modified>
  <cp:revision>52</cp:revision>
  <dc:subject/>
  <dc:title>Слайд 1</dc:title>
</cp:coreProperties>
</file>