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BB6-1E6B-4A3C-813F-7E125256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ADD-53DD-41B5-B37F-B43FC74E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F5E6C-C9EF-472C-9345-CF531549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395CC-8DC7-4CBF-9E80-2CC95E7A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6FF0E-E27F-4C03-B8F3-59B53463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1658F-87C8-4941-9530-EE36D6E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C13E8-DEE3-410E-8818-B6DB347B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FBD7D-3C29-4395-A219-48D3351A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18B9E-8DAA-49A7-92FF-07CB5F52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0D5B4-2840-427C-B155-78C92361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C69D3-22F8-4CCF-8702-56DE9E26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B9CF2-5A52-46A4-8DA8-5BF7BE55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256-4E60-4291-9EBE-7E1A996E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20F18-DB01-4E9C-ABC7-64BE732A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E4570-87CA-4659-A254-7653D677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71CB4-7660-407B-98CD-E835C356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178D9-CFDA-4CBB-A59F-EBB26E1E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7C5D1-D11F-4FF3-9433-040D493E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C6F77-CE9B-4561-88F8-1492D53B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19825-CBB3-4078-AB4F-28906E07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51FDA-7C71-4C9B-BBFF-CABC19F1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28899-EB8B-47A8-BD9E-AE8F73CE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20CE9-FC8E-4842-8AEF-793B6C3C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5B3-9A78-468B-AF15-B5EB5376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4DB0F-F4C4-44BB-BB3C-64A4063E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17D90-C018-4F7D-8B15-F11B014A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A0C87-924E-419C-8188-27B66D3C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03ED6-23A9-4637-B627-8D6AA1B2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EB24C-CC3A-4120-A97A-CDF83648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E6633-58AE-4F98-BBA3-3148F717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8A49F-3B6A-447A-966B-1BECDF88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16171-DCFC-4D80-94F1-0C6C6D02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F1161-5662-402D-9924-96E73F44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805F0-B4FE-4E1C-8B4B-29DDE701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3DB1-D246-4326-8C1B-16083501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23E82-9083-4D3A-A6B3-5353CCEF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47B62-2F43-40BC-B6CE-13F483E8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4921D-22CB-4F2D-8100-2E112956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15A01-1061-4E56-A798-E627AA1E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4ABB6-40C0-4834-9FCA-C860C24B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B8750-8A80-43CC-B36C-43A1355C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D3087-8E1A-4B2D-B788-49B31821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D5405-8F0E-4C5E-8639-D57CF930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6A0E5-15A7-47E4-A46F-B1B970D9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12911-FE24-4278-B952-9D307AB6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20FE-F2D2-4452-A5C0-03914EB8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C7ACC-7A30-4F27-ADCD-04FB374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F01C2-DDCB-49DC-9E54-78B24B7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9FA5B-06CD-4321-9A6E-FC93E1E9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C429F-4AC0-4C78-AFA9-FB9666CC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2522F-35D6-4024-A843-94F22702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64E83-68E0-46CE-A961-E1019F90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8FBDA-1723-460E-B6E0-F06CCEFA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E6CBB-C3DE-47F3-8922-04827C16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56265-1752-41E3-9C4B-8AB0E136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EC5A7-F613-4B40-ACA1-C05896BF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DB60-57CC-464B-9542-C5471028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66C47-CDDA-43F1-B658-5A5A7149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D1629-DD1E-4693-8C4A-20D79B87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45565-096D-4BD3-B714-69891F47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89733-B598-48D3-BE20-C68468E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46F07-DF1F-4C49-9B8E-0126252F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60A7E-2D67-425C-9419-2B867B9A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2AFE9-58BF-48D7-9260-7F240B4C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A4A78-C864-4BD5-83FD-7C676D62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2AD6D-C0C1-4924-944B-0F4ECBED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7B070-3571-4CEE-8F89-6710A2F3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5E32-1E71-443D-BBAA-8262E013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26E4C-AE31-48B9-8081-5AF72435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CCCFA-0B27-4355-BBEC-978464BC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A6336-215E-43B7-B106-974320A2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32E8F-42DA-464B-ACDB-52A42502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61B6A-8511-478F-8879-2BA782FE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486E1-6350-4F94-B7C1-8870F1D1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B8D6F-D329-4CAC-8832-A0B37AF6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A65C5-454D-44C5-B088-1837EA61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73AE3-D1CB-4E81-8927-1A886F9D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AC59-5B2D-4C05-85AD-5C024A01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BA0A-4734-435D-8217-399F75C4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0444-BFC9-48A3-8905-1D34D936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A87-033C-489F-8D44-926F863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235F-1118-4650-AD3B-B2CF6A33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A4B4-9AD1-4624-ABBE-1176D140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5F76-C7CF-4EC8-8D1E-F2B2373F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6BF4-CCE3-4389-B650-E7DAC092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B909-2DE0-430A-96F9-D6F7B797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82A0-B8A9-4FAD-9F9E-8A841FCA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1FA4-B717-459F-9293-E2AE69E3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FEBF-969A-4A8E-B9E5-4B42ABB3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83CB-E8D2-43B1-A2D7-6EF1FBD9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9321-9126-4291-AD1E-FD0171E4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8B6-730A-4E73-8CA8-71B8C80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1E82-F200-4BDE-B049-84027701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7901-03C1-46DC-9DF1-916D45E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43E0-5F8C-4C1A-8113-B04B44D5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8D70-5C49-42CE-9AC9-3CA0D60A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BB36-3CFE-430D-B81F-FDAEA39B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7F0D-9A1B-423D-A35C-C825B8B4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58D7-D040-45C6-994C-FC0A71B8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C2A2-E6B9-4508-A833-B4343D92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871FA-68F5-46A5-AD4C-5B63C2F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21988-C6FD-48E0-B997-837FB1D6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02D-67D0-419A-9F9E-122CFC79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F764-95D6-478E-84E7-B8F30D36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CD4B-5E2E-4740-80E4-B6F14A02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FCDDA-5496-48E7-810D-33CFEE1B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803D-9E5B-4DF2-8E23-6ACFE05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F66D-9CBB-4372-B9BA-E9A0F4B6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411E3-8251-4D47-A327-0274B8BD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C7543-F4CF-423B-878F-36ED0409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74F0-2665-467A-9B3C-A2D5C906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8F58-B18D-4900-98FB-10D7E837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51DE0-D72B-4184-B1AC-65725B3E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906-ED33-4841-9B9D-D5F4D0D7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E66D1-6825-4E0B-8697-B99B7200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4355F-B3D5-4F36-8069-6D19D50C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B7DD-58C5-493A-95DE-7767985A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F107-1F0B-4461-9C1E-49063596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87D4E-8983-4305-89F0-038F0E5B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EF71-5579-47D6-AFDC-65767DFA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85644-7F78-43B2-BB54-3022C35D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EA6A-7DEA-4E0B-BAE1-CB45125A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10628-3994-481E-ADB2-4CD063E7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C48C-8EBA-4401-890E-A5861311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981-E317-4C55-B8AE-D98482C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2F52-EEC0-4AFE-84B4-8595E2A2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70430-58E9-4D3F-B5C0-D02A7D8B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617FA-D1BD-4435-87A2-6E6AE908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3A9DE-9944-400E-A7D1-199B52C0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A151F-DD11-435E-B554-7955E0EB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00F77-F5EE-4FB3-BE9E-E86A3851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1C8B3-FE4E-42D3-98BB-509CADDA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06D06-025A-46D9-A281-894EF75C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790E9-9E69-48E4-ABB8-76F7C2C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B461-F21E-4A9B-8962-FF910370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844-7320-4250-9625-CC8D9549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FAF9-07C1-4511-A6A7-D8CED028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6D1A9-D14C-44C2-8914-E55F424E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B727-C043-411B-9ED8-8D395104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6F13F-782A-4626-AA4D-B77AF8C2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895E1-5AF2-4D8D-A9D6-40956D49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4CF24-2EA2-4D83-A9EF-D0DB993D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12E78-F933-40AC-80DF-7B242005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5F38-97D1-441D-BB73-334D7223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45034-BB9C-4F1A-BD55-1569730B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E8F9-C991-449E-A90F-D357E15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132-D962-4095-B9A0-705FA60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05361-5F73-4063-A466-393EA1BD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9C722-A4AC-434F-B731-1752249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B1FA2-B198-4B57-AAF3-90CFA2DD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F4780-6BC6-4D94-A0D4-0E618549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5A444-FF55-4695-865E-390F6272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1C987-4E26-4966-B677-6A3ACF18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35C16-868E-459F-909E-2D094310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7B53B-B428-4198-9178-7C97E3F3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39714-6444-438E-842D-B55EADB1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7F5BC-19F7-490E-8928-F93C4119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C18-8030-469D-B696-32ED60C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F0B3-1131-4358-8CFD-C4B4BA45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2A4D2-A74B-4CD4-8F4A-4878F7B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5201-48ED-46D0-B6E3-10859A3A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586F4-1ECD-4BAE-A678-D780D2E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AD024-E9D1-414C-967E-87B242C3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C7C46-1468-4A1B-8594-4887D6DC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40817-A64B-4B02-820D-FD0A403A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91532-C9D2-43DD-98F9-81D90C1A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B2FD7-7B22-4005-B994-29A4A5D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78672-C35E-4D11-ADF2-A61094BE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3A29-69C7-46B3-9664-A9BED1DD8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B0FE-48F7-4166-AA55-C789EE0F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95E0-E97C-4F80-9ACE-AFB82FD7F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4958-ACD1-4031-81DD-3CD069BAB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E3FC-3302-47CA-AB9F-65D350F6E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3827-9BD1-41EB-AD23-27379F352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1DD2-9069-4B68-85BE-03CDF9F2E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ACA0-A31C-47C0-BFFA-F30FE997D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6CCD-2A3E-4980-B6C5-59D057655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AF99-2A52-481F-A698-39EEE17E7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3482-9A55-4273-B696-BE6242E8B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0F2-87EA-47E7-9303-2A0A2DF6E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14A2-E82C-4F42-8CD9-764D97C0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C91A-35D5-44CC-9D82-D85B1D98D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2"/>
          <p:cNvSpPr txBox="1"/>
          <p:nvPr/>
        </p:nvSpPr>
        <p:spPr>
          <a:xfrm>
            <a:off x="847800" y="1908000"/>
            <a:ext cx="75070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ституция  Р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495360" y="4961520"/>
            <a:ext cx="852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stral"/>
              </a:rPr>
              <a:t>Выполнила уче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stral"/>
              </a:rPr>
              <a:t>9а класса СОШ№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stral"/>
              </a:rPr>
              <a:t>Кузина Ди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инципы Конститу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28320" y="1172880"/>
            <a:ext cx="86756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ерхове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. Распространяется  на  всю  территорию 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. Имеет  высшую  юридическую  с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за  текущего  законод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. Основные  положения  развиваются  в  отрасле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к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аб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. Принимается  тогда,  когда  имеется  компромис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зличных  социально-политических 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. Рассчитана  на  длительный  с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Имеет  особый  порядок  принятия  и  внесения  в 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менений, это  система  довольно  жесткая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7120" y="194760"/>
            <a:ext cx="822960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сновы конституционного стро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01400" y="1599840"/>
            <a:ext cx="839628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оссийская Федерация – Россия есть демократическое федеративное правовое государство с республиканской формой 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татья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еловек, его права и свободы являются высшей ценностью. Признание, соблюдение и защита прав и свобод человека и гражданина – обязанность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01360" y="174240"/>
            <a:ext cx="8015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знаки Конститу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49360" y="105552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указывает на необходимость принятия соответствующих федеральных зак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нормативный акт прямого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специальный порядок принятия и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особая охрана Конститу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4476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71600" y="184320"/>
            <a:ext cx="712944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</a:rPr>
              <a:t>рассматривает дела о соответствии Конститу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А)федеральных законов, нормативных актов Президен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Федерального собрания, Прави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Б)Конституций и нормативных актов Субъектов Федера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В)Договоров между органами Государственной власти ф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дерации и су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Г)не вступивших в силу международных договоров РФ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</a:rPr>
              <a:t>разрешает споры о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А)между федеральными органами государственной влас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Б)между органами государственной власти РФ и ее субъ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к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В)Между высшими органами государственной власти су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бъек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3365640" y="5019840"/>
            <a:ext cx="577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-рассматривает дела по жалобам на нарушения конституц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онных прав и свобод граждан, или по запросам судов пр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веряет конституционность закона, подлежащего примен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нию в конкретном де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-дает толкование Конституции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318960" y="660960"/>
            <a:ext cx="8434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юбая конституция – это документ, 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63520" y="253800"/>
            <a:ext cx="8739360" cy="52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знанн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и поколениями, сознавая себя частью мирового сообщества, принимаем                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КОНСТИТУЦИЮ РОССИЙСКОЙ 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392040" y="530280"/>
            <a:ext cx="548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ституция Российской Федерац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о основной закон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"/>
          <p:cNvPicPr/>
          <p:nvPr/>
        </p:nvPicPr>
        <p:blipFill>
          <a:blip r:embed="rId1"/>
          <a:stretch/>
        </p:blipFill>
        <p:spPr>
          <a:xfrm>
            <a:off x="6032520" y="56052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29720" y="-360"/>
            <a:ext cx="830124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Возникновения конститу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0200" y="785520"/>
            <a:ext cx="86011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18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24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25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36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37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77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78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93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458640" y="29304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 Конституции РФ записаны наши права, свободы и обяза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се люди равны перед законом, и каждого из нас защищает государство, через милицию и су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"/>
          <p:cNvPicPr/>
          <p:nvPr/>
        </p:nvPicPr>
        <p:blipFill>
          <a:blip r:embed="rId1"/>
          <a:stretch/>
        </p:blipFill>
        <p:spPr>
          <a:xfrm>
            <a:off x="4503600" y="3900600"/>
            <a:ext cx="3957840" cy="27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223920" y="588240"/>
            <a:ext cx="869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кже у каждого из нас есть обязанности, записанные в Конститу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196920" y="362520"/>
            <a:ext cx="8578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ституция, о которой у нас много говорят в последнее время, это основной закон государства, к которому должны быть подлажены все остальны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сли какой-то закон все же противоречит Конституции, то поступать следует так, как указывает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робнее каждый ученик может узнать об э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пециальном справочнике для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6507000" y="3054240"/>
            <a:ext cx="22734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то такое Конститу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516480" y="1677960"/>
            <a:ext cx="52480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онстит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– (лат.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itutio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становление,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Конституция – Основной Закон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к устроен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к образованы органы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ковы права и обязанности гражд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1"/>
          <a:stretch/>
        </p:blipFill>
        <p:spPr>
          <a:xfrm>
            <a:off x="196920" y="1366920"/>
            <a:ext cx="3246480" cy="32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Диана</cp:lastModifiedBy>
  <dcterms:modified xsi:type="dcterms:W3CDTF">2011-05-12T16:08:20Z</dcterms:modified>
  <cp:revision>52</cp:revision>
  <dc:subject/>
  <dc:title>Слайд 1</dc:title>
</cp:coreProperties>
</file>