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F5C-C142-4FF1-9CE9-9714F914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048-B178-4254-9DD2-60EB13D9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753-975D-4D60-9716-EE76BB65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790-F327-4CDB-B08C-C5753553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BF8-AABA-45A0-A8BE-79F00BDE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8B9B-BDB4-4373-BEC4-A9267685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E95-0CA0-44B0-9214-1E597978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FB5-7456-40F9-91D9-767C395A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51B-4828-4CC2-A078-A41745A9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AAB-A308-4B7F-BCD0-5A5564B5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B1B-BF7C-4CA0-9125-3AFE245D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3043-C452-4296-B72E-4C492836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2AF3-20EB-47E2-8341-1F15B3162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 Black"/>
              </a:rPr>
              <a:t>Развитие пространственного мышления младших школьников на уроках математ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Выполнила Кузнецова Н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1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848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Мышление, которое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 обеспечивает создание образов пространства, и оперирование ими в процессе решения разнообразных задач, есть пространственное мышле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Основной оперативной единицей пространственного мышления является образ, в котором представлены по преимуществу пространственные характеристики объекта: форма, величина, взаимоотношение составляющих его элементов , расположение их на плоскости, в пространстве относительно любой заданной точки отсчё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Роль пространственного мышления в овладении различными видами деятельности особенно возросла в настоящее пора в связи с широким использованием в науке и технике графического моделирова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Развитие пространственного мышления младших школьников имеет особую значимость. Оно должна начинаться с первых дней пребывания детей в школе, т.к. развитие мышления, а в особенности наглядно-образного и пространственного тесно связано с интеллектом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Формировании пространственных (геометрических представлений состоит из следующих этап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выявление знаний учащихся о геометрических фигур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первичное знакомство с геометрической фигурой на основе наблюдений и практическ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выделение существенных признаков геометрической фиг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конструирование и моделирование геометрической фигуры из определенного количества палочек, полосок бумаги, проволоки, пластили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выделение знакомого образа геометрической фигуры в окружающей обстановке, на чертеж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разбиение множества геометрических фигур на группы. Классификация фигу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построение простейших геометрических фигу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знецова Н. В.</cp:lastModifiedBy>
  <dcterms:modified xsi:type="dcterms:W3CDTF">2012-08-19T17:59:46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