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4A1-C5A8-443A-8683-CE0D992A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2C4-C05B-4498-B39F-DA934327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C73-0A47-4DA9-B7F0-42230BA9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C8E-7F98-449C-9028-90D08B21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DA2-0014-4ED5-AC02-78637785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F1C-5519-44C8-903D-F4229DC5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086-2A88-4D42-BC12-AA692A4A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DD7-37DF-442E-B378-6B3F157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A8A-B02C-4FDD-8ED8-5CE96EA1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6D8-30BE-499F-A0DA-85EF3AD4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AD1-02A7-4CF9-8523-20C2BD1A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E57-1478-49DC-8024-B5F7218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2242-E52E-45B8-9EBC-72E0C9F9C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 Black"/>
              </a:rPr>
              <a:t>Развитие пространственного мышления младших школьников на уроках математ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Выполнила Кузнецов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1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848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Мышление, которое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 обеспечивает создание образов пространства, и оперирование ими в процессе решения разнообразных задач, есть пространственное мышл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Основной оперативной единицей пространственного мышления является образ, в котором представлены по преимуществу пространственные характеристики объекта: форма, величина, взаимоотношение составляющих его элементов , расположение их на плоскости, в пространстве относительно любой заданной точки отсчё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Роль пространственного мышления в овладении различными видами деятельности особенно возросла в настоящее пора в связи с широким использованием в науке и технике графического моделиров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Развитие пространственного мышления младших школьников имеет особую значимость. Оно должна начинаться с первых дней пребывания детей в школе, т.к. развитие мышления, а в особенности наглядно-образного и пространственного тесно связано с интеллектом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Формировании пространственных (геометрических представлений состоит из следующих этап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выявление знаний учащихся о геометрических фигу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первичное знакомство с геометрической фигурой на основе наблюдений и практическ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выделение существенных признаков геометрической фиг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конструирование и моделирование геометрической фигуры из определенного количества палочек, полосок бумаги, проволоки, пластил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выделение знакомого образа геометрической фигуры в окружающей обстановке, на чертеж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разбиение множества геометрических фигур на группы. Классификация фиг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построение простейших геометрических фиг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знецова Н. В.</cp:lastModifiedBy>
  <dcterms:modified xsi:type="dcterms:W3CDTF">2012-08-19T17:59:4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