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32A-6FEA-425B-B64F-E0AAA9C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DC2-5204-4432-B334-127888FC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337-DD58-4096-B49C-2A3CEB96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D13-9EA7-46D9-9697-8A90E102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9BAF-EC30-4B00-A282-15B11133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707-80C9-41E9-9840-11434AD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BDA9-52DB-47BB-8854-91532C49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2D37-6A3F-4BA1-B97C-D127B158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8318-A541-4701-8BFE-684AB34A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4822-6090-428D-8D86-A659D91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C967-B5AE-4DE0-A668-2AEB8AA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05D-776B-4D3A-97FF-0C846345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275C-3AA6-4028-A5FB-50235FD5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E2C1-A50F-4DB7-8ECA-9FF249B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6F9B-D883-4853-950E-A754A791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E24-D24D-4AE2-A7B5-8D91370D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1F3A-26FA-4992-8CBB-409C743D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EDA-FB30-4E0E-97CE-EC1C3A4A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857-41D8-40D6-A8E4-454FADF8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0CD-07D7-4C29-8E5A-14349637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119-EC96-4A7D-B147-3B46C84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830-0AFA-4669-A253-4C21FE6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C47-BA6E-48C9-B37F-1170055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848-BA29-4ACB-8DBF-0EE9FA0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7DB-80F9-4AF8-BDF4-6A3324C6D56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C05-9506-48DA-90B2-C7C9E8610CF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836640"/>
            <a:ext cx="2808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ttle of mil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700280"/>
            <a:ext cx="273708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n of fru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5157720"/>
            <a:ext cx="2808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n of pep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292640"/>
            <a:ext cx="273708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ton of yogu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500280"/>
            <a:ext cx="2737080" cy="505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af of b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565360"/>
            <a:ext cx="273708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of chocol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83664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лка хлеб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0280"/>
            <a:ext cx="302400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ако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йогу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515772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итка шокола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429264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а пепс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3500280"/>
            <a:ext cx="3024360" cy="505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а фрук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256536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ылка моло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5950080"/>
            <a:ext cx="2808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g of sug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595008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кет саха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1:16:52Z</dcterms:created>
  <dc:creator>Андрей</dc:creator>
  <dc:description/>
  <dc:language>en-US</dc:language>
  <cp:lastModifiedBy>Андрей</cp:lastModifiedBy>
  <dcterms:modified xsi:type="dcterms:W3CDTF">2012-03-01T11:34:43Z</dcterms:modified>
  <cp:revision>2</cp:revision>
  <dc:subject/>
  <dc:title>Слайд 1</dc:title>
</cp:coreProperties>
</file>