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27A-E24B-44F3-AFA3-A3CF0C1D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AC6-1A8D-464C-AC32-B2B1189E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BAB-7F70-4B19-8FCD-149388CB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177-2EBC-4EED-AAB7-EF831844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9184-14E8-49AC-BF47-B54695E4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E00A-8C28-45E6-AECE-951089B4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A65F-828E-425A-89CC-E8BD4FD2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9356-B1D6-4030-999B-9333DEF5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9032-0FF5-43AC-8BDE-398E3E5E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9AB1-F860-4E47-B8D6-EA85EB48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7FE9-3112-4149-A57D-D65DCD6A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702-B466-4E89-8A3C-958E8549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C5A3-AE75-4F00-B029-ED1E5A52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2EB0-CC93-453A-A4E0-F243712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E8E8-8F56-4C01-AE77-3D5488DC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F699-AD79-4A19-A2B5-FE50F5EE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990-17E8-49FD-8D94-97175FF7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828-7778-481A-80F2-DC892010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595-7347-41D0-BD46-E78BEC75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B3D-DFA9-40BB-AD3D-A4CCF25A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77B-53D0-4599-96FC-39F03B45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656-7278-4FB9-8B6D-5851AA9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6B6-234E-4EB6-8AA4-69BA37E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275-3AC0-4F4E-811F-D30905D9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A632-A715-4F1C-BD99-923CD8F44C4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BAE6-40AF-4EF2-996D-0379C835115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6920" y="836640"/>
            <a:ext cx="2808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ttle of mil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1700280"/>
            <a:ext cx="273708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n of fru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5157720"/>
            <a:ext cx="2808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n of pep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292640"/>
            <a:ext cx="273708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rton of yogu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3500280"/>
            <a:ext cx="2737080" cy="505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af of b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2565360"/>
            <a:ext cx="273708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r of chocol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9640" y="836640"/>
            <a:ext cx="3024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лка хлеб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1700280"/>
            <a:ext cx="302400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ако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йогур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5157720"/>
            <a:ext cx="3024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итка шокола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19640" y="4292640"/>
            <a:ext cx="3024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нка пепс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19640" y="3500280"/>
            <a:ext cx="3024360" cy="505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нка фрук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19640" y="2565360"/>
            <a:ext cx="3024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тылка моло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5950080"/>
            <a:ext cx="2808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g of sug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19640" y="5950080"/>
            <a:ext cx="3024360" cy="50472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кет сахар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1:16:52Z</dcterms:created>
  <dc:creator>Андрей</dc:creator>
  <dc:description/>
  <dc:language>en-US</dc:language>
  <cp:lastModifiedBy>Андрей</cp:lastModifiedBy>
  <dcterms:modified xsi:type="dcterms:W3CDTF">2012-03-01T11:34:43Z</dcterms:modified>
  <cp:revision>2</cp:revision>
  <dc:subject/>
  <dc:title>Слайд 1</dc:title>
</cp:coreProperties>
</file>