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E78-E896-4F13-84A6-8B56C4CE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08F-6ECF-47BB-B96C-92B9EE57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A8C2E-C979-4A1C-8EF4-4A6C158E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6126F-2CE1-472A-875D-ABB26E99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7657E-4B85-4BC9-A9A2-DEA4921D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31673-EAF8-431B-A829-BA13A6F3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6694D-ED02-446F-BE34-F1505D74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384DE-0883-4ED5-9D54-3AB2DB0E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89E5A-1E71-4E94-A054-449E745E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8C50E-143E-4E91-832F-DDDF8A14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B3B08-24FC-42E5-8E8F-2A146505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1FA-FBA0-40BA-8B71-D40C2ED7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C1D-7AC3-4BA9-A78D-D738644E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AD71-B161-4501-91DC-A5CF91C2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4000-F411-4F29-9CE9-8713EF3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80FA-5FF9-4392-98F0-97565B55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8896-3593-460D-8A4D-61F475B9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50B2-E2C7-4144-B6DD-9C027F01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CD02-5F1F-4326-82E6-6CBF2ADB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0B61-775A-4DA9-BD9F-43298998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CA7-69EF-4971-8928-DCEFCBA5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6D76-B138-4988-A6CA-D551E12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6A22-7CAA-406E-BD1D-006A5A09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1CF3-8A57-4A46-B55C-09ECB395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47D2-4D05-4A9C-8D54-93469166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52E8-CA64-4852-A4E5-A8B900E8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2161-8D2B-4BFB-B58C-048639BA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1CC3-428C-43D7-A665-66AEB0C4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FF8A-04CF-4B5F-A5EA-3725A58C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ACAD-575A-43B7-A034-4EEC8F5A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F6423-DFE6-4C3A-A13C-D88AD8E2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963-72DF-44C8-8215-8448ECD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3651-340B-4964-8A04-D208F393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74FA-95DF-42A7-897E-463EBDC8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D2B9-EBF6-4AAD-80DD-FD941A3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7263-8E1C-4804-960E-F4F5626C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C7DB-1A9F-4DF0-ADBA-0EF1D13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12FC-BA9E-4433-BC09-ED74A753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F88C-E058-4F4A-8DEE-C93B6DDF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D99D-24C5-49AF-8440-3B46B41A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EE68-C302-4972-A0AB-CD9BBB83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FB9F-5345-4F0F-AB93-4C20D9D8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31A-A9BC-4FA4-9599-1C2BA55E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B2060-9A91-483C-AD1C-C51A9BF6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009D-E10F-4DEF-8204-E1A507B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D7B2-5CA7-4BE2-96D4-86B032B8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5671-ABCA-4B9E-A868-8E17DA37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C218-1298-41A4-8E78-895B13A1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6766-68B3-4E1A-99F2-FE0B463D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4E28-2FD2-4DAD-953F-66872AF0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F0E6-9ADF-4437-9BB5-F8F5A32B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BEF0-B679-446C-94DE-58C20D04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343E6-A01F-469F-8FD9-B52E93F6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3EE-4BA1-4B16-8ABD-D42C1C62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55D2-9B22-4366-A86A-616EAE6B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8187B-6E20-4369-A8E7-92489FA9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1F5F-5962-480D-AA74-46E4F7FB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553F-5BCE-42F2-B475-75F5354F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4A81-BB0B-4891-BA0B-F756DC02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6A5B3-CC50-4F72-9A5B-E12DF9E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1E898-089C-411E-ABCA-367EE7A9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2C6E4-4385-47F9-88FB-924E31D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E117-710D-4A11-854E-FD5F515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515C7-5C31-450A-92F2-2610974D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371-6CCF-47CC-AC7F-AC1ACF40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E298-E350-4F1F-A96A-B926BE59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2F1C-1FD0-4E55-95DC-FCC8B5BA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1CBB-6919-4D9A-BE18-C00A18EE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17170-6B24-47F5-933A-9E32F2E6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E491D-8DDC-4EEB-8AAD-A4B8D22B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BF9C-7AEE-4EAB-8122-481E651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0D715-E258-4FA2-90B2-5CC28698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E8E53-4B05-4E7A-9125-09B9856A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ED173-AEBB-4037-B721-D7A0570D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30ABA-9C0C-4848-92C6-E3BD9B08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884-DAFA-4778-8581-FE93B43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4962F-E6DC-4614-BD36-3D57589D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92F64-7946-4D4C-8C61-3738176F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358EE-2119-4280-8340-09FB4227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33C44-2E93-42AB-84FB-08C981B7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A26D-C139-464C-A626-550F91AC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EB913-58C2-4D02-B0B2-0AE73AE2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6FC81-45B5-4213-ADF5-C8AA5058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36FDA-F97B-4DA8-B372-89A554D2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AB1DA-0769-4107-AEB2-0116F904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9670E-E2EE-4ED8-A0F1-40CA558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0FD-D489-4EAD-8A20-72DADB49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9DA75-689A-4F66-AC51-8CD7D6E3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F6E6B-2D22-4DA5-A2D1-2A5BEDF9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AC096-28AE-4DA7-90C3-71673543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17418-A69F-4592-AABC-3DAF3CED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136E-E1D6-4C52-A8CF-23DF3B95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6430A-1C3C-4A94-A0F9-F96CEA31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4AC55-B34C-4521-8C3C-02524DF8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935E8-797A-4DA9-882A-6917228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D56F-B723-443C-93E5-C30029F2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DA4CE-1986-45EF-B1CE-53789C17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F7C-C4C9-4EAF-8B35-B49BCB13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77995-7EA3-462B-9DA1-8B8B8E5D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83D55-65CE-4257-828E-D6B3D5C7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C1FE2-61F5-4DDC-A1B6-F379ACE9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4BBC1-6F1F-42B4-BACB-8CB85D8D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84B71-FACA-48CB-AE8F-83E7615E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1BC7B-A6D1-4432-8A3B-72A37867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633FB-EBC2-4C70-A772-7BBC341D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9C7F4-CA9C-48BE-B7FE-89D2BF2A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EBDD2-4FBA-4DCE-AFCC-2E8D1A04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F2F8A-196C-471B-8D48-E59E143E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5C76-3A48-47B5-A4C1-2F878296A38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6891-FC8A-4EFB-BF7B-C8A936EA958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2390-13D8-441C-A7BE-776EE53AAD1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13B8-084B-4020-A2C7-C6D28DA8376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702B-51D6-46B0-88AC-4E53F57B985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6B0F-45BC-4007-BA68-1CD054006C1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978F-6979-4425-87D9-E1A37E3A664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5F1B-F67F-45DA-BC7D-E2E0F1FBBDA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089C-76BB-4B67-A08B-9F30615B01A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214280" y="1553760"/>
            <a:ext cx="742968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Harlow Solid Italic"/>
              </a:rPr>
              <a:t>Думать легко,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Harlow Solid Italic"/>
              </a:rPr>
              <a:t>а превращать мысли в действия –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Harlow Solid Italic"/>
              </a:rPr>
              <a:t> </a:t>
            </a:r>
            <a:r>
              <a:rPr b="0" i="1" lang="en-US" sz="3600" spc="-1" strike="noStrike">
                <a:solidFill>
                  <a:srgbClr val="c00000"/>
                </a:solidFill>
                <a:latin typeface="Harlow Solid Italic"/>
              </a:rPr>
              <a:t>самая трудная вещь на свете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Harlow Solid Italic"/>
              </a:rPr>
              <a:t>                                                    </a:t>
            </a:r>
            <a:r>
              <a:rPr b="0" i="1" lang="en-US" sz="3200" spc="-1" strike="noStrike">
                <a:solidFill>
                  <a:srgbClr val="c00000"/>
                </a:solidFill>
                <a:latin typeface="Harlow Solid Italic"/>
              </a:rPr>
              <a:t>И.В.Гет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Picture 1" descr=""/>
          <p:cNvPicPr/>
          <p:nvPr/>
        </p:nvPicPr>
        <p:blipFill>
          <a:blip r:embed="rId2"/>
          <a:stretch/>
        </p:blipFill>
        <p:spPr>
          <a:xfrm>
            <a:off x="785880" y="3714840"/>
            <a:ext cx="2666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2"/>
          <a:stretch/>
        </p:blipFill>
        <p:spPr>
          <a:xfrm>
            <a:off x="189000" y="1047600"/>
            <a:ext cx="8862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93560" y="2139840"/>
            <a:ext cx="8474400" cy="3438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99680" y="5572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4f36"/>
                </a:solidFill>
                <a:latin typeface="Franklin Gothic Book"/>
              </a:rPr>
              <a:t>Учитель информат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4f36"/>
                </a:solidFill>
                <a:latin typeface="Franklin Gothic Book"/>
              </a:rPr>
              <a:t>Белоусова Ольга григорьев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1" descr=""/>
          <p:cNvPicPr/>
          <p:nvPr/>
        </p:nvPicPr>
        <p:blipFill>
          <a:blip r:embed="rId3"/>
          <a:stretch/>
        </p:blipFill>
        <p:spPr>
          <a:xfrm>
            <a:off x="6500880" y="142920"/>
            <a:ext cx="23810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298440" y="12600"/>
            <a:ext cx="8699400" cy="1455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ПОДБОР ТЕМ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ОПРЕДЕЛЕНИЕ ЦЕЛЕЙ И ЗАДА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ДАТА НАЧАЛА РАБОТЫ НАД ТЕМ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ПОДБОР ВИДОВ ДЕЯТЕЛЬНОСТИ В РАМКАХ РАБОТЫ НАД МЕТОДИЧЕСКОЙ ТЕМ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ПОДБОР ИСТОЧНИКОВ САМООБРАЗ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4f36"/>
                </a:solidFill>
                <a:latin typeface="Franklin Gothic Book"/>
              </a:rPr>
              <a:t>РЕЗУЛЬТАТЫ САМООБРАЗ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1" descr=""/>
          <p:cNvPicPr/>
          <p:nvPr/>
        </p:nvPicPr>
        <p:blipFill>
          <a:blip r:embed="rId3"/>
          <a:stretch/>
        </p:blipFill>
        <p:spPr>
          <a:xfrm>
            <a:off x="8001000" y="5857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357120" y="880560"/>
            <a:ext cx="721512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ть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«Формирование познавательного интереса как одного из важнейших </a:t>
            </a:r>
            <a:br>
              <a:rPr sz="1800"/>
            </a:b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компонентов повышения школьной мотив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ь цели 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1f17"/>
                </a:solidFill>
                <a:uFillTx/>
                <a:latin typeface="Franklin Gothic Book"/>
              </a:rPr>
              <a:t>Цель:</a:t>
            </a:r>
            <a:br>
              <a:rPr sz="1800"/>
            </a:br>
            <a:r>
              <a:rPr b="0" lang="en-US" sz="1800" spc="-1" strike="noStrike">
                <a:solidFill>
                  <a:srgbClr val="8d1f17"/>
                </a:solidFill>
                <a:latin typeface="Franklin Gothic Book"/>
              </a:rPr>
              <a:t>      Создание условий для обеспечения активной творческой работы на уроке и во внеклассной деятельности по формированию познавательного интереса к информа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2"/>
          <p:cNvSpPr/>
          <p:nvPr/>
        </p:nvSpPr>
        <p:spPr>
          <a:xfrm>
            <a:off x="308880" y="3726360"/>
            <a:ext cx="760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d1f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1f17"/>
                </a:solidFill>
                <a:uFillTx/>
                <a:latin typeface="Arial"/>
                <a:ea typeface="Times New Roman"/>
              </a:rPr>
              <a:t>Задачи:</a:t>
            </a: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Изучение и внедрение методик и приемов по форм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познавательного интере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Развитие учащихся с учетом их возрастных, физиологически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психологических, интеллектуальных особен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Создание на уроке благоприятных условий для умственн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нравственного и физического развития каждого уче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Совершенствование педагогического масте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8d1f1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f17"/>
                </a:solidFill>
                <a:latin typeface="Arial"/>
                <a:ea typeface="Times New Roman"/>
              </a:rPr>
              <a:t>Отслеживание уровня успеваемости и качества ЗУН учащихся</a:t>
            </a:r>
            <a:r>
              <a:rPr b="0" lang="en-US" sz="1200" spc="-1" strike="noStrike">
                <a:solidFill>
                  <a:srgbClr val="ce4f36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98440" y="19080"/>
            <a:ext cx="8699400" cy="128592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571680" y="928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ровести анализ своей педагогической    деятельности (итоги успеваем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678960" y="1504080"/>
            <a:ext cx="6333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    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Аналитически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ь значимость выбранной тем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ить на вопрос «Как?», «Зачем?», «Когда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728640" y="2440080"/>
            <a:ext cx="6705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Творчески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различные варианты повышения качества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 наиболее целесообразны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альные вар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по методической тем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 представления результатов над те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6"/>
          <p:cNvSpPr/>
          <p:nvPr/>
        </p:nvSpPr>
        <p:spPr>
          <a:xfrm>
            <a:off x="1785960" y="4272120"/>
            <a:ext cx="457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ЗАЩИТА ИССЛЕДОВАТЕЛЬСКО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БРОШЮ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ЛИСТ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БУК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ПРОВЕДЕНИЕ СЕМИН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ОБУЧЕНИЯ КОЛЛЕГ НОВЫМ МЕТОД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ПРАКТИК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Л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4f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4f36"/>
                </a:solidFill>
                <a:latin typeface="Arial"/>
                <a:ea typeface="Arial"/>
              </a:rPr>
              <a:t>ОТКРЫТЫЙ УР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785880" y="381600"/>
            <a:ext cx="6521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Исследовательский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ить научно-методическую литературу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в «Интернет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Рекомендательный этап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ать методические рекомендации по своей 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Внед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схему внедрения своего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176040" y="311040"/>
            <a:ext cx="8821800" cy="9939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"/>
          <p:cNvSpPr/>
          <p:nvPr/>
        </p:nvSpPr>
        <p:spPr>
          <a:xfrm>
            <a:off x="325800" y="861480"/>
            <a:ext cx="76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основании выбранной темы разработать лич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ы над поставленной перед собой пробле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лане указыв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539280" y="1997640"/>
            <a:ext cx="785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название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предполагаемый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этап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сроки выполнения каждого эт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действия и мероприятия, проводимые в процессе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над 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способ демонстрации результата проделан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• </a:t>
            </a:r>
            <a:r>
              <a:rPr b="0" lang="en-US" sz="2400" spc="-1" strike="noStrike">
                <a:solidFill>
                  <a:srgbClr val="ce4f36"/>
                </a:solidFill>
                <a:latin typeface="Times New Roman"/>
                <a:ea typeface="Calibri"/>
              </a:rPr>
              <a:t>форма отчета по проделан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кончании работы над темой 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лжен написать отчет с анализ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ами и рекомендациями для других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70680" cy="8542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"/>
          <p:cNvSpPr/>
          <p:nvPr/>
        </p:nvSpPr>
        <p:spPr>
          <a:xfrm>
            <a:off x="173160" y="297360"/>
            <a:ext cx="75052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Составление картотеки по имеющейся литературе, аннотирование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меющимся в школе методическим рекомендац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знакомление с состоянием практики решения данной задач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ыявление основных проблем данной 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пределение содерж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зучение и анализ научно-педагогической литературы по пробл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 отдельных уч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рганизация само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3"/>
          <a:stretch/>
        </p:blipFill>
        <p:spPr>
          <a:xfrm>
            <a:off x="219240" y="2279520"/>
            <a:ext cx="8759520" cy="8542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"/>
          <p:cNvSpPr/>
          <p:nvPr/>
        </p:nvSpPr>
        <p:spPr>
          <a:xfrm>
            <a:off x="-82440" y="2797560"/>
            <a:ext cx="847116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ополнение методического материала накопленными 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стекший период работы над методической те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недрение в практику достижений педагогической нау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новых методик в целях развития познавательного интере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учащихся и установок нравственного поведения и форм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из них прочных зн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роведение диагнос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Выявление и изучение ППО по методической тем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Участие в методических педсоветах,семинаров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школьной методической недел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303120" y="5006520"/>
            <a:ext cx="8778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одведение итогов работы по проблеме 2011 -2012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Творческий отчет по реализации методической 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Проведение работы по обобщению ПП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бобщение, анализ полученных данных, выдвижение практических рекоменда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оформление результатов, подведение итогов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4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165240" y="3175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2"/>
          <p:cNvSpPr/>
          <p:nvPr/>
        </p:nvSpPr>
        <p:spPr>
          <a:xfrm>
            <a:off x="857160" y="2428920"/>
            <a:ext cx="650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овышение квалификации и профессионального масте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Ведение индивидуального плана по самообраз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Изучение и внедрение инновационных технологий, методов и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Проведение открытых мероприятий и их самоанал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Организация внекласс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3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9:51:44Z</dcterms:created>
  <dc:creator>1</dc:creator>
  <dc:description/>
  <dc:language>en-US</dc:language>
  <cp:lastModifiedBy>Музей</cp:lastModifiedBy>
  <dcterms:modified xsi:type="dcterms:W3CDTF">1999-12-31T19:13:29Z</dcterms:modified>
  <cp:revision>15</cp:revision>
  <dc:subject/>
  <dc:title>Алгоритм работы над методической темой  «Формирование познавательного интереса как одного из важнейших  компонентов повышения школьной мотивации». </dc:title>
</cp:coreProperties>
</file>