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BD1-5C39-40C8-A1B1-ECFC81DB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5BD-009E-435C-A677-8A30D5DD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ADE3F-7D20-4559-AC45-903B4D22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5321D-C1F0-41EA-80C7-811DF12A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10AA6-D033-4118-ABE3-94A642AF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917BE-7777-4B52-9D6A-BDACCF3F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091C2-BFCA-432E-9D49-F2DEB434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16549-DA3E-4B29-84BF-B866A8C5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4CF5F-671C-4B14-850B-87A900E4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054CF-13FB-4348-859A-CBF443FC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520CE-7C47-4EE9-B8FE-A97150B7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3FA-EA75-4E30-9DDE-05E8F0A6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B24-371D-4CC1-BA95-F17CFC56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D460-DE09-47D9-8C48-3D221757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AC05-2699-416D-A8AC-1E70A41F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3175-7627-4972-81E1-BF32A7B6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701E-B137-4FC8-A948-E30A4029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FF30-6F25-4C37-854E-B7A329D3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0FCC-47F2-4837-A00B-CE05B1BE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3FE9-C8D6-4E4F-A437-A7517486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683-8C12-44FA-9F2B-2B83F5F6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5FC7-2DF7-4C2A-8485-6156F953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4CB1-6B4D-407F-A6CD-C9CEF039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6320-A277-4DB9-93B0-71D9ACED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CB3A-EF42-40C8-A952-F0D5BC76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D74A-C534-4894-9CC4-4DA542D6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EAAD5-40F8-496D-AA54-4C91558C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579F7-0BE8-4617-A3A8-B6CB79A8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C1D71-8B99-4D14-A21C-8CFEFD89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BB5F-0546-4B69-97DB-A53510B9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294C8-82B2-4C8B-BA46-655B29FF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568-83D8-40AA-8C65-1C35D9E8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7E3EB-FEF1-45B4-BDB6-2DB9BBBF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9283-5EFE-4384-9054-CC33D0B5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54907-56E9-48AC-B11B-6FCFDFC8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E943E-12D6-492C-A8B9-53A5A40C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6743A-A1D4-4711-B5C8-561E593D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D6B00-25E8-40F7-8133-CA977FBF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87AE8-63D2-42B5-8048-7A78493A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D6A74-2D0F-4A77-BBE8-BD389738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B12E0-DB57-47CF-AB64-89B93460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CBDBD-E251-4181-885E-BA6EDA2F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DC5-8369-4E6D-A87B-0164B31D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771C4-D979-49CF-B44E-20B6E27D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B941B-50CD-40ED-9CC5-1BFCA6CA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890F8-F59F-4F7E-83F6-C3A66B1E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813A2-2D4E-40BF-949A-5EC91D42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03E5C-377C-4984-B751-7732DCB3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54E49-73DA-4A4A-9795-76874692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B9031-BCF0-4EE7-9987-EF04BE4C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A871D-F54D-4F00-BF8D-2D30B4A0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75E59-4D53-49CB-AFBE-FCFA2F4E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D6462-6B30-410E-8912-E1DCE2CA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BE0-FA02-4688-8579-C64DCAB9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E65B7-98D3-4A94-AD93-17EF5826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8E8DB-0D56-453F-B565-9A183C97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66804-9632-4E24-9218-69B070DB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3A23C-BDBA-4660-9701-96F33E94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9A4C1-199A-4417-931A-431797BC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4A1EB-2F29-4C79-938A-7BD57006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07923-18B8-49E0-BA32-2BD35D17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0EB79-2F7A-4F48-8E47-859DC2A6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26E6F-DCC0-4A90-92A8-5C6631A8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DF192-21C2-4A57-91F1-2047439E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F1D5-9C1E-4ED7-A880-17DC63BC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A3F84-C52F-45A6-9D48-70AA028B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94361-4BE2-454E-B314-C0339261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4BAC0-0D5D-4179-B346-E3947807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AB538-E902-4E17-BA76-6FB7FABC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BD606-CD0F-41B6-B7CD-9FB7C523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4B5E7-4786-4834-BF07-86035039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73B0D-740B-4ED4-B439-085778C7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77544-1BF4-4185-BDBE-8A5B0CDE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67310-9711-4A70-B0EF-069CB790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F6EFF-3E82-4508-A7F1-669F4048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B9B-5F3F-479F-9D90-1BF25587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8436B-E0D9-4B54-888C-7BE3EFFE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ACD8C-3C98-423E-8216-D5CF1FE7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9DCDD-A79E-4FF2-86CC-2DA161C1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B0559-EBB0-49B4-B079-246E73DA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03195-7BBB-4204-B8F8-BC71F49B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2827C-5680-4474-83B5-EFE5193F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9114D-93BB-4170-9322-26FFD5C5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2263E-2A75-4172-B49A-3182B6EF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EF69E-30B3-4922-9AE1-62884733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3F646-E22E-4A18-9F41-4570A98F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723-7A2E-4717-A7D5-404DC8F3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A5F41-3B9B-40EC-8CF1-08A3568E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3F749-80A8-4643-AFA2-2885F185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3D2D2-8788-4D88-8305-1ACB4876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8F649-C2E7-4BFC-9BFE-C8A1283A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8BB7C-128C-41C5-8E44-7AE85BFA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66841-E773-48AA-97DA-A033120B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2A2CA-D155-4963-9C7B-36A5532D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1F2C3-FB87-4346-9F8F-DE9F74C1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11465-18FC-478D-91A0-89FE873E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6A8B0-342F-42D7-AB1A-C257C41F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462A-03CF-459F-BE60-29C850FA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754FE-6178-47B1-9A3A-B05B137C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3CCC0-74A0-4698-8C8F-AF98910A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83BB5-3534-45FD-8BA1-DD48E4C3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20F73-46A1-47AF-80A6-25BBCC03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765FC-7CF0-415B-8BA5-D0AE34C5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BD5A1-C642-438B-9B0E-BCC09217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AD5F1-D2DF-41DD-B230-70BC215F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96F6C-A974-4073-AF06-3FACF4BD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0F10A-CB65-4334-8911-9207F515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EA661-332D-4B86-8345-29B40E19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D74A-3D23-4EFE-92EC-64F208160A6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9555-466C-4A2A-A88F-1F447FB36BC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694F-7175-4099-B678-925C6C7C76A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B239-4E7D-4FF5-8B05-2A83EF6D85C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D988-527B-43C8-9F7A-F389EC1C425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001C-C64C-4506-999B-71F5077B628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F01F-50B8-4E5D-978F-B4A7B688678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63E5-4089-42E8-A971-F80DAB2BC0F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3123-6378-465D-8387-2FCB42BC892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214280" y="1553760"/>
            <a:ext cx="742968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Harlow Solid Italic"/>
              </a:rPr>
              <a:t>Думать легко,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Harlow Solid Italic"/>
              </a:rPr>
              <a:t>а превращать мысли в действия –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Harlow Solid Italic"/>
              </a:rPr>
              <a:t> </a:t>
            </a:r>
            <a:r>
              <a:rPr b="0" i="1" lang="en-US" sz="3600" spc="-1" strike="noStrike">
                <a:solidFill>
                  <a:srgbClr val="c00000"/>
                </a:solidFill>
                <a:latin typeface="Harlow Solid Italic"/>
              </a:rPr>
              <a:t>самая трудная вещь на свете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Harlow Solid Italic"/>
              </a:rPr>
              <a:t>                                                    </a:t>
            </a:r>
            <a:r>
              <a:rPr b="0" i="1" lang="en-US" sz="3200" spc="-1" strike="noStrike">
                <a:solidFill>
                  <a:srgbClr val="c00000"/>
                </a:solidFill>
                <a:latin typeface="Harlow Solid Italic"/>
              </a:rPr>
              <a:t>И.В.Гет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0" name="Picture 1" descr=""/>
          <p:cNvPicPr/>
          <p:nvPr/>
        </p:nvPicPr>
        <p:blipFill>
          <a:blip r:embed="rId2"/>
          <a:stretch/>
        </p:blipFill>
        <p:spPr>
          <a:xfrm>
            <a:off x="785880" y="3714840"/>
            <a:ext cx="2666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2"/>
          <a:stretch/>
        </p:blipFill>
        <p:spPr>
          <a:xfrm>
            <a:off x="189000" y="1047600"/>
            <a:ext cx="8862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493560" y="2139840"/>
            <a:ext cx="8474400" cy="34387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99680" y="55720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e4f36"/>
                </a:solidFill>
                <a:latin typeface="Franklin Gothic Book"/>
              </a:rPr>
              <a:t>Учитель информатик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e4f36"/>
                </a:solidFill>
                <a:latin typeface="Franklin Gothic Book"/>
              </a:rPr>
              <a:t>Белоусова Ольга григорьев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Picture 1" descr=""/>
          <p:cNvPicPr/>
          <p:nvPr/>
        </p:nvPicPr>
        <p:blipFill>
          <a:blip r:embed="rId3"/>
          <a:stretch/>
        </p:blipFill>
        <p:spPr>
          <a:xfrm>
            <a:off x="6500880" y="142920"/>
            <a:ext cx="23810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298440" y="12600"/>
            <a:ext cx="8699400" cy="1455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4f36"/>
                </a:solidFill>
                <a:latin typeface="Franklin Gothic Book"/>
              </a:rPr>
              <a:t>ПОДБОР ТЕМ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4f36"/>
                </a:solidFill>
                <a:latin typeface="Franklin Gothic Book"/>
              </a:rPr>
              <a:t>ОПРЕДЕЛЕНИЕ ЦЕЛЕЙ И ЗАДАЧ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4f36"/>
                </a:solidFill>
                <a:latin typeface="Franklin Gothic Book"/>
              </a:rPr>
              <a:t>ДАТА НАЧАЛА РАБОТЫ НАД ТЕМ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4f36"/>
                </a:solidFill>
                <a:latin typeface="Franklin Gothic Book"/>
              </a:rPr>
              <a:t>ПОДБОР ВИДОВ ДЕЯТЕЛЬНОСТИ В РАМКАХ РАБОТЫ НАД МЕТОДИЧЕСКОЙ ТЕМ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4f36"/>
                </a:solidFill>
                <a:latin typeface="Franklin Gothic Book"/>
              </a:rPr>
              <a:t>ПОДБОР ИСТОЧНИКОВ САМООБРАЗОВА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4f36"/>
                </a:solidFill>
                <a:latin typeface="Franklin Gothic Book"/>
              </a:rPr>
              <a:t>РЕЗУЛЬТАТЫ САМООБРАЗОВА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Picture 1" descr=""/>
          <p:cNvPicPr/>
          <p:nvPr/>
        </p:nvPicPr>
        <p:blipFill>
          <a:blip r:embed="rId3"/>
          <a:stretch/>
        </p:blipFill>
        <p:spPr>
          <a:xfrm>
            <a:off x="8001000" y="58579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357120" y="880560"/>
            <a:ext cx="721512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рать 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«Формирование познавательного интереса как одного из важнейших </a:t>
            </a:r>
            <a:br>
              <a:rPr sz="1800"/>
            </a:b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компонентов повышения школьной мотив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ить цели и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1f17"/>
                </a:solidFill>
                <a:uFillTx/>
                <a:latin typeface="Franklin Gothic Book"/>
              </a:rPr>
              <a:t>Цель:</a:t>
            </a:r>
            <a:br>
              <a:rPr sz="1800"/>
            </a:br>
            <a:r>
              <a:rPr b="0" lang="en-US" sz="1800" spc="-1" strike="noStrike">
                <a:solidFill>
                  <a:srgbClr val="8d1f17"/>
                </a:solidFill>
                <a:latin typeface="Franklin Gothic Book"/>
              </a:rPr>
              <a:t>      Создание условий для обеспечения активной творческой работы на уроке и во внеклассной деятельности по формированию познавательного интереса к информа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2"/>
          <p:cNvSpPr/>
          <p:nvPr/>
        </p:nvSpPr>
        <p:spPr>
          <a:xfrm>
            <a:off x="308880" y="3726360"/>
            <a:ext cx="760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8d1f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1f17"/>
                </a:solidFill>
                <a:uFillTx/>
                <a:latin typeface="Arial"/>
                <a:ea typeface="Times New Roman"/>
              </a:rPr>
              <a:t>Задачи:</a:t>
            </a:r>
            <a:r>
              <a:rPr b="0" lang="en-US" sz="1800" spc="-1" strike="noStrike">
                <a:solidFill>
                  <a:srgbClr val="8d1f17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d1f1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f17"/>
                </a:solidFill>
                <a:latin typeface="Arial"/>
                <a:ea typeface="Times New Roman"/>
              </a:rPr>
              <a:t>Изучение и внедрение методик и приемов по формиров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f17"/>
                </a:solidFill>
                <a:latin typeface="Arial"/>
                <a:ea typeface="Times New Roman"/>
              </a:rPr>
              <a:t>познавательного интере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d1f1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f17"/>
                </a:solidFill>
                <a:latin typeface="Arial"/>
                <a:ea typeface="Times New Roman"/>
              </a:rPr>
              <a:t>Развитие учащихся с учетом их возрастных, физиологически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f17"/>
                </a:solidFill>
                <a:latin typeface="Arial"/>
                <a:ea typeface="Times New Roman"/>
              </a:rPr>
              <a:t>психологических, интеллектуальных особен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d1f1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f17"/>
                </a:solidFill>
                <a:latin typeface="Arial"/>
                <a:ea typeface="Times New Roman"/>
              </a:rPr>
              <a:t>Создание на уроке благоприятных условий для умственн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f17"/>
                </a:solidFill>
                <a:latin typeface="Arial"/>
                <a:ea typeface="Times New Roman"/>
              </a:rPr>
              <a:t>нравственного и физического развития каждого уче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d1f1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f17"/>
                </a:solidFill>
                <a:latin typeface="Arial"/>
                <a:ea typeface="Times New Roman"/>
              </a:rPr>
              <a:t>Совершенствование педагогического мастер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d1f1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f17"/>
                </a:solidFill>
                <a:latin typeface="Arial"/>
                <a:ea typeface="Times New Roman"/>
              </a:rPr>
              <a:t>Отслеживание уровня успеваемости и качества ЗУН учащихся</a:t>
            </a:r>
            <a:r>
              <a:rPr b="0" lang="en-US" sz="1200" spc="-1" strike="noStrike">
                <a:solidFill>
                  <a:srgbClr val="ce4f36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298440" y="19080"/>
            <a:ext cx="8699400" cy="128592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3"/>
          <p:cNvSpPr/>
          <p:nvPr/>
        </p:nvSpPr>
        <p:spPr>
          <a:xfrm>
            <a:off x="571680" y="928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провести анализ своей педагогической    деятельности (итоги успеваем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678960" y="1504080"/>
            <a:ext cx="6333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              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Аналитический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ить значимость выбранной тем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ить на вопрос «Как?», «Зачем?», «Когда?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728640" y="2440080"/>
            <a:ext cx="67050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Творческий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различные варианты повышения качества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 наиболее целесообразны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еальные вари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по методической тем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а представления результатов над те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6"/>
          <p:cNvSpPr/>
          <p:nvPr/>
        </p:nvSpPr>
        <p:spPr>
          <a:xfrm>
            <a:off x="1785960" y="4272120"/>
            <a:ext cx="4572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ЗАЩИТА ИССЛЕДОВАТЕЛЬСКОЙ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БРОШЮ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ЛИСТ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БУК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ПРОВЕДЕНИЕ СЕМИН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ОБУЧЕНИЯ КОЛЛЕГ НОВЫМ МЕТОДИ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ПРАКТИК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ЛЕ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ОТКРЫТЫЙ УР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785880" y="381600"/>
            <a:ext cx="6521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Исследовательский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учить научно-методическую литературу по 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ть в «Интернет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Рекомендательный этап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отать методические рекомендации по своей 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Внед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ть схему внедрения своего опы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2"/>
          <a:stretch/>
        </p:blipFill>
        <p:spPr>
          <a:xfrm>
            <a:off x="176040" y="311040"/>
            <a:ext cx="8821800" cy="99396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"/>
          <p:cNvSpPr/>
          <p:nvPr/>
        </p:nvSpPr>
        <p:spPr>
          <a:xfrm>
            <a:off x="325800" y="861480"/>
            <a:ext cx="762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основании выбранной темы разработать личный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ы над поставленной перед собой пробле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лане указыва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539280" y="1997640"/>
            <a:ext cx="785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• </a:t>
            </a: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название 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• </a:t>
            </a: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• </a:t>
            </a: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• </a:t>
            </a: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предполагаемый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• </a:t>
            </a: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этапы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• </a:t>
            </a: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сроки выполнения каждого эта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• </a:t>
            </a: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действия и мероприятия, проводимые в процессе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над т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• </a:t>
            </a: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способ демонстрации результата проделан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• </a:t>
            </a: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форма отчета по проделанн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кончании работы над темой педаг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лжен написать отчет с анализ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ами и рекомендациями для других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70680" cy="8542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1"/>
          <p:cNvSpPr/>
          <p:nvPr/>
        </p:nvSpPr>
        <p:spPr>
          <a:xfrm>
            <a:off x="173160" y="297360"/>
            <a:ext cx="750528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Составление картотеки по имеющейся литературе, аннотирование 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имеющимся в школе методическим рекомендаци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Ознакомление с состоянием практики решения данной задач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ыявление основных проблем данной 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Определение содерж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Изучение и анализ научно-педагогической литературы по пробл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и отдельных учит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Организация самообраз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Заголовок 1" descr=""/>
          <p:cNvPicPr/>
          <p:nvPr/>
        </p:nvPicPr>
        <p:blipFill>
          <a:blip r:embed="rId3"/>
          <a:stretch/>
        </p:blipFill>
        <p:spPr>
          <a:xfrm>
            <a:off x="219240" y="2279520"/>
            <a:ext cx="8759520" cy="85428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"/>
          <p:cNvSpPr/>
          <p:nvPr/>
        </p:nvSpPr>
        <p:spPr>
          <a:xfrm>
            <a:off x="-82440" y="2797560"/>
            <a:ext cx="847116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ополнение методического материала накопленными 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истекший период работы над методической тем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недрение в практику достижений педагогической нау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новых методик в целях развития познавательного интере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учащихся и установок нравственного поведения и форм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из них прочных зн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роведение диагнос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ыявление и изучение ППО по методической тем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Участие в методических педсоветах,семинаров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,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школьной методической недели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303120" y="5006520"/>
            <a:ext cx="8778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одведение итогов работы по проблеме 2011 -2012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Творческий отчет по реализации методической 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роведение работы по обобщению ПП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Обобщение, анализ полученных данных, выдвижение практических рекомендац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оформление результатов, подведение итогов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3" descr=""/>
          <p:cNvPicPr/>
          <p:nvPr/>
        </p:nvPicPr>
        <p:blipFill>
          <a:blip r:embed="rId4"/>
          <a:stretch/>
        </p:blipFill>
        <p:spPr>
          <a:xfrm>
            <a:off x="0" y="64771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2"/>
          <a:stretch/>
        </p:blipFill>
        <p:spPr>
          <a:xfrm>
            <a:off x="165240" y="3175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2"/>
          <p:cNvSpPr/>
          <p:nvPr/>
        </p:nvSpPr>
        <p:spPr>
          <a:xfrm>
            <a:off x="857160" y="2428920"/>
            <a:ext cx="65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Повышение квалификации и профессионального масте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Ведение индивидуального плана по самообраз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Изучение и внедрение инновационных технологий, методов и средств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Проведение открытых мероприятий и их самоанал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Организация внекласс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3"/>
          <a:stretch/>
        </p:blipFill>
        <p:spPr>
          <a:xfrm>
            <a:off x="0" y="64771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09:51:44Z</dcterms:created>
  <dc:creator>1</dc:creator>
  <dc:description/>
  <dc:language>en-US</dc:language>
  <cp:lastModifiedBy>Музей</cp:lastModifiedBy>
  <dcterms:modified xsi:type="dcterms:W3CDTF">1999-12-31T19:13:29Z</dcterms:modified>
  <cp:revision>15</cp:revision>
  <dc:subject/>
  <dc:title>Алгоритм работы над методической темой  «Формирование познавательного интереса как одного из важнейших  компонентов повышения школьной мотивации». </dc:title>
</cp:coreProperties>
</file>