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1CE4-2AF8-4E53-A041-75172B43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06A6-1676-46C4-91ED-173DF3DE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297D-91EA-4CF1-A5E6-BD3A7CFF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831-2860-4F25-BC38-0899A70E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B8A1-5EB1-4033-8309-A5AF723A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B384-556B-448E-A5EC-A930AD54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2D8B-8FCD-4078-89CF-446BD5F8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9CB5-1359-4875-A16B-E6A0C820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CFD2-07B6-464E-A2FC-EA8DB7AE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BAC7-6C88-4EA3-9F08-59EE8FF5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21F5-B9DD-4077-8D05-1EABB94F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ACEE-325A-4C04-B193-776C8D5E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DCD5-98E3-47D0-850A-D2990F7D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BC93-F82C-4307-A571-5DAF7294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CA74-6109-49D2-A0D1-0F523D2E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2A7D-5886-43C2-BDE9-1E94C8A6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9227-957E-4E51-A391-1CE6EE64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2344-A422-46E5-A846-8F190F07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DE42-79F2-4D17-9433-A4C95100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8D76-0650-4206-94CC-48592FA6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8A6D-8024-4BFA-8A49-129B3977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471-47AC-443C-A344-5662609D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8C1-C12D-4C8F-997A-F54E4943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F9A7-0DA7-45EA-B560-F30564DD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AE73-294C-4715-B35F-9B5F5D1206B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4A17-796B-4B8B-A7F3-A576368867E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bbd71"/>
                </a:solidFill>
                <a:latin typeface="Arial"/>
              </a:rPr>
              <a:t>Тема урока: «Уравнение».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2852640"/>
            <a:ext cx="694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атематику уже затем учить следует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то она ум в порядок приводит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. Ломоно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Историческая справка.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знакомы с уравнениями с первого класса. А знаете ли вы, что записывать и решать уравнения начали арабы в первом тысячелетии нашей эры? До тех пор решение задач было чисто арифметическим и состояло из многих действий. В те времена ещё не было общепринятых теперь обозначений переменных буквами, а действий знаками. Уравнения записывались слов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Уравнением называется равенство, содержащее букву, значение которой надо найти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Значение буквы, при котором из уравнения получается верное числовое равенство называют корнем уравнения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Решить уравнение – значит найти все его корни (или убедиться, что это уравнение не имеет ни одного корня)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71640" y="620280"/>
            <a:ext cx="7740720" cy="57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дание 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умма 3986 и 5718 равна 9704.Пользуясь этим, найти без вычислений значение выражения или корень уравн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9704-398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9704-57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Х +5718= 97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3986+у = 97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9704 – х = 398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9704 – а = 5718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дание 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ность 6877 и 2984 равна 3893. Пользуясь этим, найти без вычислений значение выражения или решить уравне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2984 + 389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6877- 389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Х – 3893 = 298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6877 –у =2984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Задания к карточке 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Записать в виде числового выражения сумму двух выражений 47 -24 и 37 + 28 и найти значение этого выраж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Решить уравнение: х + 605 = 7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Решить уравнение: 603 – р = 8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Решить уравнение: к – 169 = 32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Упростить выражение у–(39 + 31) и найти его значени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у = 9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 Решить уравнение: (24 –х) + 37 = 4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 Решить задачу с помощью уравн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Я задумал число. Если из 72 вычесть задуманное число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 получится 45. Какое число я задумал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 На отрезке АВ отмечена точка С. Отрезок АС равен 15 см, а отрезок СВ длиннее АС на х см. Найти длину отрезка АВ. Упростить получившееся выражение и найти его значение при х = 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. У покупателя было 500 руб. В одном магазине он истратил Х руб., а в другом 120 руб. Сколько денег осталось у покупателя? У простить выражение и найти его значение при Х=17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5105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рточка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692280"/>
          <a:ext cx="8556480" cy="5933880"/>
        </p:xfrm>
        <a:graphic>
          <a:graphicData uri="http://schemas.openxmlformats.org/drawingml/2006/table">
            <a:tbl>
              <a:tblPr/>
              <a:tblGrid>
                <a:gridCol w="1600200"/>
                <a:gridCol w="1143000"/>
                <a:gridCol w="1066680"/>
                <a:gridCol w="1219320"/>
                <a:gridCol w="1219320"/>
                <a:gridCol w="1218960"/>
                <a:gridCol w="1089000"/>
              </a:tblGrid>
              <a:tr h="13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мер зад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8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твет к карточке.  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7854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езультате работы по карточке появляется слово «кроссворд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оссворд – игра –задача, в которой фигура из рядов пустых клеток заполняется перекрещивающимися словами со значениями, заданными по условиям иг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619280" y="5589720"/>
            <a:ext cx="23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03640" y="6400800"/>
            <a:ext cx="22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6:08:48Z</dcterms:created>
  <dc:creator>Учитель</dc:creator>
  <dc:description/>
  <dc:language>en-US</dc:language>
  <cp:lastModifiedBy>Катя</cp:lastModifiedBy>
  <dcterms:modified xsi:type="dcterms:W3CDTF">2006-11-27T18:31:48Z</dcterms:modified>
  <cp:revision>15</cp:revision>
  <dc:subject/>
  <dc:title>Использование современных информационных технологий в подготовке учебных материалов</dc:title>
</cp:coreProperties>
</file>