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357-CAA8-4DCA-8F81-B5C6DFB6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CE1-1A91-4A4C-A6B7-C20CAEA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EF4-15FF-45F3-92B3-E2B7DC4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19A-41D3-4DA1-9B05-6669152F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D8CA-C095-4FCE-BDB2-BE786991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90F-276A-47F0-BD91-44EAAB32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C4CB-D9BF-42A6-8668-E7F0299F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E362-5E2D-4DB9-BF42-8D16A77E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C7B-5B15-4F73-B9D1-C5F5748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8455-0E6F-4F23-B361-0691B7EE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A929-F628-43A4-A497-38D6A40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088-1855-4593-9D2B-C83E5C4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260-CE5D-4D99-AD5C-4C9C700D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CA5-3547-4825-9838-AF4FF6B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3AD-EF2E-46EA-8F14-95E2D1D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F22F-1918-4DFA-A3B4-FADA8995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7317-86AA-418A-B3C9-51C20286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C7C-EFA2-4AE5-89FB-14742C6C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954-B6B7-4B57-8AA9-966F1DC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F79-0FEE-4508-B156-E7E5642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8E1-68F8-4924-93F6-2F055FC5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9A0-4C55-408F-B64E-BCCAD69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EB6-B387-4509-8EE2-29A805CA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B1D-7127-4C3F-92F7-92BD239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2C9-A05A-400B-8CC8-D1CECA6EE4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8EE4-142B-4E75-A4AB-AF8B0FBF29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Тема урока: «Уравнение».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2852640"/>
            <a:ext cx="69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тематику уже затем учить следу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она ум в порядок привод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. Ломон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сторическая справка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знакомы с уравнениями с первого класса. А знаете ли вы, что записывать и решать уравнения начали арабы в первом тысячелетии нашей эры? До тех пор решение задач было чисто арифметическим и состояло из многих действий. В те времена ещё не было общепринятых теперь обозначений переменных буквами, а действий знаками. Уравнения записывались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Уравнением называется равенство, содержащее букву, значение которой надо найти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Значение буквы, при котором из уравнения получается верное числовое равенство называют корнем уравнения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Решить уравнение – значит найти все его корни (или убедиться, что это уравнение не имеет ни одного корня)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4072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мма 3986 и 5718 равна 9704.Пользуясь этим, найти без вычислений значение выражения или корень уравн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9704-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9704-57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+5718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3986+у 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9704 – х = 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9704 – а = 571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сть 6877 и 2984 равна 3893. Пользуясь этим, найти без вычислений значение выражения или решить урав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2984 +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6877-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– 3893 = 29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6877 –у =298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дания к карточке 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Записать в виде числового выражения сумму двух выражений 47 -24 и 37 + 28 и найти значение этого вы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ешить уравнение: х + 605 = 7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Решить уравнение: 603 – р = 8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Решить уравнение: к – 169 = 3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Упростить выражение у–(39 + 31) и найти его значени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у = 9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Решить уравнение: (24 –х) + 37 = 4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Решить задачу с помощью урав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Я задумал число. Если из 72 вычесть задуманное числ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получится 45. Какое число я задумал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На отрезке АВ отмечена точка С. Отрезок АС равен 15 см, а отрезок СВ длиннее АС на х см. Найти длину отрезка АВ. Упростить получившееся выражение и найти его значение при х =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У покупателя было 500 руб. В одном магазине он истратил Х руб., а в другом 120 руб. Сколько денег осталось у покупателя? У простить выражение и найти его значение при Х=17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5105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очка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692280"/>
          <a:ext cx="8556480" cy="593388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066680"/>
                <a:gridCol w="1219320"/>
                <a:gridCol w="1219320"/>
                <a:gridCol w="1218960"/>
                <a:gridCol w="10890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мер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 к карточке. 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работы по карточке появляется слово «кроссвор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ссворд – игра –задача, в которой фигура из рядов пустых клеток заполняется перекрещивающимися словами со значениями, заданными по условиям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6400800"/>
            <a:ext cx="22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6:08:48Z</dcterms:created>
  <dc:creator>Учитель</dc:creator>
  <dc:description/>
  <dc:language>en-US</dc:language>
  <cp:lastModifiedBy>Катя</cp:lastModifiedBy>
  <dcterms:modified xsi:type="dcterms:W3CDTF">2006-11-27T18:31:48Z</dcterms:modified>
  <cp:revision>15</cp:revision>
  <dc:subject/>
  <dc:title>Использование современных информационных технологий в подготовке учебных материалов</dc:title>
</cp:coreProperties>
</file>