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F12-E3BF-4531-8A0D-0301A713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1BD-157A-4C22-8753-3BCFDBC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B85-DBC2-4F85-B71B-605874E8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6D3-611B-4A16-BE50-A96A7327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2B59-877F-4CA1-A5F6-B1E62E0D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484EB-2F6D-452D-AD5E-2CB10F97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8C850-423C-4469-B5BF-4EFEB7D7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1056F-EC2A-46B9-809C-4B9380AD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D9647-7A19-4F58-86EF-C96F764C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8D7A2-615F-4DCC-BC10-7A70C487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D25A-25C0-4D2C-9CE3-9C46D0C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841-301B-4B97-8AFF-444C270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029D-4E42-4187-83BE-D214FF87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98713-FCD0-454E-8EB0-11B6284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3FA6-DD95-4DBB-8E47-DE4CB840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599A-9A05-4334-A4E6-7B38428B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8BD94-2398-40BD-958C-3755165E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1A9-0CF8-4D18-82EE-C74867E6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516-FE6E-4768-A173-EE1645E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411-0403-46A4-9A22-1AF9D274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885-4CD5-4C1E-844A-316D9445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E16-904C-46DE-BF13-3513FE3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327-F5BD-42D7-8BC9-950819D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887-DF0B-417C-A41A-73DA0DAD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A57-03B9-47DE-9740-C17A423145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654-A8E8-4EA2-AED1-9C6607329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-психолог МДОУ ДСКВ №15 МО Ейский ра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опыта работы: «Использование сказок в  коррекционно - профилактической работе с  целью решения проблем эмоциональной  нестабильности 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школьник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анствующий искатель истины увидел большой камень, на котором было написано: «Переверни и читай». Он с огромным трудом перевернул тяжелый камень и прочел на другой стороне: «Зачем ты ищешь нового знания, если не обращаешь внимания на то, что уже знаешь?»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хаваркор.jpg"/>
          <p:cNvPicPr/>
          <p:nvPr/>
        </p:nvPicPr>
        <p:blipFill>
          <a:blip r:embed="rId2"/>
          <a:stretch/>
        </p:blipFill>
        <p:spPr>
          <a:xfrm>
            <a:off x="324000" y="333360"/>
            <a:ext cx="3097080" cy="244944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564000" y="620640"/>
            <a:ext cx="532908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Ведь все мы стремимся узнать нечто новое, познакомиться с последними разработками в области  психологии, использовать неизвестные ранее технологии. Но часто забываем о том, что нам известно с самого раннего детства — о сказках. Мы знаем их, но не обращаем внимания на это знание, считая его уже ненужным багажом. Но это не так. В сказках для нас есть еще много неоткрытого и невостребованного. школьн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«Проживая сказку», дети учатся преодолевать барьеры в общении, тонко чувствовать друг друга, находить адекватное телесное выраже­ние различным эмоциям, чувствам, состояниям. Путешествия по сказкам пробуждают фантазию и образное мыш­ление, освобождают от стереотипов и шаблонов, дают простор твор­че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егкегб.jpg"/>
          <p:cNvPicPr/>
          <p:nvPr/>
        </p:nvPicPr>
        <p:blipFill>
          <a:blip r:embed="rId2"/>
          <a:stretch/>
        </p:blipFill>
        <p:spPr>
          <a:xfrm>
            <a:off x="1116000" y="836640"/>
            <a:ext cx="3240000" cy="25210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0800" y="0"/>
            <a:ext cx="3463920" cy="65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Используемая технология работы построена с учетом принцип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комплексности и целостности изучения ребенка, принципа системного подхода к анализу речевых нарушен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личностно-ориентированного взаимодействия взрослого с ребенк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ориентации на нормально развивающиеся функ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формирования, развития и совершенствования соответствующей возрасту детей формы общения (4-6 лет - ситуативно-деловое общение, 6-7 лет - внеситуативно-деловая форма общения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поэтапного развития речи и других высших психических функций взаимосвязи процесса формирования полноценного речевого общения и поведения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Arial"/>
              </a:rPr>
              <a:t>- социально-адаптирующей направленности дошкольно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06:29:20Z</dcterms:created>
  <dc:creator>Admin</dc:creator>
  <dc:description/>
  <dc:language>en-US</dc:language>
  <cp:lastModifiedBy>1</cp:lastModifiedBy>
  <dcterms:modified xsi:type="dcterms:W3CDTF">2012-08-20T09:39:59Z</dcterms:modified>
  <cp:revision>60</cp:revision>
  <dc:subject/>
  <dc:title>Слайд 1</dc:title>
</cp:coreProperties>
</file>