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38B-7ACB-4A1E-B07A-893699AE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669-3BC3-46DF-B068-5840A406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173-353F-4D29-99EC-5BEF1EE0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897-7755-4152-AD9F-8293EC03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4B941-75D7-4F5E-9D1D-0608F4A1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82C65-EBD7-4036-A003-149AE8DB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EB794-023A-4A70-B3C8-58AAEB0D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88F0D-0DB1-4014-B357-35D3AE09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DC84A-C524-40A5-BC5A-FDBB21C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5C2E2-4ED9-418C-98D3-D02EE217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3D8FC-3FFD-4A50-8F2F-87C463FB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1EC-C7FA-402B-9039-40F7E55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4A53A-842B-4092-B5F2-DB326752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27302-8EDE-4DFA-962E-4F9CAAF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74656-24F5-4B80-AF9C-3B36D0F8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C17D3-1426-476D-A63B-14D60AA9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05E47-8621-4B63-B7A4-94B1F03A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485-7CC7-40D2-AE0C-4E7D1108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8B4-E72B-4CCA-982A-56226533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A32-3FE1-4E5F-9A41-E2B5DF29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0C4-7C2D-4792-8CCF-6D113396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3CC-BEF6-425C-B73E-6E4B780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2A9-34E6-4687-A185-CD76ED14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6AF-2A9E-4DCB-8E12-CFD72927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0957-4BB8-48ED-80B8-C442A319DF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05B0-0BBB-40FB-A3A2-10A22312F8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-психолог МДОУ ДСКВ №15 МО Ейский ра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опыта работы: «Использование сказок в  коррекционно - профилактической работе с  целью решения проблем эмоциональной  нестабильности 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кольник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анствующий искатель истины увидел большой камень, на котором было написано: «Переверни и читай». Он с огромным трудом перевернул тяжелый камень и прочел на другой стороне: «Зачем ты ищешь нового знания, если не обращаешь внимания на то, что уже знаешь?»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хаваркор.jpg"/>
          <p:cNvPicPr/>
          <p:nvPr/>
        </p:nvPicPr>
        <p:blipFill>
          <a:blip r:embed="rId2"/>
          <a:stretch/>
        </p:blipFill>
        <p:spPr>
          <a:xfrm>
            <a:off x="324000" y="333360"/>
            <a:ext cx="3097080" cy="24494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3564000" y="620640"/>
            <a:ext cx="532908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Ведь все мы стремимся узнать нечто новое, познакомиться с последними разработками в области  психологии, использовать неизвестные ранее технологии. Но часто забываем о том, что нам известно с самого раннего детства — о сказках. Мы знаем их, но не обращаем внимания на это знание, считая его уже ненужным багажом. Но это не так. В сказках для нас есть еще много неоткрытого и невостребованного. школьни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Проживая сказку», дети учатся преодолевать барьеры в общении, тонко чувствовать друг друга, находить адекватное телесное выраже­ние различным эмоциям, чувствам, состояниям. Путешествия по сказкам пробуждают фантазию и образное мыш­ление, освобождают от стереотипов и шаблонов, дают простор твор­чест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егкегб.jpg"/>
          <p:cNvPicPr/>
          <p:nvPr/>
        </p:nvPicPr>
        <p:blipFill>
          <a:blip r:embed="rId2"/>
          <a:stretch/>
        </p:blipFill>
        <p:spPr>
          <a:xfrm>
            <a:off x="1116000" y="836640"/>
            <a:ext cx="3240000" cy="25210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0800" y="0"/>
            <a:ext cx="3463920" cy="65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Используемая технология работы построена с учетом принципо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комплексности и целостности изучения ребенка, принципа системного подхода к анализу речевых нарушен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личностно-ориентированного взаимодействия взрослого с ребенк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ориентации на нормально развивающиеся функ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формирования, развития и совершенствования соответствующей возрасту детей формы общения (4-6 лет - ситуативно-деловое общение, 6-7 лет - внеситуативно-деловая форма общения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поэтапного развития речи и других высших психических функций взаимосвязи процесса формирования полноценного речевого общения и поведения ребен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социально-адаптирующей направленности дошкольного образ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06:29:20Z</dcterms:created>
  <dc:creator>Admin</dc:creator>
  <dc:description/>
  <dc:language>en-US</dc:language>
  <cp:lastModifiedBy>1</cp:lastModifiedBy>
  <dcterms:modified xsi:type="dcterms:W3CDTF">2012-08-20T09:39:59Z</dcterms:modified>
  <cp:revision>60</cp:revision>
  <dc:subject/>
  <dc:title>Слайд 1</dc:title>
</cp:coreProperties>
</file>