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1.wmf" ContentType="image/x-wmf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BD8A-CFE1-4DA2-8C02-4D0EDB0774C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E987-ED1F-4D5D-9D22-C5ADE19FDA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9103-CE36-49D6-B899-69757CD6CEB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bold-Univers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4AAF-8486-4245-8744-E7B56E1347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seldorf Rath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FCA6-2FD4-4DBF-9B8A-07A65B8BFBA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elner Kathedr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A551-0267-4027-986A-7B4FF8BBEC5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F82-6ED4-4999-958D-57A2813B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010-934D-4DA7-B42E-BBEFF802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9A8-3966-46B6-919A-AFC37AFD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3C8-7417-4035-ABB8-CC26D465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645B7-CCBB-4AE9-B349-3B8F148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A7F88-52AE-4A45-A629-215E31F6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BC6E-16BB-4286-8B28-7870F88C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313EC-7DC4-4DF5-B230-11A44643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99F58-544B-40DF-AED1-B6FD604B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BB7A9-0571-4682-949F-F753CB7A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02EBF-2D73-4137-9986-1A5B484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ED8-8B55-4D6A-87F1-955C373C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09954-9F2E-4DBB-9D21-05814DC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05C61-1DDA-4B4A-98B6-68C33CF3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EEA34-0385-4987-BFA6-A5C19B7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85245-E5E7-499F-9429-2EE20E38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9D25C-0D6B-411E-B1E9-BAFFE98C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7E1-30DF-46ED-9AB2-BD33C5CB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B0F-9635-4128-837F-67C0106E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8F5-4C3F-4279-A1F4-A4F1E036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33A-78CF-4DB7-8F4A-31A281F2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B3C-F058-414C-940E-79C798CF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3A1-05EC-4117-BA78-C685B43D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B7E-52EA-40A5-958A-61545A90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FE37-7AB2-4F72-9871-E0ACC227C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B74D-7EF1-474A-99D2-64BB051439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ild:BNPANOR2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28.png"/><Relationship Id="rId7" Type="http://schemas.openxmlformats.org/officeDocument/2006/relationships/image" Target="../media/image30.jpeg"/><Relationship Id="rId8" Type="http://schemas.openxmlformats.org/officeDocument/2006/relationships/image" Target="../media/image28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aepp.de/rhein/in.html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wmf"/><Relationship Id="rId6" Type="http://schemas.openxmlformats.org/officeDocument/2006/relationships/image" Target="../media/image3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ild:Duesseldorf_panorama_wikiaufl&#246;sung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8.png"/><Relationship Id="rId3" Type="http://schemas.openxmlformats.org/officeDocument/2006/relationships/image" Target="../media/image3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ild:K&#246;ln_Panorama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de.wikipedia.org/wiki/Bild:Panorama_cologne_20050114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de.wikipedia.org/wiki/Bild:Koeln_Nachtaufnahme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de.wikipedia.org/wiki/Bild:K&#246;ln_-_Altstadtufer.jpg" TargetMode="External"/><Relationship Id="rId8" Type="http://schemas.openxmlformats.org/officeDocument/2006/relationships/image" Target="../media/image12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187280" y="907920"/>
            <a:ext cx="669780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anklin Gothic Medium Cond"/>
              </a:rPr>
              <a:t>Die Reis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anklin Gothic Medium Cond"/>
              <a:ea typeface="Franklin Gothic Medium C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anklin Gothic Medium Cond"/>
              </a:rPr>
              <a:t>den Rhein entlang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anklin Gothic Medium Cond"/>
              <a:ea typeface="Franklin Gothic Medium Cond"/>
            </a:endParaRPr>
          </a:p>
        </p:txBody>
      </p:sp>
    </p:spTree>
  </p:cSld>
  <p:transition spd="med">
    <p:strips dir="lu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http://upload.wikimedia.org/wikipedia/commons/thumb/f/fb/BNPANOR2.jpg/750px-BNPANOR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4640"/>
            <a:ext cx="7359840" cy="13449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2037960"/>
            <a:ext cx="2116080" cy="337320"/>
          </a:xfrm>
          <a:prstGeom prst="rect">
            <a:avLst/>
          </a:prstGeom>
          <a:solidFill>
            <a:srgbClr val="f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nn-Zentru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8" descr="Altes Rathaus"/>
          <p:cNvPicPr/>
          <p:nvPr/>
        </p:nvPicPr>
        <p:blipFill>
          <a:blip r:embed="rId3"/>
          <a:stretch/>
        </p:blipFill>
        <p:spPr>
          <a:xfrm>
            <a:off x="900000" y="2637000"/>
            <a:ext cx="1714680" cy="2085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de.wikipedia.org/skins-1.5/common/images/magnify-clip.png"/>
          <p:cNvPicPr/>
          <p:nvPr/>
        </p:nvPicPr>
        <p:blipFill>
          <a:blip r:embed="rId4"/>
          <a:stretch/>
        </p:blipFill>
        <p:spPr>
          <a:xfrm>
            <a:off x="0" y="42829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428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041840" y="4940640"/>
            <a:ext cx="13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ltes Ratha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3" descr="Neues Stadthaus"/>
          <p:cNvPicPr/>
          <p:nvPr/>
        </p:nvPicPr>
        <p:blipFill>
          <a:blip r:embed="rId5"/>
          <a:stretch/>
        </p:blipFill>
        <p:spPr>
          <a:xfrm>
            <a:off x="3419640" y="2637000"/>
            <a:ext cx="171432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http://de.wikipedia.org/skins-1.5/common/images/magnify-clip.png"/>
          <p:cNvPicPr/>
          <p:nvPr/>
        </p:nvPicPr>
        <p:blipFill>
          <a:blip r:embed="rId6"/>
          <a:stretch/>
        </p:blipFill>
        <p:spPr>
          <a:xfrm>
            <a:off x="0" y="388296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4"/>
          <p:cNvSpPr/>
          <p:nvPr/>
        </p:nvSpPr>
        <p:spPr>
          <a:xfrm>
            <a:off x="0" y="259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0" y="38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3633840" y="4997880"/>
            <a:ext cx="16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ues Stadtha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8" descr="Poppelsdorfer Allee"/>
          <p:cNvPicPr/>
          <p:nvPr/>
        </p:nvPicPr>
        <p:blipFill>
          <a:blip r:embed="rId7"/>
          <a:stretch/>
        </p:blipFill>
        <p:spPr>
          <a:xfrm>
            <a:off x="6156360" y="2637000"/>
            <a:ext cx="1714320" cy="2087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http://de.wikipedia.org/skins-1.5/common/images/magnify-clip.png"/>
          <p:cNvPicPr/>
          <p:nvPr/>
        </p:nvPicPr>
        <p:blipFill>
          <a:blip r:embed="rId8"/>
          <a:stretch/>
        </p:blipFill>
        <p:spPr>
          <a:xfrm>
            <a:off x="0" y="38592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9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6153480" y="5012280"/>
            <a:ext cx="186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ppelsdorfer Alle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"/>
    <p:sndAc>
      <p:stSnd>
        <p:snd r:embed="rId9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lde  Satz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Ich,meinem,von,Freund,dem,Bahnhof,auf,nehme,Absch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An,fahren,den Waldern,Stad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rbei,verschieden,schonen,w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Bewundere,dem,Fenster,ich,aus,die Natu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Museen,Theater,wahrend der Stadtrundfahrt,besichtige,i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Ich,viel,erfahre,Interessantes,uber,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рядка для гл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4292640" y="3645000"/>
            <a:ext cx="48513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circl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Овал 3"/>
          <p:cNvSpPr/>
          <p:nvPr/>
        </p:nvSpPr>
        <p:spPr>
          <a:xfrm>
            <a:off x="7143840" y="214200"/>
            <a:ext cx="1785960" cy="164304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500040" y="5072040"/>
            <a:ext cx="1428840" cy="141444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Блок-схема: извлечение 7"/>
          <p:cNvSpPr/>
          <p:nvPr/>
        </p:nvSpPr>
        <p:spPr>
          <a:xfrm>
            <a:off x="285840" y="142920"/>
            <a:ext cx="1428840" cy="121428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Улыбающееся лицо 8"/>
          <p:cNvSpPr/>
          <p:nvPr/>
        </p:nvSpPr>
        <p:spPr>
          <a:xfrm>
            <a:off x="7500960" y="5286240"/>
            <a:ext cx="1500120" cy="142884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222E-006 L 0.75608 -0.69306 E">
                                      <p:cBhvr>
                                        <p:cTn id="18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6.2963E-006 L -0.75608 0.69305 E">
                                      <p:cBhvr>
                                        <p:cTn id="19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-0.8033 -0.74537 E">
                                      <p:cBhvr>
                                        <p:cTn id="197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0.7875 0.7456 E">
                                      <p:cBhvr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Овал 3"/>
          <p:cNvSpPr/>
          <p:nvPr/>
        </p:nvSpPr>
        <p:spPr>
          <a:xfrm>
            <a:off x="214200" y="5000760"/>
            <a:ext cx="1785960" cy="164304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7358040" y="285840"/>
            <a:ext cx="1428840" cy="141444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Блок-схема: извлечение 7"/>
          <p:cNvSpPr/>
          <p:nvPr/>
        </p:nvSpPr>
        <p:spPr>
          <a:xfrm>
            <a:off x="7572240" y="5286240"/>
            <a:ext cx="1428840" cy="121464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Улыбающееся лицо 8"/>
          <p:cNvSpPr/>
          <p:nvPr/>
        </p:nvSpPr>
        <p:spPr>
          <a:xfrm>
            <a:off x="214200" y="214200"/>
            <a:ext cx="1500480" cy="142884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111E-006 L 0.77969 1.11111E-006 E">
                                      <p:cBhvr>
                                        <p:cTn id="20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2 0.73518 E">
                                      <p:cBhvr>
                                        <p:cTn id="21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46945E-018 L -0.7875 -0.01042 E">
                                      <p:cBhvr>
                                        <p:cTn id="21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L -0.0158 -0.71412 E">
                                      <p:cBhvr>
                                        <p:cTn id="21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22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23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23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24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2055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Цель уро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: -расширить представление учащихся о стране изучаемого язы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Задачи урока: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учить читать тексты о Рейне с полным понимание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вторить  лексический  материал по тем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учить рассказывать о городах на Рей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развивать навыки монологической реч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прививать интерес к стране изучаемого языка посредством    знакомства со страноведческ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формацие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.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10340280" y="146520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7-конечная звезда 5"/>
          <p:cNvSpPr/>
          <p:nvPr/>
        </p:nvSpPr>
        <p:spPr>
          <a:xfrm>
            <a:off x="3286080" y="2214720"/>
            <a:ext cx="2357640" cy="2143080"/>
          </a:xfrm>
          <a:custGeom>
            <a:avLst/>
            <a:gdLst>
              <a:gd name="textAreaLeft" fmla="*/ 524520 w 2357640"/>
              <a:gd name="textAreaRight" fmla="*/ 1833120 w 2357640"/>
              <a:gd name="textAreaTop" fmla="*/ 424440 h 2143080"/>
              <a:gd name="textAreaBottom" fmla="*/ 1613880 h 2143080"/>
            </a:gdLst>
            <a:ahLst/>
            <a:rect l="textAreaLeft" t="textAreaTop" r="textAreaRight" b="textAreaBottom"/>
            <a:pathLst>
              <a:path w="2357438" h="2143125">
                <a:moveTo>
                  <a:pt x="-6" y="1378258"/>
                </a:moveTo>
                <a:lnTo>
                  <a:pt x="363018" y="953786"/>
                </a:lnTo>
                <a:lnTo>
                  <a:pt x="233459" y="424474"/>
                </a:lnTo>
                <a:lnTo>
                  <a:pt x="815702" y="424475"/>
                </a:lnTo>
                <a:lnTo>
                  <a:pt x="1178719" y="0"/>
                </a:lnTo>
                <a:lnTo>
                  <a:pt x="1541736" y="424475"/>
                </a:lnTo>
                <a:lnTo>
                  <a:pt x="2123979" y="424474"/>
                </a:lnTo>
                <a:lnTo>
                  <a:pt x="1994420" y="953786"/>
                </a:lnTo>
                <a:lnTo>
                  <a:pt x="2357444" y="1378258"/>
                </a:lnTo>
                <a:lnTo>
                  <a:pt x="1832858" y="1613824"/>
                </a:lnTo>
                <a:lnTo>
                  <a:pt x="1703295" y="2143136"/>
                </a:lnTo>
                <a:lnTo>
                  <a:pt x="1178719" y="1907568"/>
                </a:lnTo>
                <a:lnTo>
                  <a:pt x="654143" y="2143136"/>
                </a:lnTo>
                <a:lnTo>
                  <a:pt x="524580" y="161382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Овал 3"/>
          <p:cNvSpPr/>
          <p:nvPr/>
        </p:nvSpPr>
        <p:spPr>
          <a:xfrm>
            <a:off x="8143920" y="214200"/>
            <a:ext cx="500040" cy="486000"/>
          </a:xfrm>
          <a:prstGeom prst="ellipse">
            <a:avLst/>
          </a:prstGeom>
          <a:solidFill>
            <a:srgbClr val="63c8c8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3333E-006 C -0.41632 -0.02385 -0.83264 -0.04769 -0.83698 3.33333E-006 C -0.84132 0.04768 -0.0283 0.22199 -0.02569 0.28611 C -0.02309 0.35023 -0.8283 0.34097 -0.82083 0.38495 C -0.81337 0.42893 0.00816 0.49421 0.01945 0.55046 C 0.03073 0.60671 -0.6243 0.69398 -0.75312 0.72268 E">
                                      <p:cBhvr>
                                        <p:cTn id="279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Овал 3"/>
          <p:cNvSpPr/>
          <p:nvPr/>
        </p:nvSpPr>
        <p:spPr>
          <a:xfrm>
            <a:off x="1285920" y="5143680"/>
            <a:ext cx="500040" cy="485640"/>
          </a:xfrm>
          <a:prstGeom prst="ellipse">
            <a:avLst/>
          </a:prstGeom>
          <a:solidFill>
            <a:srgbClr val="63c8c8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528 -0.67199 E">
                                      <p:cBhvr>
                                        <p:cTn id="28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28 -0.67199 L 0.74809 -0.65116 E">
                                      <p:cBhvr>
                                        <p:cTn id="289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809 -0.65115 L 0.00781 -4.81481E-006 E">
                                      <p:cBhvr>
                                        <p:cTn id="29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араллелограмм 20"/>
          <p:cNvSpPr/>
          <p:nvPr/>
        </p:nvSpPr>
        <p:spPr>
          <a:xfrm>
            <a:off x="214200" y="5000760"/>
            <a:ext cx="3500640" cy="1128600"/>
          </a:xfrm>
          <a:prstGeom prst="parallelogram">
            <a:avLst>
              <a:gd name="adj" fmla="val 117464"/>
            </a:avLst>
          </a:prstGeom>
          <a:solidFill>
            <a:srgbClr val="0000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Блок-схема: процесс 12"/>
          <p:cNvSpPr/>
          <p:nvPr/>
        </p:nvSpPr>
        <p:spPr>
          <a:xfrm>
            <a:off x="1500120" y="2143080"/>
            <a:ext cx="2214720" cy="2898720"/>
          </a:xfrm>
          <a:prstGeom prst="flowChart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Прямая соединительная линия 17"/>
          <p:cNvSpPr/>
          <p:nvPr/>
        </p:nvSpPr>
        <p:spPr>
          <a:xfrm flipV="1">
            <a:off x="214200" y="2142720"/>
            <a:ext cx="1214640" cy="107172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Прямая соединительная линия 18"/>
          <p:cNvSpPr/>
          <p:nvPr/>
        </p:nvSpPr>
        <p:spPr>
          <a:xfrm flipV="1">
            <a:off x="2428920" y="2142720"/>
            <a:ext cx="1214280" cy="107172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Параллелограмм 19"/>
          <p:cNvSpPr/>
          <p:nvPr/>
        </p:nvSpPr>
        <p:spPr>
          <a:xfrm>
            <a:off x="214200" y="2143080"/>
            <a:ext cx="3500640" cy="1128600"/>
          </a:xfrm>
          <a:prstGeom prst="parallelogram">
            <a:avLst>
              <a:gd name="adj" fmla="val 11746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C:\Program Files\Microsoft Office\MEDIA\CAGCAT10\j0212957.wmf"/>
          <p:cNvPicPr/>
          <p:nvPr/>
        </p:nvPicPr>
        <p:blipFill>
          <a:blip r:embed="rId1"/>
          <a:stretch/>
        </p:blipFill>
        <p:spPr>
          <a:xfrm>
            <a:off x="7000920" y="4714920"/>
            <a:ext cx="1830240" cy="1149480"/>
          </a:xfrm>
          <a:prstGeom prst="rect">
            <a:avLst/>
          </a:prstGeom>
          <a:ln w="0">
            <a:noFill/>
          </a:ln>
        </p:spPr>
      </p:pic>
      <p:sp>
        <p:nvSpPr>
          <p:cNvPr id="204" name="Блок-схема: процесс 13"/>
          <p:cNvSpPr/>
          <p:nvPr/>
        </p:nvSpPr>
        <p:spPr>
          <a:xfrm>
            <a:off x="214200" y="3214800"/>
            <a:ext cx="2214720" cy="2898720"/>
          </a:xfrm>
          <a:prstGeom prst="flowChartProcess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66146 -0.03148 E">
                                      <p:cBhvr>
                                        <p:cTn id="29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1image" descr="zurь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0"/>
            <a:ext cx="3888000" cy="6524640"/>
          </a:xfrm>
          <a:prstGeom prst="rect">
            <a:avLst/>
          </a:prstGeom>
          <a:ln w="0">
            <a:noFill/>
          </a:ln>
        </p:spPr>
      </p:pic>
      <p:sp>
        <p:nvSpPr>
          <p:cNvPr id="94" name="Line 8"/>
          <p:cNvSpPr/>
          <p:nvPr/>
        </p:nvSpPr>
        <p:spPr>
          <a:xfrm flipH="1" flipV="1">
            <a:off x="4066920" y="6165360"/>
            <a:ext cx="649080" cy="358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067280" y="6083280"/>
            <a:ext cx="79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cc"/>
                </a:solidFill>
                <a:latin typeface="Tahoma"/>
              </a:rPr>
              <a:t>Rheinfall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4067280" y="4437000"/>
            <a:ext cx="504720" cy="1656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12"/>
          <p:cNvSpPr/>
          <p:nvPr/>
        </p:nvSpPr>
        <p:spPr>
          <a:xfrm flipH="1" flipV="1">
            <a:off x="4211280" y="3213000"/>
            <a:ext cx="73080" cy="287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13"/>
          <p:cNvSpPr/>
          <p:nvPr/>
        </p:nvSpPr>
        <p:spPr>
          <a:xfrm flipH="1" flipV="1">
            <a:off x="4284720" y="3500280"/>
            <a:ext cx="216000" cy="93528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3995640" y="2060280"/>
            <a:ext cx="289080" cy="144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5"/>
          <p:cNvSpPr/>
          <p:nvPr/>
        </p:nvSpPr>
        <p:spPr>
          <a:xfrm flipH="1" flipV="1">
            <a:off x="3995280" y="2276280"/>
            <a:ext cx="71640" cy="21564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 flipH="1" flipV="1">
            <a:off x="4066920" y="2491920"/>
            <a:ext cx="74520" cy="64764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3419640" y="3633840"/>
            <a:ext cx="50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8"/>
          <p:cNvSpPr/>
          <p:nvPr/>
        </p:nvSpPr>
        <p:spPr>
          <a:xfrm flipH="1">
            <a:off x="3492360" y="3213000"/>
            <a:ext cx="648000" cy="432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419640" y="357336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ahoma"/>
              </a:rPr>
              <a:t>Trier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5076720" y="429264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cc"/>
                </a:solidFill>
                <a:latin typeface="Tahoma"/>
              </a:rPr>
              <a:t>Mäuseturm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4284720" y="3141720"/>
            <a:ext cx="14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cc"/>
                </a:solidFill>
                <a:latin typeface="Tahoma"/>
              </a:rPr>
              <a:t>Deutsche Dreieck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2771640" y="371628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cc"/>
                </a:solidFill>
                <a:latin typeface="Tahoma"/>
              </a:rPr>
              <a:t>Porta Nigra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3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Овал 3"/>
          <p:cNvSpPr/>
          <p:nvPr/>
        </p:nvSpPr>
        <p:spPr>
          <a:xfrm>
            <a:off x="428760" y="1500120"/>
            <a:ext cx="8429400" cy="364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5400000"/>
          </a:gra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">
    <p:strips dir="lu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Овал 3"/>
          <p:cNvSpPr/>
          <p:nvPr/>
        </p:nvSpPr>
        <p:spPr>
          <a:xfrm>
            <a:off x="1857240" y="157176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strips dir="lu"/>
    <p:sndAc>
      <p:stSnd>
        <p:snd r:embed="rId1" name="chimes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33 0.06 0.06267 0.137 0.064 C 0.198 0.06667 0.248 0.05067 0.249 0.03067 C 0.249 0.01067 0.2 -0.008 0.138 -0.00933 C 0.107 -0.00933 0.079 -0.00667 0.059 0 C 0.03 0.00933 0.013 0.024 0.013 0.04133 C 0.013 0.05067 0.018 0.06 0.027 0.068 C 0.048 0.08533 0.089 0.09733 0.136 0.09867 C 0.191 0.10133 0.236 0.08667 0.236 0.06933 C 0.237 0.05067 0.192 0.03467 0.137 0.032 C 0.109 0.032 0.084 0.03467 0.065 0.04 C 0.04 0.04933 0.024 0.064 0.024 0.07867 C 0.024 0.08667 0.029 0.09467 0.037 0.10267 C 0.056 0.11733 0.092 0.12933 0.135 0.13067 C 0.185 0.132 0.225 0.11867 0.225 0.10267 C 0.226 0.08667 0.186 0.072 0.136 0.07067 C 0.111 0.06933 0.088 0.072 0.071 0.07733 C 0.048 0.08533 0.035 0.09733 0.035 0.112 C 0.035 0.11867 0.039 0.12667 0.046 0.13333 C 0.063 0.14667 0.096 0.15733 0.134 0.15867 C 0.179 0.15867 0.215 0.148 0.215 0.13333 C 0.215 0.11867 0.18 0.10533 0.135 0.104 C 0.113 0.104 0.092 0.10667 0.077 0.11067 C 0.056 0.11733 0.044 0.12933 0.043 0.14133 C 0.043 0.148 0.048 0.15467 0.054 0.16 C 0.069 0.17333 0.099 0.18267 0.133 0.18267 C 0.173 0.184 0.206 0.17467 0.206 0.16133 C 0.207 0.148 0.174 0.136 0.134 0.13467 C 0.114 0.13467 0.095 0.136 0.082 0.14133 C 0.063 0.14667 0.052 0.15733 0.052 0.168 C 0.052 0.17467 0.055 0.18 0.061 0.18533 C 0.075 0.19733 0.101 0.20533 0.132 0.20667 C 0.169 0.20667 0.198 0.19867 0.198 0.18667 C 0.199 0.17467 0.17 0.164 0.133 0.16267 C 0.115 0.16267 0.099 0.164 0.087 0.168 C 0.07 0.17333 0.06 0.18267 0.06 0.19333 C 0.06 0.19867 0.063 0.20267 0.068 0.208 C 0.08 0.21867 0.104 0.22533 0.132 0.22667 C 0.165 0.228 0.191 0.22 0.191 0.208 C 0.191 0.19867 0.166 0.188 0.133 0.188 C 0.116 0.18667 0.101 0.18933 0.09 0.192 C 0.075 0.19733 0.066 0.20533 0.066 0.21467 C 0.066 0.22 0.069 0.224 0.074 0.228 C 0.085 0.23733 0.107 0.244 0.131 0.24533 C 0.161 0.24667 0.185 0.23867 0.185 0.22933 C 0.185 0.21867 0.161 0.21067 0.132 0.20933 C 0.118 0.20933 0.104 0.21067 0.094 0.21467 C 0.08 0.21867 0.072 0.22533 0.072 0.23467 C 0.072 0.23867 0.075 0.24267 0.079 0.24667 C 0.089 0.25467 0.108 0.26133 0.131 0.26133 C 0.157 0.26267 0.179 0.256 0.179 0.24667 C 0.179 0.23867 0.158 0.23067 0.131 0.23067 C 0.119 0.22933 0.106 0.23067 0.097 0.23333 C 0.085 0.23867 0.078 0.24533 0.078 0.252 C 0.078 0.256 0.08 0.26 0.084 0.26267 C 0.093 0.27067 0.11 0.276 0.131 0.27733 C 0.155 0.27733 0.174 0.27067 0.174 0.264 C 0.174 0.256 0.155 0.248 0.131 0.248 C 0.119 0.248 0.108 0.24933 0.101 0.252 C 0.089 0.25467 0.083 0.26133 0.083 0.268 C 0.083 0.27067 0.085 0.27467 0.088 0.27733 C 0.096 0.28533 0.112 0.28933 0.13 0.29067 C 0.152 0.29067 0.169 0.28533 0.169 0.27867 C 0.169 0.27067 0.152 0.26533 0.131 0.264 C 0.12 0.264 0.11 0.26533 0.103 0.268 C 0.093 0.27067 0.087 0.276 0.087 0.28267 C 0.087 0.28533 0.089 0.288 0.092 0.29067 E">
                                      <p:cBhvr>
                                        <p:cTn id="305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3"/>
          <p:cNvSpPr/>
          <p:nvPr/>
        </p:nvSpPr>
        <p:spPr>
          <a:xfrm>
            <a:off x="3929040" y="4643280"/>
            <a:ext cx="714240" cy="64296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Цилиндр 4"/>
          <p:cNvSpPr/>
          <p:nvPr/>
        </p:nvSpPr>
        <p:spPr>
          <a:xfrm>
            <a:off x="3500280" y="785880"/>
            <a:ext cx="1857600" cy="3071880"/>
          </a:xfrm>
          <a:prstGeom prst="can">
            <a:avLst>
              <a:gd name="adj" fmla="val 1511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Цилиндр 5"/>
          <p:cNvSpPr/>
          <p:nvPr/>
        </p:nvSpPr>
        <p:spPr>
          <a:xfrm>
            <a:off x="1214280" y="785880"/>
            <a:ext cx="1857600" cy="3071880"/>
          </a:xfrm>
          <a:prstGeom prst="can">
            <a:avLst>
              <a:gd name="adj" fmla="val 1511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Цилиндр 6"/>
          <p:cNvSpPr/>
          <p:nvPr/>
        </p:nvSpPr>
        <p:spPr>
          <a:xfrm>
            <a:off x="5715000" y="785880"/>
            <a:ext cx="1857240" cy="3071880"/>
          </a:xfrm>
          <a:prstGeom prst="can">
            <a:avLst>
              <a:gd name="adj" fmla="val 15115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u"/>
    <p:sndAc>
      <p:stSnd>
        <p:snd r:embed="rId1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-0.00781 0.28356 E">
                                      <p:cBhvr>
                                        <p:cTn id="311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-0.01579 0.28356 E">
                                      <p:cBhvr>
                                        <p:cTn id="314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8.51852E-006 L -0.01563 0.28356 E">
                                      <p:cBhvr>
                                        <p:cTn id="317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28356 C -0.00781 0.32755 0.01927 0.36366 0.05226 0.36366 C 0.09115 0.36366 0.10521 0.32361 0.11111 0.29954 L 0.11719 0.26759 C 0.12327 0.24352 0.1382 0.20347 0.18212 0.20347 C 0.21024 0.20347 0.24219 0.23958 0.24219 0.28356 C 0.24219 0.32755 0.21024 0.36366 0.18212 0.36366 C 0.1382 0.36366 0.12327 0.32361 0.11719 0.29954 L 0.11111 0.26759 C 0.10521 0.24352 0.09115 0.20347 0.05226 0.20347 C 0.01927 0.20347 -0.00781 0.23958 -0.00781 0.28356 Z">
                                      <p:cBhvr>
                                        <p:cTn id="320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C 3.61111E-006 0.04398 0.02708 0.08009 0.06007 0.08009 C 0.09895 0.08009 0.11302 0.04005 0.11892 0.01597 L 0.125 -0.01597 C 0.13107 -0.04005 0.146 -0.08009 0.18993 -0.08009 C 0.21805 -0.08009 0.25 -0.04398 0.25 -3.7037E-007 C 0.25 0.04398 0.21805 0.08009 0.18993 0.08009 C 0.146 0.08009 0.13107 0.04005 0.125 0.01597 L 0.11892 -0.01597 C 0.11302 -0.04005 0.09895 -0.08009 0.06007 -0.08009 C 0.02708 -0.08009 3.61111E-006 -0.04398 3.61111E-006 -3.7037E-007 Z">
                                      <p:cBhvr>
                                        <p:cTn id="323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434 0.12593 E">
                                      <p:cBhvr>
                                        <p:cTn id="32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0173 -0.06088 0.60347 -0.12176 0.61284 -0.09028 C 0.62222 -0.0588 0.03871 0.15856 0.05642 0.18935 C 0.07413 0.22014 0.7335 0.11181 0.71927 0.09468 C 0.70503 0.07755 0.33802 0.08171 -0.029 0.08611 E">
                                      <p:cBhvr>
                                        <p:cTn id="329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emark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 Schweiz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 Osterreich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ederlande,Belgien,Luxemburg,Frankre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en und die Tschechische Republik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li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yer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drhein-Westfalle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 kan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 Buch ich jetzt les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 ich gestern besucht  hab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Antwort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horz"/>
    <p:sndAc>
      <p:stSnd>
        <p:snd r:embed="rId1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AstuLorely"/>
          <p:cNvPicPr/>
          <p:nvPr/>
        </p:nvPicPr>
        <p:blipFill>
          <a:blip r:embed="rId1"/>
          <a:stretch/>
        </p:blipFill>
        <p:spPr>
          <a:xfrm>
            <a:off x="539640" y="620640"/>
            <a:ext cx="4248360" cy="3160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5" descr="http://www.rheinreise.de/Fotos/Loreleyvornb.jpg"/>
          <p:cNvPicPr/>
          <p:nvPr/>
        </p:nvPicPr>
        <p:blipFill>
          <a:blip r:embed="rId2"/>
          <a:stretch/>
        </p:blipFill>
        <p:spPr>
          <a:xfrm>
            <a:off x="5003640" y="620640"/>
            <a:ext cx="3854520" cy="5400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0" y="4580280"/>
            <a:ext cx="5003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r Loreley-Felsen lieg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der engsten Stelle</a:t>
            </a:r>
            <a:br>
              <a:rPr sz="2000"/>
            </a:b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 Rheins.</a:t>
            </a:r>
            <a:r>
              <a:rPr b="0" lang="ru-RU" sz="1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d"/>
    <p:sndAc>
      <p:stSnd>
        <p:snd r:embed="rId3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4" descr="http://www.rheinreise.de/Fotos/Loreley2.jpg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6589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402840" y="2636640"/>
            <a:ext cx="33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lick von dem Loreleyfelse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0" y="17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7" descr="http://www.rheinreise.de/Fotos/LoreleyStatuec.jpg"/>
          <p:cNvPicPr/>
          <p:nvPr/>
        </p:nvPicPr>
        <p:blipFill>
          <a:blip r:embed="rId2"/>
          <a:stretch/>
        </p:blipFill>
        <p:spPr>
          <a:xfrm>
            <a:off x="5003640" y="333360"/>
            <a:ext cx="3241800" cy="4608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5439600" y="4941000"/>
            <a:ext cx="2579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schöne Loreley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heine_loreley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11"/>
          <p:cNvGraphicFramePr/>
          <p:nvPr/>
        </p:nvGraphicFramePr>
        <p:xfrm>
          <a:off x="4309920" y="2913120"/>
          <a:ext cx="52416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09920" y="2913120"/>
                    <a:ext cx="524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pril7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7" name="chimes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6283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4831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6283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059280" y="2924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66"/>
                </a:solidFill>
                <a:latin typeface="Palatino Linotype"/>
              </a:rPr>
              <a:t>Düsseldor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Düsseldorf, Rheinpanora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33360"/>
            <a:ext cx="7848720" cy="1420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611280" y="20606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3249720" y="1268280"/>
            <a:ext cx="34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ст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erkassel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9" descr="C:\Users\Мой\Desktop\200px-St._Lambertus_Düsseldo.jpg"/>
          <p:cNvPicPr/>
          <p:nvPr/>
        </p:nvPicPr>
        <p:blipFill>
          <a:blip r:embed="rId3"/>
          <a:stretch/>
        </p:blipFill>
        <p:spPr>
          <a:xfrm>
            <a:off x="6119640" y="2336760"/>
            <a:ext cx="3024360" cy="45212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2"/>
          <p:cNvSpPr/>
          <p:nvPr/>
        </p:nvSpPr>
        <p:spPr>
          <a:xfrm>
            <a:off x="6227640" y="249228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рковь Святого Ламберта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ankt Lambert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1" descr="C:\Users\Мой\Desktop\i.jpg"/>
          <p:cNvPicPr/>
          <p:nvPr/>
        </p:nvPicPr>
        <p:blipFill>
          <a:blip r:embed="rId4"/>
          <a:stretch/>
        </p:blipFill>
        <p:spPr>
          <a:xfrm>
            <a:off x="0" y="3500280"/>
            <a:ext cx="4211640" cy="33577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8"/>
          <p:cNvSpPr/>
          <p:nvPr/>
        </p:nvSpPr>
        <p:spPr>
          <a:xfrm>
            <a:off x="395280" y="3983040"/>
            <a:ext cx="53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umbold-Universit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horz"/>
    <p:sndAc>
      <p:stSnd>
        <p:snd r:embed="rId5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Die Moselmündung und das Deutsche Eck von der Festung Ehrenbreitstein aus gesehen, am linken Bildrand die Kastorkirche und das Deutschherrenhaus"/>
          <p:cNvPicPr/>
          <p:nvPr/>
        </p:nvPicPr>
        <p:blipFill>
          <a:blip r:embed="rId1"/>
          <a:stretch/>
        </p:blipFill>
        <p:spPr>
          <a:xfrm>
            <a:off x="4067280" y="1197000"/>
            <a:ext cx="2700360" cy="3429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de.wikipedia.org/skins-1.5/common/images/magnify-clip.png"/>
          <p:cNvPicPr/>
          <p:nvPr/>
        </p:nvPicPr>
        <p:blipFill>
          <a:blip r:embed="rId2"/>
          <a:stretch/>
        </p:blipFill>
        <p:spPr>
          <a:xfrm>
            <a:off x="-720720" y="411156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6"/>
          <p:cNvSpPr/>
          <p:nvPr/>
        </p:nvSpPr>
        <p:spPr>
          <a:xfrm>
            <a:off x="-39672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-720720" y="41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19280" y="5256720"/>
            <a:ext cx="62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Möselmündung steht das Deutsche Eck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4" name="chimes.wav"/>
      </p:stSnd>
    </p:sndAc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042920" y="549360"/>
            <a:ext cx="741672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Wort Rhe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st Leben;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Wort Rhei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st Größe;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das Wort Rhei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ist Macht und Kraft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Friedrich Li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u"/>
    <p:sndAc>
      <p:stSnd>
        <p:snd r:embed="rId1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523880" y="1397160"/>
          <a:ext cx="6096240" cy="4572000"/>
        </p:xfrm>
        <a:graphic>
          <a:graphicData uri="http://schemas.openxmlformats.org/drawingml/2006/table">
            <a:tbl>
              <a:tblPr/>
              <a:tblGrid>
                <a:gridCol w="3695760"/>
                <a:gridCol w="1081080"/>
                <a:gridCol w="1319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chti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ls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.Uber den Rhein gibt es nur wenige Sage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.Der Rhein ist die schonste Flusse Deutschland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3.Der Rhein  kommt aus der Schweiz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4.Er flies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an Strassburg,Mainz,Bonn,Koln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Dusseldorf  vorbei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p:transition spd="med">
    <p:randomBar dir="horz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Мой\Desktop\д.jpg"/>
          <p:cNvPicPr/>
          <p:nvPr/>
        </p:nvPicPr>
        <p:blipFill>
          <a:blip r:embed="rId1"/>
          <a:stretch/>
        </p:blipFill>
        <p:spPr>
          <a:xfrm>
            <a:off x="5580000" y="4221000"/>
            <a:ext cx="3564000" cy="263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Мой\Desktop\дюс.jpg"/>
          <p:cNvPicPr/>
          <p:nvPr/>
        </p:nvPicPr>
        <p:blipFill>
          <a:blip r:embed="rId2"/>
          <a:stretch/>
        </p:blipFill>
        <p:spPr>
          <a:xfrm>
            <a:off x="0" y="4336920"/>
            <a:ext cx="3348000" cy="25210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2843280" y="3357720"/>
            <a:ext cx="32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Palatino Linotype"/>
              </a:rPr>
              <a:t>Düssel</a:t>
            </a:r>
            <a:r>
              <a:rPr b="1" lang="en-US" sz="4400" spc="-1" strike="noStrike">
                <a:solidFill>
                  <a:srgbClr val="ff0066"/>
                </a:solidFill>
                <a:latin typeface="Palatino Linotype"/>
              </a:rPr>
              <a:t>do</a:t>
            </a:r>
            <a:r>
              <a:rPr b="1" lang="de-DE" sz="4400" spc="-1" strike="noStrike">
                <a:solidFill>
                  <a:srgbClr val="ff0066"/>
                </a:solidFill>
                <a:latin typeface="Palatino Linotype"/>
              </a:rPr>
              <a:t>rf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9"/>
          <p:cNvSpPr/>
          <p:nvPr/>
        </p:nvSpPr>
        <p:spPr>
          <a:xfrm>
            <a:off x="5867280" y="39830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0" y="472140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Schloss Benrath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рямоугольник 10"/>
          <p:cNvSpPr/>
          <p:nvPr/>
        </p:nvSpPr>
        <p:spPr>
          <a:xfrm flipH="1">
            <a:off x="6587280" y="5275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sseldorf Ratha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C:\Users\Мой\Desktop\277px-Hubertuskapelle_.JPG"/>
          <p:cNvPicPr/>
          <p:nvPr/>
        </p:nvPicPr>
        <p:blipFill>
          <a:blip r:embed="rId3"/>
          <a:stretch/>
        </p:blipFill>
        <p:spPr>
          <a:xfrm>
            <a:off x="2268360" y="0"/>
            <a:ext cx="3517920" cy="32846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9"/>
          <p:cNvSpPr/>
          <p:nvPr/>
        </p:nvSpPr>
        <p:spPr>
          <a:xfrm>
            <a:off x="3614760" y="24922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ahoma"/>
              </a:rPr>
              <a:t>Hubertuskapelle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d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 rot="21199200"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berzetze ins Russisch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Bahnho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Glei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Schalt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Wag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Abfahr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Ankunf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Rundfahr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Fahrkart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 Auskunftburo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Fahrpla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Reisezie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Abteilun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Reisetasch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 Reisefuhre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Blick über das Zentrum Kölns. Von links nach rechts: Kölner Altstadt, Kölner Philharmonie, Museum Ludwig, Kölner Dom, Hohenzollernbrücke, Köln Hauptbahnhof, Musical Dome. Im Hintergrund der Fernsehturm „Colonius“ und der KölnTurm im MediaPark">
            <a:hlinkClick r:id="rId1"/>
          </p:cNvPr>
          <p:cNvPicPr/>
          <p:nvPr/>
        </p:nvPicPr>
        <p:blipFill>
          <a:blip r:embed="rId2"/>
          <a:stretch/>
        </p:blipFill>
        <p:spPr>
          <a:xfrm rot="20427000">
            <a:off x="468000" y="475920"/>
            <a:ext cx="285732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-190440" y="19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Köln-Panorama von der Deutzer Brücke aus gesehen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2637000"/>
            <a:ext cx="7139160" cy="1620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979640" y="4308480"/>
            <a:ext cx="5759280" cy="824040"/>
          </a:xfrm>
          <a:prstGeom prst="rect">
            <a:avLst/>
          </a:prstGeom>
          <a:solidFill>
            <a:srgbClr val="f3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öln-Panoram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n der Deutzer Brücke aus gesehe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8" descr="Köln, sein Dom und der Rhein bei Nacht vom Deutzer Ufer aus.">
            <a:hlinkClick r:id="rId5"/>
          </p:cNvPr>
          <p:cNvPicPr/>
          <p:nvPr/>
        </p:nvPicPr>
        <p:blipFill>
          <a:blip r:embed="rId6"/>
          <a:stretch/>
        </p:blipFill>
        <p:spPr>
          <a:xfrm rot="2229000">
            <a:off x="6175440" y="56196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Panorama Altstadtufer. In der Mitte Groß St. Martin, rechts Kölner Philharmonie und Museum Ludwig, ganz außen Hohenzollernbrücke mit Einfahrt in den Kölner Hauptbahnhof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5245200"/>
            <a:ext cx="6985080" cy="1330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9" name="chimes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760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Мой\Desktop\200px-Kölner_Dom_nachts.jpg"/>
          <p:cNvPicPr/>
          <p:nvPr/>
        </p:nvPicPr>
        <p:blipFill>
          <a:blip r:embed="rId1"/>
          <a:stretch/>
        </p:blipFill>
        <p:spPr>
          <a:xfrm>
            <a:off x="5183280" y="0"/>
            <a:ext cx="396072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5003640" y="32446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C:\Users\Мой\Desktop\400px-Koeln-Turm_001.jpg"/>
          <p:cNvPicPr/>
          <p:nvPr/>
        </p:nvPicPr>
        <p:blipFill>
          <a:blip r:embed="rId2"/>
          <a:stretch/>
        </p:blipFill>
        <p:spPr>
          <a:xfrm>
            <a:off x="0" y="2882880"/>
            <a:ext cx="3657600" cy="39751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1332000" y="3244680"/>
            <a:ext cx="40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oeln-Tur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C:\Users\Мой\Desktop\200px-Universitaet_zu_Koeln-Eingang_Hauptgebaeude.jpg"/>
          <p:cNvPicPr/>
          <p:nvPr/>
        </p:nvPicPr>
        <p:blipFill>
          <a:blip r:embed="rId3"/>
          <a:stretch/>
        </p:blipFill>
        <p:spPr>
          <a:xfrm>
            <a:off x="5094360" y="4221000"/>
            <a:ext cx="4049640" cy="2637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6156360" y="4149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iversitaet zu Koeln-Einga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C:\Users\Мой\Desktop\800px-CGN_Terminal1.jpg"/>
          <p:cNvPicPr/>
          <p:nvPr/>
        </p:nvPicPr>
        <p:blipFill>
          <a:blip r:embed="rId4"/>
          <a:stretch/>
        </p:blipFill>
        <p:spPr>
          <a:xfrm>
            <a:off x="0" y="0"/>
            <a:ext cx="3851280" cy="249228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8"/>
          <p:cNvSpPr/>
          <p:nvPr/>
        </p:nvSpPr>
        <p:spPr>
          <a:xfrm>
            <a:off x="5940360" y="3178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elner Kathedr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horz"/>
    <p:sndAc>
      <p:stSnd>
        <p:snd r:embed="rId5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 rot="21435600">
            <a:off x="45684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AS PASST ZUSAMME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f … 8 fahrt der Schnellzug nach Berl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 informiert sich uber die… und die … seines Zu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 Fahrgaste … schon in den Zug… 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er … man aus dem Zug …  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ser  Junge … seine Mutter…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fahrt,Ankunf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igen   ei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ei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igt   au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t   a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E:\Картинки И\Tegos_3d_076.jpg"/>
          <p:cNvPicPr/>
          <p:nvPr/>
        </p:nvPicPr>
        <p:blipFill>
          <a:blip r:embed="rId1"/>
          <a:stretch/>
        </p:blipFill>
        <p:spPr>
          <a:xfrm>
            <a:off x="7280280" y="4816440"/>
            <a:ext cx="1228680" cy="15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E:\Картинки И\Tegos_3d_084.jpg"/>
          <p:cNvPicPr/>
          <p:nvPr/>
        </p:nvPicPr>
        <p:blipFill>
          <a:blip r:embed="rId2"/>
          <a:stretch/>
        </p:blipFill>
        <p:spPr>
          <a:xfrm>
            <a:off x="7280280" y="4816440"/>
            <a:ext cx="1228680" cy="156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E:\Картинки И\Белая роза.bmp"/>
          <p:cNvPicPr/>
          <p:nvPr/>
        </p:nvPicPr>
        <p:blipFill>
          <a:blip r:embed="rId3"/>
          <a:stretch/>
        </p:blipFill>
        <p:spPr>
          <a:xfrm>
            <a:off x="7597800" y="5048280"/>
            <a:ext cx="766800" cy="97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E:\Картинки И\по.bmp"/>
          <p:cNvPicPr/>
          <p:nvPr/>
        </p:nvPicPr>
        <p:blipFill>
          <a:blip r:embed="rId4"/>
          <a:stretch/>
        </p:blipFill>
        <p:spPr>
          <a:xfrm>
            <a:off x="7597800" y="5048280"/>
            <a:ext cx="766800" cy="977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E:\Картинки И\CA761WHZ.jpg"/>
          <p:cNvPicPr/>
          <p:nvPr/>
        </p:nvPicPr>
        <p:blipFill>
          <a:blip r:embed="rId5"/>
          <a:stretch/>
        </p:blipFill>
        <p:spPr>
          <a:xfrm>
            <a:off x="7696080" y="5197320"/>
            <a:ext cx="623880" cy="59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E:\Картинки И\CAH0WFHL.jpg"/>
          <p:cNvPicPr/>
          <p:nvPr/>
        </p:nvPicPr>
        <p:blipFill>
          <a:blip r:embed="rId6"/>
          <a:stretch/>
        </p:blipFill>
        <p:spPr>
          <a:xfrm>
            <a:off x="7597800" y="5214960"/>
            <a:ext cx="766800" cy="554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E:\Картинки И\CAH5BKQJ.jpg"/>
          <p:cNvPicPr/>
          <p:nvPr/>
        </p:nvPicPr>
        <p:blipFill>
          <a:blip r:embed="rId7"/>
          <a:stretch/>
        </p:blipFill>
        <p:spPr>
          <a:xfrm>
            <a:off x="7618320" y="5256360"/>
            <a:ext cx="736560" cy="44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E:\Картинки И\CAHEVFHN.jpg"/>
          <p:cNvPicPr/>
          <p:nvPr/>
        </p:nvPicPr>
        <p:blipFill>
          <a:blip r:embed="rId8"/>
          <a:stretch/>
        </p:blipFill>
        <p:spPr>
          <a:xfrm>
            <a:off x="7597800" y="5214960"/>
            <a:ext cx="766800" cy="554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E:\Картинки И\f7a910e51cfd.jpg"/>
          <p:cNvPicPr/>
          <p:nvPr/>
        </p:nvPicPr>
        <p:blipFill>
          <a:blip r:embed="rId9"/>
          <a:stretch/>
        </p:blipFill>
        <p:spPr>
          <a:xfrm>
            <a:off x="5867280" y="4508640"/>
            <a:ext cx="327672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10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28:22Z</dcterms:created>
  <dc:creator>Лена</dc:creator>
  <dc:description/>
  <dc:language>en-US</dc:language>
  <cp:lastModifiedBy>Мой</cp:lastModifiedBy>
  <dcterms:modified xsi:type="dcterms:W3CDTF">2012-02-13T16:54:31Z</dcterms:modified>
  <cp:revision>84</cp:revision>
  <dc:subject/>
  <dc:title>Слайд 1</dc:title>
</cp:coreProperties>
</file>