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47C-6883-43EB-AAFC-CEB10E9F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53C-605E-4551-B95F-A2D0F5B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699-BBF0-4E0F-8E79-85CD068A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B72-E092-4A48-B01D-DEA85D00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1AC-20F9-4809-959B-4A19749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277-71F2-4D5E-AF24-92A9D666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453-CA89-43B2-946D-16A2583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78C-FA7E-49BE-966B-D0F53A0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A7F-726A-444D-B8C2-9AB28CD9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F76-C2D7-40FB-9BB7-E90FD8A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821-8AF3-46F4-8138-C2EE9DBE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818-2321-4FE9-8F24-7C72AA4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5A96-21E2-4E13-90BD-D33CD3D6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ипова А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-лицей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В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род растений относится к семейству боб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отличный источник растительных белков, который особенно необходимы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обладает успокаивающимися свойствами, так как, употребление в пищу фасолевых блюд, оказывает благотворное действие на нервную систему, обеспечивает спокойствие и благодуш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4530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Моя исследовательская работа представляет собой наблюдение за выращиванием фасоли в домашних условиях: от замачивания семян до появления новых семян на 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мая  мама замочила семена фасоли в тряп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мая мама мне  приготовила землю в горшочке для посадки фасоли и я посадил семя фасоли в землю и фасоль поливал через каждые два 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67400" y="23623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июня я увидел, что пробились ростки фасоли  из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июня замерил линейкой высоту фасоли,                                         фасоль выросла на 7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9 июня фасоль выросла до 12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 июня фасоль выросла до 19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1 июня фасоль выросла до 22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 июля на фасоли появился маленький стручок фа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6566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июля в стручке фасоли появились три горо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 июля фасоль поспела, а стручок стал желтоватого цвет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неделю я собрал плоды фа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537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37:36Z</dcterms:created>
  <dc:creator>Admin</dc:creator>
  <dc:description/>
  <dc:language>en-US</dc:language>
  <cp:lastModifiedBy>Admin</cp:lastModifiedBy>
  <dcterms:modified xsi:type="dcterms:W3CDTF">2010-12-14T23:11:39Z</dcterms:modified>
  <cp:revision>5</cp:revision>
  <dc:subject/>
  <dc:title>Исследовательская работа</dc:title>
</cp:coreProperties>
</file>