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ECA-012A-4982-8869-580A6FE5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8CA-3C55-444F-AFD9-A42D6962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D6E-E0E2-4400-B167-7AFBF69C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E7D-288A-4F60-81ED-022FCE22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2BD-7423-4623-B96E-4D518C93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762-5E51-44EC-B9C2-2A53EB39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6FF-A0CD-491F-9A8A-4AFE2FB0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DC0-4532-419D-BD28-28BCB2F1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431-34AF-43B1-80D7-08EBC20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25F-F1BF-4CC3-BCD1-417795EF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64C-C95D-4D29-9C88-DAEB3883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745-F4DD-4FA0-A47F-6047CF4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AEAB-A522-46E3-A8EE-52FF4BAB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рипова А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-лицей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В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соль – род растений относится к семейству бобо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соль – отличный источник растительных белков, который особенно необходимы дл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соль – обладает успокаивающимися свойствами, так как, употребление в пищу фасолевых блюд, оказывает благотворное действие на нервную систему, обеспечивает спокойствие и благодуш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645300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Моя исследовательская работа представляет собой наблюдение за выращиванием фасоли в домашних условиях: от замачивания семян до появления новых семян на раст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мая  мама замочила семена фасоли в тряпочк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мая мама мне  приготовила землю в горшочке для посадки фасоли и я посадил семя фасоли в землю и фасоль поливал через каждые два 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67400" y="236232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июня я увидел, что пробились ростки фасоли  из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июня замерил линейкой высоту фасоли,                                         фасоль выросла на 7с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9 июня фасоль выросла до 12с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5 июня фасоль выросла до 19с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1 июня фасоль выросла до 22см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 июля на фасоли появился маленький стручок фас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03280" y="65660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 июля в стручке фасоли появились три горо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53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 июля фасоль поспела, а стручок стал желтоватого цвет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з неделю я собрал плоды фасо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537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22:37:36Z</dcterms:created>
  <dc:creator>Admin</dc:creator>
  <dc:description/>
  <dc:language>en-US</dc:language>
  <cp:lastModifiedBy>Admin</cp:lastModifiedBy>
  <dcterms:modified xsi:type="dcterms:W3CDTF">2010-12-14T23:11:39Z</dcterms:modified>
  <cp:revision>5</cp:revision>
  <dc:subject/>
  <dc:title>Исследовательская работа</dc:title>
</cp:coreProperties>
</file>