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jpeg" ContentType="image/jpeg"/>
  <Override PartName="/ppt/media/image9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media/image13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85C4-6B0F-4A3C-BA22-0B69B20F4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14A4-A40B-43AE-AFD1-90865352D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1143FD-4B8F-4A5E-94FE-126824A7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31EFD4-FB19-4630-B0C3-35266CA1B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AE4728-1353-40CE-8D46-F79899729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223B51-7FAA-426A-B112-9151E54E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0AB0D2-2AC0-4A9D-8B14-8FE0DA28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0A8556-1001-4755-AF36-B86868ED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8DC95B-2C43-4425-B505-94B61838C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3636CC-8B47-4598-9C31-AEB7ABA99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701292-75F8-4573-95D3-B8AE78BE8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60EB-8BE2-43AF-A978-C863DA216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F8AE-5A45-46F9-8CD8-52FCB0B5B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9156C-B30D-4191-93E5-8892E3B18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6E55E-588C-4D13-9E5D-8815FD7A4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3AF9C-6931-4FEF-84EF-A1A63888E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3133D-E961-496F-9FFC-53CEC4301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A18F9-43A3-4D0B-89D8-BD5163CD2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8BDDE-3C4C-43E6-A2C3-1A34F3FE9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C9C04-BDA5-493A-AFDF-47A55367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50CB-6B90-451B-82BB-785E1FADB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4E8DF-0E42-490F-95BF-DAD1973B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3C3DD-6E07-4BBA-A09B-0254F94B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A878E-3E44-4676-98B7-19A87A0A2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254B9-290B-4C8E-85E8-E26F51ED3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21CB4-BA1D-4B8B-8997-5279C7650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6AA81-718E-4FE3-9F17-95333989E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231A5-7331-4730-96C3-7945A7B94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AF4DA-335F-46C5-9155-478864A09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950CE-EB5C-4FD6-AE4C-6FE55406F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2E92A-0818-4B1A-811D-A687917B9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9F0F-40D5-466B-93DE-123CFA668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9027F-C139-489E-BDC3-6013D9110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650C4-EC0E-4498-BC88-F96B3F80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73BDE-9516-409B-9514-F2C440D7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B20DC-555E-4B98-BBFA-536EC1F9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20786-9328-448B-927D-2550E12C8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44596-8DCF-4DA3-9E81-D3615709E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28E1C-4BE9-4FC3-80BC-1C184BA84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3B2D6-538C-4144-A000-19EAD6F6B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965BD-082A-4E46-B9AF-328D77566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8BF55-6719-48D7-9844-14E8D6224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F670-81DC-487C-A43F-CA222D6E8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614BA-E5C2-401F-A041-A15AE1412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D0CB6-AF70-47C7-8CF6-C265ECF44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257D3-25E9-4677-9948-A9E0BF047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5B8B0-5117-47B6-9A21-033D02A2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02CB3-CE80-40D7-8139-536E0447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ABF96-341A-4122-A806-3A63D98B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039C3-B021-451B-888F-EE1764EB8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ECAB9-BD07-4892-89FB-7D130CB9B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E67B8-200A-4AE7-991B-DE87E1EBB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CE3DF-EF8F-4CE5-ADC4-C1B7C8443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1D25-8DA2-478A-BCE4-DB7B3153E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21E60-D57C-47F7-837C-7931D065E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74A4A-94AA-4C96-B00A-01D3E22E9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107F1-5A7D-4090-9A57-9229FBCD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F30A7-19D4-4999-964D-17D9197C1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7DE71-7E6B-410E-8A4A-75FAEFA1F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A9967-7507-48F1-8BBA-F4B35FED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5D57F-4187-4CF1-9FF9-39A047DA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4A915-DED4-4E74-AE18-C17F9889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8429F-6E30-4AC9-A1D3-DC0BC0FA7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FE617-4CD2-4EDB-97C4-E928D156F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75DA-DB38-46CB-ACB5-088142C4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051C9-968C-453A-B227-ADAF3C9E4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D5AE6-1887-49F4-8726-FE43401BB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EF767-BBB1-4E5F-BA15-0EC51CF59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4BD92F-6318-4C9B-A679-01DF567C3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7FEFB-907D-487F-AFD7-AA4F47947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ABE05F-7115-4466-9A00-BE87C7970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1B92B-0DD5-4F02-9434-867268D78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4BB9F-B61F-4298-BC93-991B3A7D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77A1A0-7FF9-4518-9307-67D0A3E6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FF013-5048-433F-AF70-E58654D4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3543-C394-4876-BD39-CBEB4D50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100EB-C814-4CF2-BCDE-0985B9C38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08266-A8D5-40F0-9A21-09095212A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4C95D-8883-4248-9198-97F551CC0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64156-4263-493A-9132-AD2D63040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2EF7A0-0697-41AC-B472-96689C83F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5CCFA-92D2-475C-90B4-54C173A3A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AFF563-C37E-4AB1-940E-AB5CFE06F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94CC1D-E913-458C-A776-C8DA9244C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71E096-0BD7-4AF1-8AF5-458FDE49C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27545F-A17B-468B-808C-0B22E3ED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48B3-9F7F-4820-8F6C-1855D416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D6F0E-962A-448C-AFE8-74E22A10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AAEB39-F624-4E64-BBB2-73C2FA43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C14705-6E1F-467B-B371-3D3449D7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35B2C-64F5-44C5-86DB-A47B96D3E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D7FAE9-5A86-4DDC-AB50-647DCF04F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5FFB56-96B7-4031-B966-CD21DC9B3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C28A7A-362E-4377-BAF6-EA5F52135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08E82-25AF-448C-BD5B-B6A872913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D4A6D4-CA23-48B7-B50B-1DC53E2A7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E74DB4-BFC0-41CF-9AB3-2130F39B2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35C0-1429-473C-90AF-469BF6BC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56C893-134B-4C28-92AB-4310A9930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335D47-356A-4AAD-9770-6B65CF4C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1211F5-8951-4391-ADDB-75B77E99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578FDF-3A6A-4CFF-BCA5-DBBCB654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B68C8C-6002-49F4-A6D8-DECA83DF7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736BB5-9C93-485D-8E76-F6FB45CE7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D5C140-D287-4BD7-9637-B700DF7F5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50523A-8D42-4469-8150-3160B3275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4CC2FB-275B-4A05-BD8C-09559678D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413DDC-BE58-4188-85C5-F17D85946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58F7E-1052-4CE2-B12F-7BBE40ABE95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3E96B-0A47-4A40-882D-E3B131E7066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EE380-0C13-4CDA-A979-C226DE6ECDF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C6165-00E1-4EE0-9824-DDEC9E503FF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1779F-05DD-4181-B80D-52C87BE3089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D7172-35C6-4E96-9FCB-338F8F59B51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C41A3-824C-4227-90E7-DEC46BF43DC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F3B5E-D405-41E6-85B6-1FF84CE8813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1FA1-27D4-4416-B471-C670E541C21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00" name="5-конечная звезда 6"/>
          <p:cNvSpPr/>
          <p:nvPr/>
        </p:nvSpPr>
        <p:spPr>
          <a:xfrm>
            <a:off x="8229600" y="1219320"/>
            <a:ext cx="304920" cy="46080"/>
          </a:xfrm>
          <a:custGeom>
            <a:avLst/>
            <a:gdLst/>
            <a:ahLst/>
            <a:rect l="l" t="t" r="r" b="b"/>
            <a:pathLst>
              <a:path w="304800" h="46038">
                <a:moveTo>
                  <a:pt x="0" y="17585"/>
                </a:moveTo>
                <a:lnTo>
                  <a:pt x="116424" y="17585"/>
                </a:lnTo>
                <a:lnTo>
                  <a:pt x="152400" y="0"/>
                </a:lnTo>
                <a:lnTo>
                  <a:pt x="188376" y="17585"/>
                </a:lnTo>
                <a:lnTo>
                  <a:pt x="304800" y="17585"/>
                </a:lnTo>
                <a:lnTo>
                  <a:pt x="210611" y="28453"/>
                </a:lnTo>
                <a:lnTo>
                  <a:pt x="246588" y="46038"/>
                </a:lnTo>
                <a:lnTo>
                  <a:pt x="152400" y="35170"/>
                </a:lnTo>
                <a:lnTo>
                  <a:pt x="58212" y="46038"/>
                </a:lnTo>
                <a:lnTo>
                  <a:pt x="94189" y="28453"/>
                </a:lnTo>
                <a:lnTo>
                  <a:pt x="0" y="17585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Содержимое 9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54864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Заголовок 1" descr=""/>
          <p:cNvPicPr/>
          <p:nvPr/>
        </p:nvPicPr>
        <p:blipFill>
          <a:blip r:embed="rId1"/>
          <a:stretch/>
        </p:blipFill>
        <p:spPr>
          <a:xfrm>
            <a:off x="146160" y="4986360"/>
            <a:ext cx="8772480" cy="138420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280800" y="666360"/>
            <a:ext cx="42908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b0761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645080" y="666360"/>
            <a:ext cx="4292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b0761f"/>
              </a:solidFill>
              <a:latin typeface="Arial"/>
            </a:endParaRPr>
          </a:p>
        </p:txBody>
      </p:sp>
      <p:pic>
        <p:nvPicPr>
          <p:cNvPr id="426" name="Picture 2" descr="D:\ОЛИНО ФОТО\Изображение\Изображение 156.jpg"/>
          <p:cNvPicPr/>
          <p:nvPr/>
        </p:nvPicPr>
        <p:blipFill>
          <a:blip r:embed="rId2"/>
          <a:stretch/>
        </p:blipFill>
        <p:spPr>
          <a:xfrm>
            <a:off x="281160" y="1447920"/>
            <a:ext cx="4290840" cy="344808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3" descr="D:\ОЛИНО ФОТО\Изображение\Изображение 157.jpg"/>
          <p:cNvPicPr/>
          <p:nvPr/>
        </p:nvPicPr>
        <p:blipFill>
          <a:blip r:embed="rId3"/>
          <a:stretch/>
        </p:blipFill>
        <p:spPr>
          <a:xfrm>
            <a:off x="4648320" y="1447920"/>
            <a:ext cx="428940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Презентация 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3329"/>
                </a:solidFill>
                <a:latin typeface="Times New Roman"/>
              </a:rPr>
              <a:t>на тему: </a:t>
            </a: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</a:rPr>
              <a:t>«Пожарная безопасность»</a:t>
            </a:r>
            <a:endParaRPr b="0" lang="en-US" sz="4800" spc="-1" strike="noStrike">
              <a:solidFill>
                <a:srgbClr val="4e3b3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3329"/>
                </a:solidFill>
                <a:latin typeface="Times New Roman"/>
              </a:rPr>
              <a:t>Выполнил ученик 2 «А» класса МОУ СОШ №2</a:t>
            </a:r>
            <a:endParaRPr b="0" lang="en-US" sz="1800" spc="-1" strike="noStrike">
              <a:solidFill>
                <a:srgbClr val="4e3b30"/>
              </a:solidFill>
              <a:latin typeface="Times New Roman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3329"/>
                </a:solidFill>
                <a:latin typeface="Times New Roman"/>
              </a:rPr>
              <a:t>Городского округа  ЗАТО Светлый</a:t>
            </a:r>
            <a:endParaRPr b="0" lang="en-US" sz="1800" spc="-1" strike="noStrike">
              <a:solidFill>
                <a:srgbClr val="4e3b30"/>
              </a:solidFill>
              <a:latin typeface="Times New Roman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3329"/>
                </a:solidFill>
                <a:latin typeface="Times New Roman"/>
              </a:rPr>
              <a:t>Евстифеев Артём</a:t>
            </a:r>
            <a:endParaRPr b="0" lang="en-US" sz="1800" spc="-1" strike="noStrike">
              <a:solidFill>
                <a:srgbClr val="4e3b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5486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3008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e3b3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Пожар может возникнуть в любом месте и в любое время. Поэтому к нему надо быть подготовленным. Я предлагаю вам запомнить простейшие правила, которые помогут спастись от огня и дыма.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</p:txBody>
      </p:sp>
      <p:pic>
        <p:nvPicPr>
          <p:cNvPr id="405" name="Picture 2" descr="D:\МДОУ\уголки\images.jpeg"/>
          <p:cNvPicPr/>
          <p:nvPr/>
        </p:nvPicPr>
        <p:blipFill>
          <a:blip r:embed="rId1"/>
          <a:stretch/>
        </p:blipFill>
        <p:spPr>
          <a:xfrm>
            <a:off x="3962520" y="533520"/>
            <a:ext cx="47242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5486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3008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Times New Roman"/>
              </a:rPr>
              <a:t> 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Главное, что нужно запомнить - спички  служат для хозяйственных дел, но  никак не для игры. Даже маленькая искра может привести к большой беде.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</p:txBody>
      </p:sp>
      <p:pic>
        <p:nvPicPr>
          <p:cNvPr id="408" name="Picture 2" descr="D:\МДОУ\уголки\det11s.jpg"/>
          <p:cNvPicPr/>
          <p:nvPr/>
        </p:nvPicPr>
        <p:blipFill>
          <a:blip r:embed="rId1"/>
          <a:stretch/>
        </p:blipFill>
        <p:spPr>
          <a:xfrm>
            <a:off x="3886200" y="609480"/>
            <a:ext cx="47242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5486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304560"/>
            <a:ext cx="300816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e3b30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4e3b3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Если пожар случится в твоей квартире – немедленно убегай подальше: на улицу или к соседям.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Помни, если нет возможности выйти через дверь, спасайся на балконе или возле открытого окна.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</p:txBody>
      </p:sp>
      <p:pic>
        <p:nvPicPr>
          <p:cNvPr id="411" name="Picture 2" descr="D:\МДОУ\уголки\det17s.jpg"/>
          <p:cNvPicPr/>
          <p:nvPr/>
        </p:nvPicPr>
        <p:blipFill>
          <a:blip r:embed="rId1"/>
          <a:stretch/>
        </p:blipFill>
        <p:spPr>
          <a:xfrm>
            <a:off x="4038480" y="609480"/>
            <a:ext cx="441972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300816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Если нету телефона - мы к балкону поспешим, 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За собою дверь балкона поплотнее притворим. 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Если нет у нас балкона - станем в окна мы кричать: 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О пожаре всем прохожим -громко будем сообщать. 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</p:txBody>
      </p:sp>
      <p:pic>
        <p:nvPicPr>
          <p:cNvPr id="413" name="Picture 2" descr="D:\МДОУ\уголки\det5s.jpg"/>
          <p:cNvPicPr/>
          <p:nvPr/>
        </p:nvPicPr>
        <p:blipFill>
          <a:blip r:embed="rId1"/>
          <a:stretch/>
        </p:blipFill>
        <p:spPr>
          <a:xfrm>
            <a:off x="3886200" y="609480"/>
            <a:ext cx="39625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5486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228240"/>
            <a:ext cx="3008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При пожаре дым гораздо опаснее огня. Большинство людей при пожаре погибают от дыма. Если чувствуешь, что задыхаешься, опустись на корточки  или продвигайся к выходу ползком - внизу дыма меньше. 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</p:txBody>
      </p:sp>
      <p:pic>
        <p:nvPicPr>
          <p:cNvPr id="416" name="Picture 2" descr="D:\МДОУ\уголки\images.jpeg"/>
          <p:cNvPicPr/>
          <p:nvPr/>
        </p:nvPicPr>
        <p:blipFill>
          <a:blip r:embed="rId1"/>
          <a:stretch/>
        </p:blipFill>
        <p:spPr>
          <a:xfrm>
            <a:off x="4419720" y="609480"/>
            <a:ext cx="40384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Когда приедут пожарные, во всём их слушайся и не бойся. Они лучше знают как тебя спасти.</a:t>
            </a:r>
            <a:endParaRPr b="0" lang="en-US" sz="4000" spc="-1" strike="noStrike">
              <a:solidFill>
                <a:srgbClr val="4e3b30"/>
              </a:solidFill>
              <a:latin typeface="Times New Roman"/>
            </a:endParaRPr>
          </a:p>
        </p:txBody>
      </p:sp>
      <p:pic>
        <p:nvPicPr>
          <p:cNvPr id="419" name="Содержимое 4" descr=""/>
          <p:cNvPicPr/>
          <p:nvPr/>
        </p:nvPicPr>
        <p:blipFill>
          <a:blip r:embed="rId1"/>
          <a:stretch/>
        </p:blipFill>
        <p:spPr>
          <a:xfrm>
            <a:off x="4648320" y="1447920"/>
            <a:ext cx="419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Пожары очень опасны. При пожаре могут сгореть вещи, квартира и даже целый дом. Но главное, что при пожаре могут погибнуть люди. Запомни правила противопожарной безопасности. </a:t>
            </a: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Times New Roman"/>
            </a:endParaRPr>
          </a:p>
        </p:txBody>
      </p:sp>
      <p:pic>
        <p:nvPicPr>
          <p:cNvPr id="422" name="Содержимое 4" descr=""/>
          <p:cNvPicPr/>
          <p:nvPr/>
        </p:nvPicPr>
        <p:blipFill>
          <a:blip r:embed="rId1"/>
          <a:stretch/>
        </p:blipFill>
        <p:spPr>
          <a:xfrm>
            <a:off x="4419720" y="1600200"/>
            <a:ext cx="44481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настасия</cp:lastModifiedBy>
  <dcterms:modified xsi:type="dcterms:W3CDTF">2012-08-21T16:49:25Z</dcterms:modified>
  <cp:revision>13</cp:revision>
  <dc:subject/>
  <dc:title>Слайд 1</dc:title>
</cp:coreProperties>
</file>