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05E-4B54-43BA-859B-EEB20C1C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836-F1B7-4340-B196-6800345D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E018F-E7EC-4FA6-B6A8-0D1A5EA6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5A612-AF75-46A7-8CCD-B8392AF6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6824C-0C2B-4AEF-81F8-E84C462B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7013F-4CBA-436A-9C6C-9F31D96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4882E-4F0E-45FA-B09D-395EE60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5B766-00D8-4565-BEA7-7D9369E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301A9-3962-44EA-B892-ADCDEE8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CD718-BD95-4AFF-8DA7-3B476F07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03BDD-3B93-49F4-8045-53BEEA98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3B4-2822-42F9-ABED-6A50F17C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7D4-143D-492A-B77F-3D869D83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F5F4-15BB-4D4F-8E1E-6A23F373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618D-240A-4A66-A2D9-940376B0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B3A-BBA4-42E7-BDA1-01C944B5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4D63-2D07-4311-B90D-708CCFC8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A0C3-6258-4AAF-92A3-3B6B35E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8AE3-AE33-4866-86DF-785283D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8A6B-50C2-4227-99EA-079FFC3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94A-5B96-449C-B2B8-93D232E4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2B60-52AF-4347-B000-A8BB3D44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95E1-2AF3-42B6-828E-4313063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342B-1470-46E7-B40A-A80BE798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E89B-C756-486D-AA87-63596C66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DEAE-14C8-4837-8D21-5DB60F80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281F-47CC-4D3A-85FC-71178E7C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8C45-0ACE-43E1-9D81-B292A05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0842-8824-4085-B068-75574F15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7454-B2C0-4F14-8074-57A43EA5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EAD4-9ADE-44C1-8626-3B5D9D1E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7EB-0222-4DED-ACB4-4DAABC81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32DB-D895-4BCE-A1FE-1097A9D3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3545-0E84-44B7-BFDC-DBEE439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9861-4EDB-42DE-817E-91C4199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DDE4-42C0-4094-BD7A-5DB219E3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63B1-9C30-4692-96DE-F7F5154E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D64C-CB4F-4641-BF42-0A53503D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000B-D017-404B-9964-F9696497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5BEF-98A4-476C-8422-9E27ADF8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A3DB-4F02-4934-9C1B-512550A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B203-AB32-46CD-B9FB-33ED0C97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7DC-F4AB-4825-8D30-F46CA557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5C5B-37F3-4146-99FC-F2F51B2C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C4AA-4FD7-447B-9F29-235BE214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99C8-9F4F-466D-954D-4EADF7CA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3219-F805-410C-A3A0-45F8336A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54BB-6D5E-454E-B694-575C406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E4E0-5C28-4631-B9C9-8D292E0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B54B-5EB5-46A6-885B-16E0962D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F259-F083-45EF-941B-14E36498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BF5C-9B38-4832-A55B-9D271234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8F76-8C2F-49C2-9595-46B5236F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AB0-3661-447E-A5AD-2E71F9E6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F1F80-D70B-4C66-817E-5DB71758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8D57-9DCC-44AF-9337-AFCCADAD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D3B4-4075-41C5-BC4F-0C5E4BA3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DF0CA-E446-4251-8E83-378352D1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460D-33A1-4A10-B671-2EC1C540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D7C12-0C6E-4DB8-AE0F-687A7BE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32BF-8882-4DE5-B453-2336B26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EB32-DDDC-445A-A8D5-AE58DAB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D66FC-B363-4CE8-8921-0A6656ED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E456-6E94-43F4-9EE2-2BF2E7CD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EE8-889C-424D-9DA8-57A21AC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1124-5B11-41C1-BBC6-98C4B35A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37A2-581C-4236-B46E-CE603107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BFD2-BA90-4CF8-B744-95A9F7E5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DF61-5745-433D-9F31-0F6801E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F3F9-667D-47C6-ADB4-AE71792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F85FD-D48B-4D59-9ECB-F9CA006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A5C5-BD98-47BF-82DE-15D44BDE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B170-C1C1-457A-98E5-583C3AC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26F8-1164-49DA-B209-C782AE2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2E709-85BF-414E-8ED6-F524660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26D-0F82-4DC4-9009-AD1FB03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A4B64-C182-4882-AC11-ED3FAA7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CF97-5C1D-4A98-B956-583F0134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6ACD-A4E3-4FCA-AB75-62127ADC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7A00-F10B-4982-A312-9A5CDCB4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4E2B8-A507-4CFE-904A-72D3126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E2163-DDAE-4631-A8D2-8001C680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287B-46E2-4E7C-9C32-59A038C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A577-0D4B-46E4-ADD7-D504C52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E326-9B51-499A-8EB2-63E4C20D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01EC-51B9-495D-9184-99EA1F7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242-7BDC-49C0-8C07-C768F0B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151D-24CE-4004-B411-05CECA2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F259D-A3D7-4D44-8901-AD42FAE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4DB2-1C55-40D5-B7E5-9D12E59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8162-7788-45A4-BFB0-F9BB6F62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4E52-6450-469C-8182-98C83485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5F8D-0B8F-4727-A3AD-3973EA14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A16F5-3DA8-4EA6-BD20-034834A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6597-7258-48C4-AD7B-63411A11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ABBA9-2235-43A3-BF63-BE49BC2F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6B44-9F8B-40E8-8054-84F694B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987-1C79-4484-9C46-F943250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72EAD-CFAE-4F29-AFDA-B4A253AD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B197-3E18-44AB-A22F-8AFBA755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9CDC-9029-4193-AC44-68258D9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B7AB1-819E-433C-947E-93CE19EB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510FD-DFEC-4015-94F5-0350975A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15E5D-ACB1-4008-A4AA-65291FBE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3FA6-FAD0-408E-A536-67EF3FD8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73F08-A2C7-496D-8559-D2EDCA5E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EFB79-46C5-41E0-A598-50BA0D08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9C6E9-2AED-4AAF-AC89-68B81F0D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319-9B66-488A-9AD0-ABE1FA4DF46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A14A-0F94-4A2C-9491-5FDCAE9C94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D7FC-5EA2-47CC-B0BD-31E2B24AA6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7517-3641-4602-81E7-80C2BF7146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F1B-834E-41C4-A60F-AF835B469FB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0A0-9DF7-491A-A60F-575878EB4BA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9AD2-7195-4EA8-BEF4-A82A7D881C9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C9B2-97DA-478A-928A-6AF84D6EB48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52A4-B2EE-45D9-992F-C7DD6CAF26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0" name="5-конечная звезда 6"/>
          <p:cNvSpPr/>
          <p:nvPr/>
        </p:nvSpPr>
        <p:spPr>
          <a:xfrm>
            <a:off x="8229600" y="1219320"/>
            <a:ext cx="304920" cy="46080"/>
          </a:xfrm>
          <a:custGeom>
            <a:avLst/>
            <a:gdLst/>
            <a:ahLst/>
            <a:rect l="l" t="t" r="r" b="b"/>
            <a:pathLst>
              <a:path w="304800" h="46038">
                <a:moveTo>
                  <a:pt x="0" y="17585"/>
                </a:moveTo>
                <a:lnTo>
                  <a:pt x="116424" y="17585"/>
                </a:lnTo>
                <a:lnTo>
                  <a:pt x="152400" y="0"/>
                </a:lnTo>
                <a:lnTo>
                  <a:pt x="188376" y="17585"/>
                </a:lnTo>
                <a:lnTo>
                  <a:pt x="304800" y="17585"/>
                </a:lnTo>
                <a:lnTo>
                  <a:pt x="210611" y="28453"/>
                </a:lnTo>
                <a:lnTo>
                  <a:pt x="246588" y="46038"/>
                </a:lnTo>
                <a:lnTo>
                  <a:pt x="152400" y="35170"/>
                </a:lnTo>
                <a:lnTo>
                  <a:pt x="58212" y="46038"/>
                </a:lnTo>
                <a:lnTo>
                  <a:pt x="94189" y="28453"/>
                </a:lnTo>
                <a:lnTo>
                  <a:pt x="0" y="1758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Содержимое 9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46160" y="4986360"/>
            <a:ext cx="8772480" cy="13842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Arial"/>
            </a:endParaRPr>
          </a:p>
        </p:txBody>
      </p:sp>
      <p:pic>
        <p:nvPicPr>
          <p:cNvPr id="426" name="Picture 2" descr="D:\ОЛИНО ФОТО\Изображение\Изображение 156.jpg"/>
          <p:cNvPicPr/>
          <p:nvPr/>
        </p:nvPicPr>
        <p:blipFill>
          <a:blip r:embed="rId2"/>
          <a:stretch/>
        </p:blipFill>
        <p:spPr>
          <a:xfrm>
            <a:off x="281160" y="1447920"/>
            <a:ext cx="4290840" cy="3448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D:\ОЛИНО ФОТО\Изображение\Изображение 157.jpg"/>
          <p:cNvPicPr/>
          <p:nvPr/>
        </p:nvPicPr>
        <p:blipFill>
          <a:blip r:embed="rId3"/>
          <a:stretch/>
        </p:blipFill>
        <p:spPr>
          <a:xfrm>
            <a:off x="4648320" y="1447920"/>
            <a:ext cx="42894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езентация 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</a:rPr>
              <a:t>на тему: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Пожарная безопасность»</a:t>
            </a:r>
            <a:endParaRPr b="0" lang="en-US" sz="48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Times New Roman"/>
              </a:rPr>
              <a:t>Выполнил ученик 2 «А» класса МОУ СОШ №2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Times New Roman"/>
              </a:rPr>
              <a:t>Городского округа  ЗАТО Светлый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Times New Roman"/>
              </a:rPr>
              <a:t>Евстифеев Артём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жар может возникнуть в любом месте и в любое время. Поэтому к нему надо быть подготовленным. Я предлагаю вам запомнить простейшие правила, которые помогут спастись от огня и дыма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5" name="Picture 2" descr="D:\МДОУ\уголки\images.jpeg"/>
          <p:cNvPicPr/>
          <p:nvPr/>
        </p:nvPicPr>
        <p:blipFill>
          <a:blip r:embed="rId1"/>
          <a:stretch/>
        </p:blipFill>
        <p:spPr>
          <a:xfrm>
            <a:off x="3962520" y="53352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авное, что нужно запомнить - спички  служат для хозяйственных дел, но  никак не для игры. Даже маленькая искра может привести к большой беде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8" name="Picture 2" descr="D:\МДОУ\уголки\det11s.jpg"/>
          <p:cNvPicPr/>
          <p:nvPr/>
        </p:nvPicPr>
        <p:blipFill>
          <a:blip r:embed="rId1"/>
          <a:stretch/>
        </p:blipFill>
        <p:spPr>
          <a:xfrm>
            <a:off x="3886200" y="6094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3008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3b3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пожар случится в твоей квартире – немедленно убегай подальше: на улицу или к соседя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мни, если нет возможности выйти через дверь, спасайся на балконе или возле открытого окна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1" name="Picture 2" descr="D:\МДОУ\уголки\det17s.jpg"/>
          <p:cNvPicPr/>
          <p:nvPr/>
        </p:nvPicPr>
        <p:blipFill>
          <a:blip r:embed="rId1"/>
          <a:stretch/>
        </p:blipFill>
        <p:spPr>
          <a:xfrm>
            <a:off x="4038480" y="609480"/>
            <a:ext cx="4419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300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нету телефона - мы к балкону поспешим,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 собою дверь балкона поплотнее притворим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нет у нас балкона - станем в окна мы кричать: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 пожаре всем прохожим -громко будем сообщать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3" name="Picture 2" descr="D:\МДОУ\уголки\det5s.jpg"/>
          <p:cNvPicPr/>
          <p:nvPr/>
        </p:nvPicPr>
        <p:blipFill>
          <a:blip r:embed="rId1"/>
          <a:stretch/>
        </p:blipFill>
        <p:spPr>
          <a:xfrm>
            <a:off x="3886200" y="60948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3008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и пожаре дым гораздо опаснее огня. Большинство людей при пожаре погибают от дыма. Если чувствуешь, что задыхаешься, опустись на корточки  или продвигайся к выходу ползком - внизу дыма меньше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6" name="Picture 2" descr="D:\МДОУ\уголки\images.jpeg"/>
          <p:cNvPicPr/>
          <p:nvPr/>
        </p:nvPicPr>
        <p:blipFill>
          <a:blip r:embed="rId1"/>
          <a:stretch/>
        </p:blipFill>
        <p:spPr>
          <a:xfrm>
            <a:off x="4419720" y="60948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огда приедут пожарные, во всём их слушайся и не бойся. Они лучше знают как тебя спасти.</a:t>
            </a:r>
            <a:endParaRPr b="0" lang="en-US" sz="4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жары очень опасны. При пожаре могут сгореть вещи, квартира и даже целый дом. Но главное, что при пожаре могут погибнуть люди. Запомни правила противопожарной безопасности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2" name="Содержимое 4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48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стасия</cp:lastModifiedBy>
  <dcterms:modified xsi:type="dcterms:W3CDTF">2012-08-21T16:49:25Z</dcterms:modified>
  <cp:revision>13</cp:revision>
  <dc:subject/>
  <dc:title>Слайд 1</dc:title>
</cp:coreProperties>
</file>