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828-9372-4FCA-AA67-44C3BC2B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8E4-A732-4183-9FAA-5D39E3CC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0CC-D711-4BF0-841F-A673C304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627-0EC5-4301-8896-34647C30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7BA-1720-44F9-BF14-E7823F9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70F-F179-43B7-81C3-90BAA52E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5E8-3548-45C5-AEA6-0A7DB972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B8A-1A5A-4F8A-AAEB-B986B491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3EA-4D64-456F-AF23-97927C32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AA0-FE66-4B13-A991-C4C96DFF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EA2-2CFA-44E8-8EDC-474C404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012-B430-4AA9-B61F-F33E145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557E-3596-4D67-A2F8-28DBAC57C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14280" y="1143000"/>
            <a:ext cx="692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FOOD,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  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GLORIOUS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  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FOO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2" descr="C:\Documents and Settings\Администратор\Рабочий стол\еда\сок.jpg"/>
          <p:cNvPicPr/>
          <p:nvPr/>
        </p:nvPicPr>
        <p:blipFill>
          <a:blip r:embed="rId1"/>
          <a:stretch/>
        </p:blipFill>
        <p:spPr>
          <a:xfrm>
            <a:off x="214200" y="214200"/>
            <a:ext cx="1590840" cy="2167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C:\Documents and Settings\Администратор\Рабочий стол\еда\огурец.jpg"/>
          <p:cNvPicPr/>
          <p:nvPr/>
        </p:nvPicPr>
        <p:blipFill>
          <a:blip r:embed="rId2"/>
          <a:stretch/>
        </p:blipFill>
        <p:spPr>
          <a:xfrm>
            <a:off x="5643720" y="1857240"/>
            <a:ext cx="2309760" cy="170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C:\Documents and Settings\Администратор\Рабочий стол\еда\чипсы.jpg"/>
          <p:cNvPicPr/>
          <p:nvPr/>
        </p:nvPicPr>
        <p:blipFill>
          <a:blip r:embed="rId3"/>
          <a:stretch/>
        </p:blipFill>
        <p:spPr>
          <a:xfrm>
            <a:off x="2357280" y="3786120"/>
            <a:ext cx="237672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C:\Documents and Settings\Администратор\Рабочий стол\еда\хлеб.jpg"/>
          <p:cNvPicPr/>
          <p:nvPr/>
        </p:nvPicPr>
        <p:blipFill>
          <a:blip r:embed="rId4"/>
          <a:stretch/>
        </p:blipFill>
        <p:spPr>
          <a:xfrm>
            <a:off x="4857840" y="4143240"/>
            <a:ext cx="2313000" cy="2005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C:\Documents and Settings\Администратор\Рабочий стол\еда\спагетти.jpg"/>
          <p:cNvPicPr/>
          <p:nvPr/>
        </p:nvPicPr>
        <p:blipFill>
          <a:blip r:embed="rId5"/>
          <a:stretch/>
        </p:blipFill>
        <p:spPr>
          <a:xfrm>
            <a:off x="2071800" y="1928880"/>
            <a:ext cx="2205000" cy="17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Администратор\Рабочий стол\еда\lettuce.jpeg"/>
          <p:cNvPicPr/>
          <p:nvPr/>
        </p:nvPicPr>
        <p:blipFill>
          <a:blip r:embed="rId6"/>
          <a:stretch/>
        </p:blipFill>
        <p:spPr>
          <a:xfrm>
            <a:off x="1571760" y="285840"/>
            <a:ext cx="2000160" cy="150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3" descr="C:\Documents and Settings\Администратор\Рабочий стол\еда\арбуз.jpg"/>
          <p:cNvPicPr/>
          <p:nvPr/>
        </p:nvPicPr>
        <p:blipFill>
          <a:blip r:embed="rId7"/>
          <a:stretch/>
        </p:blipFill>
        <p:spPr>
          <a:xfrm>
            <a:off x="4138560" y="2066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Администратор\Рабочий стол\еда\грибы.jpeg"/>
          <p:cNvPicPr/>
          <p:nvPr/>
        </p:nvPicPr>
        <p:blipFill>
          <a:blip r:embed="rId8"/>
          <a:stretch/>
        </p:blipFill>
        <p:spPr>
          <a:xfrm>
            <a:off x="357120" y="2071800"/>
            <a:ext cx="2009880" cy="14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Администратор\Рабочий стол\еда\йогурт.jpg"/>
          <p:cNvPicPr/>
          <p:nvPr/>
        </p:nvPicPr>
        <p:blipFill>
          <a:blip r:embed="rId9"/>
          <a:stretch/>
        </p:blipFill>
        <p:spPr>
          <a:xfrm>
            <a:off x="6572160" y="4943520"/>
            <a:ext cx="2143080" cy="1722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Администратор\Рабочий стол\еда\орехи.jpg"/>
          <p:cNvPicPr/>
          <p:nvPr/>
        </p:nvPicPr>
        <p:blipFill>
          <a:blip r:embed="rId10"/>
          <a:srcRect l="4993" t="3933" r="4059" b="3933"/>
          <a:stretch/>
        </p:blipFill>
        <p:spPr>
          <a:xfrm>
            <a:off x="3786120" y="214200"/>
            <a:ext cx="1928880" cy="171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Администратор\Рабочий стол\еда\сосиски.jpg"/>
          <p:cNvPicPr/>
          <p:nvPr/>
        </p:nvPicPr>
        <p:blipFill>
          <a:blip r:embed="rId11"/>
          <a:stretch/>
        </p:blipFill>
        <p:spPr>
          <a:xfrm>
            <a:off x="6000840" y="285840"/>
            <a:ext cx="2020680" cy="150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Documents and Settings\Администратор\Рабочий стол\еда\торт.jpg"/>
          <p:cNvPicPr/>
          <p:nvPr/>
        </p:nvPicPr>
        <p:blipFill>
          <a:blip r:embed="rId12"/>
          <a:stretch/>
        </p:blipFill>
        <p:spPr>
          <a:xfrm>
            <a:off x="357120" y="39290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C:\Documents and Settings\Администратор\Рабочий стол\еда\фруктовый салат.jpg"/>
          <p:cNvPicPr/>
          <p:nvPr/>
        </p:nvPicPr>
        <p:blipFill>
          <a:blip r:embed="rId13"/>
          <a:stretch/>
        </p:blipFill>
        <p:spPr>
          <a:xfrm>
            <a:off x="857160" y="5165640"/>
            <a:ext cx="2219400" cy="16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:\Documents and Settings\Администратор\Рабочий стол\еда\цыпленок.jpg"/>
          <p:cNvPicPr/>
          <p:nvPr/>
        </p:nvPicPr>
        <p:blipFill>
          <a:blip r:embed="rId14"/>
          <a:stretch/>
        </p:blipFill>
        <p:spPr>
          <a:xfrm>
            <a:off x="3500280" y="5286240"/>
            <a:ext cx="2057400" cy="137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:\Documents and Settings\Администратор\Рабочий стол\еда\груши.jpg"/>
          <p:cNvPicPr/>
          <p:nvPr/>
        </p:nvPicPr>
        <p:blipFill>
          <a:blip r:embed="rId15"/>
          <a:stretch/>
        </p:blipFill>
        <p:spPr>
          <a:xfrm>
            <a:off x="7215120" y="50004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:\Documents and Settings\Администратор\Рабочий стол\еда\гамбургер.jpg"/>
          <p:cNvPicPr/>
          <p:nvPr/>
        </p:nvPicPr>
        <p:blipFill>
          <a:blip r:embed="rId16"/>
          <a:stretch/>
        </p:blipFill>
        <p:spPr>
          <a:xfrm>
            <a:off x="7155000" y="3071880"/>
            <a:ext cx="1989000" cy="1509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4"/>
          <p:cNvSpPr/>
          <p:nvPr/>
        </p:nvSpPr>
        <p:spPr>
          <a:xfrm>
            <a:off x="2428920" y="128592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4929120" y="357120"/>
            <a:ext cx="71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214200" y="285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ot jui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6143760" y="13572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s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5214960" y="3571920"/>
            <a:ext cx="14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me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2857680" y="321480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ghet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1571760" y="4786200"/>
            <a:ext cx="78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1"/>
          <p:cNvSpPr/>
          <p:nvPr/>
        </p:nvSpPr>
        <p:spPr>
          <a:xfrm>
            <a:off x="428760" y="3071880"/>
            <a:ext cx="1285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hro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5857920" y="23572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c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7429680" y="407196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mbur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4"/>
          <p:cNvSpPr/>
          <p:nvPr/>
        </p:nvSpPr>
        <p:spPr>
          <a:xfrm>
            <a:off x="7929720" y="142920"/>
            <a:ext cx="1214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rs  and lem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7929720" y="62866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g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3643200" y="385776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7"/>
          <p:cNvSpPr/>
          <p:nvPr/>
        </p:nvSpPr>
        <p:spPr>
          <a:xfrm>
            <a:off x="5000760" y="42148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8"/>
          <p:cNvSpPr/>
          <p:nvPr/>
        </p:nvSpPr>
        <p:spPr>
          <a:xfrm>
            <a:off x="4714920" y="628668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ied chic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214200" y="5143680"/>
            <a:ext cx="100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uit sal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Documents and Settings\Администратор\Рабочий стол\еда\чизбургер.jpg"/>
          <p:cNvPicPr/>
          <p:nvPr/>
        </p:nvPicPr>
        <p:blipFill>
          <a:blip r:embed="rId1"/>
          <a:srcRect l="21970" t="8680" r="0" b="0"/>
          <a:stretch/>
        </p:blipFill>
        <p:spPr>
          <a:xfrm rot="19644600">
            <a:off x="342720" y="237600"/>
            <a:ext cx="1371600" cy="167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Администратор\Рабочий стол\еда\сок.jpg"/>
          <p:cNvPicPr/>
          <p:nvPr/>
        </p:nvPicPr>
        <p:blipFill>
          <a:blip r:embed="rId2"/>
          <a:stretch/>
        </p:blipFill>
        <p:spPr>
          <a:xfrm rot="19311000">
            <a:off x="529920" y="4529160"/>
            <a:ext cx="1376280" cy="190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Администратор\Рабочий стол\еда\мороженое.jpeg"/>
          <p:cNvPicPr/>
          <p:nvPr/>
        </p:nvPicPr>
        <p:blipFill>
          <a:blip r:embed="rId3"/>
          <a:stretch/>
        </p:blipFill>
        <p:spPr>
          <a:xfrm rot="19542000">
            <a:off x="358920" y="2346120"/>
            <a:ext cx="1508040" cy="173484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право 2"/>
          <p:cNvSpPr/>
          <p:nvPr/>
        </p:nvSpPr>
        <p:spPr>
          <a:xfrm>
            <a:off x="785880" y="1071720"/>
            <a:ext cx="3286080" cy="12142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n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вправо 3"/>
          <p:cNvSpPr/>
          <p:nvPr/>
        </p:nvSpPr>
        <p:spPr>
          <a:xfrm>
            <a:off x="785880" y="4286160"/>
            <a:ext cx="3286080" cy="121464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559c31"/>
              </a:gs>
              <a:gs pos="100000">
                <a:srgbClr val="95ff5b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y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право 4"/>
          <p:cNvSpPr/>
          <p:nvPr/>
        </p:nvSpPr>
        <p:spPr>
          <a:xfrm>
            <a:off x="785880" y="2714760"/>
            <a:ext cx="3286080" cy="12142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tty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7715160" y="5716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715160" y="385776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429160" y="528624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5286240" y="357120"/>
            <a:ext cx="1000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786200" y="300024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ndw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7643880" y="21430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e c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7358040" y="5715000"/>
            <a:ext cx="121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mbur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6215040" y="114300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3929040" y="5716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6286680" y="35002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g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4429080" y="407196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s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6"/>
          <p:cNvSpPr/>
          <p:nvPr/>
        </p:nvSpPr>
        <p:spPr>
          <a:xfrm>
            <a:off x="5713560" y="2235240"/>
            <a:ext cx="1287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hro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357800" y="178596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8"/>
          <p:cNvSpPr/>
          <p:nvPr/>
        </p:nvSpPr>
        <p:spPr>
          <a:xfrm>
            <a:off x="6221880" y="4572000"/>
            <a:ext cx="111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uit sal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4149000" y="6000840"/>
            <a:ext cx="137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ied chic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.11551 E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3263 L -0.18802 0.63101 E">
                                      <p:cBhvr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28959 0.28542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287 L -0.28038 0.6 E">
                                      <p:cBhvr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2384 L 0.18924 0.17824 E">
                                      <p:cBhvr>
                                        <p:cTn id="2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1908 0.36782 E">
                                      <p:cBhvr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472 L -0.05191 0.12917 E">
                                      <p:cBhvr>
                                        <p:cTn id="3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625 L 0.01649 -0.24791 E">
                                      <p:cBhvr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2993 0.29398 E">
                                      <p:cBhvr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0.17136 -0.39051 E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658 L -0.20156 0.25718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1042 L 0.02968 -0.63311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-0.03426 L -0.07587 -0.35995 E">
                                      <p:cBhvr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Documents and Settings\Администратор\Рабочий стол\еда\апел сок.jpg"/>
          <p:cNvPicPr/>
          <p:nvPr/>
        </p:nvPicPr>
        <p:blipFill>
          <a:blip r:embed="rId1"/>
          <a:stretch/>
        </p:blipFill>
        <p:spPr>
          <a:xfrm>
            <a:off x="7858080" y="1785960"/>
            <a:ext cx="1055880" cy="1500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643040" y="42876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 лишнее сло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357200" y="13572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of chocolat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786120" y="13572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ap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000760" y="13572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1928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t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 orange  jui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714680" y="257184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of coffe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143000" y="3214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las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 milk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64304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ott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Cok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928800" y="43578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a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one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2571840" y="50007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of  flou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928800" y="55008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929120" y="1928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3357720" y="19288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o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5143680" y="25718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3929040" y="2571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5000760" y="32148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es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3714840" y="321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i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6000840" y="3714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4357800" y="3714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e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2857680" y="43578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4714920" y="5000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ga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57192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colat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4000680" y="43578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ato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55720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6072120" y="50007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tch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8"/>
          <p:cNvSpPr/>
          <p:nvPr/>
        </p:nvSpPr>
        <p:spPr>
          <a:xfrm>
            <a:off x="5643720" y="55008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sc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9"/>
          <p:cNvSpPr/>
          <p:nvPr/>
        </p:nvSpPr>
        <p:spPr>
          <a:xfrm>
            <a:off x="6000840" y="25718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t choco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0"/>
          <p:cNvSpPr/>
          <p:nvPr/>
        </p:nvSpPr>
        <p:spPr>
          <a:xfrm>
            <a:off x="6572160" y="3214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k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1"/>
          <p:cNvSpPr/>
          <p:nvPr/>
        </p:nvSpPr>
        <p:spPr>
          <a:xfrm>
            <a:off x="7358040" y="3714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2"/>
          <p:cNvSpPr/>
          <p:nvPr/>
        </p:nvSpPr>
        <p:spPr>
          <a:xfrm>
            <a:off x="1928880" y="5500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nega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Documents and Settings\Администратор\Рабочий стол\еда\кетчуп.jpeg"/>
          <p:cNvPicPr/>
          <p:nvPr/>
        </p:nvPicPr>
        <p:blipFill>
          <a:blip r:embed="rId2"/>
          <a:stretch/>
        </p:blipFill>
        <p:spPr>
          <a:xfrm>
            <a:off x="285840" y="2643120"/>
            <a:ext cx="814320" cy="12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Администратор\Рабочий стол\еда\пачка.jpeg"/>
          <p:cNvPicPr/>
          <p:nvPr/>
        </p:nvPicPr>
        <p:blipFill>
          <a:blip r:embed="rId3"/>
          <a:stretch/>
        </p:blipFill>
        <p:spPr>
          <a:xfrm>
            <a:off x="6429240" y="57168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Администратор\Рабочий стол\еда\чашка.JPG"/>
          <p:cNvPicPr/>
          <p:nvPr/>
        </p:nvPicPr>
        <p:blipFill>
          <a:blip r:embed="rId4"/>
          <a:stretch/>
        </p:blipFill>
        <p:spPr>
          <a:xfrm>
            <a:off x="7215120" y="457200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C:\Documents and Settings\Администратор\Рабочий стол\еда\тушить.jpg"/>
          <p:cNvPicPr/>
          <p:nvPr/>
        </p:nvPicPr>
        <p:blipFill>
          <a:blip r:embed="rId1"/>
          <a:srcRect l="17007" t="5611" r="0" b="65189"/>
          <a:stretch/>
        </p:blipFill>
        <p:spPr>
          <a:xfrm>
            <a:off x="6929280" y="4643280"/>
            <a:ext cx="1976760" cy="1785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Documents and Settings\Администратор\Рабочий стол\еда\печь хлеб.jpg"/>
          <p:cNvPicPr/>
          <p:nvPr/>
        </p:nvPicPr>
        <p:blipFill>
          <a:blip r:embed="rId2">
            <a:lum bright="30000"/>
          </a:blip>
          <a:srcRect l="0" t="17189" r="11327" b="6638"/>
          <a:stretch/>
        </p:blipFill>
        <p:spPr>
          <a:xfrm>
            <a:off x="357120" y="214200"/>
            <a:ext cx="2994120" cy="1928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1357200" y="928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6715080" y="5000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571840" y="5000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357800" y="9288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6072120" y="1285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785880" y="23572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an egg by  cooking it in boiling water without its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You c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an egg by cooking it in boiling water with its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vegetables, cook them in a covered container over boiling wate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To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chicken, cook it in a pan of hot o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bread, cook it in the oven for ab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ty minute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C:\Documents and Settings\Администратор\Рабочий стол\еда\яйцо3.jpeg"/>
          <p:cNvPicPr/>
          <p:nvPr/>
        </p:nvPicPr>
        <p:blipFill>
          <a:blip r:embed="rId3">
            <a:lum bright="20000"/>
          </a:blip>
          <a:srcRect l="23853" t="16055" r="0" b="21101"/>
          <a:stretch/>
        </p:blipFill>
        <p:spPr>
          <a:xfrm>
            <a:off x="7286760" y="7858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0.25174 0.20509 E">
                                      <p:cBhvr>
                                        <p:cTn id="10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0.04861 0.37246 E">
                                      <p:cBhvr>
                                        <p:cTn id="10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81481E-006 L -0.51007 0.37338 E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509 L -0.57275 0.59815 E">
                                      <p:cBhvr>
                                        <p:cTn id="11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0.029 0.5831 E">
                                      <p:cBhvr>
                                        <p:cTn id="11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4" descr="C:\Documents and Settings\Администратор\Рабочий стол\еда\яблоко.jpeg"/>
          <p:cNvPicPr/>
          <p:nvPr/>
        </p:nvPicPr>
        <p:blipFill>
          <a:blip r:embed="rId1"/>
          <a:stretch/>
        </p:blipFill>
        <p:spPr>
          <a:xfrm>
            <a:off x="4500720" y="4429080"/>
            <a:ext cx="176184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Documents and Settings\Администратор\Рабочий стол\еда\moloko.jpg"/>
          <p:cNvPicPr/>
          <p:nvPr/>
        </p:nvPicPr>
        <p:blipFill>
          <a:blip r:embed="rId2"/>
          <a:stretch/>
        </p:blipFill>
        <p:spPr>
          <a:xfrm>
            <a:off x="5929200" y="4857840"/>
            <a:ext cx="1366920" cy="1595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Администратор\Рабочий стол\еда\чизбургер.jpg"/>
          <p:cNvPicPr/>
          <p:nvPr/>
        </p:nvPicPr>
        <p:blipFill>
          <a:blip r:embed="rId3"/>
          <a:srcRect l="19537" t="0" r="0" b="7242"/>
          <a:stretch/>
        </p:blipFill>
        <p:spPr>
          <a:xfrm>
            <a:off x="1928880" y="4572000"/>
            <a:ext cx="1463760" cy="136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:\Documents and Settings\Администратор\Рабочий стол\еда\яичница.jpeg"/>
          <p:cNvPicPr/>
          <p:nvPr/>
        </p:nvPicPr>
        <p:blipFill>
          <a:blip r:embed="rId4"/>
          <a:stretch/>
        </p:blipFill>
        <p:spPr>
          <a:xfrm>
            <a:off x="1714680" y="2786040"/>
            <a:ext cx="1463400" cy="1095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3500280" y="50004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/an? So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Documents and Settings\Администратор\Рабочий стол\еда\бананы.jpg"/>
          <p:cNvPicPr/>
          <p:nvPr/>
        </p:nvPicPr>
        <p:blipFill>
          <a:blip r:embed="rId5"/>
          <a:stretch/>
        </p:blipFill>
        <p:spPr>
          <a:xfrm>
            <a:off x="714240" y="1357200"/>
            <a:ext cx="1595520" cy="159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Администратор\Рабочий стол\еда\морковь.jpg"/>
          <p:cNvPicPr/>
          <p:nvPr/>
        </p:nvPicPr>
        <p:blipFill>
          <a:blip r:embed="rId6"/>
          <a:stretch/>
        </p:blipFill>
        <p:spPr>
          <a:xfrm>
            <a:off x="7358040" y="857160"/>
            <a:ext cx="1452600" cy="227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Documents and Settings\Администратор\Рабочий стол\еда\клуника.jpg"/>
          <p:cNvPicPr/>
          <p:nvPr/>
        </p:nvPicPr>
        <p:blipFill>
          <a:blip r:embed="rId7"/>
          <a:stretch/>
        </p:blipFill>
        <p:spPr>
          <a:xfrm>
            <a:off x="2286000" y="1000080"/>
            <a:ext cx="1652760" cy="107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nts and Settings\Администратор\Рабочий стол\еда\мясо.jpg"/>
          <p:cNvPicPr/>
          <p:nvPr/>
        </p:nvPicPr>
        <p:blipFill>
          <a:blip r:embed="rId8"/>
          <a:stretch/>
        </p:blipFill>
        <p:spPr>
          <a:xfrm>
            <a:off x="5929200" y="285840"/>
            <a:ext cx="178596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Администратор\Рабочий стол\еда\виноград.jpg"/>
          <p:cNvPicPr/>
          <p:nvPr/>
        </p:nvPicPr>
        <p:blipFill>
          <a:blip r:embed="rId9"/>
          <a:stretch/>
        </p:blipFill>
        <p:spPr>
          <a:xfrm>
            <a:off x="7215120" y="3857760"/>
            <a:ext cx="1290600" cy="1522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:\Documents and Settings\Администратор\Рабочий стол\еда\чеснок.jpg"/>
          <p:cNvPicPr/>
          <p:nvPr/>
        </p:nvPicPr>
        <p:blipFill>
          <a:blip r:embed="rId10"/>
          <a:stretch/>
        </p:blipFill>
        <p:spPr>
          <a:xfrm>
            <a:off x="6429240" y="2786040"/>
            <a:ext cx="1762200" cy="122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C:\Documents and Settings\Администратор\Рабочий стол\еда\лук.jpg"/>
          <p:cNvPicPr/>
          <p:nvPr/>
        </p:nvPicPr>
        <p:blipFill>
          <a:blip r:embed="rId11"/>
          <a:stretch/>
        </p:blipFill>
        <p:spPr>
          <a:xfrm>
            <a:off x="571680" y="3786120"/>
            <a:ext cx="1601640" cy="1068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C:\Documents and Settings\Администратор\Рабочий стол\еда\сыр.jpg"/>
          <p:cNvPicPr/>
          <p:nvPr/>
        </p:nvPicPr>
        <p:blipFill>
          <a:blip r:embed="rId12"/>
          <a:stretch/>
        </p:blipFill>
        <p:spPr>
          <a:xfrm>
            <a:off x="3286080" y="5214960"/>
            <a:ext cx="1446120" cy="134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C:\Documents and Settings\Администратор\Рабочий стол\еда\чай.jpg"/>
          <p:cNvPicPr/>
          <p:nvPr/>
        </p:nvPicPr>
        <p:blipFill>
          <a:blip r:embed="rId13"/>
          <a:stretch/>
        </p:blipFill>
        <p:spPr>
          <a:xfrm>
            <a:off x="3929040" y="1214280"/>
            <a:ext cx="2143080" cy="1449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5"/>
          <p:cNvSpPr/>
          <p:nvPr/>
        </p:nvSpPr>
        <p:spPr>
          <a:xfrm>
            <a:off x="428760" y="1000080"/>
            <a:ext cx="1571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bana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2357280" y="2000160"/>
            <a:ext cx="1571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strawber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7"/>
          <p:cNvSpPr/>
          <p:nvPr/>
        </p:nvSpPr>
        <p:spPr>
          <a:xfrm>
            <a:off x="7572240" y="92880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arr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5929200" y="128592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m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4143240" y="2571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5572080" y="371484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gar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2714760" y="3571920"/>
            <a:ext cx="92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g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7358040" y="514368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3929040" y="614376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he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4357800" y="42148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p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5"/>
          <p:cNvSpPr/>
          <p:nvPr/>
        </p:nvSpPr>
        <p:spPr>
          <a:xfrm>
            <a:off x="6858000" y="607212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mi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6"/>
          <p:cNvSpPr/>
          <p:nvPr/>
        </p:nvSpPr>
        <p:spPr>
          <a:xfrm>
            <a:off x="1071720" y="5572080"/>
            <a:ext cx="1571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ambur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7"/>
          <p:cNvSpPr/>
          <p:nvPr/>
        </p:nvSpPr>
        <p:spPr>
          <a:xfrm>
            <a:off x="214200" y="350028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on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571760" y="57168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ife, fork, plate, frying-pan, spo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57120" y="20001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eat soup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6072120" y="19288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1219680" y="27860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serve food on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503640" y="3429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ut food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649080" y="51436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pick up food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1364040" y="428616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fry eggs in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357960" y="2714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5572080" y="34290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6572160" y="42148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ying-p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5357880" y="514368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Documents and Settings\Администратор\Рабочий стол\еда\ложка.jpg"/>
          <p:cNvPicPr/>
          <p:nvPr/>
        </p:nvPicPr>
        <p:blipFill>
          <a:blip r:embed="rId1"/>
          <a:stretch/>
        </p:blipFill>
        <p:spPr>
          <a:xfrm>
            <a:off x="3571920" y="1643040"/>
            <a:ext cx="1822320" cy="911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Documents and Settings\Администратор\Рабочий стол\еда\тарелка.jpg"/>
          <p:cNvPicPr/>
          <p:nvPr/>
        </p:nvPicPr>
        <p:blipFill>
          <a:blip r:embed="rId2"/>
          <a:stretch/>
        </p:blipFill>
        <p:spPr>
          <a:xfrm>
            <a:off x="4429080" y="2428920"/>
            <a:ext cx="1428840" cy="86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Администратор\Рабочий стол\еда\нож.jpg"/>
          <p:cNvPicPr/>
          <p:nvPr/>
        </p:nvPicPr>
        <p:blipFill>
          <a:blip r:embed="rId3"/>
          <a:stretch/>
        </p:blipFill>
        <p:spPr>
          <a:xfrm>
            <a:off x="3357720" y="3214800"/>
            <a:ext cx="1500120" cy="83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Documents and Settings\Администратор\Рабочий стол\еда\сковорода.jpg"/>
          <p:cNvPicPr/>
          <p:nvPr/>
        </p:nvPicPr>
        <p:blipFill>
          <a:blip r:embed="rId4"/>
          <a:stretch/>
        </p:blipFill>
        <p:spPr>
          <a:xfrm>
            <a:off x="4429080" y="40006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Администратор\Рабочий стол\еда\вилка.jpg"/>
          <p:cNvPicPr/>
          <p:nvPr/>
        </p:nvPicPr>
        <p:blipFill>
          <a:blip r:embed="rId5"/>
          <a:stretch/>
        </p:blipFill>
        <p:spPr>
          <a:xfrm>
            <a:off x="3714840" y="5072040"/>
            <a:ext cx="1285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8:02:18Z</dcterms:created>
  <dc:creator>User</dc:creator>
  <dc:description/>
  <dc:language>en-US</dc:language>
  <cp:lastModifiedBy>User</cp:lastModifiedBy>
  <dcterms:modified xsi:type="dcterms:W3CDTF">2008-12-10T09:10:55Z</dcterms:modified>
  <cp:revision>15</cp:revision>
  <dc:subject/>
  <dc:title>Слайд 1</dc:title>
</cp:coreProperties>
</file>