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1D8-1876-4674-8234-D3D289B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AD4-D244-4193-8D1A-7C51A07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F45-BB9F-48AF-AB5B-1358BED2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EBC-8456-4529-9804-BC02B776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2FDB-BEB9-4A1B-A581-99D5CDEB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E0CB-2D34-48DD-AA79-EC1CFF0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E604-FDB1-4460-BE86-8C1BC411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B8D-E638-4273-930A-F32E395C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910B-4E0B-4CFA-BEFB-587E4B4C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0FB-0D74-471B-A41B-BB7C08C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CF1F-18DD-4035-AF42-8FE6414A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1D1-BF83-4CED-B185-C66C6E5A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984-2D0D-42F7-A1C9-539324B6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04E4-928A-48ED-8023-A80EE0C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C44-7CE4-41A5-826E-F4E403ED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EE29-0D44-40CD-8A04-899BBD4E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E58-225F-4F2B-A915-DC033DDC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303-0B2E-4998-8D19-CF09549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35-1A39-43D3-A8CF-19FDAF2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CA8-72D4-437B-8DDF-46D8F66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F40-E3A5-4D96-87E9-64AB2F3E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EDC-6661-4F26-9442-0CC4C49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BB1-E6C3-4C36-BD7A-3FBCC87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AD3-32F0-474C-A4FD-B51D128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61C-2D3A-4329-BBB9-0C00EFC95E8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775F-1DBF-4F0D-9EF3-330E8933216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30240" y="853920"/>
            <a:ext cx="8893080" cy="2810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2844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 ученик ГБОУ СОШ №221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ирнов Александр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ководитель Залялютдинова Зульфия Амиров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табак.JPG"/>
          <p:cNvPicPr/>
          <p:nvPr/>
        </p:nvPicPr>
        <p:blipFill>
          <a:blip r:embed="rId2"/>
          <a:stretch/>
        </p:blipFill>
        <p:spPr>
          <a:xfrm>
            <a:off x="380880" y="121932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648320" y="137160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бак накапливает радиоактивные вещества из почвы, удобрений , воды, воздуха в таком количестве, что уровень радиоактивности может быть обнаружен и заме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 сих пор в обществе принято считать, что основной вред от табака в никотине, а про естественную радиоактивность табака мало кто слышал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ации о том, что происходит на Российском рынке табачной индустрии, найти не удалось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распад.jpg"/>
          <p:cNvPicPr/>
          <p:nvPr/>
        </p:nvPicPr>
        <p:blipFill>
          <a:blip r:embed="rId2"/>
          <a:stretch/>
        </p:blipFill>
        <p:spPr>
          <a:xfrm>
            <a:off x="380880" y="1752480"/>
            <a:ext cx="4278600" cy="4403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4648320" y="1676520"/>
            <a:ext cx="426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стественная радиоактив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амопроизво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вращение нестабильных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ер  одного  элемента  в  яд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го элемента. Естестве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иоактивность наблю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всех тяжелых яде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щих массовые чис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&gt; 209.  Процесс расп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табильных ядер сопровожд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иоактивным излучение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щим из трех ви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α – лучи, β – лучи, γ – л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6400800" cy="2551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3279240" y="16765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28600" y="5257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четчик Гейгера – Мюллера (3) связан с предварительным усилите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пульсов (2) и далее с устройством ПСО2-08А (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) Pall Mall (Reynolds Tobacco Company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а (БАТ Россия, Россия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) L M (Liggett and Meyers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юз Аполло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Philip Morris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5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р I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TI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ссия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6) CAMEL (R. J. Reynolds Tobacco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ША и Тур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7200" y="1600200"/>
          <a:ext cx="8381880" cy="4572000"/>
        </p:xfrm>
        <a:graphic>
          <a:graphicData uri="http://schemas.openxmlformats.org/drawingml/2006/table">
            <a:tbl>
              <a:tblPr/>
              <a:tblGrid>
                <a:gridCol w="542880"/>
                <a:gridCol w="3648240"/>
                <a:gridCol w="2095560"/>
                <a:gridCol w="20952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ка, страна производ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мерения, имп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ый фон, имп/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ll Mall (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±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а (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5±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M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4±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юз Аполлон (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I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MEL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 и Турц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±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21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"/>
          <p:cNvPicPr/>
          <p:nvPr/>
        </p:nvPicPr>
        <p:blipFill>
          <a:blip r:embed="rId2"/>
          <a:stretch/>
        </p:blipFill>
        <p:spPr>
          <a:xfrm>
            <a:off x="378000" y="1517760"/>
            <a:ext cx="8315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44792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и проведении эксперимента было установлено, что в распространенных марках сигарет содержатся радиоактивные компоненты. Это говорит, что на нашем рынке не борются с этой проблемой.  Радиоактивный фон, создаваемый сигаретами, приблизительно в полтора раза превышает естественный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оводя это исследование, я на опыте убедился, что табак накапливает вредные вещества,  Я показал, что происходит на рынке табачной продукции. 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ot</cp:lastModifiedBy>
  <dcterms:modified xsi:type="dcterms:W3CDTF">2012-08-22T08:32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