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83A-B0A2-4E54-988C-CFD4238F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DF7-E3DB-4827-90FC-5B3A0029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201-69A5-42FA-BB46-56C8D4F3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C6F-233F-4B89-BA2B-B39A10E7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C1B7-727C-4D66-9630-D346C475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8101-1D1E-4809-89C2-39C590DE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0E96-13E7-4CA5-9A85-4B95142C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C073-0370-473F-B338-11BF1EE1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B320-B036-4864-BC7A-0E74365B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C274-A0BB-4277-9D38-B0805066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6778-17C9-42D4-96E4-CF6DBA6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063-337A-4895-9E67-BDAF5FA5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C6E5-76A9-4BD9-A332-75E52C9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9C9C-3931-4813-A6FD-FCC491BA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76F6-56A5-4050-BEFD-E12DE4CE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A71C-3057-4F51-9576-FFD723FF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9F6F-DB7E-4728-A0B4-F337578C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015-F783-4B41-9BF4-857DEDC8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56F-5A50-49BD-9C75-2D4C9F6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D54-77FF-4C88-BAA9-22C47791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6FC-67B8-4E67-AFBD-2345EB82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59E-7380-4137-B446-0466EEA4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55A-D742-40FA-9F06-70740710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E3D-A9BD-40E4-B97E-99ECBDAD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5119-A770-45BD-8BD7-7FCA5D8A362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1C53-B286-44C3-854E-A10073B9539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30240" y="853920"/>
            <a:ext cx="8893080" cy="2810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82844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у выполнил ученик ГБОУ СОШ №221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ирнов Александр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ководитель Залялютдинова Зульфия Амировн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табак.JPG"/>
          <p:cNvPicPr/>
          <p:nvPr/>
        </p:nvPicPr>
        <p:blipFill>
          <a:blip r:embed="rId2"/>
          <a:stretch/>
        </p:blipFill>
        <p:spPr>
          <a:xfrm>
            <a:off x="380880" y="121932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648320" y="137160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бак накапливает радиоактивные вещества из почвы, удобрений , воды, воздуха в таком количестве, что уровень радиоактивности может быть обнаружен и заме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о сих пор в обществе принято считать, что основной вред от табака в никотине, а про естественную радиоактивность табака мало кто слышал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нформации о том, что происходит на Российском рынке табачной индустрии, найти не удалось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3" descr="распад.jpg"/>
          <p:cNvPicPr/>
          <p:nvPr/>
        </p:nvPicPr>
        <p:blipFill>
          <a:blip r:embed="rId2"/>
          <a:stretch/>
        </p:blipFill>
        <p:spPr>
          <a:xfrm>
            <a:off x="380880" y="1752480"/>
            <a:ext cx="4278600" cy="440388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4648320" y="1676520"/>
            <a:ext cx="426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стественная радиоактив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амопроизволь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вращение нестабильных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ер  одного  элемента  в  яд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гого элемента. Естестве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диоактивность наблюд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всех тяжелых ядер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ющих массовые чис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&gt; 209.  Процесс распа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табильных ядер сопровожд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диоактивным излучение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щим из трех вид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α – лучи, β – лучи, γ – лу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219320" y="2314440"/>
            <a:ext cx="6400800" cy="25513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3279240" y="167652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АН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28600" y="52578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етчик Гейгера – Мюллера (3) связан с предварительным усилите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пульсов (2) и далее с устройством ПСО2-08А (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) Pall Mall (Reynolds Tobacco Company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Ш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ва (БАТ Россия, Россия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) L M (Liggett and Meyers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Ш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юз Аполло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Philip Morris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сс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5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тр I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TI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ссия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6) CAMEL (R. J. Reynolds Tobacco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ША и Турц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457200" y="1600200"/>
          <a:ext cx="8381880" cy="4572000"/>
        </p:xfrm>
        <a:graphic>
          <a:graphicData uri="http://schemas.openxmlformats.org/drawingml/2006/table">
            <a:tbl>
              <a:tblPr/>
              <a:tblGrid>
                <a:gridCol w="542880"/>
                <a:gridCol w="3648240"/>
                <a:gridCol w="2095560"/>
                <a:gridCol w="20952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рка, страна производ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мерения, имп/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тественный фон, имп/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ll Mall (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±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±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ва (Росс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5±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M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4±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юз Аполлон (Росс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±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I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±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MEL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 и Турц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±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521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"/>
          <p:cNvPicPr/>
          <p:nvPr/>
        </p:nvPicPr>
        <p:blipFill>
          <a:blip r:embed="rId2"/>
          <a:stretch/>
        </p:blipFill>
        <p:spPr>
          <a:xfrm>
            <a:off x="378000" y="1517760"/>
            <a:ext cx="8315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447920"/>
            <a:ext cx="82296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 проведении эксперимента было установлено, что в распространенных марках сигарет содержатся радиоактивные компоненты. Это говорит, что на нашем рынке не борются с этой проблемой.  Радиоактивный фон, создаваемый сигаретами, приблизительно в полтора раза превышает естественный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оводя это исследование, я на опыте убедился, что табак накапливает вредные вещества,  Я показал, что происходит на рынке табачной продукции. 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</cp:lastModifiedBy>
  <dcterms:modified xsi:type="dcterms:W3CDTF">2012-08-22T08:32:3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