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C58E-926E-498D-B30A-D279989C9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F1EF-AE4B-44BC-9490-4084B259B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5082-4622-4598-9C86-2C3839519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7C71-BCE6-4C6A-8EF0-4CFA31B09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BA82-FB44-4636-8B1C-DBD689FFF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8AC6-F3B4-46A8-A0B4-9C1CE6B04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921-0E56-442D-B166-969A8AAD4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AC16-FC52-406A-AFF0-110EC428C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5B07-DEAB-4E0D-8B86-D333F2290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EBB-86CC-4049-9AB6-BCDF1D44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092-8D48-4A02-A550-0D0D40C0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B6C-2324-49E6-9EEF-D5F80898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56F-83F1-4598-A12E-738E6068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92F-1114-48C7-97AB-EB51D5A0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660-E42C-48B6-BFC0-CFC307B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63D-908B-4815-B54F-A6ADCC56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6DC-2FDC-46FD-A6FD-40F6ABBE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67C-EF73-4AE9-A991-9D9DD7ED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270-7D43-4F6E-8900-A7665A2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9F7-7236-4A38-B646-24CE745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3B6-467E-4634-99AB-6CB36A9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FF8C-500D-467B-A362-F4ADB8627F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1;&#1086;&#1088;_%28&#1074;&#1086;&#1083;&#1085;&#1072;%29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57;&#1086;&#1083;&#1085;&#1094;&#1077;" TargetMode="External"/><Relationship Id="rId3" Type="http://schemas.openxmlformats.org/officeDocument/2006/relationships/hyperlink" Target="http://ru.wikipedia.org/wiki/&#1055;&#1088;&#1080;&#1083;&#1080;&#1074;&#1085;&#1099;&#1077;_&#1089;&#1080;&#1083;&#1099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50;&#1074;&#1072;&#1076;&#1088;&#1072;&#1090;&#1091;&#1088;&#1072;_%28&#1072;&#1089;&#1090;&#1088;&#1086;&#1085;&#1086;&#1084;&#1080;&#1103;%29" TargetMode="External"/><Relationship Id="rId3" Type="http://schemas.openxmlformats.org/officeDocument/2006/relationships/hyperlink" Target="http://ru.wikipedia.org/wiki/&#1057;&#1080;&#1079;&#1080;&#1075;&#1080;&#1103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u.wikipedia.org/wiki/&#1060;&#1072;&#1085;&#1076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534400">
            <a:off x="550440" y="715320"/>
            <a:ext cx="777240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Приливы и отливы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Мирового океа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Ученика 4 «Л» кла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МОУ «Лицей №2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Города Михайловс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Якунькова Иль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642960"/>
            <a:ext cx="73580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иливы и отливы возникают под действием притяжения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уны и Сол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lowq-prilivy-otlivy-morskie-okeanskie.jpg"/>
          <p:cNvPicPr/>
          <p:nvPr/>
        </p:nvPicPr>
        <p:blipFill>
          <a:blip r:embed="rId1"/>
          <a:stretch/>
        </p:blipFill>
        <p:spPr>
          <a:xfrm>
            <a:off x="714240" y="2714760"/>
            <a:ext cx="6929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 течение суток происходит два прилива и два отл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1507324.jpg"/>
          <p:cNvPicPr/>
          <p:nvPr/>
        </p:nvPicPr>
        <p:blipFill>
          <a:blip r:embed="rId1"/>
          <a:stretch/>
        </p:blipFill>
        <p:spPr>
          <a:xfrm>
            <a:off x="928800" y="157176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0_7ebb3_f1a1a864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57280" y="142560"/>
            <a:ext cx="49863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сли в месте образования прилива достаточно большой амплитуды имеется сужающийся залив или устье реки, это может привести к образованию мощной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иливной волны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, которая поднимается вверх по течению реки, иногда на сотни кило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i.jpg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6572160" y="571680"/>
            <a:ext cx="2571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отя для земного шара сила тяготени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Солнца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почти в 200 раз больше, чем сила тяготения Луны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рили́вные сил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, порождаемые Луной, почти вдвое больше порождаемых Солнц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3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0" y="4500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аксимальный уровень поверхности воды во время прилива называется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лной водой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, а минимальный во время отлива —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лой вод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2621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35280"/>
            <a:ext cx="47149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вадратурный прили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— наименьший прилив, когда приливообразующие силы Луны и Солнца действуют под прямым углом друг к другу (такое положение светил называетс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квадратур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зигийный прили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— наибольший прилив, когда приливообразующие силы Луны и Солнца действуют вдоль одного направления (такое положение светил называетс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сизиг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8" descr="Копия 0_75aaa_452d372_XL.jpg"/>
          <p:cNvPicPr/>
          <p:nvPr/>
        </p:nvPicPr>
        <p:blipFill>
          <a:blip r:embed="rId1"/>
          <a:stretch/>
        </p:blipFill>
        <p:spPr>
          <a:xfrm>
            <a:off x="0" y="-57168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4191840"/>
            <a:ext cx="9144000" cy="2654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Самые высокие приливы 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В бухт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Фанди</a:t>
            </a:r>
            <a:r>
              <a:rPr b="0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, которая находится на восточном побережье Кан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На Европейском континенте самые высокие приливы (до 13.5 м)наблюдаются в Бретани у города Сен-Мало. Здесь приливная волна фокусируется береговой чертой полуостровов Корнуолл (Англия) и Котантен (Фран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02:21Z</dcterms:created>
  <dc:creator>Admin</dc:creator>
  <dc:description/>
  <dc:language>en-US</dc:language>
  <cp:lastModifiedBy>Admin</cp:lastModifiedBy>
  <dcterms:modified xsi:type="dcterms:W3CDTF">2011-12-09T17:14:23Z</dcterms:modified>
  <cp:revision>14</cp:revision>
  <dc:subject/>
  <dc:title>Приливы и отливы Мирового океана</dc:title>
</cp:coreProperties>
</file>