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FBD-9255-449B-AA1F-C48B202028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7F5A-63E6-49D3-ABB9-499B551F9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E002-8B65-4275-8F35-B0F875B2B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ABA6-9B4C-422A-922A-757FCDFF0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A978-7E4B-43D7-8311-B7BF769F1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963D-0B21-4242-A7F5-6C020F8B9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BEFC-A8CC-4544-BD1C-903636E51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E807-9949-41EA-8C78-34A0B5D4C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33AB-FDD8-4127-B627-A56573A10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667-3171-41D5-8B59-C676A4A3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49D-6EC1-42E6-BC3B-227B6764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9F9-4422-4BCF-A5B9-D7BD1D16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B49-6135-40C4-A6ED-0194603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AD7-ED33-44AF-A352-A61D9EE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E35-CB9F-48B3-A68F-B7BA8E46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CC9-F8E0-4B53-8795-8AC1D23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BA8-E7C0-4611-9AD8-6034D6EF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819-5B09-4FA6-8A1E-4730C714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618-BF1C-4A56-83BE-E14334D8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399-5A68-4529-92D9-25EAAC00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784-881E-4B16-ACB1-B828D4EE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22E-AA1D-475A-A30B-0B690BBB55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1;&#1086;&#1088;_%28&#1074;&#1086;&#1083;&#1085;&#1072;%29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7;&#1086;&#1083;&#1085;&#1094;&#1077;" TargetMode="External"/><Relationship Id="rId3" Type="http://schemas.openxmlformats.org/officeDocument/2006/relationships/hyperlink" Target="http://ru.wikipedia.org/wiki/&#1055;&#1088;&#1080;&#1083;&#1080;&#1074;&#1085;&#1099;&#1077;_&#1089;&#1080;&#1083;&#1099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50;&#1074;&#1072;&#1076;&#1088;&#1072;&#1090;&#1091;&#1088;&#1072;_%28&#1072;&#1089;&#1090;&#1088;&#1086;&#1085;&#1086;&#1084;&#1080;&#1103;%29" TargetMode="External"/><Relationship Id="rId3" Type="http://schemas.openxmlformats.org/officeDocument/2006/relationships/hyperlink" Target="http://ru.wikipedia.org/wiki/&#1057;&#1080;&#1079;&#1080;&#1075;&#1080;&#1103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60;&#1072;&#1085;&#1076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534400">
            <a:off x="550440" y="715320"/>
            <a:ext cx="777240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Приливы и отливы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Calibri"/>
              </a:rPr>
              <a:t>Мирового океа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ченика 4 «Л» клас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ОУ «Лицей №2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Города Михайловс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Якунькова Ил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642960"/>
            <a:ext cx="735804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иливы и отливы возникают под действием притяжения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уны и Сол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lowq-prilivy-otlivy-morskie-okeanskie.jpg"/>
          <p:cNvPicPr/>
          <p:nvPr/>
        </p:nvPicPr>
        <p:blipFill>
          <a:blip r:embed="rId1"/>
          <a:stretch/>
        </p:blipFill>
        <p:spPr>
          <a:xfrm>
            <a:off x="714240" y="2714760"/>
            <a:ext cx="6929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 течение суток происходит два прилива и два отл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1507324.jpg"/>
          <p:cNvPicPr/>
          <p:nvPr/>
        </p:nvPicPr>
        <p:blipFill>
          <a:blip r:embed="rId1"/>
          <a:stretch/>
        </p:blipFill>
        <p:spPr>
          <a:xfrm>
            <a:off x="928800" y="157176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0_7ebb3_f1a1a864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157280" y="142560"/>
            <a:ext cx="49863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сли в месте образования прилива достаточно большой амплитуды имеется сужающийся залив или устье реки, это может привести к образованию мощной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ливной волны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, которая поднимается вверх по течению реки, иногда на сотни кило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i.jpg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572160" y="571680"/>
            <a:ext cx="2571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отя для земного шара сила тяготени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Солнц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почти в 200 раз больше, чем сила тяготения Луны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прили́вные сил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, порождаемые Луной, почти вдвое больше порождаемых Солнц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0" y="4500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ксимальный уровень поверхности воды во время прилива называется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лной водой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, а минимальный во время отлива —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лой вод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262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35280"/>
            <a:ext cx="47149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вадратурный прили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наименьший прилив, когда приливообразующие силы Луны и Солнца действуют под прямым углом друг к другу (такое положение светил называетс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квадратур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зигийный прили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— наибольший прилив, когда приливообразующие силы Луны и Солнца действуют вдоль одного направления (такое положение светил называется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сизиг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8" descr="Копия 0_75aaa_452d372_XL.jpg"/>
          <p:cNvPicPr/>
          <p:nvPr/>
        </p:nvPicPr>
        <p:blipFill>
          <a:blip r:embed="rId1"/>
          <a:stretch/>
        </p:blipFill>
        <p:spPr>
          <a:xfrm>
            <a:off x="0" y="-57168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4191840"/>
            <a:ext cx="9144000" cy="2654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Самые высокие приливы 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В бухт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Фанди</a:t>
            </a: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, которая находится на восточном побережье Кан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Calibri"/>
                <a:ea typeface="Times New Roman"/>
              </a:rPr>
              <a:t>На Европейском континенте самые высокие приливы (до 13.5 м)наблюдаются в Бретани у города Сен-Мало. Здесь приливная волна фокусируется береговой чертой полуостровов Корнуолл (Англия) и Котантен (Франц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02:21Z</dcterms:created>
  <dc:creator>Admin</dc:creator>
  <dc:description/>
  <dc:language>en-US</dc:language>
  <cp:lastModifiedBy>Admin</cp:lastModifiedBy>
  <dcterms:modified xsi:type="dcterms:W3CDTF">2011-12-09T17:14:23Z</dcterms:modified>
  <cp:revision>14</cp:revision>
  <dc:subject/>
  <dc:title>Приливы и отливы Мирового океана</dc:title>
</cp:coreProperties>
</file>