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08D0-029C-480A-92D6-BE6FDAB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F978-224E-476B-80F3-9D4FE0B2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6536-AA5C-4830-89C1-840F150B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7B0D-725B-4F5E-BCA2-2CC0B20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9EA1-2A07-4D45-B8A1-A921B42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9E6-9AFE-4300-BE5B-10C688CC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731-75F0-42B2-938A-A6FC9A8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3EC0-B156-4DAA-9C71-4027560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763D-5972-44BB-866F-53500D0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B701-4F7B-417F-9564-0984051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E82-421A-4684-A117-D6F1718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FF87-13CF-4030-8784-6AFFB5A4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65E-39A6-4EA9-AB61-FBFF152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5AD4-9F6B-4F27-9C75-14A8070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1A2-BBB3-48A5-9A44-136919D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87B-30D0-4901-9B5B-AD5A7BDF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203F-AABA-4536-A628-6DB9A2FC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9F1D-0EE8-402F-8A93-78A68BF2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BA45-9FA6-410B-BCB1-653EA2B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9304-B342-4580-8529-E071110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72F6-864C-4C60-BD84-1B24C08B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A480-44A3-4E58-9224-8908121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59D6-59B7-4E70-97CB-CE28560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93CF-702C-4E32-9C59-30740891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AC4-AE9C-4EEA-BD96-3508E8575F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0C41-BFAD-42DC-9FD9-5961298B4A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def6"/>
                </a:solidFill>
                <a:latin typeface="Arial"/>
              </a:rPr>
              <a:t>Урок разноуровнего обобщающего повторения по теме</a:t>
            </a:r>
            <a:br>
              <a:rPr sz="4800"/>
            </a:br>
            <a:r>
              <a:rPr b="1" lang="ru-RU" sz="4800" spc="-1" strike="noStrike">
                <a:solidFill>
                  <a:srgbClr val="dfdef6"/>
                </a:solidFill>
                <a:latin typeface="Arial"/>
              </a:rPr>
              <a:t> «Уравнения и неравенства с одной переменной»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общить теоретические знания по теме «Уравнения и неравенства с одной переменной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мотреть решение задач, связанных с этой темой, базового и повышенного уровней слож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овать  самостоятельную работу учащихся по  карточк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ые уравн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уравнения с одной перемен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вая и правая части которого- целые выражения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бно –рациональные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уравнения обе части которого являются рациональными выражениями,причем хотя бы одно из них – дробным выраж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равенства второй степени с одной перем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неравенства вида   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вх +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и 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вх +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х- переменная  а, в и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числа и 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\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.Решение уравнен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х+2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</a:t>
            </a:r>
            <a:r>
              <a:rPr b="0" lang="ru-RU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11х =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х+4)(х+5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х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3. Решение  неравенств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2х -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2х - 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0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х-36)(х-7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х+0,8)(4-х)(х-20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0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-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+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468360" y="765000"/>
            <a:ext cx="7920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ы к математическому дикта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0,5;0,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.) (-∞ ; -16) и(11;+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∞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.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-∞ ;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) и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+ ∞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5"/>
          <p:cNvSpPr/>
          <p:nvPr/>
        </p:nvSpPr>
        <p:spPr>
          <a:xfrm>
            <a:off x="2484360" y="765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6"/>
          <p:cNvSpPr/>
          <p:nvPr/>
        </p:nvSpPr>
        <p:spPr>
          <a:xfrm>
            <a:off x="2484360" y="3213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348000" y="4076640"/>
            <a:ext cx="3879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4 «+»   -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3 «+»  -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2 «+»  - 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81620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2144880" y="260280"/>
            <a:ext cx="444312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87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64 а,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940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011 б,д,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38 б,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91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93 в,г,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25T14:37:51Z</dcterms:modified>
  <cp:revision>18</cp:revision>
  <dc:subject/>
  <dc:title>PowerPoint Presentation</dc:title>
</cp:coreProperties>
</file>