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B24C-C39D-461E-B74A-4E7C435C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5208-D529-425A-96A4-9206345D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3B9A-CB5D-4DF0-87BF-039CA0D8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67F6-6A97-4D70-8150-C4D5B881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86BB-E776-4137-864A-BF7AD5B4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BF91-60BE-42AD-A2CA-C5BE69B6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C19-5779-40C5-896B-3CF5E7E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4C06-3F32-4332-ADA1-4B7AF4FC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1319-A2AA-43C1-A932-19BDA12B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D51F-CEAE-48E6-BFEF-A80A78AA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3EA-63C7-41BB-BA31-5657D1B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BD87-570A-4246-BB76-C0226C38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B73-1260-42F1-9AED-06334A0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B1AA-65A1-4811-ADB1-215A885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15B9-E499-452A-B241-9AF696A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9334-EB41-45E5-9553-E7943D96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8C2-5E5F-4F1C-B988-7BC0276A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DC57-9535-40CC-9FF2-9E6A8CE7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35A0-1DED-4597-91D7-974455D6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2BB4-40A9-4AAA-9777-CA582E4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A5AF-4B06-4699-9589-E87299C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8DB7-4834-4378-9BC3-B0EB948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6F3C-D4C9-4584-88A8-9A6F52B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DC79-B312-4E9C-B1CB-2E4A046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0295-4714-4AC3-AFC0-796D10032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47DC-FAAC-4842-952E-670F5DDAD57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fdef6"/>
                </a:solidFill>
                <a:latin typeface="Arial"/>
              </a:rPr>
              <a:t>Урок разноуровнего обобщающего повторения по теме</a:t>
            </a:r>
            <a:br>
              <a:rPr sz="4800"/>
            </a:br>
            <a:r>
              <a:rPr b="1" lang="ru-RU" sz="4800" spc="-1" strike="noStrike">
                <a:solidFill>
                  <a:srgbClr val="dfdef6"/>
                </a:solidFill>
                <a:latin typeface="Arial"/>
              </a:rPr>
              <a:t> «Уравнения и неравенства с одной переменной»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общить теоретические знания по теме «Уравнения и неравенства с одной переменной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мотреть решение задач, связанных с этой темой, базового и повышенного уровней слож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овать  самостоятельную работу учащихся по  карточк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ые уравн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уравнения с одной перемен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вая и правая части которого- целые выражения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бно –рациональные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уравнения обе части которого являются рациональными выражениями,причем хотя бы одно из них – дробным выраж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равенства второй степени с одной перемен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неравенства вида   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вх +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и 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вх +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х- переменная  а, в и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числа и 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\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2.Решение уравнений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2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х+2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</a:t>
            </a:r>
            <a:r>
              <a:rPr b="0" lang="ru-RU" sz="32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-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11х =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)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х+4)(х+5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х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3. Решение  неравенств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2х -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2х - 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0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х-36)(х-7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х+0,8)(4-х)(х-20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0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-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+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4"/>
          <p:cNvSpPr/>
          <p:nvPr/>
        </p:nvSpPr>
        <p:spPr>
          <a:xfrm>
            <a:off x="468360" y="765000"/>
            <a:ext cx="7920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ы к математическому диктан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0,5;0,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.) (-∞ ; -16) и(11;+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∞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.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-∞ ;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) и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+ ∞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5"/>
          <p:cNvSpPr/>
          <p:nvPr/>
        </p:nvSpPr>
        <p:spPr>
          <a:xfrm>
            <a:off x="2484360" y="765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6"/>
          <p:cNvSpPr/>
          <p:nvPr/>
        </p:nvSpPr>
        <p:spPr>
          <a:xfrm>
            <a:off x="2484360" y="3213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3348000" y="4076640"/>
            <a:ext cx="3879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4 «+»   -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3 «+»  -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2 «+»  - 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181620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2144880" y="260280"/>
            <a:ext cx="444312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87 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64 а,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940 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011 б,д,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38 б,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91 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93 в,г,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25T14:37:51Z</dcterms:modified>
  <cp:revision>18</cp:revision>
  <dc:subject/>
  <dc:title>PowerPoint Presentation</dc:title>
</cp:coreProperties>
</file>