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13.jpeg" ContentType="image/jpeg"/>
  <Override PartName="/ppt/media/camera.wav" ContentType="audio/x-wav"/>
  <Override PartName="/ppt/media/image6.png" ContentType="image/png"/>
  <Override PartName="/ppt/media/image9.gif" ContentType="image/gif"/>
  <Override PartName="/ppt/media/explode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C447-28BE-4CE4-8A65-EF5C06D3F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4D4A-D24E-4FE0-89EC-E4661F80B5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B601-4312-45FC-8D62-F7FD9C023D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295-E86A-457C-8409-8BB37B00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CE4-B2CB-4FEC-8BD5-11C471BC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C39-C11D-491E-B9FA-6D68D4CE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EC7-1503-4C81-9ABF-41BC5F7B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E54-9AEF-4E8D-9CD6-0A8B1EDD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104-D54D-4EEE-B4EA-651A037E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E01-D47C-4E03-9462-93BD2FCB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BA9-2D93-4285-8870-45922001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5AA-1BD6-4089-8146-A4598A4F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87E-641C-4BB7-91BD-927144DA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DCC-9299-4466-856D-578BB466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EB4-5047-4E65-9578-E8B4DC2F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503D-C16D-491E-AD0D-872F3DC4F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5kuz.3dn.ru/index/raspisanie_urokov/0-14" TargetMode="External"/><Relationship Id="rId2" Type="http://schemas.openxmlformats.org/officeDocument/2006/relationships/hyperlink" Target="http://www.zap-ti.ru/img/question.jpg" TargetMode="External"/><Relationship Id="rId3" Type="http://schemas.openxmlformats.org/officeDocument/2006/relationships/hyperlink" Target="http://bookvoved.com.ua/published/publicdata/BOOKVOVED/attachments/SC/products_pictures/16231.jpg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28680" y="4714920"/>
            <a:ext cx="47149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МБОУ «СРЕДНЯЯ ШКОЛА  № 26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.БАЛАКОВО, САРАТОВСКОЙ ОБЛАСТ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ЧИТЕЛЬ НАЧАЛЬНЫХ КЛАССОВ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ОТЕНЁВА   НАДЕЖДА   НИКОЛАЕВН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785880"/>
            <a:ext cx="8143920" cy="32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Тема урока: </a:t>
            </a:r>
            <a:br>
              <a:rPr sz="4800"/>
            </a:b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«Второстепенные члены предложения. Дополнение»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Урок русского языка в 3 ем  классе по программе Н. Ф.Виноградовой УМК «Школа 21 века»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(авторская  презентация)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" name="Picture 36" descr="C:\Documents and Settings\1\Рабочий стол\01.gif"/>
          <p:cNvPicPr/>
          <p:nvPr/>
        </p:nvPicPr>
        <p:blipFill>
          <a:blip r:embed="rId1"/>
          <a:stretch/>
        </p:blipFill>
        <p:spPr>
          <a:xfrm>
            <a:off x="785880" y="4000680"/>
            <a:ext cx="2071800" cy="2268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1523880" y="633240"/>
            <a:ext cx="6602400" cy="1646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www.dou1752.edusite.ru/images/14.gif"/>
          <p:cNvPicPr/>
          <p:nvPr/>
        </p:nvPicPr>
        <p:blipFill>
          <a:blip r:embed="rId2"/>
          <a:stretch/>
        </p:blipFill>
        <p:spPr>
          <a:xfrm>
            <a:off x="357120" y="2214720"/>
            <a:ext cx="3952800" cy="444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inchgirl.edu.mhost.ru/images/vopros_small.gif"/>
          <p:cNvPicPr/>
          <p:nvPr/>
        </p:nvPicPr>
        <p:blipFill>
          <a:blip r:embed="rId3"/>
          <a:stretch/>
        </p:blipFill>
        <p:spPr>
          <a:xfrm>
            <a:off x="5715000" y="271476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4" name="camera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Горизонтальный свиток 2"/>
          <p:cNvSpPr/>
          <p:nvPr/>
        </p:nvSpPr>
        <p:spPr>
          <a:xfrm>
            <a:off x="1143000" y="500040"/>
            <a:ext cx="6858000" cy="5715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mbria"/>
              </a:rPr>
              <a:t>шоссе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ambria"/>
              </a:rPr>
              <a:t>     пианино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ambria"/>
              </a:rPr>
              <a:t>  пальт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amera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Экспресс- опрос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«Звездопад»</a:t>
            </a: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Что обозначает дополнение?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На какие вопросы отвечает дополнение?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С чем обычно дополнение связано в предложении?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Как подчёркивается дополнение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5-конечная звезда 2"/>
          <p:cNvSpPr/>
          <p:nvPr/>
        </p:nvSpPr>
        <p:spPr>
          <a:xfrm>
            <a:off x="6929280" y="642960"/>
            <a:ext cx="1643400" cy="15717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5-конечная звезда 8"/>
          <p:cNvSpPr/>
          <p:nvPr/>
        </p:nvSpPr>
        <p:spPr>
          <a:xfrm>
            <a:off x="500040" y="5357880"/>
            <a:ext cx="642960" cy="6429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-конечная звезда 9"/>
          <p:cNvSpPr/>
          <p:nvPr/>
        </p:nvSpPr>
        <p:spPr>
          <a:xfrm>
            <a:off x="571680" y="4286160"/>
            <a:ext cx="642600" cy="6429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-конечная звезда 10"/>
          <p:cNvSpPr/>
          <p:nvPr/>
        </p:nvSpPr>
        <p:spPr>
          <a:xfrm>
            <a:off x="571680" y="3143160"/>
            <a:ext cx="642600" cy="6429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-конечная звезда 11"/>
          <p:cNvSpPr/>
          <p:nvPr/>
        </p:nvSpPr>
        <p:spPr>
          <a:xfrm>
            <a:off x="571680" y="2428920"/>
            <a:ext cx="642600" cy="6429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1" name="camera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36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ОЛОДЕЦ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Картинка 96 из 1683"/>
          <p:cNvPicPr/>
          <p:nvPr/>
        </p:nvPicPr>
        <p:blipFill>
          <a:blip r:embed="rId1"/>
          <a:stretch/>
        </p:blipFill>
        <p:spPr>
          <a:xfrm>
            <a:off x="4643280" y="428760"/>
            <a:ext cx="4000680" cy="414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animo2.ucoz.ru/_ph/14/1/82736763.jpg"/>
          <p:cNvPicPr/>
          <p:nvPr/>
        </p:nvPicPr>
        <p:blipFill>
          <a:blip r:embed="rId2"/>
          <a:stretch/>
        </p:blipFill>
        <p:spPr>
          <a:xfrm>
            <a:off x="785880" y="257184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explode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cs941.vkontakte.ru/u2511866/130420109/x_7cf14717.jpg"/>
          <p:cNvPicPr/>
          <p:nvPr/>
        </p:nvPicPr>
        <p:blipFill>
          <a:blip r:embed="rId1"/>
          <a:stretch/>
        </p:blipFill>
        <p:spPr>
          <a:xfrm>
            <a:off x="857160" y="3357720"/>
            <a:ext cx="4000680" cy="2857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Я научился (научилась)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Изображение:Stend1.jpeg"/>
          <p:cNvPicPr/>
          <p:nvPr/>
        </p:nvPicPr>
        <p:blipFill>
          <a:blip r:embed="rId1"/>
          <a:stretch/>
        </p:blipFill>
        <p:spPr>
          <a:xfrm>
            <a:off x="1071720" y="2000160"/>
            <a:ext cx="3152520" cy="348624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Я узнал(а), что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www.wiki.vladimir.i-edu.ru/images/8/81/Stend2.jpeg"/>
          <p:cNvPicPr/>
          <p:nvPr/>
        </p:nvPicPr>
        <p:blipFill>
          <a:blip r:embed="rId1"/>
          <a:stretch/>
        </p:blipFill>
        <p:spPr>
          <a:xfrm>
            <a:off x="642960" y="1643040"/>
            <a:ext cx="4071960" cy="47862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2" name="camera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амым важным для меня было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Изображение:Stend8.jpeg"/>
          <p:cNvPicPr/>
          <p:nvPr/>
        </p:nvPicPr>
        <p:blipFill>
          <a:blip r:embed="rId1"/>
          <a:stretch/>
        </p:blipFill>
        <p:spPr>
          <a:xfrm>
            <a:off x="500040" y="1643040"/>
            <a:ext cx="4071960" cy="50007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тернет-ресурсы: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school5kuz.3dn.ru/index/raspisanie_urokov/0-14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schooln144.ucoz.ru/index/pedagogi/0-46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www.zap-ti.ru/img/question.jp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es.all-free-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wnload.com/images/graphiclarge/question_mark_icon_clip_art_24430.jpg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http://bookvoved.com.ua/published/publicdata/BOOKVOVED/attachments/SC/products_pictures/16231.jp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elitmebel.by/index.php?newsid=93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  <p:sndAc>
      <p:stSnd>
        <p:snd r:embed="rId4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Рамка 4"/>
          <p:cNvSpPr/>
          <p:nvPr/>
        </p:nvSpPr>
        <p:spPr>
          <a:xfrm>
            <a:off x="428760" y="1500120"/>
            <a:ext cx="8215200" cy="22147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714240" y="1857240"/>
            <a:ext cx="7858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з ис без  бес раз рас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214800" y="3929040"/>
            <a:ext cx="2500200" cy="2500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714760" y="2500200"/>
            <a:ext cx="2925720" cy="4124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500040" y="509400"/>
            <a:ext cx="814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екто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ник издатель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акции, типографии, читающий корректуру, исправляющий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2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гра: «Лови ошибк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28760" y="2642760"/>
            <a:ext cx="82152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ружба в дилах помощница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36" descr="C:\Documents and Settings\1\Рабочий стол\01.gif"/>
          <p:cNvPicPr/>
          <p:nvPr/>
        </p:nvPicPr>
        <p:blipFill>
          <a:blip r:embed="rId1"/>
          <a:stretch/>
        </p:blipFill>
        <p:spPr>
          <a:xfrm>
            <a:off x="6215040" y="43578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4214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верка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28760" y="2642760"/>
            <a:ext cx="82152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ружба в д</a:t>
            </a: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лах помощница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4" name="Picture 36" descr="C:\Documents and Settings\1\Рабочий стол\01.gif"/>
          <p:cNvPicPr/>
          <p:nvPr/>
        </p:nvPicPr>
        <p:blipFill>
          <a:blip r:embed="rId1"/>
          <a:stretch/>
        </p:blipFill>
        <p:spPr>
          <a:xfrm>
            <a:off x="6215040" y="421488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Лента лицом вверх 1"/>
          <p:cNvSpPr/>
          <p:nvPr/>
        </p:nvSpPr>
        <p:spPr>
          <a:xfrm>
            <a:off x="500040" y="1000080"/>
            <a:ext cx="8072640" cy="4214880"/>
          </a:xfrm>
          <a:custGeom>
            <a:avLst/>
            <a:gdLst>
              <a:gd name="textAreaLeft" fmla="*/ 2018160 w 8072640"/>
              <a:gd name="textAreaRight" fmla="*/ 6054480 w 8072640"/>
              <a:gd name="textAreaTop" fmla="*/ 0 h 4214880"/>
              <a:gd name="textAreaBottom" fmla="*/ 3512520 h 42148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ыво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ая письменная работа счит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енной только тогда, когда найдены  ошибки,  если они есть. Нужно уме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ировать написанно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одном языке,  языке своей страны –  писать с ошибкам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ты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1" descr="C:\Documents and Settings\1\Рабочий стол\1271621565_r7.jpg"/>
          <p:cNvPicPr/>
          <p:nvPr/>
        </p:nvPicPr>
        <p:blipFill>
          <a:blip r:embed="rId1"/>
          <a:stretch/>
        </p:blipFill>
        <p:spPr>
          <a:xfrm>
            <a:off x="642960" y="2143080"/>
            <a:ext cx="1428840" cy="2143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На лугу пышно цветёт душистый клевер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6" descr="C:\Documents and Settings\1\Рабочий стол\01.gif"/>
          <p:cNvPicPr/>
          <p:nvPr/>
        </p:nvPicPr>
        <p:blipFill>
          <a:blip r:embed="rId1"/>
          <a:stretch/>
        </p:blipFill>
        <p:spPr>
          <a:xfrm>
            <a:off x="5929200" y="428616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69" name="Минус 4"/>
          <p:cNvSpPr/>
          <p:nvPr/>
        </p:nvSpPr>
        <p:spPr>
          <a:xfrm flipH="1">
            <a:off x="3285360" y="3714840"/>
            <a:ext cx="2500200" cy="5000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Равно 6"/>
          <p:cNvSpPr/>
          <p:nvPr/>
        </p:nvSpPr>
        <p:spPr>
          <a:xfrm>
            <a:off x="4429080" y="3000240"/>
            <a:ext cx="3143160" cy="5000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2" name="camera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верка:</a:t>
            </a:r>
            <a:br>
              <a:rPr sz="3200"/>
            </a:br>
            <a:br>
              <a:rPr sz="32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столе лежит книга.  Брат подарил книг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6" descr="C:\Documents and Settings\1\Рабочий стол\01.gif"/>
          <p:cNvPicPr/>
          <p:nvPr/>
        </p:nvPicPr>
        <p:blipFill>
          <a:blip r:embed="rId1"/>
          <a:stretch/>
        </p:blipFill>
        <p:spPr>
          <a:xfrm>
            <a:off x="6215040" y="43578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Лента лицом вверх 1"/>
          <p:cNvSpPr/>
          <p:nvPr/>
        </p:nvSpPr>
        <p:spPr>
          <a:xfrm>
            <a:off x="500040" y="1000080"/>
            <a:ext cx="8072640" cy="4214880"/>
          </a:xfrm>
          <a:custGeom>
            <a:avLst/>
            <a:gdLst>
              <a:gd name="textAreaLeft" fmla="*/ 2018160 w 8072640"/>
              <a:gd name="textAreaRight" fmla="*/ 6054480 w 8072640"/>
              <a:gd name="textAreaTop" fmla="*/ 0 h 4214880"/>
              <a:gd name="textAreaBottom" fmla="*/ 3512520 h 42148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вод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ы одного слова в разных предложениях могут быть разными членами предложения, как подлежащим, так и второстепенным членом, а именно – до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1" descr="C:\Documents and Settings\1\Рабочий стол\1271621565_r7.jpg"/>
          <p:cNvPicPr/>
          <p:nvPr/>
        </p:nvPicPr>
        <p:blipFill>
          <a:blip r:embed="rId1"/>
          <a:stretch/>
        </p:blipFill>
        <p:spPr>
          <a:xfrm>
            <a:off x="642960" y="2143080"/>
            <a:ext cx="1428840" cy="2143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2" name="camera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5:49:52Z</dcterms:created>
  <dc:creator>Гузалия</dc:creator>
  <dc:description/>
  <dc:language>en-US</dc:language>
  <cp:lastModifiedBy>Ирина</cp:lastModifiedBy>
  <dcterms:modified xsi:type="dcterms:W3CDTF">2002-12-31T22:41:54Z</dcterms:modified>
  <cp:revision>38</cp:revision>
  <dc:subject/>
  <dc:title>Слайд 1</dc:title>
</cp:coreProperties>
</file>